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633-82E1-4469-BDC0-2DC81A25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8A3-8687-4374-B16F-35AFA6EB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596-49D4-4295-BE46-E45CC79A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A57-770F-4B4B-9C88-F34A63B7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35E-0B6A-44D7-81F1-009D0CCC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FC0-F399-4F04-B3A9-20EEB726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6AE-F8D6-4338-90F6-6ECD95AB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71E-5AC4-4F27-BD7E-79A41B3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BE9-F9CA-4620-B9C2-4FFEC9BE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163-7385-40C0-A969-AC4E358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273-C823-4CD5-8100-A7C22CF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948-1AF7-421D-B32E-5AAD2E3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B8C8-8189-45E3-9027-4C8FD79D3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2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6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14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5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7.xml"/><Relationship Id="rId26" Type="http://schemas.openxmlformats.org/officeDocument/2006/relationships/slide" Target="slide7.xml"/><Relationship Id="rId27" Type="http://schemas.openxmlformats.org/officeDocument/2006/relationships/slide" Target="slide12.xml"/><Relationship Id="rId28" Type="http://schemas.openxmlformats.org/officeDocument/2006/relationships/slide" Target="slide17.xml"/><Relationship Id="rId29" Type="http://schemas.openxmlformats.org/officeDocument/2006/relationships/slide" Target="slide22.xml"/><Relationship Id="rId30" Type="http://schemas.openxmlformats.org/officeDocument/2006/relationships/slide" Target="slide26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229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1428840"/>
            <a:ext cx="6697800" cy="112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УКЦИОН  ЗНАНИЙ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357200" y="2214720"/>
            <a:ext cx="6697800" cy="112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УКЦИОН  ЗНАНИЙ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Picture 4" descr="earth-atlantic-800"/>
          <p:cNvPicPr/>
          <p:nvPr/>
        </p:nvPicPr>
        <p:blipFill>
          <a:blip r:embed="rId2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3"/>
          <a:stretch/>
        </p:blipFill>
        <p:spPr>
          <a:xfrm>
            <a:off x="-2030400" y="517680"/>
            <a:ext cx="7486560" cy="34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2" action="ppaction://hlinksldjump"/>
          </p:cNvPr>
          <p:cNvSpPr/>
          <p:nvPr/>
        </p:nvSpPr>
        <p:spPr>
          <a:xfrm>
            <a:off x="788508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12966" y="3837"/>
                </a:moveTo>
                <a:lnTo>
                  <a:pt x="15543" y="6448"/>
                </a:ln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lnTo>
                  <a:pt x="19929" y="10800"/>
                </a:lnTo>
                <a:lnTo>
                  <a:pt x="18276" y="10800"/>
                </a:lnTo>
                <a:lnTo>
                  <a:pt x="18276" y="17989"/>
                </a:lnTo>
                <a:lnTo>
                  <a:pt x="7657" y="17989"/>
                </a:lnTo>
                <a:lnTo>
                  <a:pt x="7657" y="10800"/>
                </a:lnTo>
                <a:lnTo>
                  <a:pt x="6004" y="10800"/>
                </a:lnTo>
                <a:close/>
              </a:path>
              <a:path fill="darkenLess" w="25933" h="21600">
                <a:moveTo>
                  <a:pt x="15543" y="6448"/>
                </a:move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close/>
              </a:path>
              <a:path fill="darkenLess" w="25933" h="21600">
                <a:moveTo>
                  <a:pt x="12044" y="14299"/>
                </a:moveTo>
                <a:lnTo>
                  <a:pt x="13889" y="14299"/>
                </a:lnTo>
                <a:lnTo>
                  <a:pt x="13889" y="17989"/>
                </a:lnTo>
                <a:lnTo>
                  <a:pt x="18276" y="17989"/>
                </a:lnTo>
                <a:lnTo>
                  <a:pt x="18276" y="10800"/>
                </a:lnTo>
                <a:lnTo>
                  <a:pt x="7657" y="10800"/>
                </a:lnTo>
                <a:lnTo>
                  <a:pt x="7657" y="17989"/>
                </a:lnTo>
                <a:lnTo>
                  <a:pt x="120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857160" y="35712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такое деформация тел.Назовите 2-3 прим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2" action="ppaction://hlinksldjump"/>
          </p:cNvPr>
          <p:cNvSpPr/>
          <p:nvPr/>
        </p:nvSpPr>
        <p:spPr>
          <a:xfrm>
            <a:off x="7956720" y="573408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11891" y="3837"/>
                </a:moveTo>
                <a:lnTo>
                  <a:pt x="14468" y="6448"/>
                </a:lnTo>
                <a:lnTo>
                  <a:pt x="14468" y="4707"/>
                </a:lnTo>
                <a:lnTo>
                  <a:pt x="16243" y="4707"/>
                </a:lnTo>
                <a:lnTo>
                  <a:pt x="16243" y="8224"/>
                </a:lnTo>
                <a:lnTo>
                  <a:pt x="18854" y="10800"/>
                </a:lnTo>
                <a:lnTo>
                  <a:pt x="17201" y="10800"/>
                </a:lnTo>
                <a:lnTo>
                  <a:pt x="17201" y="17989"/>
                </a:lnTo>
                <a:lnTo>
                  <a:pt x="6582" y="17989"/>
                </a:lnTo>
                <a:lnTo>
                  <a:pt x="6582" y="10800"/>
                </a:lnTo>
                <a:lnTo>
                  <a:pt x="4928" y="10800"/>
                </a:lnTo>
                <a:close/>
              </a:path>
              <a:path fill="darkenLess" w="23783" h="21600">
                <a:moveTo>
                  <a:pt x="14468" y="6448"/>
                </a:moveTo>
                <a:lnTo>
                  <a:pt x="14468" y="4707"/>
                </a:lnTo>
                <a:lnTo>
                  <a:pt x="16243" y="4707"/>
                </a:lnTo>
                <a:lnTo>
                  <a:pt x="16243" y="8224"/>
                </a:lnTo>
                <a:close/>
              </a:path>
              <a:path fill="darkenLess" w="23783" h="21600">
                <a:moveTo>
                  <a:pt x="10969" y="14299"/>
                </a:moveTo>
                <a:lnTo>
                  <a:pt x="12814" y="14299"/>
                </a:lnTo>
                <a:lnTo>
                  <a:pt x="12814" y="17989"/>
                </a:lnTo>
                <a:lnTo>
                  <a:pt x="17201" y="17989"/>
                </a:lnTo>
                <a:lnTo>
                  <a:pt x="17201" y="10800"/>
                </a:lnTo>
                <a:lnTo>
                  <a:pt x="6582" y="10800"/>
                </a:lnTo>
                <a:lnTo>
                  <a:pt x="6582" y="17989"/>
                </a:lnTo>
                <a:lnTo>
                  <a:pt x="109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71680" y="50004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окисления-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её можно наблюд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rId2" action="ppaction://hlinksldjump"/>
          </p:cNvPr>
          <p:cNvSpPr/>
          <p:nvPr/>
        </p:nvSpPr>
        <p:spPr>
          <a:xfrm>
            <a:off x="8101080" y="5805360"/>
            <a:ext cx="574560" cy="648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8"/>
                </a:moveTo>
                <a:lnTo>
                  <a:pt x="11723" y="15678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14240" y="500040"/>
            <a:ext cx="721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бобщенный «портрет»  молеку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>
            <a:hlinkClick r:id="rId2" action="ppaction://hlinksldjump"/>
          </p:cNvPr>
          <p:cNvSpPr/>
          <p:nvPr/>
        </p:nvSpPr>
        <p:spPr>
          <a:xfrm>
            <a:off x="7885080" y="494172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10800" y="5373"/>
                </a:moveTo>
                <a:lnTo>
                  <a:pt x="13376" y="7984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6"/>
                </a:lnTo>
                <a:lnTo>
                  <a:pt x="16109" y="12336"/>
                </a:lnTo>
                <a:lnTo>
                  <a:pt x="16109" y="19525"/>
                </a:lnTo>
                <a:lnTo>
                  <a:pt x="5491" y="19525"/>
                </a:lnTo>
                <a:lnTo>
                  <a:pt x="5491" y="12336"/>
                </a:lnTo>
                <a:lnTo>
                  <a:pt x="3837" y="12336"/>
                </a:lnTo>
                <a:close/>
              </a:path>
              <a:path fill="darkenLess" w="21600" h="24672">
                <a:moveTo>
                  <a:pt x="13376" y="7984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2">
                <a:moveTo>
                  <a:pt x="9877" y="15835"/>
                </a:moveTo>
                <a:lnTo>
                  <a:pt x="11723" y="15835"/>
                </a:lnTo>
                <a:lnTo>
                  <a:pt x="11723" y="19525"/>
                </a:lnTo>
                <a:lnTo>
                  <a:pt x="16109" y="19525"/>
                </a:lnTo>
                <a:lnTo>
                  <a:pt x="16109" y="12336"/>
                </a:lnTo>
                <a:lnTo>
                  <a:pt x="5491" y="12336"/>
                </a:lnTo>
                <a:lnTo>
                  <a:pt x="5491" y="19525"/>
                </a:lnTo>
                <a:lnTo>
                  <a:pt x="9877" y="195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1928880" y="100008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ния –эт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0040" y="21430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rId2" action="ppaction://hlinksldjump"/>
          </p:cNvPr>
          <p:cNvSpPr/>
          <p:nvPr/>
        </p:nvSpPr>
        <p:spPr>
          <a:xfrm>
            <a:off x="8028000" y="5516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857160" y="57168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источники электрического т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>
            <a:hlinkClick r:id="rId2" action="ppaction://hlinksldjump"/>
          </p:cNvPr>
          <p:cNvSpPr/>
          <p:nvPr/>
        </p:nvSpPr>
        <p:spPr>
          <a:xfrm>
            <a:off x="8028000" y="5589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57160" y="57168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виды электрических зарядов вам известн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2" action="ppaction://hlinksldjump"/>
          </p:cNvPr>
          <p:cNvSpPr/>
          <p:nvPr/>
        </p:nvSpPr>
        <p:spPr>
          <a:xfrm>
            <a:off x="7812000" y="5734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14891" y="3837"/>
                </a:moveTo>
                <a:lnTo>
                  <a:pt x="17468" y="6448"/>
                </a:lnTo>
                <a:lnTo>
                  <a:pt x="17468" y="4707"/>
                </a:lnTo>
                <a:lnTo>
                  <a:pt x="19243" y="4707"/>
                </a:lnTo>
                <a:lnTo>
                  <a:pt x="19243" y="8224"/>
                </a:lnTo>
                <a:lnTo>
                  <a:pt x="21854" y="10800"/>
                </a:lnTo>
                <a:lnTo>
                  <a:pt x="20201" y="10800"/>
                </a:lnTo>
                <a:lnTo>
                  <a:pt x="20201" y="17989"/>
                </a:lnTo>
                <a:lnTo>
                  <a:pt x="9582" y="17989"/>
                </a:lnTo>
                <a:lnTo>
                  <a:pt x="9582" y="10800"/>
                </a:lnTo>
                <a:lnTo>
                  <a:pt x="7928" y="10800"/>
                </a:lnTo>
                <a:close/>
              </a:path>
              <a:path fill="darkenLess" w="29783" h="21600">
                <a:moveTo>
                  <a:pt x="17468" y="6448"/>
                </a:moveTo>
                <a:lnTo>
                  <a:pt x="17468" y="4707"/>
                </a:lnTo>
                <a:lnTo>
                  <a:pt x="19243" y="4707"/>
                </a:lnTo>
                <a:lnTo>
                  <a:pt x="19243" y="8224"/>
                </a:lnTo>
                <a:close/>
              </a:path>
              <a:path fill="darkenLess" w="29783" h="21600">
                <a:moveTo>
                  <a:pt x="13969" y="14299"/>
                </a:moveTo>
                <a:lnTo>
                  <a:pt x="15814" y="14299"/>
                </a:lnTo>
                <a:lnTo>
                  <a:pt x="15814" y="17989"/>
                </a:lnTo>
                <a:lnTo>
                  <a:pt x="20201" y="17989"/>
                </a:lnTo>
                <a:lnTo>
                  <a:pt x="20201" y="10800"/>
                </a:lnTo>
                <a:lnTo>
                  <a:pt x="9582" y="10800"/>
                </a:lnTo>
                <a:lnTo>
                  <a:pt x="9582" y="17989"/>
                </a:lnTo>
                <a:lnTo>
                  <a:pt x="139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 flipV="1" rot="10800000">
            <a:off x="571680" y="7880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оляторы электрического тока- это ? Примеры 2-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428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rId2" action="ppaction://hlinksldjump"/>
          </p:cNvPr>
          <p:cNvSpPr/>
          <p:nvPr/>
        </p:nvSpPr>
        <p:spPr>
          <a:xfrm>
            <a:off x="7885080" y="558972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571680" y="500040"/>
            <a:ext cx="792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ясните устройство молниеотвода. Для чего он нужен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11280" y="3141720"/>
            <a:ext cx="627552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>
            <a:hlinkClick r:id="rId2" action="ppaction://hlinksldjump"/>
          </p:cNvPr>
          <p:cNvSpPr/>
          <p:nvPr/>
        </p:nvSpPr>
        <p:spPr>
          <a:xfrm>
            <a:off x="8101080" y="544500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71680" y="50004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альное атмосферное давление равн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>
            <a:hlinkClick r:id="rId2" action="ppaction://hlinksldjump"/>
          </p:cNvPr>
          <p:cNvSpPr/>
          <p:nvPr/>
        </p:nvSpPr>
        <p:spPr>
          <a:xfrm>
            <a:off x="8244000" y="5805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2349360" y="2401920"/>
            <a:ext cx="444528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22"/>
          <p:cNvPicPr/>
          <p:nvPr/>
        </p:nvPicPr>
        <p:blipFill>
          <a:blip r:embed="rId4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4">
            <a:hlinkClick r:id="rId5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1214280" y="214200"/>
            <a:ext cx="692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числите, что входит в состав воздух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2786040"/>
            <a:ext cx="2786040" cy="1079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89000"/>
            <a:ext cx="278604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428840"/>
            <a:ext cx="266400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а,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4214880"/>
            <a:ext cx="278604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душ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5589720"/>
            <a:ext cx="266400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line4.gif (11519 bytes)"/>
          <p:cNvPicPr/>
          <p:nvPr/>
        </p:nvPicPr>
        <p:blipFill>
          <a:blip r:embed="rId1"/>
          <a:stretch/>
        </p:blipFill>
        <p:spPr>
          <a:xfrm rot="10800000">
            <a:off x="0" y="119664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line4.gif (11519 bytes)"/>
          <p:cNvPicPr/>
          <p:nvPr/>
        </p:nvPicPr>
        <p:blipFill>
          <a:blip r:embed="rId2"/>
          <a:stretch/>
        </p:blipFill>
        <p:spPr>
          <a:xfrm rot="10800000">
            <a:off x="0" y="249192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line4.gif (11519 bytes)"/>
          <p:cNvPicPr/>
          <p:nvPr/>
        </p:nvPicPr>
        <p:blipFill>
          <a:blip r:embed="rId3"/>
          <a:stretch/>
        </p:blipFill>
        <p:spPr>
          <a:xfrm rot="10800000">
            <a:off x="0" y="386028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line4.gif (11519 bytes)"/>
          <p:cNvPicPr/>
          <p:nvPr/>
        </p:nvPicPr>
        <p:blipFill>
          <a:blip r:embed="rId4"/>
          <a:stretch/>
        </p:blipFill>
        <p:spPr>
          <a:xfrm rot="10800000">
            <a:off x="0" y="5228640"/>
            <a:ext cx="9144000" cy="223560"/>
          </a:xfrm>
          <a:prstGeom prst="rect">
            <a:avLst/>
          </a:prstGeom>
          <a:ln w="0">
            <a:noFill/>
          </a:ln>
        </p:spPr>
      </p:pic>
      <p:sp>
        <p:nvSpPr>
          <p:cNvPr id="57" name="Oval 13">
            <a:hlinkClick r:id="rId5" action="ppaction://hlinksldjump"/>
          </p:cNvPr>
          <p:cNvSpPr/>
          <p:nvPr/>
        </p:nvSpPr>
        <p:spPr>
          <a:xfrm>
            <a:off x="285768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4">
            <a:hlinkClick r:id="rId6" action="ppaction://hlinksldjump"/>
          </p:cNvPr>
          <p:cNvSpPr/>
          <p:nvPr/>
        </p:nvSpPr>
        <p:spPr>
          <a:xfrm>
            <a:off x="284328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5">
            <a:hlinkClick r:id="rId7" action="ppaction://hlinksldjump"/>
          </p:cNvPr>
          <p:cNvSpPr/>
          <p:nvPr/>
        </p:nvSpPr>
        <p:spPr>
          <a:xfrm>
            <a:off x="284328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6">
            <a:hlinkClick r:id="rId8" action="ppaction://hlinksldjump"/>
          </p:cNvPr>
          <p:cNvSpPr/>
          <p:nvPr/>
        </p:nvSpPr>
        <p:spPr>
          <a:xfrm>
            <a:off x="284328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7">
            <a:hlinkClick r:id="rId9" action="ppaction://hlinksldjump"/>
          </p:cNvPr>
          <p:cNvSpPr/>
          <p:nvPr/>
        </p:nvSpPr>
        <p:spPr>
          <a:xfrm>
            <a:off x="284328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8">
            <a:hlinkClick r:id="rId10" action="ppaction://hlinksldjump"/>
          </p:cNvPr>
          <p:cNvSpPr/>
          <p:nvPr/>
        </p:nvSpPr>
        <p:spPr>
          <a:xfrm>
            <a:off x="421488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9">
            <a:hlinkClick r:id="rId11" action="ppaction://hlinksldjump"/>
          </p:cNvPr>
          <p:cNvSpPr/>
          <p:nvPr/>
        </p:nvSpPr>
        <p:spPr>
          <a:xfrm>
            <a:off x="4140360" y="141300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0">
            <a:hlinkClick r:id="rId12" action="ppaction://hlinksldjump"/>
          </p:cNvPr>
          <p:cNvSpPr/>
          <p:nvPr/>
        </p:nvSpPr>
        <p:spPr>
          <a:xfrm>
            <a:off x="4211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1">
            <a:hlinkClick r:id="rId13" action="ppaction://hlinksldjump"/>
          </p:cNvPr>
          <p:cNvSpPr/>
          <p:nvPr/>
        </p:nvSpPr>
        <p:spPr>
          <a:xfrm>
            <a:off x="421164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2">
            <a:hlinkClick r:id="rId14" action="ppaction://hlinksldjump"/>
          </p:cNvPr>
          <p:cNvSpPr/>
          <p:nvPr/>
        </p:nvSpPr>
        <p:spPr>
          <a:xfrm>
            <a:off x="421164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3">
            <a:hlinkClick r:id="rId15" action="ppaction://hlinksldjump"/>
          </p:cNvPr>
          <p:cNvSpPr/>
          <p:nvPr/>
        </p:nvSpPr>
        <p:spPr>
          <a:xfrm>
            <a:off x="5572080" y="0"/>
            <a:ext cx="115272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4">
            <a:hlinkClick r:id="rId16" action="ppaction://hlinksldjump"/>
          </p:cNvPr>
          <p:cNvSpPr/>
          <p:nvPr/>
        </p:nvSpPr>
        <p:spPr>
          <a:xfrm>
            <a:off x="5435640" y="141300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5">
            <a:hlinkClick r:id="rId17" action="ppaction://hlinksldjump"/>
          </p:cNvPr>
          <p:cNvSpPr/>
          <p:nvPr/>
        </p:nvSpPr>
        <p:spPr>
          <a:xfrm>
            <a:off x="5435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18" action="ppaction://hlinksldjump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6">
            <a:hlinkClick r:id="rId19" action="ppaction://hlinksldjump"/>
          </p:cNvPr>
          <p:cNvSpPr/>
          <p:nvPr/>
        </p:nvSpPr>
        <p:spPr>
          <a:xfrm>
            <a:off x="550872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7">
            <a:hlinkClick r:id="rId20" action="ppaction://hlinksldjump"/>
          </p:cNvPr>
          <p:cNvSpPr/>
          <p:nvPr/>
        </p:nvSpPr>
        <p:spPr>
          <a:xfrm>
            <a:off x="550872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8">
            <a:hlinkClick r:id="rId21" action="ppaction://hlinksldjump"/>
          </p:cNvPr>
          <p:cNvSpPr/>
          <p:nvPr/>
        </p:nvSpPr>
        <p:spPr>
          <a:xfrm>
            <a:off x="678672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9">
            <a:hlinkClick r:id="rId22" action="ppaction://hlinksldjump"/>
          </p:cNvPr>
          <p:cNvSpPr/>
          <p:nvPr/>
        </p:nvSpPr>
        <p:spPr>
          <a:xfrm>
            <a:off x="673272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0">
            <a:hlinkClick r:id="rId23" action="ppaction://hlinksldjump"/>
          </p:cNvPr>
          <p:cNvSpPr/>
          <p:nvPr/>
        </p:nvSpPr>
        <p:spPr>
          <a:xfrm>
            <a:off x="673272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1">
            <a:hlinkClick r:id="rId24" action="ppaction://hlinksldjump"/>
          </p:cNvPr>
          <p:cNvSpPr/>
          <p:nvPr/>
        </p:nvSpPr>
        <p:spPr>
          <a:xfrm>
            <a:off x="673272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2">
            <a:hlinkClick r:id="rId25" action="ppaction://hlinksldjump"/>
          </p:cNvPr>
          <p:cNvSpPr/>
          <p:nvPr/>
        </p:nvSpPr>
        <p:spPr>
          <a:xfrm>
            <a:off x="673272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3">
            <a:hlinkClick r:id="rId26" action="ppaction://hlinksldjump"/>
          </p:cNvPr>
          <p:cNvSpPr/>
          <p:nvPr/>
        </p:nvSpPr>
        <p:spPr>
          <a:xfrm>
            <a:off x="8001000" y="0"/>
            <a:ext cx="114300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4">
            <a:hlinkClick r:id="rId27" action="ppaction://hlinksldjump"/>
          </p:cNvPr>
          <p:cNvSpPr/>
          <p:nvPr/>
        </p:nvSpPr>
        <p:spPr>
          <a:xfrm>
            <a:off x="799164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5">
            <a:hlinkClick r:id="rId28" action="ppaction://hlinksldjump"/>
          </p:cNvPr>
          <p:cNvSpPr/>
          <p:nvPr/>
        </p:nvSpPr>
        <p:spPr>
          <a:xfrm>
            <a:off x="7991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6">
            <a:hlinkClick r:id="rId29" action="ppaction://hlinksldjump"/>
          </p:cNvPr>
          <p:cNvSpPr/>
          <p:nvPr/>
        </p:nvSpPr>
        <p:spPr>
          <a:xfrm>
            <a:off x="799164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7">
            <a:hlinkClick r:id="rId30" action="ppaction://hlinksldjump"/>
          </p:cNvPr>
          <p:cNvSpPr/>
          <p:nvPr/>
        </p:nvSpPr>
        <p:spPr>
          <a:xfrm>
            <a:off x="7991640" y="544500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>
            <a:hlinkClick r:id="rId2" action="ppaction://hlinksldjump"/>
          </p:cNvPr>
          <p:cNvSpPr/>
          <p:nvPr/>
        </p:nvSpPr>
        <p:spPr>
          <a:xfrm>
            <a:off x="8317080" y="587700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2506680" y="2146320"/>
            <a:ext cx="4444920" cy="292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22"/>
          <p:cNvPicPr/>
          <p:nvPr/>
        </p:nvPicPr>
        <p:blipFill>
          <a:blip r:embed="rId4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rId5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857160" y="642960"/>
            <a:ext cx="70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облака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х в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32000" y="3068280"/>
            <a:ext cx="73548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>
            <a:hlinkClick r:id="rId2" action="ppaction://hlinksldjump"/>
          </p:cNvPr>
          <p:cNvSpPr/>
          <p:nvPr/>
        </p:nvSpPr>
        <p:spPr>
          <a:xfrm>
            <a:off x="8459640" y="602136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642960" y="64296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отличие тумана от водяного п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76000" y="3213000"/>
            <a:ext cx="72104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>
            <a:hlinkClick r:id="rId2" action="ppaction://hlinksldjump"/>
          </p:cNvPr>
          <p:cNvSpPr/>
          <p:nvPr/>
        </p:nvSpPr>
        <p:spPr>
          <a:xfrm>
            <a:off x="8459640" y="595008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714240" y="428760"/>
            <a:ext cx="7858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устройство для построек подводных опор мостов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380360" y="5157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000080" y="785880"/>
            <a:ext cx="70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ная оболочка Земли называетс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7308720" y="5229360"/>
            <a:ext cx="648000" cy="50472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27" h="21600">
                <a:moveTo>
                  <a:pt x="0" y="0"/>
                </a:moveTo>
                <a:lnTo>
                  <a:pt x="27727" y="0"/>
                </a:lnTo>
                <a:lnTo>
                  <a:pt x="27727" y="21600"/>
                </a:lnTo>
                <a:lnTo>
                  <a:pt x="0" y="21600"/>
                </a:lnTo>
                <a:close/>
              </a:path>
              <a:path fill="lightenLess" w="27727" h="21600">
                <a:moveTo>
                  <a:pt x="0" y="0"/>
                </a:moveTo>
                <a:lnTo>
                  <a:pt x="27727" y="0"/>
                </a:lnTo>
                <a:lnTo>
                  <a:pt x="26327" y="1400"/>
                </a:lnTo>
                <a:lnTo>
                  <a:pt x="1400" y="1400"/>
                </a:lnTo>
                <a:close/>
              </a:path>
              <a:path fill="darken" w="27727" h="21600">
                <a:moveTo>
                  <a:pt x="27727" y="0"/>
                </a:moveTo>
                <a:lnTo>
                  <a:pt x="27727" y="21600"/>
                </a:lnTo>
                <a:lnTo>
                  <a:pt x="26327" y="20200"/>
                </a:lnTo>
                <a:lnTo>
                  <a:pt x="26327" y="1400"/>
                </a:lnTo>
                <a:close/>
              </a:path>
              <a:path fill="darkenLess" w="27727" h="21600">
                <a:moveTo>
                  <a:pt x="27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27" y="20200"/>
                </a:lnTo>
                <a:close/>
              </a:path>
              <a:path fill="lighten" w="27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27" h="21600">
                <a:moveTo>
                  <a:pt x="13864" y="3837"/>
                </a:moveTo>
                <a:lnTo>
                  <a:pt x="16440" y="6448"/>
                </a:lnTo>
                <a:lnTo>
                  <a:pt x="16440" y="4707"/>
                </a:lnTo>
                <a:lnTo>
                  <a:pt x="18216" y="4707"/>
                </a:lnTo>
                <a:lnTo>
                  <a:pt x="18216" y="8224"/>
                </a:lnTo>
                <a:lnTo>
                  <a:pt x="20827" y="10800"/>
                </a:lnTo>
                <a:lnTo>
                  <a:pt x="19173" y="10800"/>
                </a:lnTo>
                <a:lnTo>
                  <a:pt x="19173" y="17989"/>
                </a:lnTo>
                <a:lnTo>
                  <a:pt x="8554" y="17989"/>
                </a:lnTo>
                <a:lnTo>
                  <a:pt x="8554" y="10800"/>
                </a:lnTo>
                <a:lnTo>
                  <a:pt x="6901" y="10800"/>
                </a:lnTo>
                <a:close/>
              </a:path>
              <a:path fill="darkenLess" w="27727" h="21600">
                <a:moveTo>
                  <a:pt x="16440" y="6448"/>
                </a:moveTo>
                <a:lnTo>
                  <a:pt x="16440" y="4707"/>
                </a:lnTo>
                <a:lnTo>
                  <a:pt x="18216" y="4707"/>
                </a:lnTo>
                <a:lnTo>
                  <a:pt x="18216" y="8224"/>
                </a:lnTo>
                <a:close/>
              </a:path>
              <a:path fill="darkenLess" w="27727" h="21600">
                <a:moveTo>
                  <a:pt x="12941" y="14299"/>
                </a:moveTo>
                <a:lnTo>
                  <a:pt x="14786" y="14299"/>
                </a:lnTo>
                <a:lnTo>
                  <a:pt x="14786" y="17989"/>
                </a:lnTo>
                <a:lnTo>
                  <a:pt x="19173" y="17989"/>
                </a:lnTo>
                <a:lnTo>
                  <a:pt x="19173" y="10800"/>
                </a:lnTo>
                <a:lnTo>
                  <a:pt x="8554" y="10800"/>
                </a:lnTo>
                <a:lnTo>
                  <a:pt x="8554" y="17989"/>
                </a:lnTo>
                <a:lnTo>
                  <a:pt x="1294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928800" y="57168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еднеокеаническая солёность морской воды равн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740720" y="544500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714240" y="50004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звесь –это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вед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-4 прим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7667640" y="551664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785880" y="285840"/>
            <a:ext cx="750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созидательная» работа воды. Приведите 3- 4 прим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956720" y="537372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0800" y="3842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1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1">
                <a:moveTo>
                  <a:pt x="9877" y="14304"/>
                </a:moveTo>
                <a:lnTo>
                  <a:pt x="11723" y="14304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1000080" y="571680"/>
            <a:ext cx="742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 в зимнее время  глубокие водоёмы не промерзают до дн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куда появились названия «Америка», «Вест-Индия», «Индейцы»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 action="ppaction://hlinksldjump"/>
          </p:cNvPr>
          <p:cNvSpPr/>
          <p:nvPr/>
        </p:nvSpPr>
        <p:spPr>
          <a:xfrm>
            <a:off x="7858080" y="5857920"/>
            <a:ext cx="503280" cy="692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92280"/>
              <a:gd name="textAreaBottom" fmla="*/ 659880 h 692280"/>
            </a:gdLst>
            <a:ahLst/>
            <a:rect l="textAreaLeft" t="textAreaTop" r="textAreaRight" b="textAreaBottom"/>
            <a:pathLst>
              <a:path w="21600" h="29706">
                <a:moveTo>
                  <a:pt x="0" y="0"/>
                </a:moveTo>
                <a:lnTo>
                  <a:pt x="21600" y="0"/>
                </a:lnTo>
                <a:lnTo>
                  <a:pt x="21600" y="29706"/>
                </a:lnTo>
                <a:lnTo>
                  <a:pt x="0" y="29706"/>
                </a:lnTo>
                <a:close/>
              </a:path>
              <a:path fill="lightenLess" w="21600" h="29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6">
                <a:moveTo>
                  <a:pt x="21600" y="0"/>
                </a:moveTo>
                <a:lnTo>
                  <a:pt x="21600" y="29706"/>
                </a:lnTo>
                <a:lnTo>
                  <a:pt x="20200" y="28306"/>
                </a:lnTo>
                <a:lnTo>
                  <a:pt x="20200" y="1400"/>
                </a:lnTo>
                <a:close/>
              </a:path>
              <a:path fill="darkenLess" w="21600" h="29706">
                <a:moveTo>
                  <a:pt x="21600" y="29706"/>
                </a:moveTo>
                <a:lnTo>
                  <a:pt x="0" y="29706"/>
                </a:lnTo>
                <a:lnTo>
                  <a:pt x="1400" y="28306"/>
                </a:lnTo>
                <a:lnTo>
                  <a:pt x="20200" y="28306"/>
                </a:lnTo>
                <a:close/>
              </a:path>
              <a:path fill="lighten" w="21600" h="29706">
                <a:moveTo>
                  <a:pt x="0" y="29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6"/>
                </a:lnTo>
                <a:close/>
              </a:path>
              <a:path fill="darken" w="21600" h="29706">
                <a:moveTo>
                  <a:pt x="10800" y="7890"/>
                </a:moveTo>
                <a:lnTo>
                  <a:pt x="13376" y="10501"/>
                </a:ln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lnTo>
                  <a:pt x="17763" y="14853"/>
                </a:lnTo>
                <a:lnTo>
                  <a:pt x="16109" y="14853"/>
                </a:lnTo>
                <a:lnTo>
                  <a:pt x="16109" y="22042"/>
                </a:lnTo>
                <a:lnTo>
                  <a:pt x="5491" y="22042"/>
                </a:lnTo>
                <a:lnTo>
                  <a:pt x="5491" y="14853"/>
                </a:lnTo>
                <a:lnTo>
                  <a:pt x="3837" y="14853"/>
                </a:lnTo>
                <a:close/>
              </a:path>
              <a:path fill="darkenLess" w="21600" h="29706">
                <a:moveTo>
                  <a:pt x="13376" y="10501"/>
                </a:move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close/>
              </a:path>
              <a:path fill="darkenLess" w="21600" h="29706">
                <a:moveTo>
                  <a:pt x="9877" y="18352"/>
                </a:moveTo>
                <a:lnTo>
                  <a:pt x="11723" y="18352"/>
                </a:lnTo>
                <a:lnTo>
                  <a:pt x="11723" y="22042"/>
                </a:lnTo>
                <a:lnTo>
                  <a:pt x="16109" y="22042"/>
                </a:lnTo>
                <a:lnTo>
                  <a:pt x="16109" y="14853"/>
                </a:lnTo>
                <a:lnTo>
                  <a:pt x="5491" y="14853"/>
                </a:lnTo>
                <a:lnTo>
                  <a:pt x="5491" y="22042"/>
                </a:lnTo>
                <a:lnTo>
                  <a:pt x="9877" y="22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Full433"/>
          <p:cNvPicPr/>
          <p:nvPr/>
        </p:nvPicPr>
        <p:blipFill>
          <a:blip r:embed="rId3"/>
          <a:stretch/>
        </p:blipFill>
        <p:spPr>
          <a:xfrm>
            <a:off x="-108000" y="-54468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1430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селенная –это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rId4" action="ppaction://hlinksldjump"/>
          </p:cNvPr>
          <p:cNvSpPr/>
          <p:nvPr/>
        </p:nvSpPr>
        <p:spPr>
          <a:xfrm>
            <a:off x="8072280" y="578628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открыл Америку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rId2" action="ppaction://hlinksldjump"/>
          </p:cNvPr>
          <p:cNvSpPr/>
          <p:nvPr/>
        </p:nvSpPr>
        <p:spPr>
          <a:xfrm>
            <a:off x="8358120" y="635472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Full433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>
            <a:hlinkClick r:id="rId4" action="ppaction://hlinksldjump"/>
          </p:cNvPr>
          <p:cNvSpPr/>
          <p:nvPr/>
        </p:nvSpPr>
        <p:spPr>
          <a:xfrm>
            <a:off x="8215200" y="635472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357200" y="100008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чём  отличие метеоров от метеоритов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такой Давид Ливингстон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rId2" action="ppaction://hlinksldjump"/>
          </p:cNvPr>
          <p:cNvSpPr/>
          <p:nvPr/>
        </p:nvSpPr>
        <p:spPr>
          <a:xfrm>
            <a:off x="8388360" y="595008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Full433"/>
          <p:cNvPicPr/>
          <p:nvPr/>
        </p:nvPicPr>
        <p:blipFill>
          <a:blip r:embed="rId3"/>
          <a:stretch/>
        </p:blipFill>
        <p:spPr>
          <a:xfrm>
            <a:off x="0" y="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rId4" action="ppaction://hlinksldjump"/>
          </p:cNvPr>
          <p:cNvSpPr/>
          <p:nvPr/>
        </p:nvSpPr>
        <p:spPr>
          <a:xfrm>
            <a:off x="8143920" y="62150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000080" y="57168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зовите 5- 6 известных вам созвезд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>
            <a:hlinkClick r:id="rId2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3" action="ppaction://hlinksldjump"/>
          </p:cNvPr>
          <p:cNvSpPr/>
          <p:nvPr/>
        </p:nvSpPr>
        <p:spPr>
          <a:xfrm>
            <a:off x="6643800" y="600084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12329" y="3837"/>
                </a:moveTo>
                <a:lnTo>
                  <a:pt x="14905" y="6448"/>
                </a:lnTo>
                <a:lnTo>
                  <a:pt x="14905" y="4707"/>
                </a:lnTo>
                <a:lnTo>
                  <a:pt x="16680" y="4707"/>
                </a:lnTo>
                <a:lnTo>
                  <a:pt x="16680" y="8224"/>
                </a:lnTo>
                <a:lnTo>
                  <a:pt x="19291" y="10800"/>
                </a:lnTo>
                <a:lnTo>
                  <a:pt x="17638" y="10800"/>
                </a:lnTo>
                <a:lnTo>
                  <a:pt x="17638" y="17989"/>
                </a:lnTo>
                <a:lnTo>
                  <a:pt x="7019" y="17989"/>
                </a:lnTo>
                <a:lnTo>
                  <a:pt x="7019" y="10800"/>
                </a:lnTo>
                <a:lnTo>
                  <a:pt x="5366" y="10800"/>
                </a:lnTo>
                <a:close/>
              </a:path>
              <a:path fill="darkenLess" w="24657" h="21600">
                <a:moveTo>
                  <a:pt x="14905" y="6448"/>
                </a:moveTo>
                <a:lnTo>
                  <a:pt x="14905" y="4707"/>
                </a:lnTo>
                <a:lnTo>
                  <a:pt x="16680" y="4707"/>
                </a:lnTo>
                <a:lnTo>
                  <a:pt x="16680" y="8224"/>
                </a:lnTo>
                <a:close/>
              </a:path>
              <a:path fill="darkenLess" w="24657" h="21600">
                <a:moveTo>
                  <a:pt x="11406" y="14299"/>
                </a:moveTo>
                <a:lnTo>
                  <a:pt x="13251" y="14299"/>
                </a:lnTo>
                <a:lnTo>
                  <a:pt x="13251" y="17989"/>
                </a:lnTo>
                <a:lnTo>
                  <a:pt x="17638" y="17989"/>
                </a:lnTo>
                <a:lnTo>
                  <a:pt x="17638" y="10800"/>
                </a:lnTo>
                <a:lnTo>
                  <a:pt x="7019" y="10800"/>
                </a:lnTo>
                <a:lnTo>
                  <a:pt x="7019" y="17989"/>
                </a:lnTo>
                <a:lnTo>
                  <a:pt x="1140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Full433"/>
          <p:cNvPicPr/>
          <p:nvPr/>
        </p:nvPicPr>
        <p:blipFill>
          <a:blip r:embed="rId4"/>
          <a:stretch/>
        </p:blipFill>
        <p:spPr>
          <a:xfrm>
            <a:off x="-108000" y="-357120"/>
            <a:ext cx="9252000" cy="7402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5" action="ppaction://hlinksldjump"/>
          </p:cNvPr>
          <p:cNvSpPr/>
          <p:nvPr/>
        </p:nvSpPr>
        <p:spPr>
          <a:xfrm>
            <a:off x="8153280" y="62247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357200" y="285840"/>
            <a:ext cx="6357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ечислите планеты земн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то открыл Австралию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8172360" y="5805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Full433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70722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 flipV="1" rot="10800000">
            <a:off x="857160" y="87444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комета, из каких частей она состои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14680" y="857160"/>
            <a:ext cx="6086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8072280" y="585792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>
            <a:hlinkClick r:id="rId4" action="ppaction://hlinksldjump"/>
          </p:cNvPr>
          <p:cNvSpPr/>
          <p:nvPr/>
        </p:nvSpPr>
        <p:spPr>
          <a:xfrm>
            <a:off x="7929720" y="592920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 flipV="1" rot="10800000">
            <a:off x="2571840" y="120096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лекулы-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2" action="ppaction://hlinksldjump"/>
          </p:cNvPr>
          <p:cNvSpPr/>
          <p:nvPr/>
        </p:nvSpPr>
        <p:spPr>
          <a:xfrm>
            <a:off x="8172360" y="566100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6" h="21600">
                <a:moveTo>
                  <a:pt x="11873" y="3837"/>
                </a:moveTo>
                <a:lnTo>
                  <a:pt x="14449" y="6448"/>
                </a:lnTo>
                <a:lnTo>
                  <a:pt x="14449" y="4707"/>
                </a:lnTo>
                <a:lnTo>
                  <a:pt x="16225" y="4707"/>
                </a:lnTo>
                <a:lnTo>
                  <a:pt x="16225" y="8224"/>
                </a:lnTo>
                <a:lnTo>
                  <a:pt x="18836" y="10800"/>
                </a:lnTo>
                <a:lnTo>
                  <a:pt x="17182" y="10800"/>
                </a:lnTo>
                <a:lnTo>
                  <a:pt x="17182" y="17989"/>
                </a:lnTo>
                <a:lnTo>
                  <a:pt x="6564" y="17989"/>
                </a:lnTo>
                <a:lnTo>
                  <a:pt x="6564" y="10800"/>
                </a:lnTo>
                <a:lnTo>
                  <a:pt x="4910" y="10800"/>
                </a:lnTo>
                <a:close/>
              </a:path>
              <a:path fill="darkenLess" w="23746" h="21600">
                <a:moveTo>
                  <a:pt x="14449" y="6448"/>
                </a:moveTo>
                <a:lnTo>
                  <a:pt x="14449" y="4707"/>
                </a:lnTo>
                <a:lnTo>
                  <a:pt x="16225" y="4707"/>
                </a:lnTo>
                <a:lnTo>
                  <a:pt x="16225" y="8224"/>
                </a:lnTo>
                <a:close/>
              </a:path>
              <a:path fill="darkenLess" w="23746" h="21600">
                <a:moveTo>
                  <a:pt x="10950" y="14299"/>
                </a:moveTo>
                <a:lnTo>
                  <a:pt x="12796" y="14299"/>
                </a:lnTo>
                <a:lnTo>
                  <a:pt x="12796" y="17989"/>
                </a:lnTo>
                <a:lnTo>
                  <a:pt x="17182" y="17989"/>
                </a:lnTo>
                <a:lnTo>
                  <a:pt x="17182" y="10800"/>
                </a:lnTo>
                <a:lnTo>
                  <a:pt x="6564" y="10800"/>
                </a:lnTo>
                <a:lnTo>
                  <a:pt x="6564" y="17989"/>
                </a:lnTo>
                <a:lnTo>
                  <a:pt x="1095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143000" y="42876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виды жидкого и твердого топл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7:46:27Z</dcterms:created>
  <dc:creator>User</dc:creator>
  <dc:description/>
  <dc:language>en-US</dc:language>
  <cp:lastModifiedBy>TRACK</cp:lastModifiedBy>
  <dcterms:modified xsi:type="dcterms:W3CDTF">2010-02-10T13:57:10Z</dcterms:modified>
  <cp:revision>52</cp:revision>
  <dc:subject/>
  <dc:title> </dc:title>
</cp:coreProperties>
</file>