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4.jpeg" ContentType="image/jpeg"/>
  <Override PartName="/ppt/media/image5.gif" ContentType="image/gif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65B5-AEBD-4D6D-838B-D4389435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FB0A-7A35-48CB-8332-04AE1A99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79E6-7027-4015-AA8C-BA2919CD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13DD-4E5F-4C3E-9B55-63A0F5E2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49C0-D40D-4B0C-AD98-DD86D365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B079-CF03-4113-9DBB-E6C83C0D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6D75-76DB-4813-84A7-3B5DDFBF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0499-B704-4ED9-856B-01102A92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A37A-08A5-4CA4-AA87-71EA4864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5B5C-7DAB-4E6D-BE4E-31834892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8735-D839-4044-B7B0-D6A6734F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6C01-55D5-464C-B4F1-3CA03D24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F41E-0126-4ADA-A1FF-EBA4082F10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image" Target="../media/image9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image" Target="../media/image9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image" Target="../media/image9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.xml"/><Relationship Id="rId3" Type="http://schemas.openxmlformats.org/officeDocument/2006/relationships/image" Target="../media/image13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.xml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" Target="slide3.xml"/><Relationship Id="rId6" Type="http://schemas.openxmlformats.org/officeDocument/2006/relationships/slide" Target="slide8.xml"/><Relationship Id="rId7" Type="http://schemas.openxmlformats.org/officeDocument/2006/relationships/slide" Target="slide13.xml"/><Relationship Id="rId8" Type="http://schemas.openxmlformats.org/officeDocument/2006/relationships/slide" Target="slide2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24.xml"/><Relationship Id="rId15" Type="http://schemas.openxmlformats.org/officeDocument/2006/relationships/slide" Target="slide6.xml"/><Relationship Id="rId16" Type="http://schemas.openxmlformats.org/officeDocument/2006/relationships/slide" Target="slide10.xml"/><Relationship Id="rId17" Type="http://schemas.openxmlformats.org/officeDocument/2006/relationships/slide" Target="slide15.xml"/><Relationship Id="rId18" Type="http://schemas.openxmlformats.org/officeDocument/2006/relationships/slide" Target="slide14.xml"/><Relationship Id="rId19" Type="http://schemas.openxmlformats.org/officeDocument/2006/relationships/slide" Target="slide20.xml"/><Relationship Id="rId20" Type="http://schemas.openxmlformats.org/officeDocument/2006/relationships/slide" Target="slide25.xml"/><Relationship Id="rId21" Type="http://schemas.openxmlformats.org/officeDocument/2006/relationships/slide" Target="slide5.xml"/><Relationship Id="rId22" Type="http://schemas.openxmlformats.org/officeDocument/2006/relationships/slide" Target="slide11.xml"/><Relationship Id="rId23" Type="http://schemas.openxmlformats.org/officeDocument/2006/relationships/slide" Target="slide16.xml"/><Relationship Id="rId24" Type="http://schemas.openxmlformats.org/officeDocument/2006/relationships/slide" Target="slide21.xml"/><Relationship Id="rId25" Type="http://schemas.openxmlformats.org/officeDocument/2006/relationships/slide" Target="slide27.xml"/><Relationship Id="rId26" Type="http://schemas.openxmlformats.org/officeDocument/2006/relationships/slide" Target="slide7.xml"/><Relationship Id="rId27" Type="http://schemas.openxmlformats.org/officeDocument/2006/relationships/slide" Target="slide12.xml"/><Relationship Id="rId28" Type="http://schemas.openxmlformats.org/officeDocument/2006/relationships/slide" Target="slide17.xml"/><Relationship Id="rId29" Type="http://schemas.openxmlformats.org/officeDocument/2006/relationships/slide" Target="slide22.xml"/><Relationship Id="rId30" Type="http://schemas.openxmlformats.org/officeDocument/2006/relationships/slide" Target="slide26.xml"/><Relationship Id="rId3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.xml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.xml"/><Relationship Id="rId3" Type="http://schemas.openxmlformats.org/officeDocument/2006/relationships/image" Target="../media/image13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.xml"/><Relationship Id="rId3" Type="http://schemas.openxmlformats.org/officeDocument/2006/relationships/image" Target="../media/image13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image" Target="../media/image7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image" Target="../media/image7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image" Target="../media/image7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7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image" Target="../media/image7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image" Target="../media/image9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image" Target="../media/image9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522936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187280" y="1428840"/>
            <a:ext cx="6697800" cy="1120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УКЦИОН  ЗНАНИЙ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357200" y="2214720"/>
            <a:ext cx="6697800" cy="1120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УКЦИОН  ЗНАНИЙ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44" name="Picture 4" descr="earth-atlantic-800"/>
          <p:cNvPicPr/>
          <p:nvPr/>
        </p:nvPicPr>
        <p:blipFill>
          <a:blip r:embed="rId2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7" descr=""/>
          <p:cNvPicPr/>
          <p:nvPr/>
        </p:nvPicPr>
        <p:blipFill>
          <a:blip r:embed="rId3"/>
          <a:stretch/>
        </p:blipFill>
        <p:spPr>
          <a:xfrm>
            <a:off x="-2030400" y="517680"/>
            <a:ext cx="7486560" cy="347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>
            <a:hlinkClick r:id="rId2" action="ppaction://hlinksldjump"/>
          </p:cNvPr>
          <p:cNvSpPr/>
          <p:nvPr/>
        </p:nvSpPr>
        <p:spPr>
          <a:xfrm>
            <a:off x="788508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12966" y="3837"/>
                </a:moveTo>
                <a:lnTo>
                  <a:pt x="15543" y="6448"/>
                </a:lnTo>
                <a:lnTo>
                  <a:pt x="15543" y="4707"/>
                </a:lnTo>
                <a:lnTo>
                  <a:pt x="17318" y="4707"/>
                </a:lnTo>
                <a:lnTo>
                  <a:pt x="17318" y="8224"/>
                </a:lnTo>
                <a:lnTo>
                  <a:pt x="19929" y="10800"/>
                </a:lnTo>
                <a:lnTo>
                  <a:pt x="18276" y="10800"/>
                </a:lnTo>
                <a:lnTo>
                  <a:pt x="18276" y="17989"/>
                </a:lnTo>
                <a:lnTo>
                  <a:pt x="7657" y="17989"/>
                </a:lnTo>
                <a:lnTo>
                  <a:pt x="7657" y="10800"/>
                </a:lnTo>
                <a:lnTo>
                  <a:pt x="6004" y="10800"/>
                </a:lnTo>
                <a:close/>
              </a:path>
              <a:path fill="darkenLess" w="25933" h="21600">
                <a:moveTo>
                  <a:pt x="15543" y="6448"/>
                </a:moveTo>
                <a:lnTo>
                  <a:pt x="15543" y="4707"/>
                </a:lnTo>
                <a:lnTo>
                  <a:pt x="17318" y="4707"/>
                </a:lnTo>
                <a:lnTo>
                  <a:pt x="17318" y="8224"/>
                </a:lnTo>
                <a:close/>
              </a:path>
              <a:path fill="darkenLess" w="25933" h="21600">
                <a:moveTo>
                  <a:pt x="12044" y="14299"/>
                </a:moveTo>
                <a:lnTo>
                  <a:pt x="13889" y="14299"/>
                </a:lnTo>
                <a:lnTo>
                  <a:pt x="13889" y="17989"/>
                </a:lnTo>
                <a:lnTo>
                  <a:pt x="18276" y="17989"/>
                </a:lnTo>
                <a:lnTo>
                  <a:pt x="18276" y="10800"/>
                </a:lnTo>
                <a:lnTo>
                  <a:pt x="7657" y="10800"/>
                </a:lnTo>
                <a:lnTo>
                  <a:pt x="7657" y="17989"/>
                </a:lnTo>
                <a:lnTo>
                  <a:pt x="1204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Рисунок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4">
            <a:hlinkClick r:id="rId4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857160" y="357120"/>
            <a:ext cx="750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такое деформация тел.Назовите 2-3 приме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>
            <a:hlinkClick r:id="rId2" action="ppaction://hlinksldjump"/>
          </p:cNvPr>
          <p:cNvSpPr/>
          <p:nvPr/>
        </p:nvSpPr>
        <p:spPr>
          <a:xfrm>
            <a:off x="7956720" y="573408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11891" y="3837"/>
                </a:moveTo>
                <a:lnTo>
                  <a:pt x="14468" y="6448"/>
                </a:lnTo>
                <a:lnTo>
                  <a:pt x="14468" y="4707"/>
                </a:lnTo>
                <a:lnTo>
                  <a:pt x="16243" y="4707"/>
                </a:lnTo>
                <a:lnTo>
                  <a:pt x="16243" y="8224"/>
                </a:lnTo>
                <a:lnTo>
                  <a:pt x="18854" y="10800"/>
                </a:lnTo>
                <a:lnTo>
                  <a:pt x="17201" y="10800"/>
                </a:lnTo>
                <a:lnTo>
                  <a:pt x="17201" y="17989"/>
                </a:lnTo>
                <a:lnTo>
                  <a:pt x="6582" y="17989"/>
                </a:lnTo>
                <a:lnTo>
                  <a:pt x="6582" y="10800"/>
                </a:lnTo>
                <a:lnTo>
                  <a:pt x="4928" y="10800"/>
                </a:lnTo>
                <a:close/>
              </a:path>
              <a:path fill="darkenLess" w="23783" h="21600">
                <a:moveTo>
                  <a:pt x="14468" y="6448"/>
                </a:moveTo>
                <a:lnTo>
                  <a:pt x="14468" y="4707"/>
                </a:lnTo>
                <a:lnTo>
                  <a:pt x="16243" y="4707"/>
                </a:lnTo>
                <a:lnTo>
                  <a:pt x="16243" y="8224"/>
                </a:lnTo>
                <a:close/>
              </a:path>
              <a:path fill="darkenLess" w="23783" h="21600">
                <a:moveTo>
                  <a:pt x="10969" y="14299"/>
                </a:moveTo>
                <a:lnTo>
                  <a:pt x="12814" y="14299"/>
                </a:lnTo>
                <a:lnTo>
                  <a:pt x="12814" y="17989"/>
                </a:lnTo>
                <a:lnTo>
                  <a:pt x="17201" y="17989"/>
                </a:lnTo>
                <a:lnTo>
                  <a:pt x="17201" y="10800"/>
                </a:lnTo>
                <a:lnTo>
                  <a:pt x="6582" y="10800"/>
                </a:lnTo>
                <a:lnTo>
                  <a:pt x="6582" y="17989"/>
                </a:lnTo>
                <a:lnTo>
                  <a:pt x="1096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Рисунок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4">
            <a:hlinkClick r:id="rId4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571680" y="500040"/>
            <a:ext cx="78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акция окисления-это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де её можно наблюда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712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>
            <a:hlinkClick r:id="rId2" action="ppaction://hlinksldjump"/>
          </p:cNvPr>
          <p:cNvSpPr/>
          <p:nvPr/>
        </p:nvSpPr>
        <p:spPr>
          <a:xfrm>
            <a:off x="8101080" y="5805360"/>
            <a:ext cx="574560" cy="64800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48000"/>
              <a:gd name="textAreaBottom" fmla="*/ 610920 h 648000"/>
            </a:gdLst>
            <a:ahLst/>
            <a:rect l="textAreaLeft" t="textAreaTop" r="textAreaRight" b="textAreaBottom"/>
            <a:pathLst>
              <a:path w="21600" h="24359">
                <a:moveTo>
                  <a:pt x="0" y="0"/>
                </a:moveTo>
                <a:lnTo>
                  <a:pt x="21600" y="0"/>
                </a:lnTo>
                <a:lnTo>
                  <a:pt x="21600" y="24359"/>
                </a:lnTo>
                <a:lnTo>
                  <a:pt x="0" y="24359"/>
                </a:lnTo>
                <a:close/>
              </a:path>
              <a:path fill="lightenLess" w="21600" h="243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59">
                <a:moveTo>
                  <a:pt x="21600" y="0"/>
                </a:moveTo>
                <a:lnTo>
                  <a:pt x="21600" y="24359"/>
                </a:lnTo>
                <a:lnTo>
                  <a:pt x="20200" y="22959"/>
                </a:lnTo>
                <a:lnTo>
                  <a:pt x="20200" y="1400"/>
                </a:lnTo>
                <a:close/>
              </a:path>
              <a:path fill="darkenLess" w="21600" h="24359">
                <a:moveTo>
                  <a:pt x="21600" y="24359"/>
                </a:moveTo>
                <a:lnTo>
                  <a:pt x="0" y="24359"/>
                </a:lnTo>
                <a:lnTo>
                  <a:pt x="1400" y="22959"/>
                </a:lnTo>
                <a:lnTo>
                  <a:pt x="20200" y="22959"/>
                </a:lnTo>
                <a:close/>
              </a:path>
              <a:path fill="lighten" w="21600" h="24359">
                <a:moveTo>
                  <a:pt x="0" y="243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59"/>
                </a:lnTo>
                <a:close/>
              </a:path>
              <a:path fill="darken" w="21600" h="24359">
                <a:moveTo>
                  <a:pt x="10800" y="5217"/>
                </a:moveTo>
                <a:lnTo>
                  <a:pt x="13376" y="7828"/>
                </a:lnTo>
                <a:lnTo>
                  <a:pt x="13376" y="6087"/>
                </a:lnTo>
                <a:lnTo>
                  <a:pt x="15152" y="6087"/>
                </a:lnTo>
                <a:lnTo>
                  <a:pt x="15152" y="9603"/>
                </a:lnTo>
                <a:lnTo>
                  <a:pt x="17763" y="12180"/>
                </a:lnTo>
                <a:lnTo>
                  <a:pt x="16109" y="12180"/>
                </a:lnTo>
                <a:lnTo>
                  <a:pt x="16109" y="19369"/>
                </a:lnTo>
                <a:lnTo>
                  <a:pt x="5491" y="19369"/>
                </a:lnTo>
                <a:lnTo>
                  <a:pt x="5491" y="12180"/>
                </a:lnTo>
                <a:lnTo>
                  <a:pt x="3837" y="12180"/>
                </a:lnTo>
                <a:close/>
              </a:path>
              <a:path fill="darkenLess" w="21600" h="24359">
                <a:moveTo>
                  <a:pt x="13376" y="7828"/>
                </a:moveTo>
                <a:lnTo>
                  <a:pt x="13376" y="6087"/>
                </a:lnTo>
                <a:lnTo>
                  <a:pt x="15152" y="6087"/>
                </a:lnTo>
                <a:lnTo>
                  <a:pt x="15152" y="9603"/>
                </a:lnTo>
                <a:close/>
              </a:path>
              <a:path fill="darkenLess" w="21600" h="24359">
                <a:moveTo>
                  <a:pt x="9877" y="15678"/>
                </a:moveTo>
                <a:lnTo>
                  <a:pt x="11723" y="15678"/>
                </a:lnTo>
                <a:lnTo>
                  <a:pt x="11723" y="19369"/>
                </a:lnTo>
                <a:lnTo>
                  <a:pt x="16109" y="19369"/>
                </a:lnTo>
                <a:lnTo>
                  <a:pt x="16109" y="12180"/>
                </a:lnTo>
                <a:lnTo>
                  <a:pt x="5491" y="12180"/>
                </a:lnTo>
                <a:lnTo>
                  <a:pt x="5491" y="19369"/>
                </a:lnTo>
                <a:lnTo>
                  <a:pt x="9877" y="1936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Рисунок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4">
            <a:hlinkClick r:id="rId4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714240" y="500040"/>
            <a:ext cx="721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айте обобщенный «портрет»  молеку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>
            <a:hlinkClick r:id="rId2" action="ppaction://hlinksldjump"/>
          </p:cNvPr>
          <p:cNvSpPr/>
          <p:nvPr/>
        </p:nvSpPr>
        <p:spPr>
          <a:xfrm>
            <a:off x="7885080" y="4941720"/>
            <a:ext cx="503280" cy="574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920"/>
              <a:gd name="textAreaBottom" fmla="*/ 542520 h 574920"/>
            </a:gdLst>
            <a:ahLst/>
            <a:rect l="textAreaLeft" t="textAreaTop" r="textAreaRight" b="textAreaBottom"/>
            <a:pathLst>
              <a:path w="21600" h="24672">
                <a:moveTo>
                  <a:pt x="0" y="0"/>
                </a:moveTo>
                <a:lnTo>
                  <a:pt x="21600" y="0"/>
                </a:lnTo>
                <a:lnTo>
                  <a:pt x="21600" y="24672"/>
                </a:lnTo>
                <a:lnTo>
                  <a:pt x="0" y="24672"/>
                </a:lnTo>
                <a:close/>
              </a:path>
              <a:path fill="lightenLess" w="21600" h="24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2">
                <a:moveTo>
                  <a:pt x="21600" y="0"/>
                </a:moveTo>
                <a:lnTo>
                  <a:pt x="21600" y="24672"/>
                </a:lnTo>
                <a:lnTo>
                  <a:pt x="20200" y="23272"/>
                </a:lnTo>
                <a:lnTo>
                  <a:pt x="20200" y="1400"/>
                </a:lnTo>
                <a:close/>
              </a:path>
              <a:path fill="darkenLess" w="21600" h="24672">
                <a:moveTo>
                  <a:pt x="21600" y="24672"/>
                </a:moveTo>
                <a:lnTo>
                  <a:pt x="0" y="24672"/>
                </a:lnTo>
                <a:lnTo>
                  <a:pt x="1400" y="23272"/>
                </a:lnTo>
                <a:lnTo>
                  <a:pt x="20200" y="23272"/>
                </a:lnTo>
                <a:close/>
              </a:path>
              <a:path fill="lighten" w="21600" h="24672">
                <a:moveTo>
                  <a:pt x="0" y="24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2"/>
                </a:lnTo>
                <a:close/>
              </a:path>
              <a:path fill="darken" w="21600" h="24672">
                <a:moveTo>
                  <a:pt x="10800" y="5373"/>
                </a:moveTo>
                <a:lnTo>
                  <a:pt x="13376" y="7984"/>
                </a:ln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lnTo>
                  <a:pt x="17763" y="12336"/>
                </a:lnTo>
                <a:lnTo>
                  <a:pt x="16109" y="12336"/>
                </a:lnTo>
                <a:lnTo>
                  <a:pt x="16109" y="19525"/>
                </a:lnTo>
                <a:lnTo>
                  <a:pt x="5491" y="19525"/>
                </a:lnTo>
                <a:lnTo>
                  <a:pt x="5491" y="12336"/>
                </a:lnTo>
                <a:lnTo>
                  <a:pt x="3837" y="12336"/>
                </a:lnTo>
                <a:close/>
              </a:path>
              <a:path fill="darkenLess" w="21600" h="24672">
                <a:moveTo>
                  <a:pt x="13376" y="7984"/>
                </a:move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close/>
              </a:path>
              <a:path fill="darkenLess" w="21600" h="24672">
                <a:moveTo>
                  <a:pt x="9877" y="15835"/>
                </a:moveTo>
                <a:lnTo>
                  <a:pt x="11723" y="15835"/>
                </a:lnTo>
                <a:lnTo>
                  <a:pt x="11723" y="19525"/>
                </a:lnTo>
                <a:lnTo>
                  <a:pt x="16109" y="19525"/>
                </a:lnTo>
                <a:lnTo>
                  <a:pt x="16109" y="12336"/>
                </a:lnTo>
                <a:lnTo>
                  <a:pt x="5491" y="12336"/>
                </a:lnTo>
                <a:lnTo>
                  <a:pt x="5491" y="19525"/>
                </a:lnTo>
                <a:lnTo>
                  <a:pt x="9877" y="1952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C:\Documents and Settings\Admin\Рабочий стол\молния.BMP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4">
            <a:hlinkClick r:id="rId4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1928880" y="1000080"/>
            <a:ext cx="507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лния –это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00040" y="21430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">
            <a:hlinkClick r:id="rId2" action="ppaction://hlinksldjump"/>
          </p:cNvPr>
          <p:cNvSpPr/>
          <p:nvPr/>
        </p:nvSpPr>
        <p:spPr>
          <a:xfrm>
            <a:off x="8028000" y="551664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2135" y="3837"/>
                </a:moveTo>
                <a:lnTo>
                  <a:pt x="14711" y="6448"/>
                </a:lnTo>
                <a:lnTo>
                  <a:pt x="14711" y="4707"/>
                </a:lnTo>
                <a:lnTo>
                  <a:pt x="16487" y="4707"/>
                </a:lnTo>
                <a:lnTo>
                  <a:pt x="16487" y="8224"/>
                </a:lnTo>
                <a:lnTo>
                  <a:pt x="19098" y="10800"/>
                </a:lnTo>
                <a:lnTo>
                  <a:pt x="17444" y="10800"/>
                </a:lnTo>
                <a:lnTo>
                  <a:pt x="17444" y="17989"/>
                </a:lnTo>
                <a:lnTo>
                  <a:pt x="6826" y="17989"/>
                </a:lnTo>
                <a:lnTo>
                  <a:pt x="6826" y="10800"/>
                </a:lnTo>
                <a:lnTo>
                  <a:pt x="5172" y="10800"/>
                </a:lnTo>
                <a:close/>
              </a:path>
              <a:path fill="darkenLess" w="24270" h="21600">
                <a:moveTo>
                  <a:pt x="14711" y="6448"/>
                </a:moveTo>
                <a:lnTo>
                  <a:pt x="14711" y="4707"/>
                </a:lnTo>
                <a:lnTo>
                  <a:pt x="16487" y="4707"/>
                </a:lnTo>
                <a:lnTo>
                  <a:pt x="16487" y="8224"/>
                </a:lnTo>
                <a:close/>
              </a:path>
              <a:path fill="darkenLess" w="24270" h="21600">
                <a:moveTo>
                  <a:pt x="11212" y="14299"/>
                </a:moveTo>
                <a:lnTo>
                  <a:pt x="13057" y="14299"/>
                </a:lnTo>
                <a:lnTo>
                  <a:pt x="13057" y="17989"/>
                </a:lnTo>
                <a:lnTo>
                  <a:pt x="17444" y="17989"/>
                </a:lnTo>
                <a:lnTo>
                  <a:pt x="17444" y="10800"/>
                </a:lnTo>
                <a:lnTo>
                  <a:pt x="6826" y="10800"/>
                </a:lnTo>
                <a:lnTo>
                  <a:pt x="6826" y="17989"/>
                </a:lnTo>
                <a:lnTo>
                  <a:pt x="1121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C:\Documents and Settings\Admin\Рабочий стол\молния.BMP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4">
            <a:hlinkClick r:id="rId4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857160" y="571680"/>
            <a:ext cx="757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зовите источники электрического т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">
            <a:hlinkClick r:id="rId2" action="ppaction://hlinksldjump"/>
          </p:cNvPr>
          <p:cNvSpPr/>
          <p:nvPr/>
        </p:nvSpPr>
        <p:spPr>
          <a:xfrm>
            <a:off x="8028000" y="5589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C:\Documents and Settings\Admin\Рабочий стол\молния.BMP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4">
            <a:hlinkClick r:id="rId4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857160" y="571680"/>
            <a:ext cx="750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ие виды электрических зарядов вам известны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>
            <a:hlinkClick r:id="rId2" action="ppaction://hlinksldjump"/>
          </p:cNvPr>
          <p:cNvSpPr/>
          <p:nvPr/>
        </p:nvSpPr>
        <p:spPr>
          <a:xfrm>
            <a:off x="7812000" y="5734080"/>
            <a:ext cx="792360" cy="5745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9783" h="21600">
                <a:moveTo>
                  <a:pt x="0" y="0"/>
                </a:moveTo>
                <a:lnTo>
                  <a:pt x="29783" y="0"/>
                </a:lnTo>
                <a:lnTo>
                  <a:pt x="29783" y="21600"/>
                </a:lnTo>
                <a:lnTo>
                  <a:pt x="0" y="21600"/>
                </a:lnTo>
                <a:close/>
              </a:path>
              <a:path fill="lightenLess" w="29783" h="21600">
                <a:moveTo>
                  <a:pt x="0" y="0"/>
                </a:moveTo>
                <a:lnTo>
                  <a:pt x="29783" y="0"/>
                </a:lnTo>
                <a:lnTo>
                  <a:pt x="28383" y="1400"/>
                </a:lnTo>
                <a:lnTo>
                  <a:pt x="1400" y="1400"/>
                </a:lnTo>
                <a:close/>
              </a:path>
              <a:path fill="darken" w="29783" h="21600">
                <a:moveTo>
                  <a:pt x="29783" y="0"/>
                </a:moveTo>
                <a:lnTo>
                  <a:pt x="29783" y="21600"/>
                </a:lnTo>
                <a:lnTo>
                  <a:pt x="28383" y="20200"/>
                </a:lnTo>
                <a:lnTo>
                  <a:pt x="28383" y="1400"/>
                </a:lnTo>
                <a:close/>
              </a:path>
              <a:path fill="darkenLess" w="29783" h="21600">
                <a:moveTo>
                  <a:pt x="29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83" y="20200"/>
                </a:lnTo>
                <a:close/>
              </a:path>
              <a:path fill="lighten" w="29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83" h="21600">
                <a:moveTo>
                  <a:pt x="14891" y="3837"/>
                </a:moveTo>
                <a:lnTo>
                  <a:pt x="17468" y="6448"/>
                </a:lnTo>
                <a:lnTo>
                  <a:pt x="17468" y="4707"/>
                </a:lnTo>
                <a:lnTo>
                  <a:pt x="19243" y="4707"/>
                </a:lnTo>
                <a:lnTo>
                  <a:pt x="19243" y="8224"/>
                </a:lnTo>
                <a:lnTo>
                  <a:pt x="21854" y="10800"/>
                </a:lnTo>
                <a:lnTo>
                  <a:pt x="20201" y="10800"/>
                </a:lnTo>
                <a:lnTo>
                  <a:pt x="20201" y="17989"/>
                </a:lnTo>
                <a:lnTo>
                  <a:pt x="9582" y="17989"/>
                </a:lnTo>
                <a:lnTo>
                  <a:pt x="9582" y="10800"/>
                </a:lnTo>
                <a:lnTo>
                  <a:pt x="7928" y="10800"/>
                </a:lnTo>
                <a:close/>
              </a:path>
              <a:path fill="darkenLess" w="29783" h="21600">
                <a:moveTo>
                  <a:pt x="17468" y="6448"/>
                </a:moveTo>
                <a:lnTo>
                  <a:pt x="17468" y="4707"/>
                </a:lnTo>
                <a:lnTo>
                  <a:pt x="19243" y="4707"/>
                </a:lnTo>
                <a:lnTo>
                  <a:pt x="19243" y="8224"/>
                </a:lnTo>
                <a:close/>
              </a:path>
              <a:path fill="darkenLess" w="29783" h="21600">
                <a:moveTo>
                  <a:pt x="13969" y="14299"/>
                </a:moveTo>
                <a:lnTo>
                  <a:pt x="15814" y="14299"/>
                </a:lnTo>
                <a:lnTo>
                  <a:pt x="15814" y="17989"/>
                </a:lnTo>
                <a:lnTo>
                  <a:pt x="20201" y="17989"/>
                </a:lnTo>
                <a:lnTo>
                  <a:pt x="20201" y="10800"/>
                </a:lnTo>
                <a:lnTo>
                  <a:pt x="9582" y="10800"/>
                </a:lnTo>
                <a:lnTo>
                  <a:pt x="9582" y="17989"/>
                </a:lnTo>
                <a:lnTo>
                  <a:pt x="1396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C:\Documents and Settings\Admin\Рабочий стол\молния.BMP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4">
            <a:hlinkClick r:id="rId4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6"/>
          <p:cNvSpPr/>
          <p:nvPr/>
        </p:nvSpPr>
        <p:spPr>
          <a:xfrm flipV="1" rot="10800000">
            <a:off x="571680" y="788040"/>
            <a:ext cx="792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золяторы электрического тока- это ? Примеры 2-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4288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">
            <a:hlinkClick r:id="rId2" action="ppaction://hlinksldjump"/>
          </p:cNvPr>
          <p:cNvSpPr/>
          <p:nvPr/>
        </p:nvSpPr>
        <p:spPr>
          <a:xfrm>
            <a:off x="7885080" y="5589720"/>
            <a:ext cx="574560" cy="57600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00" h="21654">
                <a:moveTo>
                  <a:pt x="0" y="0"/>
                </a:moveTo>
                <a:lnTo>
                  <a:pt x="21600" y="0"/>
                </a:lnTo>
                <a:lnTo>
                  <a:pt x="21600" y="21654"/>
                </a:lnTo>
                <a:lnTo>
                  <a:pt x="0" y="21654"/>
                </a:lnTo>
                <a:close/>
              </a:path>
              <a:path fill="lightenLess" w="21600" h="216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4">
                <a:moveTo>
                  <a:pt x="21600" y="0"/>
                </a:moveTo>
                <a:lnTo>
                  <a:pt x="21600" y="21654"/>
                </a:lnTo>
                <a:lnTo>
                  <a:pt x="20200" y="20254"/>
                </a:lnTo>
                <a:lnTo>
                  <a:pt x="20200" y="1400"/>
                </a:lnTo>
                <a:close/>
              </a:path>
              <a:path fill="darkenLess" w="21600" h="21654">
                <a:moveTo>
                  <a:pt x="21600" y="21654"/>
                </a:moveTo>
                <a:lnTo>
                  <a:pt x="0" y="21654"/>
                </a:lnTo>
                <a:lnTo>
                  <a:pt x="1400" y="20254"/>
                </a:lnTo>
                <a:lnTo>
                  <a:pt x="20200" y="20254"/>
                </a:lnTo>
                <a:close/>
              </a:path>
              <a:path fill="lighten" w="21600" h="21654">
                <a:moveTo>
                  <a:pt x="0" y="216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4"/>
                </a:lnTo>
                <a:close/>
              </a:path>
              <a:path fill="darken" w="21600" h="21654">
                <a:moveTo>
                  <a:pt x="10800" y="3864"/>
                </a:moveTo>
                <a:lnTo>
                  <a:pt x="13376" y="6475"/>
                </a:lnTo>
                <a:lnTo>
                  <a:pt x="13376" y="4734"/>
                </a:lnTo>
                <a:lnTo>
                  <a:pt x="15152" y="4734"/>
                </a:lnTo>
                <a:lnTo>
                  <a:pt x="15152" y="8251"/>
                </a:lnTo>
                <a:lnTo>
                  <a:pt x="17763" y="10827"/>
                </a:lnTo>
                <a:lnTo>
                  <a:pt x="16109" y="10827"/>
                </a:lnTo>
                <a:lnTo>
                  <a:pt x="16109" y="18016"/>
                </a:lnTo>
                <a:lnTo>
                  <a:pt x="5491" y="18016"/>
                </a:lnTo>
                <a:lnTo>
                  <a:pt x="5491" y="10827"/>
                </a:lnTo>
                <a:lnTo>
                  <a:pt x="3837" y="10827"/>
                </a:lnTo>
                <a:close/>
              </a:path>
              <a:path fill="darkenLess" w="21600" h="21654">
                <a:moveTo>
                  <a:pt x="13376" y="6475"/>
                </a:moveTo>
                <a:lnTo>
                  <a:pt x="13376" y="4734"/>
                </a:lnTo>
                <a:lnTo>
                  <a:pt x="15152" y="4734"/>
                </a:lnTo>
                <a:lnTo>
                  <a:pt x="15152" y="8251"/>
                </a:lnTo>
                <a:close/>
              </a:path>
              <a:path fill="darkenLess" w="21600" h="21654">
                <a:moveTo>
                  <a:pt x="9877" y="14326"/>
                </a:moveTo>
                <a:lnTo>
                  <a:pt x="11723" y="14326"/>
                </a:lnTo>
                <a:lnTo>
                  <a:pt x="11723" y="18016"/>
                </a:lnTo>
                <a:lnTo>
                  <a:pt x="16109" y="18016"/>
                </a:lnTo>
                <a:lnTo>
                  <a:pt x="16109" y="10827"/>
                </a:lnTo>
                <a:lnTo>
                  <a:pt x="5491" y="10827"/>
                </a:lnTo>
                <a:lnTo>
                  <a:pt x="5491" y="18016"/>
                </a:lnTo>
                <a:lnTo>
                  <a:pt x="9877" y="1801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C:\Documents and Settings\Admin\Рабочий стол\молния.BMP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4">
            <a:hlinkClick r:id="rId4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7"/>
          <p:cNvSpPr/>
          <p:nvPr/>
        </p:nvSpPr>
        <p:spPr>
          <a:xfrm>
            <a:off x="571680" y="500040"/>
            <a:ext cx="7929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ъясните устройство молниеотвода. Для чего он нужен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411280" y="3141720"/>
            <a:ext cx="627552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>
            <a:hlinkClick r:id="rId2" action="ppaction://hlinksldjump"/>
          </p:cNvPr>
          <p:cNvSpPr/>
          <p:nvPr/>
        </p:nvSpPr>
        <p:spPr>
          <a:xfrm>
            <a:off x="8101080" y="5445000"/>
            <a:ext cx="503280" cy="576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34">
                <a:moveTo>
                  <a:pt x="0" y="0"/>
                </a:moveTo>
                <a:lnTo>
                  <a:pt x="21600" y="0"/>
                </a:lnTo>
                <a:lnTo>
                  <a:pt x="21600" y="24734"/>
                </a:lnTo>
                <a:lnTo>
                  <a:pt x="0" y="24734"/>
                </a:lnTo>
                <a:close/>
              </a:path>
              <a:path fill="lightenLess" w="21600" h="247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4">
                <a:moveTo>
                  <a:pt x="21600" y="0"/>
                </a:moveTo>
                <a:lnTo>
                  <a:pt x="21600" y="24734"/>
                </a:lnTo>
                <a:lnTo>
                  <a:pt x="20200" y="23334"/>
                </a:lnTo>
                <a:lnTo>
                  <a:pt x="20200" y="1400"/>
                </a:lnTo>
                <a:close/>
              </a:path>
              <a:path fill="darkenLess" w="21600" h="24734">
                <a:moveTo>
                  <a:pt x="21600" y="24734"/>
                </a:moveTo>
                <a:lnTo>
                  <a:pt x="0" y="24734"/>
                </a:lnTo>
                <a:lnTo>
                  <a:pt x="1400" y="23334"/>
                </a:lnTo>
                <a:lnTo>
                  <a:pt x="20200" y="23334"/>
                </a:lnTo>
                <a:close/>
              </a:path>
              <a:path fill="lighten" w="21600" h="24734">
                <a:moveTo>
                  <a:pt x="0" y="247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4"/>
                </a:lnTo>
                <a:close/>
              </a:path>
              <a:path fill="darken" w="21600" h="24734">
                <a:moveTo>
                  <a:pt x="10800" y="5404"/>
                </a:moveTo>
                <a:lnTo>
                  <a:pt x="13376" y="8015"/>
                </a:lnTo>
                <a:lnTo>
                  <a:pt x="13376" y="6275"/>
                </a:lnTo>
                <a:lnTo>
                  <a:pt x="15152" y="6275"/>
                </a:lnTo>
                <a:lnTo>
                  <a:pt x="15152" y="9791"/>
                </a:lnTo>
                <a:lnTo>
                  <a:pt x="17763" y="12367"/>
                </a:lnTo>
                <a:lnTo>
                  <a:pt x="16109" y="12367"/>
                </a:lnTo>
                <a:lnTo>
                  <a:pt x="16109" y="19556"/>
                </a:lnTo>
                <a:lnTo>
                  <a:pt x="5491" y="19556"/>
                </a:lnTo>
                <a:lnTo>
                  <a:pt x="5491" y="12367"/>
                </a:lnTo>
                <a:lnTo>
                  <a:pt x="3837" y="12367"/>
                </a:lnTo>
                <a:close/>
              </a:path>
              <a:path fill="darkenLess" w="21600" h="24734">
                <a:moveTo>
                  <a:pt x="13376" y="8015"/>
                </a:moveTo>
                <a:lnTo>
                  <a:pt x="13376" y="6275"/>
                </a:lnTo>
                <a:lnTo>
                  <a:pt x="15152" y="6275"/>
                </a:lnTo>
                <a:lnTo>
                  <a:pt x="15152" y="9791"/>
                </a:lnTo>
                <a:close/>
              </a:path>
              <a:path fill="darkenLess" w="21600" h="24734">
                <a:moveTo>
                  <a:pt x="9877" y="15866"/>
                </a:moveTo>
                <a:lnTo>
                  <a:pt x="11723" y="15866"/>
                </a:lnTo>
                <a:lnTo>
                  <a:pt x="11723" y="19556"/>
                </a:lnTo>
                <a:lnTo>
                  <a:pt x="16109" y="19556"/>
                </a:lnTo>
                <a:lnTo>
                  <a:pt x="16109" y="12367"/>
                </a:lnTo>
                <a:lnTo>
                  <a:pt x="5491" y="12367"/>
                </a:lnTo>
                <a:lnTo>
                  <a:pt x="5491" y="19556"/>
                </a:lnTo>
                <a:lnTo>
                  <a:pt x="9877" y="195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22"/>
          <p:cNvPicPr/>
          <p:nvPr/>
        </p:nvPicPr>
        <p:blipFill>
          <a:blip r:embed="rId3"/>
          <a:srcRect l="0" t="0" r="0" b="479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4">
            <a:hlinkClick r:id="rId4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6"/>
          <p:cNvSpPr/>
          <p:nvPr/>
        </p:nvSpPr>
        <p:spPr>
          <a:xfrm>
            <a:off x="571680" y="500040"/>
            <a:ext cx="7715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ормальное атмосферное давление равно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">
            <a:hlinkClick r:id="rId2" action="ppaction://hlinksldjump"/>
          </p:cNvPr>
          <p:cNvSpPr/>
          <p:nvPr/>
        </p:nvSpPr>
        <p:spPr>
          <a:xfrm>
            <a:off x="8244000" y="580536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  <a:path fill="darken" w="21600" h="25182">
                <a:moveTo>
                  <a:pt x="10800" y="5628"/>
                </a:moveTo>
                <a:lnTo>
                  <a:pt x="13376" y="8239"/>
                </a:lnTo>
                <a:lnTo>
                  <a:pt x="13376" y="6498"/>
                </a:lnTo>
                <a:lnTo>
                  <a:pt x="15152" y="6498"/>
                </a:lnTo>
                <a:lnTo>
                  <a:pt x="15152" y="10015"/>
                </a:lnTo>
                <a:lnTo>
                  <a:pt x="17763" y="12591"/>
                </a:lnTo>
                <a:lnTo>
                  <a:pt x="16109" y="12591"/>
                </a:lnTo>
                <a:lnTo>
                  <a:pt x="16109" y="19780"/>
                </a:lnTo>
                <a:lnTo>
                  <a:pt x="5491" y="19780"/>
                </a:lnTo>
                <a:lnTo>
                  <a:pt x="5491" y="12591"/>
                </a:lnTo>
                <a:lnTo>
                  <a:pt x="3837" y="12591"/>
                </a:lnTo>
                <a:close/>
              </a:path>
              <a:path fill="darkenLess" w="21600" h="25182">
                <a:moveTo>
                  <a:pt x="13376" y="8239"/>
                </a:moveTo>
                <a:lnTo>
                  <a:pt x="13376" y="6498"/>
                </a:lnTo>
                <a:lnTo>
                  <a:pt x="15152" y="6498"/>
                </a:lnTo>
                <a:lnTo>
                  <a:pt x="15152" y="10015"/>
                </a:lnTo>
                <a:close/>
              </a:path>
              <a:path fill="darkenLess" w="21600" h="25182">
                <a:moveTo>
                  <a:pt x="9877" y="16090"/>
                </a:moveTo>
                <a:lnTo>
                  <a:pt x="11723" y="16090"/>
                </a:lnTo>
                <a:lnTo>
                  <a:pt x="11723" y="19780"/>
                </a:lnTo>
                <a:lnTo>
                  <a:pt x="16109" y="19780"/>
                </a:lnTo>
                <a:lnTo>
                  <a:pt x="16109" y="12591"/>
                </a:lnTo>
                <a:lnTo>
                  <a:pt x="5491" y="12591"/>
                </a:lnTo>
                <a:lnTo>
                  <a:pt x="5491" y="19780"/>
                </a:lnTo>
                <a:lnTo>
                  <a:pt x="9877" y="1978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22"/>
          <p:cNvPicPr/>
          <p:nvPr/>
        </p:nvPicPr>
        <p:blipFill>
          <a:blip r:embed="rId3"/>
          <a:srcRect l="0" t="0" r="0" b="47919"/>
          <a:stretch/>
        </p:blipFill>
        <p:spPr>
          <a:xfrm>
            <a:off x="2349360" y="2401920"/>
            <a:ext cx="4445280" cy="29224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22"/>
          <p:cNvPicPr/>
          <p:nvPr/>
        </p:nvPicPr>
        <p:blipFill>
          <a:blip r:embed="rId4"/>
          <a:srcRect l="0" t="0" r="0" b="479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4">
            <a:hlinkClick r:id="rId5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1214280" y="214200"/>
            <a:ext cx="692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еречислите, что входит в состав воздуха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-36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2786040"/>
            <a:ext cx="2786040" cy="10796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00ffff"/>
              </a:gs>
              <a:gs pos="100000">
                <a:srgbClr val="0066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лектр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189000"/>
            <a:ext cx="2786040" cy="1008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00ffff"/>
              </a:gs>
              <a:gs pos="100000">
                <a:srgbClr val="0066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л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1428840"/>
            <a:ext cx="2664000" cy="1008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00ffff"/>
              </a:gs>
              <a:gs pos="100000">
                <a:srgbClr val="0066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а,ве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я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4214880"/>
            <a:ext cx="2786040" cy="1008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00ffff"/>
              </a:gs>
              <a:gs pos="100000">
                <a:srgbClr val="0066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здуш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ол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5589720"/>
            <a:ext cx="2664000" cy="1008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00ffff"/>
              </a:gs>
              <a:gs pos="100000">
                <a:srgbClr val="0066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д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ол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line4.gif (11519 bytes)"/>
          <p:cNvPicPr/>
          <p:nvPr/>
        </p:nvPicPr>
        <p:blipFill>
          <a:blip r:embed="rId1"/>
          <a:stretch/>
        </p:blipFill>
        <p:spPr>
          <a:xfrm rot="10800000">
            <a:off x="0" y="1196640"/>
            <a:ext cx="9144000" cy="223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line4.gif (11519 bytes)"/>
          <p:cNvPicPr/>
          <p:nvPr/>
        </p:nvPicPr>
        <p:blipFill>
          <a:blip r:embed="rId2"/>
          <a:stretch/>
        </p:blipFill>
        <p:spPr>
          <a:xfrm rot="10800000">
            <a:off x="0" y="2491920"/>
            <a:ext cx="9144000" cy="223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line4.gif (11519 bytes)"/>
          <p:cNvPicPr/>
          <p:nvPr/>
        </p:nvPicPr>
        <p:blipFill>
          <a:blip r:embed="rId3"/>
          <a:stretch/>
        </p:blipFill>
        <p:spPr>
          <a:xfrm rot="10800000">
            <a:off x="0" y="3860280"/>
            <a:ext cx="9144000" cy="223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line4.gif (11519 bytes)"/>
          <p:cNvPicPr/>
          <p:nvPr/>
        </p:nvPicPr>
        <p:blipFill>
          <a:blip r:embed="rId4"/>
          <a:stretch/>
        </p:blipFill>
        <p:spPr>
          <a:xfrm rot="10800000">
            <a:off x="0" y="5228640"/>
            <a:ext cx="9144000" cy="223560"/>
          </a:xfrm>
          <a:prstGeom prst="rect">
            <a:avLst/>
          </a:prstGeom>
          <a:ln w="0">
            <a:noFill/>
          </a:ln>
        </p:spPr>
      </p:pic>
      <p:sp>
        <p:nvSpPr>
          <p:cNvPr id="57" name="Oval 13">
            <a:hlinkClick r:id="rId5" action="ppaction://hlinksldjump"/>
          </p:cNvPr>
          <p:cNvSpPr/>
          <p:nvPr/>
        </p:nvSpPr>
        <p:spPr>
          <a:xfrm>
            <a:off x="2857680" y="0"/>
            <a:ext cx="115236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34">
            <a:hlinkClick r:id="rId6" action="ppaction://hlinksldjump"/>
          </p:cNvPr>
          <p:cNvSpPr/>
          <p:nvPr/>
        </p:nvSpPr>
        <p:spPr>
          <a:xfrm>
            <a:off x="2843280" y="1341360"/>
            <a:ext cx="1152360" cy="1125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35">
            <a:hlinkClick r:id="rId7" action="ppaction://hlinksldjump"/>
          </p:cNvPr>
          <p:cNvSpPr/>
          <p:nvPr/>
        </p:nvSpPr>
        <p:spPr>
          <a:xfrm>
            <a:off x="2843280" y="2708280"/>
            <a:ext cx="115236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6">
            <a:hlinkClick r:id="rId8" action="ppaction://hlinksldjump"/>
          </p:cNvPr>
          <p:cNvSpPr/>
          <p:nvPr/>
        </p:nvSpPr>
        <p:spPr>
          <a:xfrm>
            <a:off x="2843280" y="5516640"/>
            <a:ext cx="115236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7">
            <a:hlinkClick r:id="rId9" action="ppaction://hlinksldjump"/>
          </p:cNvPr>
          <p:cNvSpPr/>
          <p:nvPr/>
        </p:nvSpPr>
        <p:spPr>
          <a:xfrm>
            <a:off x="2843280" y="4076640"/>
            <a:ext cx="1152360" cy="1125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8">
            <a:hlinkClick r:id="rId10" action="ppaction://hlinksldjump"/>
          </p:cNvPr>
          <p:cNvSpPr/>
          <p:nvPr/>
        </p:nvSpPr>
        <p:spPr>
          <a:xfrm>
            <a:off x="4214880" y="0"/>
            <a:ext cx="115236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9">
            <a:hlinkClick r:id="rId11" action="ppaction://hlinksldjump"/>
          </p:cNvPr>
          <p:cNvSpPr/>
          <p:nvPr/>
        </p:nvSpPr>
        <p:spPr>
          <a:xfrm>
            <a:off x="4140360" y="1413000"/>
            <a:ext cx="115236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0">
            <a:hlinkClick r:id="rId12" action="ppaction://hlinksldjump"/>
          </p:cNvPr>
          <p:cNvSpPr/>
          <p:nvPr/>
        </p:nvSpPr>
        <p:spPr>
          <a:xfrm>
            <a:off x="4211640" y="2708280"/>
            <a:ext cx="115236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41">
            <a:hlinkClick r:id="rId13" action="ppaction://hlinksldjump"/>
          </p:cNvPr>
          <p:cNvSpPr/>
          <p:nvPr/>
        </p:nvSpPr>
        <p:spPr>
          <a:xfrm>
            <a:off x="4211640" y="4076640"/>
            <a:ext cx="1152360" cy="1125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2">
            <a:hlinkClick r:id="rId14" action="ppaction://hlinksldjump"/>
          </p:cNvPr>
          <p:cNvSpPr/>
          <p:nvPr/>
        </p:nvSpPr>
        <p:spPr>
          <a:xfrm>
            <a:off x="4211640" y="5516640"/>
            <a:ext cx="115236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3">
            <a:hlinkClick r:id="rId15" action="ppaction://hlinksldjump"/>
          </p:cNvPr>
          <p:cNvSpPr/>
          <p:nvPr/>
        </p:nvSpPr>
        <p:spPr>
          <a:xfrm>
            <a:off x="5572080" y="0"/>
            <a:ext cx="115272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44">
            <a:hlinkClick r:id="rId16" action="ppaction://hlinksldjump"/>
          </p:cNvPr>
          <p:cNvSpPr/>
          <p:nvPr/>
        </p:nvSpPr>
        <p:spPr>
          <a:xfrm>
            <a:off x="5435640" y="1413000"/>
            <a:ext cx="115236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45">
            <a:hlinkClick r:id="rId17" action="ppaction://hlinksldjump"/>
          </p:cNvPr>
          <p:cNvSpPr/>
          <p:nvPr/>
        </p:nvSpPr>
        <p:spPr>
          <a:xfrm>
            <a:off x="5435640" y="2708280"/>
            <a:ext cx="115236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Georgia"/>
                <a:hlinkClick r:id="rId18" action="ppaction://hlinksldjump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46">
            <a:hlinkClick r:id="rId19" action="ppaction://hlinksldjump"/>
          </p:cNvPr>
          <p:cNvSpPr/>
          <p:nvPr/>
        </p:nvSpPr>
        <p:spPr>
          <a:xfrm>
            <a:off x="5508720" y="4076640"/>
            <a:ext cx="1152360" cy="1125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47">
            <a:hlinkClick r:id="rId20" action="ppaction://hlinksldjump"/>
          </p:cNvPr>
          <p:cNvSpPr/>
          <p:nvPr/>
        </p:nvSpPr>
        <p:spPr>
          <a:xfrm>
            <a:off x="5508720" y="5516640"/>
            <a:ext cx="115236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48">
            <a:hlinkClick r:id="rId21" action="ppaction://hlinksldjump"/>
          </p:cNvPr>
          <p:cNvSpPr/>
          <p:nvPr/>
        </p:nvSpPr>
        <p:spPr>
          <a:xfrm>
            <a:off x="6786720" y="0"/>
            <a:ext cx="115236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49">
            <a:hlinkClick r:id="rId22" action="ppaction://hlinksldjump"/>
          </p:cNvPr>
          <p:cNvSpPr/>
          <p:nvPr/>
        </p:nvSpPr>
        <p:spPr>
          <a:xfrm>
            <a:off x="6732720" y="1341360"/>
            <a:ext cx="1152360" cy="1125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50">
            <a:hlinkClick r:id="rId23" action="ppaction://hlinksldjump"/>
          </p:cNvPr>
          <p:cNvSpPr/>
          <p:nvPr/>
        </p:nvSpPr>
        <p:spPr>
          <a:xfrm>
            <a:off x="6732720" y="2708280"/>
            <a:ext cx="115236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51">
            <a:hlinkClick r:id="rId24" action="ppaction://hlinksldjump"/>
          </p:cNvPr>
          <p:cNvSpPr/>
          <p:nvPr/>
        </p:nvSpPr>
        <p:spPr>
          <a:xfrm>
            <a:off x="6732720" y="4076640"/>
            <a:ext cx="1152360" cy="1125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52">
            <a:hlinkClick r:id="rId25" action="ppaction://hlinksldjump"/>
          </p:cNvPr>
          <p:cNvSpPr/>
          <p:nvPr/>
        </p:nvSpPr>
        <p:spPr>
          <a:xfrm>
            <a:off x="6732720" y="5516640"/>
            <a:ext cx="115236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3">
            <a:hlinkClick r:id="rId26" action="ppaction://hlinksldjump"/>
          </p:cNvPr>
          <p:cNvSpPr/>
          <p:nvPr/>
        </p:nvSpPr>
        <p:spPr>
          <a:xfrm>
            <a:off x="8001000" y="0"/>
            <a:ext cx="114300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54">
            <a:hlinkClick r:id="rId27" action="ppaction://hlinksldjump"/>
          </p:cNvPr>
          <p:cNvSpPr/>
          <p:nvPr/>
        </p:nvSpPr>
        <p:spPr>
          <a:xfrm>
            <a:off x="7991640" y="1341360"/>
            <a:ext cx="1152360" cy="1125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5">
            <a:hlinkClick r:id="rId28" action="ppaction://hlinksldjump"/>
          </p:cNvPr>
          <p:cNvSpPr/>
          <p:nvPr/>
        </p:nvSpPr>
        <p:spPr>
          <a:xfrm>
            <a:off x="7991640" y="2708280"/>
            <a:ext cx="1152360" cy="1125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6">
            <a:hlinkClick r:id="rId29" action="ppaction://hlinksldjump"/>
          </p:cNvPr>
          <p:cNvSpPr/>
          <p:nvPr/>
        </p:nvSpPr>
        <p:spPr>
          <a:xfrm>
            <a:off x="7991640" y="4076640"/>
            <a:ext cx="1152360" cy="1125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57">
            <a:hlinkClick r:id="rId30" action="ppaction://hlinksldjump"/>
          </p:cNvPr>
          <p:cNvSpPr/>
          <p:nvPr/>
        </p:nvSpPr>
        <p:spPr>
          <a:xfrm>
            <a:off x="7991640" y="5445000"/>
            <a:ext cx="1152360" cy="1125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">
            <a:hlinkClick r:id="rId2" action="ppaction://hlinksldjump"/>
          </p:cNvPr>
          <p:cNvSpPr/>
          <p:nvPr/>
        </p:nvSpPr>
        <p:spPr>
          <a:xfrm>
            <a:off x="8317080" y="587700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22"/>
          <p:cNvPicPr/>
          <p:nvPr/>
        </p:nvPicPr>
        <p:blipFill>
          <a:blip r:embed="rId3"/>
          <a:srcRect l="0" t="0" r="0" b="47919"/>
          <a:stretch/>
        </p:blipFill>
        <p:spPr>
          <a:xfrm>
            <a:off x="2506680" y="2146320"/>
            <a:ext cx="4444920" cy="29224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22"/>
          <p:cNvPicPr/>
          <p:nvPr/>
        </p:nvPicPr>
        <p:blipFill>
          <a:blip r:embed="rId4"/>
          <a:srcRect l="0" t="0" r="0" b="479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4">
            <a:hlinkClick r:id="rId5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857160" y="642960"/>
            <a:ext cx="700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такое облака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х вид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332000" y="3068280"/>
            <a:ext cx="73548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>
            <a:hlinkClick r:id="rId2" action="ppaction://hlinksldjump"/>
          </p:cNvPr>
          <p:cNvSpPr/>
          <p:nvPr/>
        </p:nvSpPr>
        <p:spPr>
          <a:xfrm>
            <a:off x="8459640" y="6021360"/>
            <a:ext cx="360360" cy="43200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00" y="24490"/>
                </a:lnTo>
                <a:lnTo>
                  <a:pt x="20200" y="140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400" y="24490"/>
                </a:lnTo>
                <a:lnTo>
                  <a:pt x="20200" y="2449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90"/>
                </a:lnTo>
                <a:close/>
              </a:path>
              <a:path fill="darken" w="21600" h="25890">
                <a:moveTo>
                  <a:pt x="10800" y="5982"/>
                </a:moveTo>
                <a:lnTo>
                  <a:pt x="13376" y="8593"/>
                </a:lnTo>
                <a:lnTo>
                  <a:pt x="13376" y="6852"/>
                </a:lnTo>
                <a:lnTo>
                  <a:pt x="15152" y="6852"/>
                </a:lnTo>
                <a:lnTo>
                  <a:pt x="15152" y="10369"/>
                </a:lnTo>
                <a:lnTo>
                  <a:pt x="17763" y="12945"/>
                </a:lnTo>
                <a:lnTo>
                  <a:pt x="16109" y="12945"/>
                </a:lnTo>
                <a:lnTo>
                  <a:pt x="16109" y="20134"/>
                </a:lnTo>
                <a:lnTo>
                  <a:pt x="5491" y="20134"/>
                </a:lnTo>
                <a:lnTo>
                  <a:pt x="5491" y="12945"/>
                </a:lnTo>
                <a:lnTo>
                  <a:pt x="3837" y="12945"/>
                </a:lnTo>
                <a:close/>
              </a:path>
              <a:path fill="darkenLess" w="21600" h="25890">
                <a:moveTo>
                  <a:pt x="13376" y="8593"/>
                </a:moveTo>
                <a:lnTo>
                  <a:pt x="13376" y="6852"/>
                </a:lnTo>
                <a:lnTo>
                  <a:pt x="15152" y="6852"/>
                </a:lnTo>
                <a:lnTo>
                  <a:pt x="15152" y="10369"/>
                </a:lnTo>
                <a:close/>
              </a:path>
              <a:path fill="darkenLess" w="21600" h="25890">
                <a:moveTo>
                  <a:pt x="9877" y="16444"/>
                </a:moveTo>
                <a:lnTo>
                  <a:pt x="11723" y="16444"/>
                </a:lnTo>
                <a:lnTo>
                  <a:pt x="11723" y="20134"/>
                </a:lnTo>
                <a:lnTo>
                  <a:pt x="16109" y="20134"/>
                </a:lnTo>
                <a:lnTo>
                  <a:pt x="16109" y="12945"/>
                </a:lnTo>
                <a:lnTo>
                  <a:pt x="5491" y="12945"/>
                </a:lnTo>
                <a:lnTo>
                  <a:pt x="5491" y="20134"/>
                </a:lnTo>
                <a:lnTo>
                  <a:pt x="9877" y="2013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22"/>
          <p:cNvPicPr/>
          <p:nvPr/>
        </p:nvPicPr>
        <p:blipFill>
          <a:blip r:embed="rId3"/>
          <a:srcRect l="0" t="0" r="0" b="479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4">
            <a:hlinkClick r:id="rId4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6"/>
          <p:cNvSpPr/>
          <p:nvPr/>
        </p:nvSpPr>
        <p:spPr>
          <a:xfrm>
            <a:off x="642960" y="642960"/>
            <a:ext cx="750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зовите отличие тумана от водяного пар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476000" y="3213000"/>
            <a:ext cx="721044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5">
            <a:hlinkClick r:id="rId2" action="ppaction://hlinksldjump"/>
          </p:cNvPr>
          <p:cNvSpPr/>
          <p:nvPr/>
        </p:nvSpPr>
        <p:spPr>
          <a:xfrm>
            <a:off x="8459640" y="595008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10800" y="5971"/>
                </a:moveTo>
                <a:lnTo>
                  <a:pt x="13376" y="8582"/>
                </a:lnTo>
                <a:lnTo>
                  <a:pt x="13376" y="6842"/>
                </a:lnTo>
                <a:lnTo>
                  <a:pt x="15152" y="6842"/>
                </a:lnTo>
                <a:lnTo>
                  <a:pt x="15152" y="10358"/>
                </a:lnTo>
                <a:lnTo>
                  <a:pt x="17763" y="12934"/>
                </a:lnTo>
                <a:lnTo>
                  <a:pt x="16109" y="12934"/>
                </a:lnTo>
                <a:lnTo>
                  <a:pt x="16109" y="20123"/>
                </a:lnTo>
                <a:lnTo>
                  <a:pt x="5491" y="20123"/>
                </a:lnTo>
                <a:lnTo>
                  <a:pt x="5491" y="12934"/>
                </a:lnTo>
                <a:lnTo>
                  <a:pt x="3837" y="12934"/>
                </a:lnTo>
                <a:close/>
              </a:path>
              <a:path fill="darkenLess" w="21600" h="25868">
                <a:moveTo>
                  <a:pt x="13376" y="8582"/>
                </a:moveTo>
                <a:lnTo>
                  <a:pt x="13376" y="6842"/>
                </a:lnTo>
                <a:lnTo>
                  <a:pt x="15152" y="6842"/>
                </a:lnTo>
                <a:lnTo>
                  <a:pt x="15152" y="10358"/>
                </a:lnTo>
                <a:close/>
              </a:path>
              <a:path fill="darkenLess" w="21600" h="25868">
                <a:moveTo>
                  <a:pt x="9877" y="16433"/>
                </a:moveTo>
                <a:lnTo>
                  <a:pt x="11723" y="16433"/>
                </a:lnTo>
                <a:lnTo>
                  <a:pt x="11723" y="20123"/>
                </a:lnTo>
                <a:lnTo>
                  <a:pt x="16109" y="20123"/>
                </a:lnTo>
                <a:lnTo>
                  <a:pt x="16109" y="12934"/>
                </a:lnTo>
                <a:lnTo>
                  <a:pt x="5491" y="12934"/>
                </a:lnTo>
                <a:lnTo>
                  <a:pt x="5491" y="20123"/>
                </a:lnTo>
                <a:lnTo>
                  <a:pt x="9877" y="2012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22"/>
          <p:cNvPicPr/>
          <p:nvPr/>
        </p:nvPicPr>
        <p:blipFill>
          <a:blip r:embed="rId3"/>
          <a:srcRect l="0" t="0" r="0" b="479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4">
            <a:hlinkClick r:id="rId4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6"/>
          <p:cNvSpPr/>
          <p:nvPr/>
        </p:nvSpPr>
        <p:spPr>
          <a:xfrm>
            <a:off x="714240" y="428760"/>
            <a:ext cx="7858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 называется устройство для построек подводных опор мостов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3571560"/>
            <a:ext cx="822960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7380360" y="5157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Рисунок 1" descr="вода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4"/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7"/>
          <p:cNvSpPr/>
          <p:nvPr/>
        </p:nvSpPr>
        <p:spPr>
          <a:xfrm>
            <a:off x="1000080" y="785880"/>
            <a:ext cx="707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дная оболочка Земли называется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28760" y="3285720"/>
            <a:ext cx="822960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»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5"/>
          <p:cNvSpPr/>
          <p:nvPr/>
        </p:nvSpPr>
        <p:spPr>
          <a:xfrm>
            <a:off x="7308720" y="5229360"/>
            <a:ext cx="648000" cy="504720"/>
          </a:xfrm>
          <a:custGeom>
            <a:avLst/>
            <a:gdLst>
              <a:gd name="textAreaLeft" fmla="*/ 32400 w 648000"/>
              <a:gd name="textAreaRight" fmla="*/ 615600 w 64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27" h="21600">
                <a:moveTo>
                  <a:pt x="0" y="0"/>
                </a:moveTo>
                <a:lnTo>
                  <a:pt x="27727" y="0"/>
                </a:lnTo>
                <a:lnTo>
                  <a:pt x="27727" y="21600"/>
                </a:lnTo>
                <a:lnTo>
                  <a:pt x="0" y="21600"/>
                </a:lnTo>
                <a:close/>
              </a:path>
              <a:path fill="lightenLess" w="27727" h="21600">
                <a:moveTo>
                  <a:pt x="0" y="0"/>
                </a:moveTo>
                <a:lnTo>
                  <a:pt x="27727" y="0"/>
                </a:lnTo>
                <a:lnTo>
                  <a:pt x="26327" y="1400"/>
                </a:lnTo>
                <a:lnTo>
                  <a:pt x="1400" y="1400"/>
                </a:lnTo>
                <a:close/>
              </a:path>
              <a:path fill="darken" w="27727" h="21600">
                <a:moveTo>
                  <a:pt x="27727" y="0"/>
                </a:moveTo>
                <a:lnTo>
                  <a:pt x="27727" y="21600"/>
                </a:lnTo>
                <a:lnTo>
                  <a:pt x="26327" y="20200"/>
                </a:lnTo>
                <a:lnTo>
                  <a:pt x="26327" y="1400"/>
                </a:lnTo>
                <a:close/>
              </a:path>
              <a:path fill="darkenLess" w="27727" h="21600">
                <a:moveTo>
                  <a:pt x="277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27" y="20200"/>
                </a:lnTo>
                <a:close/>
              </a:path>
              <a:path fill="lighten" w="277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27" h="21600">
                <a:moveTo>
                  <a:pt x="13864" y="3837"/>
                </a:moveTo>
                <a:lnTo>
                  <a:pt x="16440" y="6448"/>
                </a:lnTo>
                <a:lnTo>
                  <a:pt x="16440" y="4707"/>
                </a:lnTo>
                <a:lnTo>
                  <a:pt x="18216" y="4707"/>
                </a:lnTo>
                <a:lnTo>
                  <a:pt x="18216" y="8224"/>
                </a:lnTo>
                <a:lnTo>
                  <a:pt x="20827" y="10800"/>
                </a:lnTo>
                <a:lnTo>
                  <a:pt x="19173" y="10800"/>
                </a:lnTo>
                <a:lnTo>
                  <a:pt x="19173" y="17989"/>
                </a:lnTo>
                <a:lnTo>
                  <a:pt x="8554" y="17989"/>
                </a:lnTo>
                <a:lnTo>
                  <a:pt x="8554" y="10800"/>
                </a:lnTo>
                <a:lnTo>
                  <a:pt x="6901" y="10800"/>
                </a:lnTo>
                <a:close/>
              </a:path>
              <a:path fill="darkenLess" w="27727" h="21600">
                <a:moveTo>
                  <a:pt x="16440" y="6448"/>
                </a:moveTo>
                <a:lnTo>
                  <a:pt x="16440" y="4707"/>
                </a:lnTo>
                <a:lnTo>
                  <a:pt x="18216" y="4707"/>
                </a:lnTo>
                <a:lnTo>
                  <a:pt x="18216" y="8224"/>
                </a:lnTo>
                <a:close/>
              </a:path>
              <a:path fill="darkenLess" w="27727" h="21600">
                <a:moveTo>
                  <a:pt x="12941" y="14299"/>
                </a:moveTo>
                <a:lnTo>
                  <a:pt x="14786" y="14299"/>
                </a:lnTo>
                <a:lnTo>
                  <a:pt x="14786" y="17989"/>
                </a:lnTo>
                <a:lnTo>
                  <a:pt x="19173" y="17989"/>
                </a:lnTo>
                <a:lnTo>
                  <a:pt x="19173" y="10800"/>
                </a:lnTo>
                <a:lnTo>
                  <a:pt x="8554" y="10800"/>
                </a:lnTo>
                <a:lnTo>
                  <a:pt x="8554" y="17989"/>
                </a:lnTo>
                <a:lnTo>
                  <a:pt x="1294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Рисунок 1" descr="вода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4"/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>
            <a:off x="928800" y="571680"/>
            <a:ext cx="750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реднеокеаническая солёность морской воды равна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3571560"/>
            <a:ext cx="822960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7740720" y="5445000"/>
            <a:ext cx="718920" cy="64800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3963" h="21600">
                <a:moveTo>
                  <a:pt x="0" y="0"/>
                </a:moveTo>
                <a:lnTo>
                  <a:pt x="23963" y="0"/>
                </a:lnTo>
                <a:lnTo>
                  <a:pt x="23963" y="21600"/>
                </a:lnTo>
                <a:lnTo>
                  <a:pt x="0" y="21600"/>
                </a:lnTo>
                <a:close/>
              </a:path>
              <a:path fill="lightenLess" w="23963" h="21600">
                <a:moveTo>
                  <a:pt x="0" y="0"/>
                </a:moveTo>
                <a:lnTo>
                  <a:pt x="23963" y="0"/>
                </a:lnTo>
                <a:lnTo>
                  <a:pt x="22563" y="1400"/>
                </a:lnTo>
                <a:lnTo>
                  <a:pt x="1400" y="1400"/>
                </a:lnTo>
                <a:close/>
              </a:path>
              <a:path fill="darken" w="23963" h="21600">
                <a:moveTo>
                  <a:pt x="23963" y="0"/>
                </a:moveTo>
                <a:lnTo>
                  <a:pt x="23963" y="21600"/>
                </a:lnTo>
                <a:lnTo>
                  <a:pt x="22563" y="20200"/>
                </a:lnTo>
                <a:lnTo>
                  <a:pt x="22563" y="1400"/>
                </a:lnTo>
                <a:close/>
              </a:path>
              <a:path fill="darkenLess" w="23963" h="21600">
                <a:moveTo>
                  <a:pt x="23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63" y="20200"/>
                </a:lnTo>
                <a:close/>
              </a:path>
              <a:path fill="lighten" w="23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63" h="21600">
                <a:moveTo>
                  <a:pt x="11981" y="3837"/>
                </a:moveTo>
                <a:lnTo>
                  <a:pt x="14558" y="6448"/>
                </a:lnTo>
                <a:lnTo>
                  <a:pt x="14558" y="4707"/>
                </a:lnTo>
                <a:lnTo>
                  <a:pt x="16333" y="4707"/>
                </a:lnTo>
                <a:lnTo>
                  <a:pt x="16333" y="8224"/>
                </a:lnTo>
                <a:lnTo>
                  <a:pt x="18944" y="10800"/>
                </a:lnTo>
                <a:lnTo>
                  <a:pt x="17291" y="10800"/>
                </a:lnTo>
                <a:lnTo>
                  <a:pt x="17291" y="17989"/>
                </a:lnTo>
                <a:lnTo>
                  <a:pt x="6672" y="17989"/>
                </a:lnTo>
                <a:lnTo>
                  <a:pt x="6672" y="10800"/>
                </a:lnTo>
                <a:lnTo>
                  <a:pt x="5018" y="10800"/>
                </a:lnTo>
                <a:close/>
              </a:path>
              <a:path fill="darkenLess" w="23963" h="21600">
                <a:moveTo>
                  <a:pt x="14558" y="6448"/>
                </a:moveTo>
                <a:lnTo>
                  <a:pt x="14558" y="4707"/>
                </a:lnTo>
                <a:lnTo>
                  <a:pt x="16333" y="4707"/>
                </a:lnTo>
                <a:lnTo>
                  <a:pt x="16333" y="8224"/>
                </a:lnTo>
                <a:close/>
              </a:path>
              <a:path fill="darkenLess" w="23963" h="21600">
                <a:moveTo>
                  <a:pt x="11059" y="14299"/>
                </a:moveTo>
                <a:lnTo>
                  <a:pt x="12904" y="14299"/>
                </a:lnTo>
                <a:lnTo>
                  <a:pt x="12904" y="17989"/>
                </a:lnTo>
                <a:lnTo>
                  <a:pt x="17291" y="17989"/>
                </a:lnTo>
                <a:lnTo>
                  <a:pt x="17291" y="10800"/>
                </a:lnTo>
                <a:lnTo>
                  <a:pt x="6672" y="10800"/>
                </a:lnTo>
                <a:lnTo>
                  <a:pt x="6672" y="17989"/>
                </a:lnTo>
                <a:lnTo>
                  <a:pt x="1105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Рисунок 1" descr="вода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4"/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0"/>
          <p:cNvSpPr/>
          <p:nvPr/>
        </p:nvSpPr>
        <p:spPr>
          <a:xfrm>
            <a:off x="714240" y="500040"/>
            <a:ext cx="7929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звесь –это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иведит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-4 приме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14240" y="3285720"/>
            <a:ext cx="822960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7667640" y="551664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Рисунок 1" descr="вода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4"/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785880" y="285840"/>
            <a:ext cx="7500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значи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 созидательная» работа воды. Приведите 3- 4 приме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3857400"/>
            <a:ext cx="82296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5"/>
          <p:cNvSpPr/>
          <p:nvPr/>
        </p:nvSpPr>
        <p:spPr>
          <a:xfrm>
            <a:off x="7956720" y="537372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10800" y="3842"/>
                </a:moveTo>
                <a:lnTo>
                  <a:pt x="13376" y="6454"/>
                </a:ln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lnTo>
                  <a:pt x="17763" y="10805"/>
                </a:lnTo>
                <a:lnTo>
                  <a:pt x="16109" y="10805"/>
                </a:lnTo>
                <a:lnTo>
                  <a:pt x="16109" y="17995"/>
                </a:lnTo>
                <a:lnTo>
                  <a:pt x="5491" y="17995"/>
                </a:lnTo>
                <a:lnTo>
                  <a:pt x="5491" y="10805"/>
                </a:lnTo>
                <a:lnTo>
                  <a:pt x="3837" y="10805"/>
                </a:lnTo>
                <a:close/>
              </a:path>
              <a:path fill="darkenLess" w="21600" h="21611">
                <a:moveTo>
                  <a:pt x="13376" y="6454"/>
                </a:moveTo>
                <a:lnTo>
                  <a:pt x="13376" y="4713"/>
                </a:lnTo>
                <a:lnTo>
                  <a:pt x="15152" y="4713"/>
                </a:lnTo>
                <a:lnTo>
                  <a:pt x="15152" y="8229"/>
                </a:lnTo>
                <a:close/>
              </a:path>
              <a:path fill="darkenLess" w="21600" h="21611">
                <a:moveTo>
                  <a:pt x="9877" y="14304"/>
                </a:moveTo>
                <a:lnTo>
                  <a:pt x="11723" y="14304"/>
                </a:lnTo>
                <a:lnTo>
                  <a:pt x="11723" y="17995"/>
                </a:lnTo>
                <a:lnTo>
                  <a:pt x="16109" y="17995"/>
                </a:lnTo>
                <a:lnTo>
                  <a:pt x="16109" y="10805"/>
                </a:lnTo>
                <a:lnTo>
                  <a:pt x="5491" y="10805"/>
                </a:lnTo>
                <a:lnTo>
                  <a:pt x="5491" y="17995"/>
                </a:lnTo>
                <a:lnTo>
                  <a:pt x="9877" y="1799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Рисунок 1" descr="вода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4"/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7"/>
          <p:cNvSpPr/>
          <p:nvPr/>
        </p:nvSpPr>
        <p:spPr>
          <a:xfrm>
            <a:off x="1000080" y="571680"/>
            <a:ext cx="7429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чему в зимнее время  глубокие водоёмы не промерзают до дна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куда появились названия «Америка», «Вест-Индия», «Индейцы»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>
            <a:hlinkClick r:id="rId2" action="ppaction://hlinksldjump"/>
          </p:cNvPr>
          <p:cNvSpPr/>
          <p:nvPr/>
        </p:nvSpPr>
        <p:spPr>
          <a:xfrm>
            <a:off x="7858080" y="5857920"/>
            <a:ext cx="503280" cy="692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692280"/>
              <a:gd name="textAreaBottom" fmla="*/ 659880 h 692280"/>
            </a:gdLst>
            <a:ahLst/>
            <a:rect l="textAreaLeft" t="textAreaTop" r="textAreaRight" b="textAreaBottom"/>
            <a:pathLst>
              <a:path w="21600" h="29706">
                <a:moveTo>
                  <a:pt x="0" y="0"/>
                </a:moveTo>
                <a:lnTo>
                  <a:pt x="21600" y="0"/>
                </a:lnTo>
                <a:lnTo>
                  <a:pt x="21600" y="29706"/>
                </a:lnTo>
                <a:lnTo>
                  <a:pt x="0" y="29706"/>
                </a:lnTo>
                <a:close/>
              </a:path>
              <a:path fill="lightenLess" w="21600" h="297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6">
                <a:moveTo>
                  <a:pt x="21600" y="0"/>
                </a:moveTo>
                <a:lnTo>
                  <a:pt x="21600" y="29706"/>
                </a:lnTo>
                <a:lnTo>
                  <a:pt x="20200" y="28306"/>
                </a:lnTo>
                <a:lnTo>
                  <a:pt x="20200" y="1400"/>
                </a:lnTo>
                <a:close/>
              </a:path>
              <a:path fill="darkenLess" w="21600" h="29706">
                <a:moveTo>
                  <a:pt x="21600" y="29706"/>
                </a:moveTo>
                <a:lnTo>
                  <a:pt x="0" y="29706"/>
                </a:lnTo>
                <a:lnTo>
                  <a:pt x="1400" y="28306"/>
                </a:lnTo>
                <a:lnTo>
                  <a:pt x="20200" y="28306"/>
                </a:lnTo>
                <a:close/>
              </a:path>
              <a:path fill="lighten" w="21600" h="29706">
                <a:moveTo>
                  <a:pt x="0" y="297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6"/>
                </a:lnTo>
                <a:close/>
              </a:path>
              <a:path fill="darken" w="21600" h="29706">
                <a:moveTo>
                  <a:pt x="10800" y="7890"/>
                </a:moveTo>
                <a:lnTo>
                  <a:pt x="13376" y="10501"/>
                </a:lnTo>
                <a:lnTo>
                  <a:pt x="13376" y="8760"/>
                </a:lnTo>
                <a:lnTo>
                  <a:pt x="15152" y="8760"/>
                </a:lnTo>
                <a:lnTo>
                  <a:pt x="15152" y="12277"/>
                </a:lnTo>
                <a:lnTo>
                  <a:pt x="17763" y="14853"/>
                </a:lnTo>
                <a:lnTo>
                  <a:pt x="16109" y="14853"/>
                </a:lnTo>
                <a:lnTo>
                  <a:pt x="16109" y="22042"/>
                </a:lnTo>
                <a:lnTo>
                  <a:pt x="5491" y="22042"/>
                </a:lnTo>
                <a:lnTo>
                  <a:pt x="5491" y="14853"/>
                </a:lnTo>
                <a:lnTo>
                  <a:pt x="3837" y="14853"/>
                </a:lnTo>
                <a:close/>
              </a:path>
              <a:path fill="darkenLess" w="21600" h="29706">
                <a:moveTo>
                  <a:pt x="13376" y="10501"/>
                </a:moveTo>
                <a:lnTo>
                  <a:pt x="13376" y="8760"/>
                </a:lnTo>
                <a:lnTo>
                  <a:pt x="15152" y="8760"/>
                </a:lnTo>
                <a:lnTo>
                  <a:pt x="15152" y="12277"/>
                </a:lnTo>
                <a:close/>
              </a:path>
              <a:path fill="darkenLess" w="21600" h="29706">
                <a:moveTo>
                  <a:pt x="9877" y="18352"/>
                </a:moveTo>
                <a:lnTo>
                  <a:pt x="11723" y="18352"/>
                </a:lnTo>
                <a:lnTo>
                  <a:pt x="11723" y="22042"/>
                </a:lnTo>
                <a:lnTo>
                  <a:pt x="16109" y="22042"/>
                </a:lnTo>
                <a:lnTo>
                  <a:pt x="16109" y="14853"/>
                </a:lnTo>
                <a:lnTo>
                  <a:pt x="5491" y="14853"/>
                </a:lnTo>
                <a:lnTo>
                  <a:pt x="5491" y="22042"/>
                </a:lnTo>
                <a:lnTo>
                  <a:pt x="9877" y="2204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Full433"/>
          <p:cNvPicPr/>
          <p:nvPr/>
        </p:nvPicPr>
        <p:blipFill>
          <a:blip r:embed="rId3"/>
          <a:stretch/>
        </p:blipFill>
        <p:spPr>
          <a:xfrm>
            <a:off x="-108000" y="-544680"/>
            <a:ext cx="9252000" cy="74026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14300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селенная –это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>
            <a:hlinkClick r:id="rId4" action="ppaction://hlinksldjump"/>
          </p:cNvPr>
          <p:cNvSpPr/>
          <p:nvPr/>
        </p:nvSpPr>
        <p:spPr>
          <a:xfrm>
            <a:off x="8072280" y="5786280"/>
            <a:ext cx="574920" cy="503280"/>
          </a:xfrm>
          <a:custGeom>
            <a:avLst/>
            <a:gdLst>
              <a:gd name="textAreaLeft" fmla="*/ 32400 w 574920"/>
              <a:gd name="textAreaRight" fmla="*/ 542520 w 574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672" h="21600">
                <a:moveTo>
                  <a:pt x="0" y="0"/>
                </a:moveTo>
                <a:lnTo>
                  <a:pt x="24672" y="0"/>
                </a:lnTo>
                <a:lnTo>
                  <a:pt x="24672" y="21600"/>
                </a:lnTo>
                <a:lnTo>
                  <a:pt x="0" y="21600"/>
                </a:lnTo>
                <a:close/>
              </a:path>
              <a:path fill="lightenLess" w="24672" h="21600">
                <a:moveTo>
                  <a:pt x="0" y="0"/>
                </a:moveTo>
                <a:lnTo>
                  <a:pt x="24672" y="0"/>
                </a:lnTo>
                <a:lnTo>
                  <a:pt x="23272" y="1400"/>
                </a:lnTo>
                <a:lnTo>
                  <a:pt x="1400" y="1400"/>
                </a:lnTo>
                <a:close/>
              </a:path>
              <a:path fill="darken" w="24672" h="21600">
                <a:moveTo>
                  <a:pt x="24672" y="0"/>
                </a:moveTo>
                <a:lnTo>
                  <a:pt x="24672" y="21600"/>
                </a:lnTo>
                <a:lnTo>
                  <a:pt x="23272" y="20200"/>
                </a:lnTo>
                <a:lnTo>
                  <a:pt x="23272" y="1400"/>
                </a:lnTo>
                <a:close/>
              </a:path>
              <a:path fill="darkenLess" w="24672" h="21600">
                <a:moveTo>
                  <a:pt x="24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2" y="20200"/>
                </a:lnTo>
                <a:close/>
              </a:path>
              <a:path fill="lighten" w="24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2" h="21600">
                <a:moveTo>
                  <a:pt x="12336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299" y="10800"/>
                </a:lnTo>
                <a:lnTo>
                  <a:pt x="17645" y="10800"/>
                </a:lnTo>
                <a:lnTo>
                  <a:pt x="17645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3" y="10800"/>
                </a:lnTo>
                <a:close/>
              </a:path>
              <a:path fill="darkenLess" w="24672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2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5" y="17989"/>
                </a:lnTo>
                <a:lnTo>
                  <a:pt x="17645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то открыл Америку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>
            <a:hlinkClick r:id="rId2" action="ppaction://hlinksldjump"/>
          </p:cNvPr>
          <p:cNvSpPr/>
          <p:nvPr/>
        </p:nvSpPr>
        <p:spPr>
          <a:xfrm>
            <a:off x="8358120" y="6354720"/>
            <a:ext cx="574920" cy="503280"/>
          </a:xfrm>
          <a:custGeom>
            <a:avLst/>
            <a:gdLst>
              <a:gd name="textAreaLeft" fmla="*/ 32400 w 574920"/>
              <a:gd name="textAreaRight" fmla="*/ 542520 w 574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672" h="21600">
                <a:moveTo>
                  <a:pt x="0" y="0"/>
                </a:moveTo>
                <a:lnTo>
                  <a:pt x="24672" y="0"/>
                </a:lnTo>
                <a:lnTo>
                  <a:pt x="24672" y="21600"/>
                </a:lnTo>
                <a:lnTo>
                  <a:pt x="0" y="21600"/>
                </a:lnTo>
                <a:close/>
              </a:path>
              <a:path fill="lightenLess" w="24672" h="21600">
                <a:moveTo>
                  <a:pt x="0" y="0"/>
                </a:moveTo>
                <a:lnTo>
                  <a:pt x="24672" y="0"/>
                </a:lnTo>
                <a:lnTo>
                  <a:pt x="23272" y="1400"/>
                </a:lnTo>
                <a:lnTo>
                  <a:pt x="1400" y="1400"/>
                </a:lnTo>
                <a:close/>
              </a:path>
              <a:path fill="darken" w="24672" h="21600">
                <a:moveTo>
                  <a:pt x="24672" y="0"/>
                </a:moveTo>
                <a:lnTo>
                  <a:pt x="24672" y="21600"/>
                </a:lnTo>
                <a:lnTo>
                  <a:pt x="23272" y="20200"/>
                </a:lnTo>
                <a:lnTo>
                  <a:pt x="23272" y="1400"/>
                </a:lnTo>
                <a:close/>
              </a:path>
              <a:path fill="darkenLess" w="24672" h="21600">
                <a:moveTo>
                  <a:pt x="24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2" y="20200"/>
                </a:lnTo>
                <a:close/>
              </a:path>
              <a:path fill="lighten" w="24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2" h="21600">
                <a:moveTo>
                  <a:pt x="12336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299" y="10800"/>
                </a:lnTo>
                <a:lnTo>
                  <a:pt x="17645" y="10800"/>
                </a:lnTo>
                <a:lnTo>
                  <a:pt x="17645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3" y="10800"/>
                </a:lnTo>
                <a:close/>
              </a:path>
              <a:path fill="darkenLess" w="24672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2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5" y="17989"/>
                </a:lnTo>
                <a:lnTo>
                  <a:pt x="17645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Full433"/>
          <p:cNvPicPr/>
          <p:nvPr/>
        </p:nvPicPr>
        <p:blipFill>
          <a:blip r:embed="rId3"/>
          <a:stretch/>
        </p:blipFill>
        <p:spPr>
          <a:xfrm>
            <a:off x="-108000" y="0"/>
            <a:ext cx="9252000" cy="740268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4">
            <a:hlinkClick r:id="rId4" action="ppaction://hlinksldjump"/>
          </p:cNvPr>
          <p:cNvSpPr/>
          <p:nvPr/>
        </p:nvSpPr>
        <p:spPr>
          <a:xfrm>
            <a:off x="8215200" y="6354720"/>
            <a:ext cx="574920" cy="503280"/>
          </a:xfrm>
          <a:custGeom>
            <a:avLst/>
            <a:gdLst>
              <a:gd name="textAreaLeft" fmla="*/ 32400 w 574920"/>
              <a:gd name="textAreaRight" fmla="*/ 542520 w 574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672" h="21600">
                <a:moveTo>
                  <a:pt x="0" y="0"/>
                </a:moveTo>
                <a:lnTo>
                  <a:pt x="24672" y="0"/>
                </a:lnTo>
                <a:lnTo>
                  <a:pt x="24672" y="21600"/>
                </a:lnTo>
                <a:lnTo>
                  <a:pt x="0" y="21600"/>
                </a:lnTo>
                <a:close/>
              </a:path>
              <a:path fill="lightenLess" w="24672" h="21600">
                <a:moveTo>
                  <a:pt x="0" y="0"/>
                </a:moveTo>
                <a:lnTo>
                  <a:pt x="24672" y="0"/>
                </a:lnTo>
                <a:lnTo>
                  <a:pt x="23272" y="1400"/>
                </a:lnTo>
                <a:lnTo>
                  <a:pt x="1400" y="1400"/>
                </a:lnTo>
                <a:close/>
              </a:path>
              <a:path fill="darken" w="24672" h="21600">
                <a:moveTo>
                  <a:pt x="24672" y="0"/>
                </a:moveTo>
                <a:lnTo>
                  <a:pt x="24672" y="21600"/>
                </a:lnTo>
                <a:lnTo>
                  <a:pt x="23272" y="20200"/>
                </a:lnTo>
                <a:lnTo>
                  <a:pt x="23272" y="1400"/>
                </a:lnTo>
                <a:close/>
              </a:path>
              <a:path fill="darkenLess" w="24672" h="21600">
                <a:moveTo>
                  <a:pt x="24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2" y="20200"/>
                </a:lnTo>
                <a:close/>
              </a:path>
              <a:path fill="lighten" w="24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2" h="21600">
                <a:moveTo>
                  <a:pt x="12336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299" y="10800"/>
                </a:lnTo>
                <a:lnTo>
                  <a:pt x="17645" y="10800"/>
                </a:lnTo>
                <a:lnTo>
                  <a:pt x="17645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3" y="10800"/>
                </a:lnTo>
                <a:close/>
              </a:path>
              <a:path fill="darkenLess" w="24672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2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5" y="17989"/>
                </a:lnTo>
                <a:lnTo>
                  <a:pt x="17645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1357200" y="1000080"/>
            <a:ext cx="678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 чём  отличие метеоров от метеоритов 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то такой Давид Ливингстон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>
            <a:hlinkClick r:id="rId2" action="ppaction://hlinksldjump"/>
          </p:cNvPr>
          <p:cNvSpPr/>
          <p:nvPr/>
        </p:nvSpPr>
        <p:spPr>
          <a:xfrm>
            <a:off x="8388360" y="595008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10831" y="3837"/>
                </a:moveTo>
                <a:lnTo>
                  <a:pt x="13407" y="6448"/>
                </a:ln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lnTo>
                  <a:pt x="17794" y="10800"/>
                </a:lnTo>
                <a:lnTo>
                  <a:pt x="16140" y="10800"/>
                </a:lnTo>
                <a:lnTo>
                  <a:pt x="16140" y="17989"/>
                </a:lnTo>
                <a:lnTo>
                  <a:pt x="5522" y="17989"/>
                </a:lnTo>
                <a:lnTo>
                  <a:pt x="5522" y="10800"/>
                </a:lnTo>
                <a:lnTo>
                  <a:pt x="3868" y="10800"/>
                </a:lnTo>
                <a:close/>
              </a:path>
              <a:path fill="darkenLess" w="21662" h="21600">
                <a:moveTo>
                  <a:pt x="13407" y="6448"/>
                </a:moveTo>
                <a:lnTo>
                  <a:pt x="13407" y="4707"/>
                </a:lnTo>
                <a:lnTo>
                  <a:pt x="15183" y="4707"/>
                </a:lnTo>
                <a:lnTo>
                  <a:pt x="15183" y="8224"/>
                </a:lnTo>
                <a:close/>
              </a:path>
              <a:path fill="darkenLess" w="21662" h="21600">
                <a:moveTo>
                  <a:pt x="9908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40" y="17989"/>
                </a:lnTo>
                <a:lnTo>
                  <a:pt x="16140" y="10800"/>
                </a:lnTo>
                <a:lnTo>
                  <a:pt x="5522" y="10800"/>
                </a:lnTo>
                <a:lnTo>
                  <a:pt x="5522" y="17989"/>
                </a:lnTo>
                <a:lnTo>
                  <a:pt x="990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Full433"/>
          <p:cNvPicPr/>
          <p:nvPr/>
        </p:nvPicPr>
        <p:blipFill>
          <a:blip r:embed="rId3"/>
          <a:stretch/>
        </p:blipFill>
        <p:spPr>
          <a:xfrm>
            <a:off x="0" y="0"/>
            <a:ext cx="9252000" cy="740268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4">
            <a:hlinkClick r:id="rId4" action="ppaction://hlinksldjump"/>
          </p:cNvPr>
          <p:cNvSpPr/>
          <p:nvPr/>
        </p:nvSpPr>
        <p:spPr>
          <a:xfrm>
            <a:off x="8143920" y="621504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1000080" y="571680"/>
            <a:ext cx="7286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зовите 5- 6 известных вам созвезд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>
            <a:hlinkClick r:id="rId2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">
            <a:hlinkClick r:id="rId3" action="ppaction://hlinksldjump"/>
          </p:cNvPr>
          <p:cNvSpPr/>
          <p:nvPr/>
        </p:nvSpPr>
        <p:spPr>
          <a:xfrm>
            <a:off x="6643800" y="6000840"/>
            <a:ext cx="574560" cy="50328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657" h="21600">
                <a:moveTo>
                  <a:pt x="0" y="0"/>
                </a:moveTo>
                <a:lnTo>
                  <a:pt x="24657" y="0"/>
                </a:lnTo>
                <a:lnTo>
                  <a:pt x="24657" y="21600"/>
                </a:lnTo>
                <a:lnTo>
                  <a:pt x="0" y="21600"/>
                </a:lnTo>
                <a:close/>
              </a:path>
              <a:path fill="lightenLess" w="24657" h="21600">
                <a:moveTo>
                  <a:pt x="0" y="0"/>
                </a:moveTo>
                <a:lnTo>
                  <a:pt x="24657" y="0"/>
                </a:lnTo>
                <a:lnTo>
                  <a:pt x="23257" y="1400"/>
                </a:lnTo>
                <a:lnTo>
                  <a:pt x="1400" y="1400"/>
                </a:lnTo>
                <a:close/>
              </a:path>
              <a:path fill="darken" w="24657" h="21600">
                <a:moveTo>
                  <a:pt x="24657" y="0"/>
                </a:moveTo>
                <a:lnTo>
                  <a:pt x="24657" y="21600"/>
                </a:lnTo>
                <a:lnTo>
                  <a:pt x="23257" y="20200"/>
                </a:lnTo>
                <a:lnTo>
                  <a:pt x="23257" y="1400"/>
                </a:lnTo>
                <a:close/>
              </a:path>
              <a:path fill="darkenLess" w="24657" h="21600">
                <a:moveTo>
                  <a:pt x="24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57" y="20200"/>
                </a:lnTo>
                <a:close/>
              </a:path>
              <a:path fill="lighten" w="24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57" h="21600">
                <a:moveTo>
                  <a:pt x="12329" y="3837"/>
                </a:moveTo>
                <a:lnTo>
                  <a:pt x="14905" y="6448"/>
                </a:lnTo>
                <a:lnTo>
                  <a:pt x="14905" y="4707"/>
                </a:lnTo>
                <a:lnTo>
                  <a:pt x="16680" y="4707"/>
                </a:lnTo>
                <a:lnTo>
                  <a:pt x="16680" y="8224"/>
                </a:lnTo>
                <a:lnTo>
                  <a:pt x="19291" y="10800"/>
                </a:lnTo>
                <a:lnTo>
                  <a:pt x="17638" y="10800"/>
                </a:lnTo>
                <a:lnTo>
                  <a:pt x="17638" y="17989"/>
                </a:lnTo>
                <a:lnTo>
                  <a:pt x="7019" y="17989"/>
                </a:lnTo>
                <a:lnTo>
                  <a:pt x="7019" y="10800"/>
                </a:lnTo>
                <a:lnTo>
                  <a:pt x="5366" y="10800"/>
                </a:lnTo>
                <a:close/>
              </a:path>
              <a:path fill="darkenLess" w="24657" h="21600">
                <a:moveTo>
                  <a:pt x="14905" y="6448"/>
                </a:moveTo>
                <a:lnTo>
                  <a:pt x="14905" y="4707"/>
                </a:lnTo>
                <a:lnTo>
                  <a:pt x="16680" y="4707"/>
                </a:lnTo>
                <a:lnTo>
                  <a:pt x="16680" y="8224"/>
                </a:lnTo>
                <a:close/>
              </a:path>
              <a:path fill="darkenLess" w="24657" h="21600">
                <a:moveTo>
                  <a:pt x="11406" y="14299"/>
                </a:moveTo>
                <a:lnTo>
                  <a:pt x="13251" y="14299"/>
                </a:lnTo>
                <a:lnTo>
                  <a:pt x="13251" y="17989"/>
                </a:lnTo>
                <a:lnTo>
                  <a:pt x="17638" y="17989"/>
                </a:lnTo>
                <a:lnTo>
                  <a:pt x="17638" y="10800"/>
                </a:lnTo>
                <a:lnTo>
                  <a:pt x="7019" y="10800"/>
                </a:lnTo>
                <a:lnTo>
                  <a:pt x="7019" y="17989"/>
                </a:lnTo>
                <a:lnTo>
                  <a:pt x="11406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Full433"/>
          <p:cNvPicPr/>
          <p:nvPr/>
        </p:nvPicPr>
        <p:blipFill>
          <a:blip r:embed="rId4"/>
          <a:stretch/>
        </p:blipFill>
        <p:spPr>
          <a:xfrm>
            <a:off x="-108000" y="-357120"/>
            <a:ext cx="9252000" cy="74023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4">
            <a:hlinkClick r:id="rId5" action="ppaction://hlinksldjump"/>
          </p:cNvPr>
          <p:cNvSpPr/>
          <p:nvPr/>
        </p:nvSpPr>
        <p:spPr>
          <a:xfrm>
            <a:off x="8153280" y="62247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1357200" y="285840"/>
            <a:ext cx="6357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еречислите планеты земной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то открыл Австралию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>
            <a:hlinkClick r:id="rId2" action="ppaction://hlinksldjump"/>
          </p:cNvPr>
          <p:cNvSpPr/>
          <p:nvPr/>
        </p:nvSpPr>
        <p:spPr>
          <a:xfrm>
            <a:off x="8172360" y="580536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Full433"/>
          <p:cNvPicPr/>
          <p:nvPr/>
        </p:nvPicPr>
        <p:blipFill>
          <a:blip r:embed="rId3"/>
          <a:stretch/>
        </p:blipFill>
        <p:spPr>
          <a:xfrm>
            <a:off x="-108000" y="0"/>
            <a:ext cx="9252000" cy="707220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4">
            <a:hlinkClick r:id="rId4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 flipV="1" rot="10800000">
            <a:off x="857160" y="874440"/>
            <a:ext cx="7215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то такое комета, из каких частей она состоит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14680" y="857160"/>
            <a:ext cx="60861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>
            <a:hlinkClick r:id="rId2" action="ppaction://hlinksldjump"/>
          </p:cNvPr>
          <p:cNvSpPr/>
          <p:nvPr/>
        </p:nvSpPr>
        <p:spPr>
          <a:xfrm>
            <a:off x="8072280" y="585792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11994" y="3837"/>
                </a:moveTo>
                <a:lnTo>
                  <a:pt x="14570" y="6448"/>
                </a:lnTo>
                <a:lnTo>
                  <a:pt x="14570" y="4707"/>
                </a:lnTo>
                <a:lnTo>
                  <a:pt x="16346" y="4707"/>
                </a:lnTo>
                <a:lnTo>
                  <a:pt x="16346" y="8224"/>
                </a:lnTo>
                <a:lnTo>
                  <a:pt x="18957" y="10800"/>
                </a:lnTo>
                <a:lnTo>
                  <a:pt x="17303" y="10800"/>
                </a:lnTo>
                <a:lnTo>
                  <a:pt x="17303" y="17989"/>
                </a:lnTo>
                <a:lnTo>
                  <a:pt x="6685" y="17989"/>
                </a:lnTo>
                <a:lnTo>
                  <a:pt x="6685" y="10800"/>
                </a:lnTo>
                <a:lnTo>
                  <a:pt x="5031" y="10800"/>
                </a:lnTo>
                <a:close/>
              </a:path>
              <a:path fill="darkenLess" w="23988" h="21600">
                <a:moveTo>
                  <a:pt x="14570" y="6448"/>
                </a:moveTo>
                <a:lnTo>
                  <a:pt x="14570" y="4707"/>
                </a:lnTo>
                <a:lnTo>
                  <a:pt x="16346" y="4707"/>
                </a:lnTo>
                <a:lnTo>
                  <a:pt x="16346" y="8224"/>
                </a:lnTo>
                <a:close/>
              </a:path>
              <a:path fill="darkenLess" w="23988" h="21600">
                <a:moveTo>
                  <a:pt x="11071" y="14299"/>
                </a:moveTo>
                <a:lnTo>
                  <a:pt x="12917" y="14299"/>
                </a:lnTo>
                <a:lnTo>
                  <a:pt x="12917" y="17989"/>
                </a:lnTo>
                <a:lnTo>
                  <a:pt x="17303" y="17989"/>
                </a:lnTo>
                <a:lnTo>
                  <a:pt x="17303" y="10800"/>
                </a:lnTo>
                <a:lnTo>
                  <a:pt x="6685" y="10800"/>
                </a:lnTo>
                <a:lnTo>
                  <a:pt x="6685" y="17989"/>
                </a:lnTo>
                <a:lnTo>
                  <a:pt x="1107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Рисунок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4">
            <a:hlinkClick r:id="rId4" action="ppaction://hlinksldjump"/>
          </p:cNvPr>
          <p:cNvSpPr/>
          <p:nvPr/>
        </p:nvSpPr>
        <p:spPr>
          <a:xfrm>
            <a:off x="7929720" y="592920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14397" y="3837"/>
                </a:moveTo>
                <a:lnTo>
                  <a:pt x="16973" y="6448"/>
                </a:lnTo>
                <a:lnTo>
                  <a:pt x="16973" y="4707"/>
                </a:lnTo>
                <a:lnTo>
                  <a:pt x="18749" y="4707"/>
                </a:lnTo>
                <a:lnTo>
                  <a:pt x="18749" y="8224"/>
                </a:lnTo>
                <a:lnTo>
                  <a:pt x="21360" y="10800"/>
                </a:lnTo>
                <a:lnTo>
                  <a:pt x="19706" y="10800"/>
                </a:lnTo>
                <a:lnTo>
                  <a:pt x="19706" y="17989"/>
                </a:lnTo>
                <a:lnTo>
                  <a:pt x="9088" y="17989"/>
                </a:lnTo>
                <a:lnTo>
                  <a:pt x="9088" y="10800"/>
                </a:lnTo>
                <a:lnTo>
                  <a:pt x="7434" y="10800"/>
                </a:lnTo>
                <a:close/>
              </a:path>
              <a:path fill="darkenLess" w="28794" h="21600">
                <a:moveTo>
                  <a:pt x="16973" y="6448"/>
                </a:moveTo>
                <a:lnTo>
                  <a:pt x="16973" y="4707"/>
                </a:lnTo>
                <a:lnTo>
                  <a:pt x="18749" y="4707"/>
                </a:lnTo>
                <a:lnTo>
                  <a:pt x="18749" y="8224"/>
                </a:lnTo>
                <a:close/>
              </a:path>
              <a:path fill="darkenLess" w="28794" h="21600">
                <a:moveTo>
                  <a:pt x="13474" y="14299"/>
                </a:moveTo>
                <a:lnTo>
                  <a:pt x="15320" y="14299"/>
                </a:lnTo>
                <a:lnTo>
                  <a:pt x="15320" y="17989"/>
                </a:lnTo>
                <a:lnTo>
                  <a:pt x="19706" y="17989"/>
                </a:lnTo>
                <a:lnTo>
                  <a:pt x="19706" y="10800"/>
                </a:lnTo>
                <a:lnTo>
                  <a:pt x="9088" y="10800"/>
                </a:lnTo>
                <a:lnTo>
                  <a:pt x="9088" y="17989"/>
                </a:lnTo>
                <a:lnTo>
                  <a:pt x="1347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 flipV="1" rot="10800000">
            <a:off x="2571840" y="1200960"/>
            <a:ext cx="43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олекулы-это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>
            <a:hlinkClick r:id="rId2" action="ppaction://hlinksldjump"/>
          </p:cNvPr>
          <p:cNvSpPr/>
          <p:nvPr/>
        </p:nvSpPr>
        <p:spPr>
          <a:xfrm>
            <a:off x="8172360" y="5661000"/>
            <a:ext cx="792360" cy="720720"/>
          </a:xfrm>
          <a:custGeom>
            <a:avLst/>
            <a:gdLst>
              <a:gd name="textAreaLeft" fmla="*/ 46440 w 792360"/>
              <a:gd name="textAreaRight" fmla="*/ 745920 w 7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46" h="21600">
                <a:moveTo>
                  <a:pt x="0" y="0"/>
                </a:moveTo>
                <a:lnTo>
                  <a:pt x="23746" y="0"/>
                </a:lnTo>
                <a:lnTo>
                  <a:pt x="23746" y="21600"/>
                </a:lnTo>
                <a:lnTo>
                  <a:pt x="0" y="21600"/>
                </a:lnTo>
                <a:close/>
              </a:path>
              <a:path fill="lightenLess" w="23746" h="21600">
                <a:moveTo>
                  <a:pt x="0" y="0"/>
                </a:moveTo>
                <a:lnTo>
                  <a:pt x="23746" y="0"/>
                </a:lnTo>
                <a:lnTo>
                  <a:pt x="22346" y="1400"/>
                </a:lnTo>
                <a:lnTo>
                  <a:pt x="1400" y="1400"/>
                </a:lnTo>
                <a:close/>
              </a:path>
              <a:path fill="darken" w="23746" h="21600">
                <a:moveTo>
                  <a:pt x="23746" y="0"/>
                </a:moveTo>
                <a:lnTo>
                  <a:pt x="23746" y="21600"/>
                </a:lnTo>
                <a:lnTo>
                  <a:pt x="22346" y="20200"/>
                </a:lnTo>
                <a:lnTo>
                  <a:pt x="22346" y="1400"/>
                </a:lnTo>
                <a:close/>
              </a:path>
              <a:path fill="darkenLess" w="23746" h="21600">
                <a:moveTo>
                  <a:pt x="23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46" y="20200"/>
                </a:lnTo>
                <a:close/>
              </a:path>
              <a:path fill="lighten" w="23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46" h="21600">
                <a:moveTo>
                  <a:pt x="11873" y="3837"/>
                </a:moveTo>
                <a:lnTo>
                  <a:pt x="14449" y="6448"/>
                </a:lnTo>
                <a:lnTo>
                  <a:pt x="14449" y="4707"/>
                </a:lnTo>
                <a:lnTo>
                  <a:pt x="16225" y="4707"/>
                </a:lnTo>
                <a:lnTo>
                  <a:pt x="16225" y="8224"/>
                </a:lnTo>
                <a:lnTo>
                  <a:pt x="18836" y="10800"/>
                </a:lnTo>
                <a:lnTo>
                  <a:pt x="17182" y="10800"/>
                </a:lnTo>
                <a:lnTo>
                  <a:pt x="17182" y="17989"/>
                </a:lnTo>
                <a:lnTo>
                  <a:pt x="6564" y="17989"/>
                </a:lnTo>
                <a:lnTo>
                  <a:pt x="6564" y="10800"/>
                </a:lnTo>
                <a:lnTo>
                  <a:pt x="4910" y="10800"/>
                </a:lnTo>
                <a:close/>
              </a:path>
              <a:path fill="darkenLess" w="23746" h="21600">
                <a:moveTo>
                  <a:pt x="14449" y="6448"/>
                </a:moveTo>
                <a:lnTo>
                  <a:pt x="14449" y="4707"/>
                </a:lnTo>
                <a:lnTo>
                  <a:pt x="16225" y="4707"/>
                </a:lnTo>
                <a:lnTo>
                  <a:pt x="16225" y="8224"/>
                </a:lnTo>
                <a:close/>
              </a:path>
              <a:path fill="darkenLess" w="23746" h="21600">
                <a:moveTo>
                  <a:pt x="10950" y="14299"/>
                </a:moveTo>
                <a:lnTo>
                  <a:pt x="12796" y="14299"/>
                </a:lnTo>
                <a:lnTo>
                  <a:pt x="12796" y="17989"/>
                </a:lnTo>
                <a:lnTo>
                  <a:pt x="17182" y="17989"/>
                </a:lnTo>
                <a:lnTo>
                  <a:pt x="17182" y="10800"/>
                </a:lnTo>
                <a:lnTo>
                  <a:pt x="6564" y="10800"/>
                </a:lnTo>
                <a:lnTo>
                  <a:pt x="6564" y="17989"/>
                </a:lnTo>
                <a:lnTo>
                  <a:pt x="1095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Рисунок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4">
            <a:hlinkClick r:id="rId4" action="ppaction://hlinksldjump"/>
          </p:cNvPr>
          <p:cNvSpPr/>
          <p:nvPr/>
        </p:nvSpPr>
        <p:spPr>
          <a:xfrm>
            <a:off x="8001000" y="60721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1143000" y="42876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зовите виды жидкого и твердого топли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7:46:27Z</dcterms:created>
  <dc:creator>User</dc:creator>
  <dc:description/>
  <dc:language>en-US</dc:language>
  <cp:lastModifiedBy>TRACK</cp:lastModifiedBy>
  <dcterms:modified xsi:type="dcterms:W3CDTF">2010-02-10T13:57:10Z</dcterms:modified>
  <cp:revision>52</cp:revision>
  <dc:subject/>
  <dc:title> </dc:title>
</cp:coreProperties>
</file>