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520-76E7-460A-945F-D8A6BE32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334-CDA6-4D3A-B320-471E0C3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F3F-CE49-4298-B725-9823BCC0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ED7-17C5-4AB0-BF87-16CE6DB8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867-DF08-4507-A686-B9480E12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E21-8B07-4A46-B9DC-67D59B31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926-35EF-469B-BF15-5F4E24DF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680-9A88-4C4F-B0F9-CA97F0C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27C-C9E3-47B5-9B67-5748A12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2ED6-4CD9-4972-B5A0-BF0BE4E0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D225-904B-4206-A284-629396D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1C4-DD8E-42D9-946F-487224D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B4D-D145-44AF-827F-1500AA1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B1D-4A8A-4D63-9C36-3553017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B50-81B2-4433-9FBA-2252448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17B3-69D4-40EB-BE73-6689BA9F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C57-23AC-464D-B227-0AF536FD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A70-DEB0-4B95-BF39-6F77C42A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D3D-8A80-42FB-BBF1-BD63E069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D45-09E8-4986-A764-F8BF4B3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FEB-543A-4397-9B6D-A86A13C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0FA-4401-41FA-9BAB-F92AF5C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931-83C5-4A6B-BFC2-D548E123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A62-48C6-457D-9A96-B4651DD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A96-877B-41DC-8E2C-9EEED490F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312D-AB82-4A2D-B855-B0BA8F18D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лияние климата на облик Земли и жизнь люд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географии 7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нова Татьяна Михайловна, учитель географ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елаболихинская СОШ №1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климатическом поясе весь год наблюдается высокая температура и выпадает значительное количество осадков?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ая и суровая зима здесь сменяется коротким летом, связанным с приходом воздушных масс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выражены четыре времени года. Годовое количество осадков в целом значительное, преобладающие в этих широтах западные ветры приносят их преимущественно в западные части материк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очень жаркое и дождливое, зима жаркая, но сух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Зимой сюда приходят умеренные воздушные массы, которые приносят осадки в виде зимних дож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Круглый год господствуют сухая и холодная воздушная масса и ледяные пустыни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Этот климат формируют экваториальная и тропическая воздушные массы.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В течение года господствует тропическая воздушная масса, с очень высокой летн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чуть прохладнее. Осадки распределены не равномерно в разных частях пояса (где-то сухо, а где-то влажно)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Господствуют тропическая воздушная масса и воздушная масса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827640" y="3333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отве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560" y="90792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(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4, выучить определения понятий из параграф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задание №5 стр.7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составить кроссворд  из 10 слов по теме «Климатические пояс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495160" y="4221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 переходные климатические поя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лимата на жизнь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клима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16692" t="3104" r="10670" b="17023"/>
          <a:stretch/>
        </p:blipFill>
        <p:spPr>
          <a:xfrm>
            <a:off x="4716360" y="620640"/>
            <a:ext cx="3252960" cy="447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83" t="9178" r="61133" b="11238"/>
          <a:stretch/>
        </p:blipFill>
        <p:spPr>
          <a:xfrm rot="21082800">
            <a:off x="1285560" y="777600"/>
            <a:ext cx="2441520" cy="4386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226600" y="56610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 ярко, путешествуй краси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79640" y="2924280"/>
          <a:ext cx="5592600" cy="649080"/>
        </p:xfrm>
        <a:graphic>
          <a:graphicData uri="http://schemas.openxmlformats.org/drawingml/2006/table">
            <a:tbl>
              <a:tblPr/>
              <a:tblGrid>
                <a:gridCol w="559260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ое нагревание земной поверх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627280" y="4292640"/>
          <a:ext cx="4248360" cy="3967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е климата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48000" y="5373720"/>
          <a:ext cx="3168720" cy="4460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ические поя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Line 23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4643280" y="47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43280" y="1916280"/>
          <a:ext cx="3744720" cy="43308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земной 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Line 23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702360" y="3333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раткий рассказ по схем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010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лиматические поя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2912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нов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один тип воздушных м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(Антарктическ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7280" y="1267920"/>
            <a:ext cx="4330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массы меняются по сезонам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ле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ются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ев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им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ю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4186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Рисунок1"/>
          <p:cNvPicPr/>
          <p:nvPr/>
        </p:nvPicPr>
        <p:blipFill>
          <a:blip r:embed="rId1"/>
          <a:stretch/>
        </p:blipFill>
        <p:spPr>
          <a:xfrm>
            <a:off x="826920" y="4292640"/>
            <a:ext cx="2521080" cy="17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395280" y="1700280"/>
          <a:ext cx="4464000" cy="2311200"/>
        </p:xfrm>
        <a:graphic>
          <a:graphicData uri="http://schemas.openxmlformats.org/drawingml/2006/table">
            <a:tbl>
              <a:tblPr/>
              <a:tblGrid>
                <a:gridCol w="853920"/>
                <a:gridCol w="984240"/>
                <a:gridCol w="984600"/>
                <a:gridCol w="853920"/>
                <a:gridCol w="787320"/>
              </a:tblGrid>
              <a:tr h="1151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30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мерный в течении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5076720" y="476280"/>
            <a:ext cx="38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219640" y="1700280"/>
          <a:ext cx="3600360" cy="23590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8920"/>
                <a:gridCol w="7207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5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8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28" descr="2854"/>
          <p:cNvPicPr/>
          <p:nvPr/>
        </p:nvPicPr>
        <p:blipFill>
          <a:blip r:embed="rId2"/>
          <a:stretch/>
        </p:blipFill>
        <p:spPr>
          <a:xfrm>
            <a:off x="6084720" y="4149720"/>
            <a:ext cx="24987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6831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07920"/>
          <a:ext cx="4465440" cy="3426120"/>
        </p:xfrm>
        <a:graphic>
          <a:graphicData uri="http://schemas.openxmlformats.org/drawingml/2006/table">
            <a:tbl>
              <a:tblPr/>
              <a:tblGrid>
                <a:gridCol w="892080"/>
                <a:gridCol w="895320"/>
                <a:gridCol w="889200"/>
                <a:gridCol w="896760"/>
                <a:gridCol w="892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+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ой  постоянный снежный покров, а летом — максимум осадков. -7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ый (по област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четырёх сез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9" descr="PH05016"/>
          <p:cNvPicPr/>
          <p:nvPr/>
        </p:nvPicPr>
        <p:blipFill>
          <a:blip r:embed="rId1"/>
          <a:stretch/>
        </p:blipFill>
        <p:spPr>
          <a:xfrm>
            <a:off x="684360" y="4581360"/>
            <a:ext cx="287172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076720" y="155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арктическ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48360" y="4797360"/>
          <a:ext cx="3759120" cy="1271520"/>
        </p:xfrm>
        <a:graphic>
          <a:graphicData uri="http://schemas.openxmlformats.org/drawingml/2006/table">
            <a:tbl>
              <a:tblPr/>
              <a:tblGrid>
                <a:gridCol w="615960"/>
                <a:gridCol w="785880"/>
                <a:gridCol w="725400"/>
                <a:gridCol w="846000"/>
                <a:gridCol w="78588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−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…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…+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—300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4" descr="winter-ice"/>
          <p:cNvPicPr/>
          <p:nvPr/>
        </p:nvPicPr>
        <p:blipFill>
          <a:blip r:embed="rId2"/>
          <a:stretch/>
        </p:blipFill>
        <p:spPr>
          <a:xfrm>
            <a:off x="5940360" y="2708280"/>
            <a:ext cx="24717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800px-Mongolia005"/>
          <p:cNvPicPr/>
          <p:nvPr/>
        </p:nvPicPr>
        <p:blipFill>
          <a:blip r:embed="rId1"/>
          <a:stretch/>
        </p:blipFill>
        <p:spPr>
          <a:xfrm>
            <a:off x="3276720" y="404640"/>
            <a:ext cx="2663640" cy="186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452680" cy="181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rcRect l="0" t="13916" r="0" b="0"/>
          <a:stretch/>
        </p:blipFill>
        <p:spPr>
          <a:xfrm>
            <a:off x="2916360" y="2708280"/>
            <a:ext cx="28843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2212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5"/>
          <a:stretch/>
        </p:blipFill>
        <p:spPr>
          <a:xfrm>
            <a:off x="6156360" y="1628640"/>
            <a:ext cx="279540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478480" y="4354560"/>
            <a:ext cx="119700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7"/>
          <a:stretch/>
        </p:blipFill>
        <p:spPr>
          <a:xfrm>
            <a:off x="6688080" y="4719600"/>
            <a:ext cx="2852640" cy="365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724360" y="4581360"/>
            <a:ext cx="29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 какому климатическому поясу соответствуют традиционные жилища народов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360036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арких стран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dsc_8242"/>
          <p:cNvPicPr/>
          <p:nvPr/>
        </p:nvPicPr>
        <p:blipFill>
          <a:blip r:embed="rId1"/>
          <a:stretch/>
        </p:blipFill>
        <p:spPr>
          <a:xfrm>
            <a:off x="539640" y="1965240"/>
            <a:ext cx="2889360" cy="191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5" name="Picture 9" descr=""/>
          <p:cNvPicPr/>
          <p:nvPr/>
        </p:nvPicPr>
        <p:blipFill>
          <a:blip r:embed="rId2"/>
          <a:srcRect l="0" t="8837" r="1565" b="35199"/>
          <a:stretch/>
        </p:blipFill>
        <p:spPr>
          <a:xfrm>
            <a:off x="4284720" y="1700280"/>
            <a:ext cx="4545000" cy="1728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4224960" y="9079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умерен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282744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829800" y="414972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холод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450480" y="558972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даптац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923760" y="2602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лияет климат на жизнь людей, их занят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43:08Z</dcterms:created>
  <dc:creator>Home</dc:creator>
  <dc:description/>
  <dc:language>en-US</dc:language>
  <cp:lastModifiedBy>Светлана</cp:lastModifiedBy>
  <dcterms:modified xsi:type="dcterms:W3CDTF">2012-10-18T04:52:27Z</dcterms:modified>
  <cp:revision>63</cp:revision>
  <dc:subject/>
  <dc:title>Слайд 1</dc:title>
</cp:coreProperties>
</file>