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CEE-D4F4-4F70-8F52-6DB92A7D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FB0-3180-4E0D-B6EC-10F9F809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84D0-7C70-416D-B73B-14487F16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441-F80F-47C5-8FE7-02BB189F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A67C-40B6-4FAC-90DD-7AF203FA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2FBA-8F3F-4A0B-B4BC-FB2ADEBC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1179-81DB-4A88-8536-5154CAF3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EBBD-45DC-49AC-B1D8-E2EE5C88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0478-5F38-41B6-BE9C-CEF13D49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0ACF-718E-428D-AC74-01B335FD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36E0-9369-4D93-BE4C-10A8A01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01C-ED3E-4FB5-AFAB-09BC1F15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03E6-CFE4-4BCB-99DD-AC177DD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11A0-5E2E-4293-B972-04BDBC82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8096-FF06-4185-91DD-6761CF74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E29E-582B-4FEB-AB78-01478F4F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6ABE-CE68-475C-B70C-7669D9D7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A85-F4CB-4AA4-9AA2-E9BAFF02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CB7-B3C4-46B0-82CE-306593A2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96B-F248-4244-BCB9-3014A10D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377-2A3E-477A-90F4-5C34F67C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C07-1C7C-4409-907C-4E88E887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243-1B60-4C55-B943-D6478B34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945-67BB-4570-BC35-73621973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F0D6-881A-45DD-AC4E-68EC6ACE58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6FAB-FF73-4527-9553-B618AD01A7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лияние климата на облик Земли и жизнь люд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географии 7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нова Татьяна Михайловна, учитель географ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Шелаболихинская СОШ №1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климатическом поясе весь год наблюдается высокая температура и выпадает значительное количество осадков?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ая и суровая зима здесь сменяется коротким летом, связанным с приходом воздушных масс умеренных широт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о выражены четыре времени года. Годовое количество осадков в целом значительное, преобладающие в этих широтах западные ветры приносят их преимущественно в западные части материков.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очень жаркое и дождливое, зима жаркая, но суха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Зимой сюда приходят умеренные воздушные массы, которые приносят осадки в виде зимних дожд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Круглый год господствуют сухая и холодная воздушная масса и ледяные пустыни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Этот климат формируют экваториальная и тропическая воздушные массы.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 В течение года господствует тропическая воздушная масса, с очень высокой летн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Зима чуть прохладнее. Осадки распределены не равномерно в разных частях пояса (где-то сухо, а где-то влажно).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Господствуют тропическая воздушная масса и воздушная масса умеренных широт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827640" y="33336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к ответ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560" y="90792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арктический (субантарктически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троп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тический(антарктически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троп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14, выучить определения понятий из параграф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задание №5 стр.7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составить кроссворд  из 10 слов по теме «Климатические пояса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2495160" y="42210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и переходные климатические пояс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климата на жизнь люд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человека на клима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16692" t="3104" r="10670" b="17023"/>
          <a:stretch/>
        </p:blipFill>
        <p:spPr>
          <a:xfrm>
            <a:off x="4716360" y="620640"/>
            <a:ext cx="3252960" cy="4470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rcRect l="7583" t="9178" r="61133" b="11238"/>
          <a:stretch/>
        </p:blipFill>
        <p:spPr>
          <a:xfrm rot="21082800">
            <a:off x="1285560" y="777600"/>
            <a:ext cx="2441520" cy="4386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226600" y="566100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 ярко, путешествуй красив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79640" y="2924280"/>
          <a:ext cx="5592600" cy="649080"/>
        </p:xfrm>
        <a:graphic>
          <a:graphicData uri="http://schemas.openxmlformats.org/drawingml/2006/table">
            <a:tbl>
              <a:tblPr/>
              <a:tblGrid>
                <a:gridCol w="5592600"/>
              </a:tblGrid>
              <a:tr h="64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номерное нагревание земной поверх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627280" y="4292640"/>
          <a:ext cx="4248360" cy="396720"/>
        </p:xfrm>
        <a:graphic>
          <a:graphicData uri="http://schemas.openxmlformats.org/drawingml/2006/table">
            <a:tbl>
              <a:tblPr/>
              <a:tblGrid>
                <a:gridCol w="424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ие климата Зем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348000" y="5373720"/>
          <a:ext cx="3168720" cy="4460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матические поя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Line 23"/>
          <p:cNvSpPr/>
          <p:nvPr/>
        </p:nvSpPr>
        <p:spPr>
          <a:xfrm>
            <a:off x="4643280" y="37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4643280" y="4797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43280" y="1916280"/>
          <a:ext cx="3744720" cy="43308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он земной о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Line 23"/>
          <p:cNvSpPr/>
          <p:nvPr/>
        </p:nvSpPr>
        <p:spPr>
          <a:xfrm>
            <a:off x="457200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702360" y="333360"/>
            <a:ext cx="63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краткий рассказ по схем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00100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лиматические поя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2912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Основ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ет один тип воздушных мас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ческ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тический (Антарктическ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7280" y="1267920"/>
            <a:ext cx="43304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ереход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ые массы меняются по сезонам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ле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ются 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ев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зим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ю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экваториа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троп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арктический (субантарктический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41860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иальный поя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Рисунок1"/>
          <p:cNvPicPr/>
          <p:nvPr/>
        </p:nvPicPr>
        <p:blipFill>
          <a:blip r:embed="rId1"/>
          <a:stretch/>
        </p:blipFill>
        <p:spPr>
          <a:xfrm>
            <a:off x="826920" y="4292640"/>
            <a:ext cx="2521080" cy="17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395280" y="1700280"/>
          <a:ext cx="4464000" cy="2311200"/>
        </p:xfrm>
        <a:graphic>
          <a:graphicData uri="http://schemas.openxmlformats.org/drawingml/2006/table">
            <a:tbl>
              <a:tblPr/>
              <a:tblGrid>
                <a:gridCol w="853920"/>
                <a:gridCol w="984240"/>
                <a:gridCol w="984600"/>
                <a:gridCol w="853920"/>
                <a:gridCol w="787320"/>
              </a:tblGrid>
              <a:tr h="1151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 м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янв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ю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е количество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-300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омерный в течении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2"/>
          <p:cNvSpPr/>
          <p:nvPr/>
        </p:nvSpPr>
        <p:spPr>
          <a:xfrm>
            <a:off x="5076720" y="476280"/>
            <a:ext cx="388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ческий поя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219640" y="1700280"/>
          <a:ext cx="3600360" cy="235908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20720"/>
                <a:gridCol w="718920"/>
                <a:gridCol w="72072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 м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янв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ю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е количество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5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8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28" descr="2854"/>
          <p:cNvPicPr/>
          <p:nvPr/>
        </p:nvPicPr>
        <p:blipFill>
          <a:blip r:embed="rId2"/>
          <a:stretch/>
        </p:blipFill>
        <p:spPr>
          <a:xfrm>
            <a:off x="6084720" y="4149720"/>
            <a:ext cx="24987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368316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ый поя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907920"/>
          <a:ext cx="4465440" cy="3426120"/>
        </p:xfrm>
        <a:graphic>
          <a:graphicData uri="http://schemas.openxmlformats.org/drawingml/2006/table">
            <a:tbl>
              <a:tblPr/>
              <a:tblGrid>
                <a:gridCol w="892080"/>
                <a:gridCol w="895320"/>
                <a:gridCol w="889200"/>
                <a:gridCol w="896760"/>
                <a:gridCol w="8920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 м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янв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ю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е количество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осад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+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мой  постоянный снежный покров, а летом — максимум осадков. -7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номерный (по областя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четырёх сез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9" descr="PH05016"/>
          <p:cNvPicPr/>
          <p:nvPr/>
        </p:nvPicPr>
        <p:blipFill>
          <a:blip r:embed="rId1"/>
          <a:stretch/>
        </p:blipFill>
        <p:spPr>
          <a:xfrm>
            <a:off x="684360" y="4581360"/>
            <a:ext cx="287172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5076720" y="1557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тически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тарктический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48360" y="4797360"/>
          <a:ext cx="3759120" cy="1271520"/>
        </p:xfrm>
        <a:graphic>
          <a:graphicData uri="http://schemas.openxmlformats.org/drawingml/2006/table">
            <a:tbl>
              <a:tblPr/>
              <a:tblGrid>
                <a:gridCol w="615960"/>
                <a:gridCol w="785880"/>
                <a:gridCol w="725400"/>
                <a:gridCol w="846000"/>
                <a:gridCol w="78588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ые мас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январ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ю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ое количество осад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осад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−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…-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…+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—300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чный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4" descr="winter-ice"/>
          <p:cNvPicPr/>
          <p:nvPr/>
        </p:nvPicPr>
        <p:blipFill>
          <a:blip r:embed="rId2"/>
          <a:stretch/>
        </p:blipFill>
        <p:spPr>
          <a:xfrm>
            <a:off x="5940360" y="2708280"/>
            <a:ext cx="24717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800px-Mongolia005"/>
          <p:cNvPicPr/>
          <p:nvPr/>
        </p:nvPicPr>
        <p:blipFill>
          <a:blip r:embed="rId1"/>
          <a:stretch/>
        </p:blipFill>
        <p:spPr>
          <a:xfrm>
            <a:off x="3276720" y="404640"/>
            <a:ext cx="2663640" cy="186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452680" cy="181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rcRect l="0" t="13916" r="0" b="0"/>
          <a:stretch/>
        </p:blipFill>
        <p:spPr>
          <a:xfrm>
            <a:off x="2916360" y="2708280"/>
            <a:ext cx="288432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>
            <a:off x="539640" y="3789360"/>
            <a:ext cx="2221200" cy="1643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5"/>
          <a:stretch/>
        </p:blipFill>
        <p:spPr>
          <a:xfrm>
            <a:off x="6156360" y="1628640"/>
            <a:ext cx="2795400" cy="187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6"/>
          <a:stretch/>
        </p:blipFill>
        <p:spPr>
          <a:xfrm>
            <a:off x="5478480" y="4354560"/>
            <a:ext cx="119700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7"/>
          <a:stretch/>
        </p:blipFill>
        <p:spPr>
          <a:xfrm>
            <a:off x="6688080" y="4719600"/>
            <a:ext cx="2852640" cy="3650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5724360" y="4581360"/>
            <a:ext cx="29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 какому климатическому поясу соответствуют традиционные жилища народов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360036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арких стран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dsc_8242"/>
          <p:cNvPicPr/>
          <p:nvPr/>
        </p:nvPicPr>
        <p:blipFill>
          <a:blip r:embed="rId1"/>
          <a:stretch/>
        </p:blipFill>
        <p:spPr>
          <a:xfrm>
            <a:off x="539640" y="1965240"/>
            <a:ext cx="2889360" cy="1919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5" name="Picture 9" descr=""/>
          <p:cNvPicPr/>
          <p:nvPr/>
        </p:nvPicPr>
        <p:blipFill>
          <a:blip r:embed="rId2"/>
          <a:srcRect l="0" t="8837" r="1565" b="35199"/>
          <a:stretch/>
        </p:blipFill>
        <p:spPr>
          <a:xfrm>
            <a:off x="4284720" y="1700280"/>
            <a:ext cx="4545000" cy="17287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"/>
          <p:cNvSpPr/>
          <p:nvPr/>
        </p:nvSpPr>
        <p:spPr>
          <a:xfrm>
            <a:off x="4224960" y="90792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нах с умеренным клима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3"/>
          <a:stretch/>
        </p:blipFill>
        <p:spPr>
          <a:xfrm>
            <a:off x="1547640" y="4581360"/>
            <a:ext cx="2827440" cy="2060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9"/>
          <p:cNvSpPr/>
          <p:nvPr/>
        </p:nvSpPr>
        <p:spPr>
          <a:xfrm>
            <a:off x="829800" y="414972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нах с холодным клима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450480" y="558972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даптац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923760" y="2602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лияет климат на жизнь людей, их занят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5:43:08Z</dcterms:created>
  <dc:creator>Home</dc:creator>
  <dc:description/>
  <dc:language>en-US</dc:language>
  <cp:lastModifiedBy>Светлана</cp:lastModifiedBy>
  <dcterms:modified xsi:type="dcterms:W3CDTF">2012-10-18T04:52:27Z</dcterms:modified>
  <cp:revision>63</cp:revision>
  <dc:subject/>
  <dc:title>Слайд 1</dc:title>
</cp:coreProperties>
</file>