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9FE-5F1A-458D-8F56-74975528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BF1-4CDA-46D3-9B39-68EFB1D8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055-BF45-4067-B188-5B9C8D9D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E95-5586-4ACE-B1CA-62B7C91B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43CD-EA07-4E2F-87E3-89FC4A49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91E-0E6C-4361-8D66-9E78E565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666-0879-447C-88AE-6E470004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D9E3-1BCB-4F0A-B541-22FDEC7A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7C10-00A2-41F3-8AAF-D76A5C35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44D-C846-4DAA-9BC5-459E6DA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09B-7072-41B8-AA98-E3400983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AFD-43E5-4730-921F-32C8CAEE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800D-CA1F-45AB-860F-7E7BD298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9FC0-5609-4026-8C1E-C4D23E66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C2DE-80C0-49B5-AF35-1EF499DB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C24-D286-495B-BD02-A09BEA59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7B6-90F2-46FF-92DD-8626D6B7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CE7-17A4-4149-8F96-263A0E7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268-7F8C-49C3-950E-7791995B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317-017E-420F-A19A-B8255BF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673-DF50-4B85-9000-C6EEB150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181-CF04-448A-BACB-2462FFF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C7A-666F-4625-9614-C022CA1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E9E-809C-4C02-9DBA-3C6CB85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FB8-B470-405F-94C7-7BEE651142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D2E-A7D5-45BA-B385-2D5D693342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лияние климата на облик Земли и жизнь люд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географии 7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нова Татьяна Михайловна, учитель географ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елаболихинская СОШ №1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климатическом поясе весь год наблюдается высокая температура и выпадает значительное количество осадков?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ая и суровая зима здесь сменяется коротким летом, связанным с приходом воздушных масс умеренных широт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выражены четыре времени года. Годовое количество осадков в целом значительное, преобладающие в этих широтах западные ветры приносят их преимущественно в западные части материк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очень жаркое и дождливое, зима жаркая, но суха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Зимой сюда приходят умеренные воздушные массы, которые приносят осадки в виде зимних дожд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Круглый год господствуют сухая и холодная воздушная масса и ледяные пустыни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Этот климат формируют экваториальная и тропическая воздушные массы.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В течение года господствует тропическая воздушная масса, с очень высокой летн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има чуть прохладнее. Осадки распределены не равномерно в разных частях пояса (где-то сухо, а где-то влажно)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Господствуют тропическая воздушная масса и воздушная масса умеренных широт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827640" y="3333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ответ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560" y="90792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ктический (субантарктичес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(антарктичес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4, выучить определения понятий из параграф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задание №5 стр.7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составить кроссворд  из 10 слов по теме «Климатические пояс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495160" y="4221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 переходные климатические пояс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лимата на жизнь люд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клима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16692" t="3104" r="10670" b="17023"/>
          <a:stretch/>
        </p:blipFill>
        <p:spPr>
          <a:xfrm>
            <a:off x="4716360" y="620640"/>
            <a:ext cx="3252960" cy="447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7583" t="9178" r="61133" b="11238"/>
          <a:stretch/>
        </p:blipFill>
        <p:spPr>
          <a:xfrm rot="21082800">
            <a:off x="1285560" y="777600"/>
            <a:ext cx="2441520" cy="4386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226600" y="566100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 ярко, путешествуй красив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79640" y="2924280"/>
          <a:ext cx="5592600" cy="649080"/>
        </p:xfrm>
        <a:graphic>
          <a:graphicData uri="http://schemas.openxmlformats.org/drawingml/2006/table">
            <a:tbl>
              <a:tblPr/>
              <a:tblGrid>
                <a:gridCol w="559260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ое нагревание земной поверх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627280" y="4292640"/>
          <a:ext cx="4248360" cy="3967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е климата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48000" y="5373720"/>
          <a:ext cx="3168720" cy="4460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матические поя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Line 23"/>
          <p:cNvSpPr/>
          <p:nvPr/>
        </p:nvSpPr>
        <p:spPr>
          <a:xfrm>
            <a:off x="464328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4643280" y="47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43280" y="1916280"/>
          <a:ext cx="3744720" cy="43308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земной о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Line 23"/>
          <p:cNvSpPr/>
          <p:nvPr/>
        </p:nvSpPr>
        <p:spPr>
          <a:xfrm>
            <a:off x="4572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702360" y="3333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раткий рассказ по схем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010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лиматические поя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2912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снов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один тип воздушных мас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 (Антарктическ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7280" y="1267920"/>
            <a:ext cx="4330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ерех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массы меняются по сезонам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ле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ются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ев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им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ю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ктический (субантарктический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4186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Рисунок1"/>
          <p:cNvPicPr/>
          <p:nvPr/>
        </p:nvPicPr>
        <p:blipFill>
          <a:blip r:embed="rId1"/>
          <a:stretch/>
        </p:blipFill>
        <p:spPr>
          <a:xfrm>
            <a:off x="826920" y="4292640"/>
            <a:ext cx="2521080" cy="17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395280" y="1700280"/>
          <a:ext cx="4464000" cy="2311200"/>
        </p:xfrm>
        <a:graphic>
          <a:graphicData uri="http://schemas.openxmlformats.org/drawingml/2006/table">
            <a:tbl>
              <a:tblPr/>
              <a:tblGrid>
                <a:gridCol w="853920"/>
                <a:gridCol w="984240"/>
                <a:gridCol w="984600"/>
                <a:gridCol w="853920"/>
                <a:gridCol w="787320"/>
              </a:tblGrid>
              <a:tr h="1151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30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мерный в течении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5076720" y="476280"/>
            <a:ext cx="38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219640" y="1700280"/>
          <a:ext cx="3600360" cy="235908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8920"/>
                <a:gridCol w="72072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5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8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28" descr="2854"/>
          <p:cNvPicPr/>
          <p:nvPr/>
        </p:nvPicPr>
        <p:blipFill>
          <a:blip r:embed="rId2"/>
          <a:stretch/>
        </p:blipFill>
        <p:spPr>
          <a:xfrm>
            <a:off x="6084720" y="4149720"/>
            <a:ext cx="24987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6831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907920"/>
          <a:ext cx="4465440" cy="3426120"/>
        </p:xfrm>
        <a:graphic>
          <a:graphicData uri="http://schemas.openxmlformats.org/drawingml/2006/table">
            <a:tbl>
              <a:tblPr/>
              <a:tblGrid>
                <a:gridCol w="892080"/>
                <a:gridCol w="895320"/>
                <a:gridCol w="889200"/>
                <a:gridCol w="896760"/>
                <a:gridCol w="892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+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мой  постоянный снежный покров, а летом — максимум осадков. -7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ый (по област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четырёх сез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9" descr="PH05016"/>
          <p:cNvPicPr/>
          <p:nvPr/>
        </p:nvPicPr>
        <p:blipFill>
          <a:blip r:embed="rId1"/>
          <a:stretch/>
        </p:blipFill>
        <p:spPr>
          <a:xfrm>
            <a:off x="684360" y="4581360"/>
            <a:ext cx="287172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076720" y="155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тарктически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48360" y="4797360"/>
          <a:ext cx="3759120" cy="1271520"/>
        </p:xfrm>
        <a:graphic>
          <a:graphicData uri="http://schemas.openxmlformats.org/drawingml/2006/table">
            <a:tbl>
              <a:tblPr/>
              <a:tblGrid>
                <a:gridCol w="615960"/>
                <a:gridCol w="785880"/>
                <a:gridCol w="725400"/>
                <a:gridCol w="846000"/>
                <a:gridCol w="78588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−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…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…+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—300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ы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4" descr="winter-ice"/>
          <p:cNvPicPr/>
          <p:nvPr/>
        </p:nvPicPr>
        <p:blipFill>
          <a:blip r:embed="rId2"/>
          <a:stretch/>
        </p:blipFill>
        <p:spPr>
          <a:xfrm>
            <a:off x="5940360" y="2708280"/>
            <a:ext cx="24717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800px-Mongolia005"/>
          <p:cNvPicPr/>
          <p:nvPr/>
        </p:nvPicPr>
        <p:blipFill>
          <a:blip r:embed="rId1"/>
          <a:stretch/>
        </p:blipFill>
        <p:spPr>
          <a:xfrm>
            <a:off x="3276720" y="404640"/>
            <a:ext cx="2663640" cy="186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452680" cy="181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rcRect l="0" t="13916" r="0" b="0"/>
          <a:stretch/>
        </p:blipFill>
        <p:spPr>
          <a:xfrm>
            <a:off x="2916360" y="2708280"/>
            <a:ext cx="288432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2212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5"/>
          <a:stretch/>
        </p:blipFill>
        <p:spPr>
          <a:xfrm>
            <a:off x="6156360" y="1628640"/>
            <a:ext cx="279540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6"/>
          <a:stretch/>
        </p:blipFill>
        <p:spPr>
          <a:xfrm>
            <a:off x="5478480" y="4354560"/>
            <a:ext cx="119700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7"/>
          <a:stretch/>
        </p:blipFill>
        <p:spPr>
          <a:xfrm>
            <a:off x="6688080" y="4719600"/>
            <a:ext cx="2852640" cy="365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5724360" y="4581360"/>
            <a:ext cx="29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 какому климатическому поясу соответствуют традиционные жилища народов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360036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арких стран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dsc_8242"/>
          <p:cNvPicPr/>
          <p:nvPr/>
        </p:nvPicPr>
        <p:blipFill>
          <a:blip r:embed="rId1"/>
          <a:stretch/>
        </p:blipFill>
        <p:spPr>
          <a:xfrm>
            <a:off x="539640" y="1965240"/>
            <a:ext cx="2889360" cy="191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5" name="Picture 9" descr=""/>
          <p:cNvPicPr/>
          <p:nvPr/>
        </p:nvPicPr>
        <p:blipFill>
          <a:blip r:embed="rId2"/>
          <a:srcRect l="0" t="8837" r="1565" b="35199"/>
          <a:stretch/>
        </p:blipFill>
        <p:spPr>
          <a:xfrm>
            <a:off x="4284720" y="1700280"/>
            <a:ext cx="4545000" cy="1728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4224960" y="9079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с умеренным клима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282744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9"/>
          <p:cNvSpPr/>
          <p:nvPr/>
        </p:nvSpPr>
        <p:spPr>
          <a:xfrm>
            <a:off x="829800" y="414972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с холодным клима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450480" y="558972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даптац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923760" y="2602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лияет климат на жизнь людей, их занят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43:08Z</dcterms:created>
  <dc:creator>Home</dc:creator>
  <dc:description/>
  <dc:language>en-US</dc:language>
  <cp:lastModifiedBy>Светлана</cp:lastModifiedBy>
  <dcterms:modified xsi:type="dcterms:W3CDTF">2012-10-18T04:52:27Z</dcterms:modified>
  <cp:revision>63</cp:revision>
  <dc:subject/>
  <dc:title>Слайд 1</dc:title>
</cp:coreProperties>
</file>