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B83-E3CB-41B0-BB58-59205EF2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74E-5720-49D4-A9C6-B342184A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886-45C7-47A0-95E2-E3EE9D1E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B8F-FC7D-4569-9D4D-9F9ED0C1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A372-9CB6-4D6D-B966-A0815900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280B-862E-4885-9E8F-28EB3ED4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F8C-4EAF-49CF-AF30-E9C2C60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452-2822-4EA8-AAC3-46FDCE3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55B-A0A3-486D-AC30-F038233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C72-DA94-4A24-821A-29F74352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C5FF-D3D3-453D-B1F9-FF4D199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2A4-9E71-42D7-978B-012790D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E35D-3AA3-48DB-8B73-BAC23A6B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FB5-8895-489E-BED5-1D6B580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9BF-A22D-41C5-892E-D9FC717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40DA-F063-493B-9E6C-51005640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3D59-F5BF-4A97-8F62-7D6E754E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7D2B-5068-4988-999B-DEA86FA3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834B-D0A6-40C0-B77B-F5EA83A6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D775-253E-422B-BC30-629472C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6F84-F886-4D32-A520-BA50008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A8CC-0D95-4C86-B5B7-16479BCA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1E3-7918-4003-A998-E41D96FC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90E8-A9BA-436D-82EA-AAE5C33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45C5-7F36-4CAC-B17F-E1E783A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751D-EB42-4A2C-AC40-C6F03A2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FEA2-F09B-46C2-BA63-E82B1A62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CB89-C575-4665-9B0B-DA69D8B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8685-1044-4625-B3FA-0C571441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D2D6-CA47-4678-95E9-E67CB0F4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AFBA-7202-4A33-9480-E804F1B8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16DE-0D30-4CEB-9756-059B37A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C7A4-2363-4088-9103-571D6FAE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84-A930-4563-A346-342725A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BF92-4697-40D2-AC22-57485CEE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31E7-DD66-4599-9513-B8AC5359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B62D-6B49-454D-A5B6-9D675A5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9D84-12C4-4AAE-8A98-4CDBD23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3BFC-630F-431C-8AB0-326567B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C164-41F9-4FEA-8A0F-31EAED2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5698-D858-4B68-86F2-8D2A7B4A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B728-4E93-4F42-951A-433C1C31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8434-AC28-4399-92E1-F11BA23A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E3F6-C87F-4506-A0DE-68981014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DD5-6A9C-4FCA-9CFD-58BE9E7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84385-F947-47F9-A59D-37C7B964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E4FC-8439-4536-AD5C-2306E05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1B00-C54A-4472-9940-D0B1BD5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BA46-F3AB-4808-912A-684EDD4F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ECD7-4592-49D2-917A-B7D7C4F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A496-85F4-452D-A188-E01C817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9F17-53FB-443E-B38D-B542168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4DB2-BAEE-4353-B3B3-9682578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CA5B-387B-4ADC-B4E2-0D1B5FF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EB14-7C77-44FE-8854-62EC6597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F0D-A525-44BF-AA38-5920B54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4296E-2862-495E-A339-D93446E3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A8B-A008-4195-975C-20A723B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1CD-DDE7-44E8-A514-DC1B640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21A-136A-43CC-A2A6-249B83B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D47-C1D0-43EA-89E3-90AA8B996F5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FBD-58ED-4DB3-9642-FF3C5681A85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68A-221E-4A9F-9C55-8F325171251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CD2-03BF-4F1C-A5D6-177DB82F367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E56-246D-409F-9FD0-ABA043DB41B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142920" y="-142920"/>
            <a:ext cx="9491760" cy="7120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 rot="807000">
            <a:off x="3887280" y="612720"/>
            <a:ext cx="523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Природные зон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Австрали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мбат это удивительный австралийский сумчатый зверь на коротких лапах, примерно один метр в длину, с очень коротким хвостом. Вомбат немного напоминает симпатичного порос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3714840" y="1428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 rot="1261800">
            <a:off x="7090920" y="1657440"/>
            <a:ext cx="1643040" cy="2004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4"/>
          <a:stretch/>
        </p:blipFill>
        <p:spPr>
          <a:xfrm>
            <a:off x="5429160" y="3801960"/>
            <a:ext cx="20005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Австралии также можно запросто встретить эму. В тропиках водится родственник эму - казуар (Cassowar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 rot="1842000">
            <a:off x="7510320" y="149400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4"/>
          <a:stretch/>
        </p:blipFill>
        <p:spPr>
          <a:xfrm>
            <a:off x="4572000" y="442908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7120800" y="3571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509880" y="6143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ЗУА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8570880" cy="1663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асманийский Дьявол это уникальное животное, обитаюшее исключительно на Австралийском острове Тасмания. Это мускулистый хищник размером с небольшую собаку, покрытый черным мехом. Дьяволы знамениты тем что они едят все что шевелится: любых диких или домашних животных, включая маленьких или больных овечек, птиц, рыб, насекомых, жаб и рептил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5000760" y="1411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4"/>
          <a:stretch/>
        </p:blipFill>
        <p:spPr>
          <a:xfrm rot="2006400">
            <a:off x="4689000" y="483876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 rot="20173200">
            <a:off x="450360" y="2007720"/>
            <a:ext cx="3343320" cy="223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4071960" y="2857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928800" y="485784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 rot="20955600">
            <a:off x="907920" y="1205640"/>
            <a:ext cx="70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357800" y="92880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1661760" y="57862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еленый бамбу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5353560" y="5857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нгровое дерев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28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1785600" cy="1339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емоны, морские георгины, морские лилии... Они очень красивые, но их лучше не рвать. Потому что, это – животные. Причём опасны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2500200" y="857160"/>
            <a:ext cx="177984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4"/>
          <a:stretch/>
        </p:blipFill>
        <p:spPr>
          <a:xfrm rot="20091000">
            <a:off x="285480" y="3169800"/>
            <a:ext cx="2923920" cy="2000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5"/>
          <a:stretch/>
        </p:blipFill>
        <p:spPr>
          <a:xfrm rot="1156800">
            <a:off x="2027160" y="4530240"/>
            <a:ext cx="18576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А я клянусь вам, что этот край- самый любопытный на всем земном шар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ставьте себе, друзья мои, материк, который, образовываясь, поднимался из морских волн не своей центральной частью, а краями, как какое-то гигантское кольцо; материк, в середине которого есть наполовину испарившееся внутреннее море; где реки с каждым днем все больше высыхают, где деревья ежегодно теряют не листья, а кору, где у четвероногих имеются клювы, где ту прыгуна- кенгуру лапы разной дли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ая причудливая, самая нелогичная из всех когда- либо существовавших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Географическое положе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Релье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rebuchet MS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rebuchet MS"/>
              </a:rPr>
              <a:t>Внутренние вод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рмирование умения выявлять причинно- следственные связи между компонентами природы на примере Австралии (географическое положение- климат, климат- природные зоны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Задачи: -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знакомиться с природными зонами Австралии;  -научиться по картам атласа делать характеристику природной зоны;  -удивиться особенностям природы Австрал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42960" y="0"/>
          <a:ext cx="8001000" cy="7051680"/>
        </p:xfrm>
        <a:graphic>
          <a:graphicData uri="http://schemas.openxmlformats.org/drawingml/2006/table">
            <a:tbl>
              <a:tblPr/>
              <a:tblGrid>
                <a:gridCol w="1547640"/>
                <a:gridCol w="1652760"/>
                <a:gridCol w="1600200"/>
                <a:gridCol w="1600200"/>
                <a:gridCol w="16002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родная з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змещ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ти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во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0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п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ыни и 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ентраль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аркий, тропиче-ский, осадков 2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ох-ые заросли  кустарн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рм эв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птов, акации-скрэ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щерицы, змеи, страус-эму, кенгуру, собака-дин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ва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ружают пустыни и полу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экв-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адки в летни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янв., д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, акации, казуарин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утылочное дер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мба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хидна,  кенгуру, страус-э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лажные л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и север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тропиче-ский, тропическ. вла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льмы, лавры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 араук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ала, лирохвост, утконос, попуга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естко-листные леса и к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изи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м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чнозел. буки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мчатый дьяво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есный кенгу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 rot="19942200">
            <a:off x="428400" y="4785840"/>
            <a:ext cx="1371600" cy="1123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2286000" y="45720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351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142920" y="714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ала - еще один символ Австралии. Сфотографировать коалу довольно трудно, так как она спит 20 часов в сутки. Спящая коала похожа просто на плюшевый комоч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 rot="1606200">
            <a:off x="428400" y="2330280"/>
            <a:ext cx="3713040" cy="278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428760" y="5143680"/>
            <a:ext cx="23572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4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7613640" cy="127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 rot="19871400">
            <a:off x="331920" y="1485720"/>
            <a:ext cx="1881000" cy="1268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1143000" y="2924280"/>
            <a:ext cx="3357720" cy="22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 rot="1392600">
            <a:off x="266400" y="5307120"/>
            <a:ext cx="180000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 rot="19915800">
            <a:off x="816120" y="1639800"/>
            <a:ext cx="2006280" cy="275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00720" y="135720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ругие, несколько менее известные австралийские животные это поссум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сум это небольшой зверек размером с кошку, который живет на дерев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1428840" y="42861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10:31Z</dcterms:created>
  <dc:creator>Александр</dc:creator>
  <dc:description/>
  <dc:language>en-US</dc:language>
  <cp:lastModifiedBy>Administrator</cp:lastModifiedBy>
  <dcterms:modified xsi:type="dcterms:W3CDTF">2012-03-29T04:36:44Z</dcterms:modified>
  <cp:revision>19</cp:revision>
  <dc:subject/>
  <dc:title>Слайд 1</dc:title>
</cp:coreProperties>
</file>