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1C2-9B8D-4930-BA03-E639C50E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602-1DB5-465A-B6D4-B237C83D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6F2-05B0-4502-938B-3A7FE198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28B-9EF0-4D48-8B67-BDDB5372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E58D-591B-47B5-8B2C-FBD51CCB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40D5-5D36-446A-8BA4-E8146843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4A52-5EA3-40AA-8CF7-9B5AC7C0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A517-5EB3-4943-BA1E-B2E3D5A7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0616-3CC8-4D8C-B11D-EFDCCA33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9E02-308E-42CB-9D8F-B89587FD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DD6E-A6CC-4A08-A3C6-8C791D32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B50-CDA1-4F53-A8C6-5D3FF5A3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F7C8-5E91-4E81-B061-E11395B1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2E78-780B-45C2-B4DF-D10E3605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8D41-9460-413F-BC56-7DD82313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E506-60A8-437B-8808-53978AB2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0E77-8238-4589-AD85-AD922736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7E75-C670-48D4-A4A8-9B334547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FE75-8224-4C43-9CCB-D9B70C77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46E97-8ACE-4731-926F-C4B153E3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957E-6403-47E6-A366-F3AB1CD8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D13ED-3381-40DF-8C0C-028AFC1C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F38-D4C6-499C-8EEB-E49DC3E7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011D9-E919-4F23-9E1E-64CCD1D0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B6A95-B626-4D1C-922F-4F180602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CA461-1EC1-464A-9B76-D63907D8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3CBA5-29F9-4FFA-B059-20617B65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9447B-F939-467E-BEF2-C56D19D2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41E6-51DF-4144-98EA-FC5DD935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9AC2E-C3DD-4455-A035-2E46965B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F16D5-5DDA-44E7-ADC7-E24919DC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F6E95-9C92-437A-B9A8-0F755B7D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3603-E691-4F1E-982F-A05C3404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1BC-E719-49B3-8708-6EAA748B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2CA0D-96D9-4912-BAEB-CD954BAE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6BFD4-977C-40CF-9B95-CFAC5CE4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BA199-8832-413D-A2C3-D276AB89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669AF-AAA3-4F67-83B1-541504E2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6A541-416A-4244-840C-AEC10188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10FF7-962A-4A6C-A2F4-034FFCF5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930AD-B1AE-49AA-A0F7-72429088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2C91B-66B8-44BA-BEFD-6E830DEE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1FF5F-B4FC-4732-BBF6-81679D41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73C74-9A2A-4B9B-9A90-83CB0D3D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4A2-8489-4CA3-BA63-5C956B08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516CA-96A8-4755-B9B4-F220C067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A8779-F0F9-45B4-8445-7A467248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6BF6A-844A-4FBD-9C32-45D648BB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61987-E039-4997-80C0-8DDDA403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2C7D4-A667-4F96-9743-DE7785DE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6B82C-3543-4A9C-BD86-1A17610C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0BF94-77C2-4834-986C-A9408042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A14F4-F5C9-4A46-863A-9BFFD843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18B56-3F28-4BB1-8D03-B9C499E6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011F1-6894-4867-B166-B0CA0BAD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981-296A-4A79-B906-83E3DF4D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0676D-A41E-4D04-99D4-212F804F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FC2-B94C-4A65-8F7D-B74A8FC8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034-69BF-465C-A5C0-6EDA45F9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0E7-0368-4A64-9075-02F41E2F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20CC-525C-4336-95B5-AAA2021D0E2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AF83-0A3C-4167-B777-3C92ABB228A9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188E-9B57-40FB-A7B7-CE6BC21C95C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F9F4-7616-46BE-A632-B1C9710B2C1E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75F7-E634-4A0A-B5CD-73C02EFB124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-142920" y="-142920"/>
            <a:ext cx="9491760" cy="71200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7"/>
          <p:cNvSpPr/>
          <p:nvPr/>
        </p:nvSpPr>
        <p:spPr>
          <a:xfrm rot="807000">
            <a:off x="3887280" y="612720"/>
            <a:ext cx="523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rebuchet MS"/>
              </a:rPr>
              <a:t>Природные зоны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rebuchet MS"/>
              </a:rPr>
              <a:t>Австрали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мбат это удивительный австралийский сумчатый зверь на коротких лапах, примерно один метр в длину, с очень коротким хвостом. Вомбат немного напоминает симпатичного поросен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3714840" y="14288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3"/>
          <a:stretch/>
        </p:blipFill>
        <p:spPr>
          <a:xfrm rot="1261800">
            <a:off x="7090920" y="1657440"/>
            <a:ext cx="1643040" cy="2004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4"/>
          <a:stretch/>
        </p:blipFill>
        <p:spPr>
          <a:xfrm>
            <a:off x="5429160" y="3801960"/>
            <a:ext cx="20005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Австралии также можно запросто встретить эму. В тропиках водится родственник эму - казуар (Cassowary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3643200" y="57168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3"/>
          <a:stretch/>
        </p:blipFill>
        <p:spPr>
          <a:xfrm rot="1842000">
            <a:off x="7510320" y="149400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4"/>
          <a:stretch/>
        </p:blipFill>
        <p:spPr>
          <a:xfrm>
            <a:off x="4572000" y="4429080"/>
            <a:ext cx="1714680" cy="22860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0"/>
          <p:cNvSpPr/>
          <p:nvPr/>
        </p:nvSpPr>
        <p:spPr>
          <a:xfrm>
            <a:off x="7120800" y="3571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ЭМ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6509880" y="6143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ЗУА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122400" y="268200"/>
            <a:ext cx="8570880" cy="1663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асманийский Дьявол это уникальное животное, обитаюшее исключительно на Австралийском острове Тасмания. Это мускулистый хищник размером с небольшую собаку, покрытый черным мехом. Дьяволы знамениты тем что они едят все что шевелится: любых диких или домашних животных, включая маленьких или больных овечек, птиц, рыб, насекомых, жаб и рептилий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5000760" y="1411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707220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4"/>
          <a:stretch/>
        </p:blipFill>
        <p:spPr>
          <a:xfrm rot="2006400">
            <a:off x="4689000" y="4838760"/>
            <a:ext cx="20955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 rot="20173200">
            <a:off x="450360" y="2007720"/>
            <a:ext cx="3343320" cy="2230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4071960" y="285768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4"/>
          <a:stretch/>
        </p:blipFill>
        <p:spPr>
          <a:xfrm>
            <a:off x="928800" y="4857840"/>
            <a:ext cx="25002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7"/>
          <p:cNvSpPr/>
          <p:nvPr/>
        </p:nvSpPr>
        <p:spPr>
          <a:xfrm rot="20955600">
            <a:off x="907920" y="1205640"/>
            <a:ext cx="70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Растительный мир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57120" y="9288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4357800" y="928800"/>
            <a:ext cx="3019320" cy="45259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6"/>
          <p:cNvSpPr/>
          <p:nvPr/>
        </p:nvSpPr>
        <p:spPr>
          <a:xfrm>
            <a:off x="1661760" y="578628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еленый бамбу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5353560" y="5857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ангровое дерев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4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"/>
          <p:cNvPicPr/>
          <p:nvPr/>
        </p:nvPicPr>
        <p:blipFill>
          <a:blip r:embed="rId2"/>
          <a:stretch/>
        </p:blipFill>
        <p:spPr>
          <a:xfrm>
            <a:off x="2143080" y="1500120"/>
            <a:ext cx="428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3" descr=""/>
          <p:cNvPicPr/>
          <p:nvPr/>
        </p:nvPicPr>
        <p:blipFill>
          <a:blip r:embed="rId1"/>
          <a:stretch/>
        </p:blipFill>
        <p:spPr>
          <a:xfrm>
            <a:off x="244440" y="-225360"/>
            <a:ext cx="7461360" cy="1693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571680" y="1428840"/>
            <a:ext cx="1785600" cy="1339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немоны, морские георгины, морские лилии... Они очень красивые, но их лучше не рвать. Потому что, это – животные. Причём опасны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3"/>
          <a:stretch/>
        </p:blipFill>
        <p:spPr>
          <a:xfrm>
            <a:off x="2500200" y="857160"/>
            <a:ext cx="1779840" cy="1428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4"/>
          <a:stretch/>
        </p:blipFill>
        <p:spPr>
          <a:xfrm rot="20091000">
            <a:off x="285480" y="3169800"/>
            <a:ext cx="2923920" cy="2000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5"/>
          <a:stretch/>
        </p:blipFill>
        <p:spPr>
          <a:xfrm rot="1156800">
            <a:off x="2027160" y="4530240"/>
            <a:ext cx="185760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357120"/>
            <a:ext cx="72388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А я клянусь вам, что этот край- самый любопытный на всем земном шаре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едставьте себе, друзья мои, материк, который, образовываясь, поднимался из морских волн не своей центральной частью, а краями, как какое-то гигантское кольцо; материк, в середине которого есть наполовину испарившееся внутреннее море; где реки с каждым днем все больше высыхают, где деревья ежегодно теряют не листья, а кору, где у четвероногих имеются клювы, где ту прыгуна- кенгуру лапы разной длин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амая причудливая, самая нелогичная из всех когда- либо существовавших.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Географическое положени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rebuchet MS"/>
              </a:rPr>
              <a:t>Рельеф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rebuchet MS"/>
              </a:rPr>
              <a:t>Климат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rebuchet MS"/>
              </a:rPr>
              <a:t>Внутренние вод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071360"/>
            <a:ext cx="7238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rebuchet MS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формирование умения выявлять причинно- следственные связи между компонентами природы на примере Австралии (географическое положение- климат, климат- природные зоны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rebuchet MS"/>
              </a:rPr>
              <a:t>Задачи: -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знакомиться с природными зонами Австралии;  -научиться по картам атласа делать характеристику природной зоны;  -удивиться особенностям природы Австрали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42960" y="0"/>
          <a:ext cx="8001000" cy="7051680"/>
        </p:xfrm>
        <a:graphic>
          <a:graphicData uri="http://schemas.openxmlformats.org/drawingml/2006/table">
            <a:tbl>
              <a:tblPr/>
              <a:tblGrid>
                <a:gridCol w="1547640"/>
                <a:gridCol w="1652760"/>
                <a:gridCol w="1600200"/>
                <a:gridCol w="1600200"/>
                <a:gridCol w="16002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иродная з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змеще-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ли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ститель-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Живо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20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лупу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ыни и пусты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ентраль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Жаркий, тропиче-ский, осадков 20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прох-ые заросли  кустарн-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орм эв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птов, акации-скрэ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Ящерицы, змеи, страус-эму, кенгуру, собака-дин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аван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ружают пустыни и полупусты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убэкв-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адки в летний пери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янв., д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Эвкалипты, акации, казуарины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утылочное дер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мбат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хидна,  кенгуру, страус-э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5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ем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лажные л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еверная и север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сточ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убтропиче-ский, тропическ. влаж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альмы, лавры, папор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эвкалипты араук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ала, лирохвост, утконос, попуга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Жестко-листные леса и ку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ар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ю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изим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омор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ечнозел. буки, папор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умчатый дьявол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ревесный кенгу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1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 rot="19942200">
            <a:off x="428400" y="4785840"/>
            <a:ext cx="1371600" cy="1123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3"/>
          <a:stretch/>
        </p:blipFill>
        <p:spPr>
          <a:xfrm>
            <a:off x="2286000" y="457200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"/>
          <p:cNvPicPr/>
          <p:nvPr/>
        </p:nvPicPr>
        <p:blipFill>
          <a:blip r:embed="rId4"/>
          <a:stretch/>
        </p:blipFill>
        <p:spPr>
          <a:xfrm>
            <a:off x="428760" y="1571760"/>
            <a:ext cx="3516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142920" y="714240"/>
            <a:ext cx="1785960" cy="1339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ала - еще один символ Австралии. Сфотографировать коалу довольно трудно, так как она спит 20 часов в сутки. Спящая коала похожа просто на плюшевый комоче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3"/>
          <a:stretch/>
        </p:blipFill>
        <p:spPr>
          <a:xfrm rot="1606200">
            <a:off x="428400" y="2330280"/>
            <a:ext cx="3713040" cy="2784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4"/>
          <a:stretch/>
        </p:blipFill>
        <p:spPr>
          <a:xfrm>
            <a:off x="428760" y="5143680"/>
            <a:ext cx="235728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4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7613640" cy="1273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 rot="19871400">
            <a:off x="331920" y="1485720"/>
            <a:ext cx="1881000" cy="1268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3"/>
          <a:stretch/>
        </p:blipFill>
        <p:spPr>
          <a:xfrm>
            <a:off x="1143000" y="2924280"/>
            <a:ext cx="3357720" cy="2262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4"/>
          <a:stretch/>
        </p:blipFill>
        <p:spPr>
          <a:xfrm rot="1392600">
            <a:off x="266400" y="5307120"/>
            <a:ext cx="1800000" cy="12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 rot="19915800">
            <a:off x="816120" y="1639800"/>
            <a:ext cx="2006280" cy="2752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00720" y="1357200"/>
            <a:ext cx="352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ругие, несколько менее известные австралийские животные это поссум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ссум это небольшой зверек размером с кошку, который живет на деревь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1428840" y="428616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7:10:31Z</dcterms:created>
  <dc:creator>Александр</dc:creator>
  <dc:description/>
  <dc:language>en-US</dc:language>
  <cp:lastModifiedBy>Administrator</cp:lastModifiedBy>
  <dcterms:modified xsi:type="dcterms:W3CDTF">2012-03-29T04:36:44Z</dcterms:modified>
  <cp:revision>19</cp:revision>
  <dc:subject/>
  <dc:title>Слайд 1</dc:title>
</cp:coreProperties>
</file>