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471-0BDA-4CCA-9F46-7F28AA35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50A1-0352-45B9-BB89-E748F676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CF92-1AF9-47DC-B284-4E195E55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D7B-CB21-4DF2-8E38-DDA3F2AC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1DAE-A630-4022-A203-B6857EC0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4C3F-1AB7-40C8-9A6F-37235D2C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B17C-F370-457A-9659-FA801C10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D4FF-57A9-4CA3-9C0D-FC6CE1DC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1942-BF84-43FA-BEE1-1A8B0968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5B86-9EAF-4790-8D0E-918662D8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25D4-E7FC-4015-AA5A-BB52C212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A7B-577F-4E09-99A0-9D3D7F7F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958F-4CFF-458F-8F32-4A6885DB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F4C2-2EF5-41DA-B3D6-2C4FBCC8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199D-78D4-4E02-920C-40C5EDD8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26E3-6578-45A7-8FB8-B9E077A8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9E37-E422-46F9-87B5-9E3BB588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69B46-D33C-42E2-8D34-75BB043F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190BD-C7A7-4344-9AF2-21D2271E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69A4B-784F-4B01-93CD-A9C99997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E17DA-A29C-422D-B735-50B1B5E6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8FB64-FE7C-4F3F-BCC6-4CE74980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AB0-9C75-4E2A-A688-52359C2F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F9EA-090C-489D-AEBF-9DF1F7BE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ED18A-1361-4733-B03D-C2F21DBF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0A108-AD7A-40C6-A17C-9A0F74E6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6087D-978B-4D40-ABB2-6356C7D0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81551-1839-48E1-8274-F19ECD22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DF720-B3DC-47A6-B34F-B84B30D5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A4E7E-8F3C-4F50-91D3-BDE61840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C63B0-EE5A-495E-B723-D5451B5A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E985B-1451-491A-AB67-22B00A0F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1CE32-FFE6-40BC-9732-81D687C5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B259-65B9-4639-B08B-6740E8B1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29812-F897-4307-8115-48AD856F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FFB8E-96AF-4FDF-B470-DEB3E789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CBD56-8016-43D1-99ED-7344FA63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E37A5-E062-411D-99D1-88806411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BA3CE-45A8-4DEA-B3FA-48BAC389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97B66-58D7-4E5A-846B-5E0A4E84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C5F4C-571F-41B1-9A6A-E52560F5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B8359-C0BC-4CB8-8C47-CD88E244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56E11-9C9C-4D7E-A902-FC3BF73A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42627-F323-43DE-A131-D3608546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BFD-E358-4CCC-8F3C-734A5AAC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E1445-0C86-4C94-B9D3-91956E4A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26BB3-95A0-4546-B096-297DDE50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6AECD-31FC-4850-8326-C5F00611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C094E-2A6E-49D7-AB00-BF6B77BC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8A08F-7E4C-4C44-9FFB-8721B783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6F1C9-92A7-4D44-8C51-7126CD6D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4D821-CAEC-4D5D-8C41-519360E6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91387-5CFD-43A9-9707-C5BDDA69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28881-8C70-4F69-9FED-4FEEF626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8311E-7E94-441F-A052-F7A258E1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B36-941B-41B0-AB90-29CCB67D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128BC-EB84-431D-BE6A-5D9A9C25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18F-EE2A-461F-AEA7-FC17EA2E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FCE-ADFE-4CB4-876F-97A33635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AD9A-4606-42F0-AC21-317697D6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13A9-4D48-4FE0-AA3B-48C01E584CB5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F988-1FF3-47FF-B389-BA867EE1C113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F225-A461-48A5-B464-20ACEB3F310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193B-BBFC-42EF-BD81-2ADA4765AF4A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6B2F-6DCE-48B0-8189-51070413791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-142920" y="-142920"/>
            <a:ext cx="9491760" cy="71200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7"/>
          <p:cNvSpPr/>
          <p:nvPr/>
        </p:nvSpPr>
        <p:spPr>
          <a:xfrm rot="807000">
            <a:off x="3887280" y="612720"/>
            <a:ext cx="523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rebuchet MS"/>
              </a:rPr>
              <a:t>Природные зоны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rebuchet MS"/>
              </a:rPr>
              <a:t>Австрали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42840" y="317520"/>
            <a:ext cx="766296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омбат это удивительный австралийский сумчатый зверь на коротких лапах, примерно один метр в длину, с очень коротким хвостом. Вомбат немного напоминает симпатичного поросен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3714840" y="14288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3"/>
          <a:stretch/>
        </p:blipFill>
        <p:spPr>
          <a:xfrm rot="1261800">
            <a:off x="7090920" y="1657440"/>
            <a:ext cx="1643040" cy="2004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4"/>
          <a:stretch/>
        </p:blipFill>
        <p:spPr>
          <a:xfrm>
            <a:off x="5429160" y="3801960"/>
            <a:ext cx="200052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42840" y="317520"/>
            <a:ext cx="766296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Австралии также можно запросто встретить эму. В тропиках водится родственник эму - казуар (Cassowary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3643200" y="57168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3"/>
          <a:stretch/>
        </p:blipFill>
        <p:spPr>
          <a:xfrm rot="1842000">
            <a:off x="7510320" y="149400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4"/>
          <a:stretch/>
        </p:blipFill>
        <p:spPr>
          <a:xfrm>
            <a:off x="4572000" y="4429080"/>
            <a:ext cx="1714680" cy="22860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10"/>
          <p:cNvSpPr/>
          <p:nvPr/>
        </p:nvSpPr>
        <p:spPr>
          <a:xfrm>
            <a:off x="7120800" y="35719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ЭМ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6509880" y="61437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ЗУАР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122400" y="268200"/>
            <a:ext cx="8570880" cy="16639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асманийский Дьявол это уникальное животное, обитаюшее исключительно на Австралийском острове Тасмания. Это мускулистый хищник размером с небольшую собаку, покрытый черным мехом. Дьяволы знамениты тем что они едят все что шевелится: любых диких или домашних животных, включая маленьких или больных овечек, птиц, рыб, насекомых, жаб и рептилий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5000760" y="1411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7072200" y="4357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4"/>
          <a:stretch/>
        </p:blipFill>
        <p:spPr>
          <a:xfrm rot="2006400">
            <a:off x="4689000" y="4838760"/>
            <a:ext cx="20955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2"/>
          <a:stretch/>
        </p:blipFill>
        <p:spPr>
          <a:xfrm rot="20173200">
            <a:off x="450360" y="2007720"/>
            <a:ext cx="3343320" cy="2230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3"/>
          <a:stretch/>
        </p:blipFill>
        <p:spPr>
          <a:xfrm>
            <a:off x="4071960" y="2857680"/>
            <a:ext cx="3571920" cy="2679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4"/>
          <a:stretch/>
        </p:blipFill>
        <p:spPr>
          <a:xfrm>
            <a:off x="928800" y="4857840"/>
            <a:ext cx="25002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7"/>
          <p:cNvSpPr/>
          <p:nvPr/>
        </p:nvSpPr>
        <p:spPr>
          <a:xfrm rot="20955600">
            <a:off x="907920" y="1205640"/>
            <a:ext cx="709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Растительный мир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357120" y="9288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2"/>
          <a:stretch/>
        </p:blipFill>
        <p:spPr>
          <a:xfrm>
            <a:off x="4357800" y="928800"/>
            <a:ext cx="3019320" cy="45259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6"/>
          <p:cNvSpPr/>
          <p:nvPr/>
        </p:nvSpPr>
        <p:spPr>
          <a:xfrm>
            <a:off x="1661760" y="578628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еленый бамбук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5353560" y="5857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ангровое дерев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4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"/>
          <p:cNvPicPr/>
          <p:nvPr/>
        </p:nvPicPr>
        <p:blipFill>
          <a:blip r:embed="rId2"/>
          <a:stretch/>
        </p:blipFill>
        <p:spPr>
          <a:xfrm>
            <a:off x="2143080" y="1500120"/>
            <a:ext cx="428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3" descr=""/>
          <p:cNvPicPr/>
          <p:nvPr/>
        </p:nvPicPr>
        <p:blipFill>
          <a:blip r:embed="rId1"/>
          <a:stretch/>
        </p:blipFill>
        <p:spPr>
          <a:xfrm>
            <a:off x="244440" y="-225360"/>
            <a:ext cx="7461360" cy="16938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571680" y="1428840"/>
            <a:ext cx="1785600" cy="1339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немоны, морские георгины, морские лилии... Они очень красивые, но их лучше не рвать. Потому что, это – животные. Причём опасны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3"/>
          <a:stretch/>
        </p:blipFill>
        <p:spPr>
          <a:xfrm>
            <a:off x="2500200" y="857160"/>
            <a:ext cx="1779840" cy="1428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4"/>
          <a:stretch/>
        </p:blipFill>
        <p:spPr>
          <a:xfrm rot="20091000">
            <a:off x="285480" y="3169800"/>
            <a:ext cx="2923920" cy="2000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"/>
          <p:cNvPicPr/>
          <p:nvPr/>
        </p:nvPicPr>
        <p:blipFill>
          <a:blip r:embed="rId5"/>
          <a:stretch/>
        </p:blipFill>
        <p:spPr>
          <a:xfrm rot="1156800">
            <a:off x="2027160" y="4530240"/>
            <a:ext cx="185760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357120"/>
            <a:ext cx="723888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А я клянусь вам, что этот край- самый любопытный на всем земном шаре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едставьте себе, друзья мои, материк, который, образовываясь, поднимался из морских волн не своей центральной частью, а краями, как какое-то гигантское кольцо; материк, в середине которого есть наполовину испарившееся внутреннее море; где реки с каждым днем все больше высыхают, где деревья ежегодно теряют не листья, а кору, где у четвероногих имеются клювы, где ту прыгуна- кенгуру лапы разной длины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амая причудливая, самая нелогичная из всех когда- либо существовавших.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Географическое положение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rebuchet MS"/>
              </a:rPr>
              <a:t>Рельеф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rebuchet MS"/>
              </a:rPr>
              <a:t>Климат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rebuchet MS"/>
              </a:rPr>
              <a:t>Внутренние вод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071360"/>
            <a:ext cx="723888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rebuchet MS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формирование умения выявлять причинно- следственные связи между компонентами природы на примере Австралии (географическое положение- климат, климат- природные зоны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rebuchet MS"/>
              </a:rPr>
              <a:t>Задачи: -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знакомиться с природными зонами Австралии;  -научиться по картам атласа делать характеристику природной зоны;  -удивиться особенностям природы Австрали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42960" y="0"/>
          <a:ext cx="8001000" cy="7051680"/>
        </p:xfrm>
        <a:graphic>
          <a:graphicData uri="http://schemas.openxmlformats.org/drawingml/2006/table">
            <a:tbl>
              <a:tblPr/>
              <a:tblGrid>
                <a:gridCol w="1547640"/>
                <a:gridCol w="1652760"/>
                <a:gridCol w="1600200"/>
                <a:gridCol w="1600200"/>
                <a:gridCol w="160020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иродная з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азмеще-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ли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аститель-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Живо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20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лупу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ыни и пусты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Централь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Жаркий, тропиче-ский, осадков 200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прох-ые заросли  кустарн-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орм эвк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иптов, акации-скрэ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Ящерицы, змеи, страус-эму, кенгуру, собака-дин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аван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кружают пустыни и полупусты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убэкв-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адки в летний пери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янв., дек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Эвкалипты, акации, казуарины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утылочное дере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мбат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хидна,  кенгуру, страус-э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5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ереме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лажные ле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еверная и север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сточ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убтропиче-ский, тропическ. влаж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альмы, лавры, папор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эвкалипты араук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оала, лирохвост, утконос, попуга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Жестко-листные леса и ку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ар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ю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изим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омор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ечнозел. буки, папор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умчатый дьявол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ревесный кенгу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1" descr=""/>
          <p:cNvPicPr/>
          <p:nvPr/>
        </p:nvPicPr>
        <p:blipFill>
          <a:blip r:embed="rId1"/>
          <a:stretch/>
        </p:blipFill>
        <p:spPr>
          <a:xfrm>
            <a:off x="42840" y="317520"/>
            <a:ext cx="7662960" cy="1150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 rot="19942200">
            <a:off x="428400" y="4785840"/>
            <a:ext cx="1371600" cy="1123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3"/>
          <a:stretch/>
        </p:blipFill>
        <p:spPr>
          <a:xfrm>
            <a:off x="2286000" y="457200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"/>
          <p:cNvPicPr/>
          <p:nvPr/>
        </p:nvPicPr>
        <p:blipFill>
          <a:blip r:embed="rId4"/>
          <a:stretch/>
        </p:blipFill>
        <p:spPr>
          <a:xfrm>
            <a:off x="428760" y="1571760"/>
            <a:ext cx="35161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2"/>
          <a:stretch/>
        </p:blipFill>
        <p:spPr>
          <a:xfrm>
            <a:off x="142920" y="714240"/>
            <a:ext cx="1785960" cy="1339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ала - еще один символ Австралии. Сфотографировать коалу довольно трудно, так как она спит 20 часов в сутки. Спящая коала похожа просто на плюшевый комоче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3"/>
          <a:stretch/>
        </p:blipFill>
        <p:spPr>
          <a:xfrm rot="1606200">
            <a:off x="428400" y="2330280"/>
            <a:ext cx="3713040" cy="2784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/>
          <p:cNvPicPr/>
          <p:nvPr/>
        </p:nvPicPr>
        <p:blipFill>
          <a:blip r:embed="rId4"/>
          <a:stretch/>
        </p:blipFill>
        <p:spPr>
          <a:xfrm>
            <a:off x="428760" y="5143680"/>
            <a:ext cx="235728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4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7613640" cy="1273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 rot="19871400">
            <a:off x="331920" y="1485720"/>
            <a:ext cx="1881000" cy="1268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3"/>
          <a:stretch/>
        </p:blipFill>
        <p:spPr>
          <a:xfrm>
            <a:off x="1143000" y="2924280"/>
            <a:ext cx="3357720" cy="2262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4"/>
          <a:stretch/>
        </p:blipFill>
        <p:spPr>
          <a:xfrm rot="1392600">
            <a:off x="266400" y="5307120"/>
            <a:ext cx="1800000" cy="12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 rot="19915800">
            <a:off x="816120" y="1639800"/>
            <a:ext cx="2006280" cy="2752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00720" y="1357200"/>
            <a:ext cx="352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ругие, несколько менее известные австралийские животные это поссум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ссум это небольшой зверек размером с кошку, который живет на деревь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3"/>
          <a:stretch/>
        </p:blipFill>
        <p:spPr>
          <a:xfrm>
            <a:off x="1428840" y="428616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7:10:31Z</dcterms:created>
  <dc:creator>Александр</dc:creator>
  <dc:description/>
  <dc:language>en-US</dc:language>
  <cp:lastModifiedBy>Administrator</cp:lastModifiedBy>
  <dcterms:modified xsi:type="dcterms:W3CDTF">2012-03-29T04:36:44Z</dcterms:modified>
  <cp:revision>19</cp:revision>
  <dc:subject/>
  <dc:title>Слайд 1</dc:title>
</cp:coreProperties>
</file>