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15.wmf" ContentType="image/x-wmf"/>
  <Override PartName="/ppt/media/image6.png" ContentType="image/png"/>
  <Override PartName="/ppt/media/image10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4.gif" ContentType="image/gif"/>
  <Override PartName="/ppt/media/image4.wmf" ContentType="image/x-wmf"/>
  <Override PartName="/ppt/media/image19.gif" ContentType="image/gif"/>
  <Override PartName="/ppt/media/image1.png" ContentType="image/png"/>
  <Override PartName="/ppt/media/image2.png" ContentType="image/png"/>
  <Override PartName="/ppt/media/image16.png" ContentType="image/png"/>
  <Override PartName="/ppt/media/image13.gif" ContentType="image/gif"/>
  <Override PartName="/ppt/media/chimes.wav" ContentType="audio/x-wav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776-D4F6-4F6C-BB77-CD37B526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F8B-BCDC-4EE5-9018-4EB38FE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6C2-F0AE-4F62-BC25-F7090E80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568-DFC7-46AF-9CE7-1472A121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06E-1A07-4B81-B7AB-9DACF52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125-606E-44A0-B722-4FC964B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491-741E-4F05-BE7A-1828530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4F8-0B5F-422A-9445-1115E89B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35C-BD1C-4B50-8F31-0F52A2C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40D-6BDD-4E6C-987B-19FA92E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D95-0E73-47B5-BC9B-8BD830E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AEC-5C72-4964-B203-BDF982F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F01-DA92-4EAE-B57F-85F7ECDE7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Атмосфера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Строение, значение, изучение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95" name="Picture 1033" descr="PE07677_"/>
          <p:cNvPicPr/>
          <p:nvPr/>
        </p:nvPicPr>
        <p:blipFill>
          <a:blip r:embed="rId1"/>
          <a:stretch/>
        </p:blipFill>
        <p:spPr>
          <a:xfrm>
            <a:off x="809640" y="2565360"/>
            <a:ext cx="3697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Изучение атмосфер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наблюдения за атмосферой на Земле расположены метеостан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руднодоступных районах действуют автоматические радиометеостан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ют радиозонды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еорологические ракеты, спутники Зем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Object 7"/>
          <p:cNvGraphicFramePr/>
          <p:nvPr/>
        </p:nvGraphicFramePr>
        <p:xfrm>
          <a:off x="685800" y="2981160"/>
          <a:ext cx="381492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81160"/>
                    <a:ext cx="38149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7" name="Organization Chart 10"/>
          <p:cNvGrpSpPr/>
          <p:nvPr/>
        </p:nvGrpSpPr>
        <p:grpSpPr>
          <a:xfrm>
            <a:off x="250920" y="835920"/>
            <a:ext cx="8675640" cy="5580720"/>
            <a:chOff x="250920" y="835920"/>
            <a:chExt cx="8675640" cy="5580720"/>
          </a:xfrm>
        </p:grpSpPr>
        <p:cxnSp>
          <p:nvCxnSpPr>
            <p:cNvPr id="288" name="_s1029"/>
            <p:cNvCxnSpPr>
              <a:stCxn id="289" idx="3"/>
              <a:endCxn id="290" idx="2"/>
            </p:cNvCxnSpPr>
            <p:nvPr/>
          </p:nvCxnSpPr>
          <p:spPr>
            <a:xfrm flipV="1">
              <a:off x="2700360" y="2985840"/>
              <a:ext cx="304920" cy="314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1030"/>
            <p:cNvCxnSpPr>
              <a:stCxn id="292" idx="1"/>
              <a:endCxn id="293" idx="2"/>
            </p:cNvCxnSpPr>
            <p:nvPr/>
          </p:nvCxnSpPr>
          <p:spPr>
            <a:xfrm rot="10800000">
              <a:off x="6262920" y="2998080"/>
              <a:ext cx="324360" cy="2448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031"/>
            <p:cNvCxnSpPr>
              <a:stCxn id="295" idx="1"/>
              <a:endCxn id="293" idx="2"/>
            </p:cNvCxnSpPr>
            <p:nvPr/>
          </p:nvCxnSpPr>
          <p:spPr>
            <a:xfrm rot="10800000">
              <a:off x="6262920" y="2998080"/>
              <a:ext cx="324360" cy="153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6" name="_s1032"/>
            <p:cNvCxnSpPr>
              <a:stCxn id="297" idx="1"/>
              <a:endCxn id="293" idx="2"/>
            </p:cNvCxnSpPr>
            <p:nvPr/>
          </p:nvCxnSpPr>
          <p:spPr>
            <a:xfrm rot="10800000">
              <a:off x="6262920" y="2998080"/>
              <a:ext cx="396360" cy="56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8" name="_s1033"/>
            <p:cNvCxnSpPr>
              <a:stCxn id="299" idx="0"/>
              <a:endCxn id="300" idx="2"/>
            </p:cNvCxnSpPr>
            <p:nvPr/>
          </p:nvCxnSpPr>
          <p:spPr>
            <a:xfrm flipV="1" rot="16200000">
              <a:off x="4426560" y="3138120"/>
              <a:ext cx="283320" cy="6480"/>
            </a:xfrm>
            <a:prstGeom prst="bentConnector3">
              <a:avLst>
                <a:gd name="adj1" fmla="val 402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034"/>
            <p:cNvCxnSpPr>
              <a:stCxn id="302" idx="3"/>
              <a:endCxn id="290" idx="2"/>
            </p:cNvCxnSpPr>
            <p:nvPr/>
          </p:nvCxnSpPr>
          <p:spPr>
            <a:xfrm flipV="1">
              <a:off x="2700360" y="2985840"/>
              <a:ext cx="304920" cy="228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1035"/>
            <p:cNvCxnSpPr>
              <a:stCxn id="304" idx="3"/>
              <a:endCxn id="290" idx="2"/>
            </p:cNvCxnSpPr>
            <p:nvPr/>
          </p:nvCxnSpPr>
          <p:spPr>
            <a:xfrm flipV="1">
              <a:off x="2700360" y="2985840"/>
              <a:ext cx="304920" cy="143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5" name="_s1036"/>
            <p:cNvCxnSpPr>
              <a:stCxn id="306" idx="3"/>
              <a:endCxn id="290" idx="2"/>
            </p:cNvCxnSpPr>
            <p:nvPr/>
          </p:nvCxnSpPr>
          <p:spPr>
            <a:xfrm flipV="1">
              <a:off x="2700360" y="2985840"/>
              <a:ext cx="304920" cy="5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_s1037"/>
            <p:cNvCxnSpPr>
              <a:stCxn id="293" idx="0"/>
              <a:endCxn id="308" idx="2"/>
            </p:cNvCxnSpPr>
            <p:nvPr/>
          </p:nvCxnSpPr>
          <p:spPr>
            <a:xfrm flipV="1" rot="16200000">
              <a:off x="4998240" y="1225800"/>
              <a:ext cx="831960" cy="1698480"/>
            </a:xfrm>
            <a:prstGeom prst="bentConnector3">
              <a:avLst>
                <a:gd name="adj1" fmla="val 137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9" name="_s1038"/>
            <p:cNvCxnSpPr>
              <a:stCxn id="300" idx="0"/>
              <a:endCxn id="308" idx="2"/>
            </p:cNvCxnSpPr>
            <p:nvPr/>
          </p:nvCxnSpPr>
          <p:spPr>
            <a:xfrm flipV="1">
              <a:off x="4565160" y="1659240"/>
              <a:ext cx="1800" cy="83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1039"/>
            <p:cNvCxnSpPr/>
            <p:nvPr/>
          </p:nvCxnSpPr>
          <p:spPr>
            <a:xfrm flipH="1" flipV="1" rot="5400000">
              <a:off x="3407760" y="1317240"/>
              <a:ext cx="819360" cy="1504080"/>
            </a:xfrm>
            <a:prstGeom prst="bentConnector3">
              <a:avLst>
                <a:gd name="adj1" fmla="val 1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8" name="_s1040"/>
            <p:cNvSpPr/>
            <p:nvPr/>
          </p:nvSpPr>
          <p:spPr>
            <a:xfrm>
              <a:off x="3419280" y="835920"/>
              <a:ext cx="2290680" cy="824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СРЕДСТВА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ИЗУЧ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АТМОСФЕ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_s1041"/>
            <p:cNvSpPr/>
            <p:nvPr/>
          </p:nvSpPr>
          <p:spPr>
            <a:xfrm>
              <a:off x="2268360" y="2478960"/>
              <a:ext cx="1471320" cy="507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НАЗЕМ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_s1042"/>
            <p:cNvSpPr/>
            <p:nvPr/>
          </p:nvSpPr>
          <p:spPr>
            <a:xfrm>
              <a:off x="3851640" y="2491560"/>
              <a:ext cx="1426680" cy="509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ВОЗДУШ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_s1043"/>
            <p:cNvSpPr/>
            <p:nvPr/>
          </p:nvSpPr>
          <p:spPr>
            <a:xfrm>
              <a:off x="5364360" y="2491560"/>
              <a:ext cx="1798920" cy="507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00"/>
                  </a:solidFill>
                  <a:latin typeface="Verdana"/>
                </a:rPr>
                <a:t>КОС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_s1044"/>
            <p:cNvSpPr/>
            <p:nvPr/>
          </p:nvSpPr>
          <p:spPr>
            <a:xfrm>
              <a:off x="250920" y="327456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Метео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_s1045"/>
            <p:cNvSpPr/>
            <p:nvPr/>
          </p:nvSpPr>
          <p:spPr>
            <a:xfrm>
              <a:off x="250920" y="413244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Полярные 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_s1046"/>
            <p:cNvSpPr/>
            <p:nvPr/>
          </p:nvSpPr>
          <p:spPr>
            <a:xfrm>
              <a:off x="250920" y="498996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Научные суд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_s1047"/>
            <p:cNvSpPr/>
            <p:nvPr/>
          </p:nvSpPr>
          <p:spPr>
            <a:xfrm>
              <a:off x="3635280" y="3283560"/>
              <a:ext cx="1873080" cy="570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диозонды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 самолет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_s1048"/>
            <p:cNvSpPr/>
            <p:nvPr/>
          </p:nvSpPr>
          <p:spPr>
            <a:xfrm>
              <a:off x="6659640" y="3274560"/>
              <a:ext cx="226656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000" rIns="45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Метеоролог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ке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_s1049"/>
            <p:cNvSpPr/>
            <p:nvPr/>
          </p:nvSpPr>
          <p:spPr>
            <a:xfrm>
              <a:off x="6587640" y="4132440"/>
              <a:ext cx="2338920" cy="809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Искусственны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путники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Земли (И С З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_s1050"/>
            <p:cNvSpPr/>
            <p:nvPr/>
          </p:nvSpPr>
          <p:spPr>
            <a:xfrm>
              <a:off x="6587640" y="5157720"/>
              <a:ext cx="2338920" cy="57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</a:t>
              </a: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мическ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_s1051"/>
            <p:cNvSpPr/>
            <p:nvPr/>
          </p:nvSpPr>
          <p:spPr>
            <a:xfrm>
              <a:off x="250920" y="5847480"/>
              <a:ext cx="2449800" cy="569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Автоматические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радиометр. ста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боры и механизм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диозонды (до 30-4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метеоракеты (до 12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ракеты (до 400-50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воздушные шар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ИСЗ (до 900 км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флюгер (направление вет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термометры (температу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барометр (давление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сихрометр (влажность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540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Сегодня на уроке 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мы узнали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518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атмосф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ение </a:t>
            </a:r>
            <a:r>
              <a:rPr b="0" lang="ru-RU" sz="3200" spc="-1" strike="noStrike">
                <a:solidFill>
                  <a:srgbClr val="6699ff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ение 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</a:t>
            </a:r>
            <a:r>
              <a:rPr b="0" lang="ru-RU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атмосф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6" descr="Изображение 002"/>
          <p:cNvPicPr/>
          <p:nvPr/>
        </p:nvPicPr>
        <p:blipFill>
          <a:blip r:embed="rId6"/>
          <a:stretch/>
        </p:blipFill>
        <p:spPr>
          <a:xfrm>
            <a:off x="6084720" y="981000"/>
            <a:ext cx="2625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Дайте оценку уроку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17" name="Picture 6" descr="119"/>
          <p:cNvPicPr/>
          <p:nvPr/>
        </p:nvPicPr>
        <p:blipFill>
          <a:blip r:embed="rId1"/>
          <a:stretch/>
        </p:blipFill>
        <p:spPr>
          <a:xfrm>
            <a:off x="7093080" y="494172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122"/>
          <p:cNvPicPr/>
          <p:nvPr/>
        </p:nvPicPr>
        <p:blipFill>
          <a:blip r:embed="rId2"/>
          <a:stretch/>
        </p:blipFill>
        <p:spPr>
          <a:xfrm>
            <a:off x="4427640" y="3500280"/>
            <a:ext cx="2736720" cy="16322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2"/>
          <p:cNvSpPr/>
          <p:nvPr/>
        </p:nvSpPr>
        <p:spPr>
          <a:xfrm>
            <a:off x="1403280" y="2997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987640" y="4005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5003640" y="501336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7093080" y="55468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7" descr="smile12"/>
          <p:cNvPicPr/>
          <p:nvPr/>
        </p:nvPicPr>
        <p:blipFill>
          <a:blip r:embed="rId3"/>
          <a:stretch/>
        </p:blipFill>
        <p:spPr>
          <a:xfrm>
            <a:off x="3276720" y="2997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clapping"/>
          <p:cNvPicPr/>
          <p:nvPr/>
        </p:nvPicPr>
        <p:blipFill>
          <a:blip r:embed="rId4"/>
          <a:stretch/>
        </p:blipFill>
        <p:spPr>
          <a:xfrm>
            <a:off x="971640" y="2060640"/>
            <a:ext cx="17031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за работ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на уроке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Домашнее задание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920" y="214776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35 читать, ответить на вопросы посл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Записи тетрад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сти наблюдения и записать в тетрадь результаты измерения температуры воздуха в течение дня, начиная с 8-00 до 20-00, через каждые 2 час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science43"/>
          <p:cNvPicPr/>
          <p:nvPr/>
        </p:nvPicPr>
        <p:blipFill>
          <a:blip r:embed="rId1"/>
          <a:stretch/>
        </p:blipFill>
        <p:spPr>
          <a:xfrm>
            <a:off x="1332000" y="885960"/>
            <a:ext cx="597672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9959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Атмосфера 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(от греч. «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atmos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» = пар)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-  газообразная оболочка Земли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35002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самая верхняя оболоч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смеси газов, называемой воздух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Состав атмосферы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551628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% воздуха приходится на водяной пар и все остальные газы (гелий, водород, озон, в том числе на углекислый га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Копия Изображение 002"/>
          <p:cNvPicPr/>
          <p:nvPr/>
        </p:nvPicPr>
        <p:blipFill>
          <a:blip r:embed="rId1"/>
          <a:stretch/>
        </p:blipFill>
        <p:spPr>
          <a:xfrm>
            <a:off x="2916360" y="2708280"/>
            <a:ext cx="5761080" cy="2619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250920" y="184464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озду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смесь газов, в которой больше всего азота и кислор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929880"/>
            <a:ext cx="7479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Воздух имеет массу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258920" y="2852640"/>
            <a:ext cx="0" cy="2448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6"/>
          <p:cNvSpPr/>
          <p:nvPr/>
        </p:nvSpPr>
        <p:spPr>
          <a:xfrm rot="21279000">
            <a:off x="250920" y="3357360"/>
            <a:ext cx="6840360" cy="2520720"/>
          </a:xfrm>
          <a:custGeom>
            <a:avLst/>
            <a:gdLst>
              <a:gd name="textAreaLeft" fmla="*/ 0 w 6840360"/>
              <a:gd name="textAreaRight" fmla="*/ 6840720 w 6840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5200" h="1780">
                <a:moveTo>
                  <a:pt x="0" y="1540"/>
                </a:moveTo>
                <a:cubicBezTo>
                  <a:pt x="280" y="1533"/>
                  <a:pt x="560" y="1531"/>
                  <a:pt x="840" y="1520"/>
                </a:cubicBezTo>
                <a:cubicBezTo>
                  <a:pt x="900" y="1518"/>
                  <a:pt x="961" y="1512"/>
                  <a:pt x="1020" y="1500"/>
                </a:cubicBezTo>
                <a:cubicBezTo>
                  <a:pt x="1061" y="1492"/>
                  <a:pt x="1100" y="1473"/>
                  <a:pt x="1140" y="1460"/>
                </a:cubicBezTo>
                <a:cubicBezTo>
                  <a:pt x="1160" y="1453"/>
                  <a:pt x="1200" y="1440"/>
                  <a:pt x="1200" y="1440"/>
                </a:cubicBezTo>
                <a:cubicBezTo>
                  <a:pt x="1266" y="1340"/>
                  <a:pt x="1314" y="1355"/>
                  <a:pt x="1420" y="1320"/>
                </a:cubicBezTo>
                <a:cubicBezTo>
                  <a:pt x="1460" y="1307"/>
                  <a:pt x="1500" y="1293"/>
                  <a:pt x="1540" y="1280"/>
                </a:cubicBezTo>
                <a:cubicBezTo>
                  <a:pt x="1563" y="1272"/>
                  <a:pt x="1577" y="1248"/>
                  <a:pt x="1600" y="1240"/>
                </a:cubicBezTo>
                <a:cubicBezTo>
                  <a:pt x="1700" y="1204"/>
                  <a:pt x="1796" y="1195"/>
                  <a:pt x="1900" y="1180"/>
                </a:cubicBezTo>
                <a:cubicBezTo>
                  <a:pt x="1980" y="1060"/>
                  <a:pt x="1886" y="1170"/>
                  <a:pt x="2040" y="1100"/>
                </a:cubicBezTo>
                <a:cubicBezTo>
                  <a:pt x="2084" y="1080"/>
                  <a:pt x="2120" y="1047"/>
                  <a:pt x="2160" y="1020"/>
                </a:cubicBezTo>
                <a:cubicBezTo>
                  <a:pt x="2180" y="1007"/>
                  <a:pt x="2220" y="980"/>
                  <a:pt x="2220" y="980"/>
                </a:cubicBezTo>
                <a:cubicBezTo>
                  <a:pt x="2227" y="960"/>
                  <a:pt x="2227" y="936"/>
                  <a:pt x="2240" y="920"/>
                </a:cubicBezTo>
                <a:cubicBezTo>
                  <a:pt x="2255" y="901"/>
                  <a:pt x="2282" y="895"/>
                  <a:pt x="2300" y="880"/>
                </a:cubicBezTo>
                <a:cubicBezTo>
                  <a:pt x="2322" y="862"/>
                  <a:pt x="2340" y="840"/>
                  <a:pt x="2360" y="820"/>
                </a:cubicBezTo>
                <a:cubicBezTo>
                  <a:pt x="2403" y="690"/>
                  <a:pt x="2504" y="574"/>
                  <a:pt x="2580" y="460"/>
                </a:cubicBezTo>
                <a:cubicBezTo>
                  <a:pt x="2593" y="440"/>
                  <a:pt x="2612" y="423"/>
                  <a:pt x="2620" y="400"/>
                </a:cubicBezTo>
                <a:cubicBezTo>
                  <a:pt x="2627" y="380"/>
                  <a:pt x="2625" y="355"/>
                  <a:pt x="2640" y="340"/>
                </a:cubicBezTo>
                <a:cubicBezTo>
                  <a:pt x="2655" y="325"/>
                  <a:pt x="2680" y="327"/>
                  <a:pt x="2700" y="320"/>
                </a:cubicBezTo>
                <a:cubicBezTo>
                  <a:pt x="2744" y="276"/>
                  <a:pt x="2772" y="256"/>
                  <a:pt x="2800" y="200"/>
                </a:cubicBezTo>
                <a:cubicBezTo>
                  <a:pt x="2809" y="181"/>
                  <a:pt x="2807" y="156"/>
                  <a:pt x="2820" y="140"/>
                </a:cubicBezTo>
                <a:cubicBezTo>
                  <a:pt x="2835" y="121"/>
                  <a:pt x="2862" y="115"/>
                  <a:pt x="2880" y="100"/>
                </a:cubicBezTo>
                <a:cubicBezTo>
                  <a:pt x="2902" y="82"/>
                  <a:pt x="2916" y="56"/>
                  <a:pt x="2940" y="40"/>
                </a:cubicBezTo>
                <a:cubicBezTo>
                  <a:pt x="2983" y="12"/>
                  <a:pt x="3153" y="1"/>
                  <a:pt x="3160" y="0"/>
                </a:cubicBezTo>
                <a:cubicBezTo>
                  <a:pt x="3180" y="13"/>
                  <a:pt x="3207" y="20"/>
                  <a:pt x="3220" y="40"/>
                </a:cubicBezTo>
                <a:cubicBezTo>
                  <a:pt x="3256" y="98"/>
                  <a:pt x="3277" y="211"/>
                  <a:pt x="3300" y="280"/>
                </a:cubicBezTo>
                <a:cubicBezTo>
                  <a:pt x="3313" y="320"/>
                  <a:pt x="3380" y="307"/>
                  <a:pt x="3420" y="320"/>
                </a:cubicBezTo>
                <a:cubicBezTo>
                  <a:pt x="3443" y="328"/>
                  <a:pt x="3460" y="347"/>
                  <a:pt x="3480" y="360"/>
                </a:cubicBezTo>
                <a:cubicBezTo>
                  <a:pt x="3633" y="589"/>
                  <a:pt x="3506" y="358"/>
                  <a:pt x="3580" y="680"/>
                </a:cubicBezTo>
                <a:cubicBezTo>
                  <a:pt x="3601" y="772"/>
                  <a:pt x="3720" y="813"/>
                  <a:pt x="3800" y="840"/>
                </a:cubicBezTo>
                <a:cubicBezTo>
                  <a:pt x="3873" y="1059"/>
                  <a:pt x="3757" y="727"/>
                  <a:pt x="3860" y="960"/>
                </a:cubicBezTo>
                <a:cubicBezTo>
                  <a:pt x="3877" y="999"/>
                  <a:pt x="3887" y="1040"/>
                  <a:pt x="3900" y="1080"/>
                </a:cubicBezTo>
                <a:cubicBezTo>
                  <a:pt x="3909" y="1106"/>
                  <a:pt x="3905" y="1137"/>
                  <a:pt x="3920" y="1160"/>
                </a:cubicBezTo>
                <a:cubicBezTo>
                  <a:pt x="3958" y="1217"/>
                  <a:pt x="4076" y="1214"/>
                  <a:pt x="4120" y="1220"/>
                </a:cubicBezTo>
                <a:cubicBezTo>
                  <a:pt x="4140" y="1227"/>
                  <a:pt x="4162" y="1228"/>
                  <a:pt x="4180" y="1240"/>
                </a:cubicBezTo>
                <a:cubicBezTo>
                  <a:pt x="4204" y="1256"/>
                  <a:pt x="4215" y="1287"/>
                  <a:pt x="4240" y="1300"/>
                </a:cubicBezTo>
                <a:cubicBezTo>
                  <a:pt x="4289" y="1325"/>
                  <a:pt x="4348" y="1323"/>
                  <a:pt x="4400" y="1340"/>
                </a:cubicBezTo>
                <a:cubicBezTo>
                  <a:pt x="4443" y="1470"/>
                  <a:pt x="4388" y="1352"/>
                  <a:pt x="4580" y="1480"/>
                </a:cubicBezTo>
                <a:cubicBezTo>
                  <a:pt x="4600" y="1493"/>
                  <a:pt x="4617" y="1512"/>
                  <a:pt x="4640" y="1520"/>
                </a:cubicBezTo>
                <a:cubicBezTo>
                  <a:pt x="4692" y="1539"/>
                  <a:pt x="4747" y="1547"/>
                  <a:pt x="4800" y="1560"/>
                </a:cubicBezTo>
                <a:cubicBezTo>
                  <a:pt x="4827" y="1567"/>
                  <a:pt x="4880" y="1580"/>
                  <a:pt x="4880" y="1580"/>
                </a:cubicBezTo>
                <a:cubicBezTo>
                  <a:pt x="4920" y="1640"/>
                  <a:pt x="4913" y="1647"/>
                  <a:pt x="4980" y="1680"/>
                </a:cubicBezTo>
                <a:cubicBezTo>
                  <a:pt x="5044" y="1712"/>
                  <a:pt x="5150" y="1730"/>
                  <a:pt x="5200" y="1780"/>
                </a:cubicBezTo>
              </a:path>
            </a:pathLst>
          </a:custGeom>
          <a:noFill/>
          <a:ln w="57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41800" y="2421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возд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6302160" y="1989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98160" y="198900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6302160" y="40766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7598160" y="407664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0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6661080" y="5229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52360" y="5013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7572600" y="5229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г  2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140280" y="5229360"/>
            <a:ext cx="23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 кг 2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2"/>
          <p:cNvSpPr/>
          <p:nvPr/>
        </p:nvSpPr>
        <p:spPr>
          <a:xfrm flipV="1">
            <a:off x="7380360" y="1915920"/>
            <a:ext cx="0" cy="38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395280" y="5516640"/>
            <a:ext cx="15127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72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Верхняя границ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условная, считаю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750 км до 3000 к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900000" y="189000"/>
            <a:ext cx="747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оение атмо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50920" y="6165720"/>
            <a:ext cx="619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Нижняя границ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земн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5435640" y="2276280"/>
            <a:ext cx="0" cy="38876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6012000" y="909720"/>
            <a:ext cx="2890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6"/>
          <p:cNvSpPr/>
          <p:nvPr/>
        </p:nvSpPr>
        <p:spPr>
          <a:xfrm rot="10800000">
            <a:off x="323640" y="5373720"/>
            <a:ext cx="647640" cy="719280"/>
          </a:xfrm>
          <a:prstGeom prst="flowChartDelay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00000" y="189000"/>
            <a:ext cx="7479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троение атмосфе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971640" y="1125360"/>
            <a:ext cx="0" cy="5399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8317080" y="1125360"/>
            <a:ext cx="0" cy="539928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 flipH="1">
            <a:off x="971640" y="6524640"/>
            <a:ext cx="73454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971640" y="321300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H="1">
            <a:off x="971640" y="566100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971640" y="436572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3"/>
          <p:cNvSpPr/>
          <p:nvPr/>
        </p:nvSpPr>
        <p:spPr>
          <a:xfrm flipH="1">
            <a:off x="971640" y="1700280"/>
            <a:ext cx="73454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635280" y="5734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оп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63528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рм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708360" y="3284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з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635280" y="9079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зосфера = косм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708360" y="4437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атосфе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9"/>
          <p:cNvSpPr/>
          <p:nvPr/>
        </p:nvSpPr>
        <p:spPr>
          <a:xfrm>
            <a:off x="990720" y="6037200"/>
            <a:ext cx="7331040" cy="625680"/>
          </a:xfrm>
          <a:custGeom>
            <a:avLst/>
            <a:gdLst>
              <a:gd name="textAreaLeft" fmla="*/ 0 w 7331040"/>
              <a:gd name="textAreaRight" fmla="*/ 7331400 w 7331040"/>
              <a:gd name="textAreaTop" fmla="*/ 0 h 625680"/>
              <a:gd name="textAreaBottom" fmla="*/ 625680 h 625680"/>
            </a:gdLst>
            <a:ahLst/>
            <a:rect l="textAreaLeft" t="textAreaTop" r="textAreaRight" b="textAreaBottom"/>
            <a:pathLst>
              <a:path w="4618" h="394">
                <a:moveTo>
                  <a:pt x="0" y="239"/>
                </a:moveTo>
                <a:cubicBezTo>
                  <a:pt x="19" y="232"/>
                  <a:pt x="39" y="212"/>
                  <a:pt x="58" y="219"/>
                </a:cubicBezTo>
                <a:cubicBezTo>
                  <a:pt x="102" y="235"/>
                  <a:pt x="147" y="246"/>
                  <a:pt x="192" y="258"/>
                </a:cubicBezTo>
                <a:cubicBezTo>
                  <a:pt x="202" y="252"/>
                  <a:pt x="210" y="240"/>
                  <a:pt x="221" y="239"/>
                </a:cubicBezTo>
                <a:cubicBezTo>
                  <a:pt x="240" y="237"/>
                  <a:pt x="259" y="248"/>
                  <a:pt x="278" y="248"/>
                </a:cubicBezTo>
                <a:cubicBezTo>
                  <a:pt x="352" y="248"/>
                  <a:pt x="425" y="242"/>
                  <a:pt x="499" y="239"/>
                </a:cubicBezTo>
                <a:cubicBezTo>
                  <a:pt x="534" y="236"/>
                  <a:pt x="570" y="236"/>
                  <a:pt x="605" y="229"/>
                </a:cubicBezTo>
                <a:cubicBezTo>
                  <a:pt x="626" y="225"/>
                  <a:pt x="641" y="205"/>
                  <a:pt x="662" y="200"/>
                </a:cubicBezTo>
                <a:cubicBezTo>
                  <a:pt x="678" y="196"/>
                  <a:pt x="694" y="194"/>
                  <a:pt x="710" y="191"/>
                </a:cubicBezTo>
                <a:cubicBezTo>
                  <a:pt x="723" y="188"/>
                  <a:pt x="736" y="184"/>
                  <a:pt x="749" y="181"/>
                </a:cubicBezTo>
                <a:cubicBezTo>
                  <a:pt x="759" y="175"/>
                  <a:pt x="768" y="167"/>
                  <a:pt x="778" y="162"/>
                </a:cubicBezTo>
                <a:cubicBezTo>
                  <a:pt x="787" y="158"/>
                  <a:pt x="799" y="159"/>
                  <a:pt x="806" y="152"/>
                </a:cubicBezTo>
                <a:cubicBezTo>
                  <a:pt x="813" y="145"/>
                  <a:pt x="809" y="130"/>
                  <a:pt x="816" y="123"/>
                </a:cubicBezTo>
                <a:cubicBezTo>
                  <a:pt x="833" y="107"/>
                  <a:pt x="861" y="110"/>
                  <a:pt x="883" y="104"/>
                </a:cubicBezTo>
                <a:cubicBezTo>
                  <a:pt x="918" y="127"/>
                  <a:pt x="925" y="141"/>
                  <a:pt x="979" y="114"/>
                </a:cubicBezTo>
                <a:cubicBezTo>
                  <a:pt x="998" y="104"/>
                  <a:pt x="990" y="68"/>
                  <a:pt x="1008" y="56"/>
                </a:cubicBezTo>
                <a:cubicBezTo>
                  <a:pt x="1019" y="49"/>
                  <a:pt x="1033" y="50"/>
                  <a:pt x="1046" y="47"/>
                </a:cubicBezTo>
                <a:cubicBezTo>
                  <a:pt x="1093" y="0"/>
                  <a:pt x="1083" y="41"/>
                  <a:pt x="1114" y="66"/>
                </a:cubicBezTo>
                <a:cubicBezTo>
                  <a:pt x="1122" y="72"/>
                  <a:pt x="1133" y="72"/>
                  <a:pt x="1142" y="75"/>
                </a:cubicBezTo>
                <a:cubicBezTo>
                  <a:pt x="1170" y="103"/>
                  <a:pt x="1201" y="130"/>
                  <a:pt x="1238" y="143"/>
                </a:cubicBezTo>
                <a:cubicBezTo>
                  <a:pt x="1355" y="113"/>
                  <a:pt x="1221" y="133"/>
                  <a:pt x="1286" y="162"/>
                </a:cubicBezTo>
                <a:cubicBezTo>
                  <a:pt x="1310" y="172"/>
                  <a:pt x="1337" y="168"/>
                  <a:pt x="1363" y="171"/>
                </a:cubicBezTo>
                <a:cubicBezTo>
                  <a:pt x="1382" y="178"/>
                  <a:pt x="1404" y="180"/>
                  <a:pt x="1421" y="191"/>
                </a:cubicBezTo>
                <a:cubicBezTo>
                  <a:pt x="1431" y="197"/>
                  <a:pt x="1439" y="207"/>
                  <a:pt x="1450" y="210"/>
                </a:cubicBezTo>
                <a:cubicBezTo>
                  <a:pt x="1481" y="217"/>
                  <a:pt x="1514" y="216"/>
                  <a:pt x="1546" y="219"/>
                </a:cubicBezTo>
                <a:cubicBezTo>
                  <a:pt x="1605" y="261"/>
                  <a:pt x="1545" y="226"/>
                  <a:pt x="1661" y="248"/>
                </a:cubicBezTo>
                <a:cubicBezTo>
                  <a:pt x="1681" y="252"/>
                  <a:pt x="1718" y="267"/>
                  <a:pt x="1718" y="267"/>
                </a:cubicBezTo>
                <a:cubicBezTo>
                  <a:pt x="1739" y="327"/>
                  <a:pt x="1711" y="274"/>
                  <a:pt x="1795" y="306"/>
                </a:cubicBezTo>
                <a:cubicBezTo>
                  <a:pt x="1960" y="369"/>
                  <a:pt x="1735" y="329"/>
                  <a:pt x="1930" y="354"/>
                </a:cubicBezTo>
                <a:cubicBezTo>
                  <a:pt x="2018" y="383"/>
                  <a:pt x="1967" y="375"/>
                  <a:pt x="2083" y="363"/>
                </a:cubicBezTo>
                <a:cubicBezTo>
                  <a:pt x="2265" y="394"/>
                  <a:pt x="2475" y="345"/>
                  <a:pt x="2659" y="335"/>
                </a:cubicBezTo>
                <a:cubicBezTo>
                  <a:pt x="2721" y="270"/>
                  <a:pt x="2845" y="258"/>
                  <a:pt x="2928" y="248"/>
                </a:cubicBezTo>
                <a:cubicBezTo>
                  <a:pt x="2992" y="206"/>
                  <a:pt x="2929" y="239"/>
                  <a:pt x="3062" y="239"/>
                </a:cubicBezTo>
                <a:cubicBezTo>
                  <a:pt x="3101" y="239"/>
                  <a:pt x="3139" y="232"/>
                  <a:pt x="3178" y="229"/>
                </a:cubicBezTo>
                <a:cubicBezTo>
                  <a:pt x="3237" y="208"/>
                  <a:pt x="3299" y="216"/>
                  <a:pt x="3360" y="200"/>
                </a:cubicBezTo>
                <a:cubicBezTo>
                  <a:pt x="3453" y="208"/>
                  <a:pt x="3546" y="206"/>
                  <a:pt x="3638" y="219"/>
                </a:cubicBezTo>
                <a:cubicBezTo>
                  <a:pt x="3662" y="223"/>
                  <a:pt x="3682" y="241"/>
                  <a:pt x="3706" y="248"/>
                </a:cubicBezTo>
                <a:cubicBezTo>
                  <a:pt x="3756" y="282"/>
                  <a:pt x="3740" y="251"/>
                  <a:pt x="3792" y="239"/>
                </a:cubicBezTo>
                <a:cubicBezTo>
                  <a:pt x="3888" y="217"/>
                  <a:pt x="3875" y="220"/>
                  <a:pt x="3965" y="210"/>
                </a:cubicBezTo>
                <a:cubicBezTo>
                  <a:pt x="4024" y="171"/>
                  <a:pt x="3973" y="198"/>
                  <a:pt x="4090" y="181"/>
                </a:cubicBezTo>
                <a:cubicBezTo>
                  <a:pt x="4145" y="173"/>
                  <a:pt x="4198" y="159"/>
                  <a:pt x="4253" y="152"/>
                </a:cubicBezTo>
                <a:cubicBezTo>
                  <a:pt x="4295" y="139"/>
                  <a:pt x="4327" y="151"/>
                  <a:pt x="4368" y="162"/>
                </a:cubicBezTo>
                <a:cubicBezTo>
                  <a:pt x="4412" y="151"/>
                  <a:pt x="4440" y="149"/>
                  <a:pt x="4474" y="181"/>
                </a:cubicBezTo>
                <a:cubicBezTo>
                  <a:pt x="4493" y="243"/>
                  <a:pt x="4478" y="226"/>
                  <a:pt x="4598" y="200"/>
                </a:cubicBezTo>
                <a:cubicBezTo>
                  <a:pt x="4607" y="198"/>
                  <a:pt x="4618" y="181"/>
                  <a:pt x="4618" y="181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324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-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443640" y="5734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%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сы воздух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118728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зоновый сл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867280" y="515772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ерламутровые обла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1547640" y="1197000"/>
            <a:ext cx="287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7093080" y="1773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одород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1042920" y="595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км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53964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0" y="58053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84360" y="83664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79280" y="299736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0-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8317080" y="907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324000" y="155736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34920" y="1125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 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468360" y="609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6300720" y="3284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ебристые обла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9"/>
          <p:cNvSpPr/>
          <p:nvPr/>
        </p:nvSpPr>
        <p:spPr>
          <a:xfrm>
            <a:off x="817236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0"/>
          <p:cNvSpPr/>
          <p:nvPr/>
        </p:nvSpPr>
        <p:spPr>
          <a:xfrm>
            <a:off x="78850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1"/>
          <p:cNvSpPr/>
          <p:nvPr/>
        </p:nvSpPr>
        <p:spPr>
          <a:xfrm>
            <a:off x="802800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2"/>
          <p:cNvSpPr/>
          <p:nvPr/>
        </p:nvSpPr>
        <p:spPr>
          <a:xfrm>
            <a:off x="971640" y="5445000"/>
            <a:ext cx="7272360" cy="0"/>
          </a:xfrm>
          <a:prstGeom prst="line">
            <a:avLst/>
          </a:prstGeom>
          <a:ln w="57240">
            <a:solidFill>
              <a:srgbClr val="66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43"/>
          <p:cNvSpPr/>
          <p:nvPr/>
        </p:nvSpPr>
        <p:spPr>
          <a:xfrm>
            <a:off x="2195640" y="3500280"/>
            <a:ext cx="144360" cy="73080"/>
          </a:xfrm>
          <a:prstGeom prst="wedgeEllipseCallout">
            <a:avLst>
              <a:gd name="adj1" fmla="val -203847"/>
              <a:gd name="adj2" fmla="val -205434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4"/>
          <p:cNvSpPr/>
          <p:nvPr/>
        </p:nvSpPr>
        <p:spPr>
          <a:xfrm>
            <a:off x="2556000" y="3357720"/>
            <a:ext cx="73080" cy="72720"/>
          </a:xfrm>
          <a:prstGeom prst="wedgeEllipseCallout">
            <a:avLst>
              <a:gd name="adj1" fmla="val 521740"/>
              <a:gd name="adj2" fmla="val -195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5"/>
          <p:cNvSpPr/>
          <p:nvPr/>
        </p:nvSpPr>
        <p:spPr>
          <a:xfrm>
            <a:off x="2484360" y="2852640"/>
            <a:ext cx="73080" cy="73080"/>
          </a:xfrm>
          <a:prstGeom prst="wedgeEllipseCallout">
            <a:avLst>
              <a:gd name="adj1" fmla="val -186958"/>
              <a:gd name="adj2" fmla="val -13847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46"/>
          <p:cNvSpPr/>
          <p:nvPr/>
        </p:nvSpPr>
        <p:spPr>
          <a:xfrm>
            <a:off x="2340000" y="2852640"/>
            <a:ext cx="73080" cy="73080"/>
          </a:xfrm>
          <a:prstGeom prst="wedgeEllipseCallout">
            <a:avLst>
              <a:gd name="adj1" fmla="val -436958"/>
              <a:gd name="adj2" fmla="val -196739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47"/>
          <p:cNvSpPr/>
          <p:nvPr/>
        </p:nvSpPr>
        <p:spPr>
          <a:xfrm>
            <a:off x="5364000" y="5805360"/>
            <a:ext cx="432000" cy="144720"/>
          </a:xfrm>
          <a:prstGeom prst="cloudCallout">
            <a:avLst>
              <a:gd name="adj1" fmla="val -41546"/>
              <a:gd name="adj2" fmla="val -5109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48"/>
          <p:cNvSpPr/>
          <p:nvPr/>
        </p:nvSpPr>
        <p:spPr>
          <a:xfrm>
            <a:off x="6012000" y="5805360"/>
            <a:ext cx="431640" cy="144720"/>
          </a:xfrm>
          <a:prstGeom prst="cloudCallout">
            <a:avLst>
              <a:gd name="adj1" fmla="val -141546"/>
              <a:gd name="adj2" fmla="val 19835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9"/>
          <p:cNvSpPr/>
          <p:nvPr/>
        </p:nvSpPr>
        <p:spPr>
          <a:xfrm>
            <a:off x="3780000" y="6093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= 1 кг 2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0"/>
          <p:cNvSpPr/>
          <p:nvPr/>
        </p:nvSpPr>
        <p:spPr>
          <a:xfrm flipV="1">
            <a:off x="1332000" y="5877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2124000" y="587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8388360" y="21337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838836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838836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838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ff"/>
                </a:solidFill>
                <a:latin typeface="Times New Roman"/>
              </a:rPr>
              <a:t>-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8388360" y="515772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1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8388360" y="1557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+ 2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Times New Roman"/>
              </a:rPr>
              <a:t>Значение атмосферы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319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щищает нашу планету от многих воздействий из космос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гре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охлажд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дения метеори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Озо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глощает ультрафиолетовую радиацию Солн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Образование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лаков и осад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состояния атмосферы зависит здоровье людей, с/х, работа авиации, строитель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6" descr="AG00433_"/>
          <p:cNvPicPr/>
          <p:nvPr/>
        </p:nvPicPr>
        <p:blipFill>
          <a:blip r:embed="rId5"/>
          <a:stretch/>
        </p:blipFill>
        <p:spPr>
          <a:xfrm>
            <a:off x="5365800" y="1125360"/>
            <a:ext cx="3778200" cy="2981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nature52"/>
          <p:cNvPicPr/>
          <p:nvPr/>
        </p:nvPicPr>
        <p:blipFill>
          <a:blip r:embed="rId6"/>
          <a:stretch/>
        </p:blipFill>
        <p:spPr>
          <a:xfrm>
            <a:off x="4284720" y="4660920"/>
            <a:ext cx="1789200" cy="2197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nature21"/>
          <p:cNvPicPr/>
          <p:nvPr/>
        </p:nvPicPr>
        <p:blipFill>
          <a:blip r:embed="rId7"/>
          <a:stretch/>
        </p:blipFill>
        <p:spPr>
          <a:xfrm>
            <a:off x="7596360" y="5013360"/>
            <a:ext cx="1547640" cy="111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J0336789"/>
          <p:cNvPicPr/>
          <p:nvPr/>
        </p:nvPicPr>
        <p:blipFill>
          <a:blip r:embed="rId8"/>
          <a:stretch/>
        </p:blipFill>
        <p:spPr>
          <a:xfrm>
            <a:off x="6300720" y="4941720"/>
            <a:ext cx="1044720" cy="1584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J0303440"/>
          <p:cNvPicPr/>
          <p:nvPr/>
        </p:nvPicPr>
        <p:blipFill>
          <a:blip r:embed="rId9"/>
          <a:stretch/>
        </p:blipFill>
        <p:spPr>
          <a:xfrm>
            <a:off x="7524720" y="5689440"/>
            <a:ext cx="1297080" cy="1168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AN474"/>
          <p:cNvPicPr/>
          <p:nvPr/>
        </p:nvPicPr>
        <p:blipFill>
          <a:blip r:embed="rId10"/>
          <a:stretch/>
        </p:blipFill>
        <p:spPr>
          <a:xfrm>
            <a:off x="0" y="5724360"/>
            <a:ext cx="619200" cy="1133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AG00165_"/>
          <p:cNvPicPr/>
          <p:nvPr/>
        </p:nvPicPr>
        <p:blipFill>
          <a:blip r:embed="rId11"/>
          <a:stretch/>
        </p:blipFill>
        <p:spPr>
          <a:xfrm>
            <a:off x="4427640" y="3860640"/>
            <a:ext cx="1944720" cy="7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11:51Z</dcterms:created>
  <dc:creator>Зайцев А.Н.</dc:creator>
  <dc:description/>
  <dc:language>en-US</dc:language>
  <cp:lastModifiedBy>дом</cp:lastModifiedBy>
  <dcterms:modified xsi:type="dcterms:W3CDTF">2011-09-05T02:52:18Z</dcterms:modified>
  <cp:revision>21</cp:revision>
  <dc:subject/>
  <dc:title>Презентация PowerPoint</dc:title>
</cp:coreProperties>
</file>