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505-5106-4163-B662-056C10E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A73-963D-4385-9309-720F4209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19B-9D51-41E0-A0E2-5427E04C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DDE-3B04-41CE-831B-E854C643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E9A6-CD97-49FA-A22E-55A3D73E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161BD-FDE8-468E-8113-CB62C90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207FA-1781-411A-8282-2701C630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CED3F-5A55-4B59-BAA0-D0CBF34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458B-B971-42A7-A1D7-6F29B96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A087-D005-47A7-8C1F-89E4E9B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1E55C-5CE6-4EE3-AD46-A0192069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A4A-D9C8-4E4F-8C6A-E1773D3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A3034-C0CB-4E74-9C72-EC75D67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636D-BCDE-4665-BE92-5082658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50A7B-8B52-41ED-81EF-3075EC3C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EDA89-5BF6-4FC5-B8EA-3D2FA56B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27F6C-C328-4925-B4AC-8B3567A8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033-C0D4-4268-8F09-EFBF6142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A38-F7CA-4703-91B5-29C87A85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820-4AEA-4AFC-80AE-828B6A5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3B2-BDA6-4166-9182-37767CD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E9B-A5CA-4FD3-BDDA-5E710B1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335-566E-448D-9E91-80AE3CA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CDE-A6D3-4789-91DC-F53E48C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3BA-E6EE-4E4C-A9CF-CD473189A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B5F-FB4E-4BD9-8767-D88D865502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О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СЕВЕРО-ЗАПА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ОСС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48000" y="5229360"/>
            <a:ext cx="5796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зработал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читель географ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ОУ «МСОШ №16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маева Татья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обор святой Соф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еден в 1045-1050 го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Собор Святой Софии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ладычна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рановитая) пала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памятник 1433г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Грановитая палата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«Тысячелетие России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сооружен в 1862 го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021veliky_novgorod04v[1]"/>
          <p:cNvPicPr/>
          <p:nvPr/>
        </p:nvPicPr>
        <p:blipFill>
          <a:blip r:embed="rId1"/>
          <a:stretch/>
        </p:blipFill>
        <p:spPr>
          <a:xfrm>
            <a:off x="468360" y="1413000"/>
            <a:ext cx="3598920" cy="518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Тысячелетие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еоргиевский собор (1119 год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ниа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ружение новгородского мастера Петра, имеющее совершенную архитектурную 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ится у истока Волх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Георгиевский собор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Памятник </a:t>
            </a:r>
            <a:br>
              <a:rPr sz="4000"/>
            </a:b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Александру Невск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амятник А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море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95280" y="476280"/>
            <a:ext cx="8424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Калининградская область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асть бывшей Восточной Пру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а отошла к СССР в 1945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лининградская область ста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клав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ле распада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нклав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часть территории страны, окруженная со всех сторон территорией других государ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Калининградская область с одной стороны имеет морской бер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если анклав имеет морской берег, его называю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уанкл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 (Кенигсбер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Кафедральный собор Калининград"/>
          <p:cNvPicPr/>
          <p:nvPr/>
        </p:nvPicPr>
        <p:blipFill>
          <a:blip r:embed="rId1"/>
          <a:stretch/>
        </p:blipFill>
        <p:spPr>
          <a:xfrm>
            <a:off x="250920" y="1628640"/>
            <a:ext cx="316872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32000" y="1267920"/>
            <a:ext cx="6012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центр бывшей Восточной Пруссии, ныне Калининградской области России, расположен на реке Преголя при впадении ее в зали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Кеннигсберг"/>
          <p:cNvPicPr/>
          <p:nvPr/>
        </p:nvPicPr>
        <p:blipFill>
          <a:blip r:embed="rId2"/>
          <a:stretch/>
        </p:blipFill>
        <p:spPr>
          <a:xfrm>
            <a:off x="3564000" y="2924280"/>
            <a:ext cx="53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580536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удостроительный завод «Янтар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крупный порт с рыбной и грузовой гаванью, важный промышленный центр с развитым машиностроением: судостроение и судоремонт, вагоностроение, производство электросварочного оборуд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Завод"/>
          <p:cNvPicPr/>
          <p:nvPr/>
        </p:nvPicPr>
        <p:blipFill>
          <a:blip r:embed="rId1"/>
          <a:stretch/>
        </p:blipFill>
        <p:spPr>
          <a:xfrm>
            <a:off x="971640" y="2349360"/>
            <a:ext cx="716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ская област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является свободной экономической зоной -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Э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651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это самостоятельные территориально-географические анклавы, полуанклавы, обособленные от остальной территории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едоставляются льготы (таможенные, налоговые) для привлечения иностранного капитала с целью организации производств с новейшими технолог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лининградской области называется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«Янтар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ласти находится единственный в мире карьер по добыче янтар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нкт - Петербург основан в 1703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Дворцовая набережная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Куршская коса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059280" y="4292640"/>
            <a:ext cx="5616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уршской песчаной ко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имеются запасы янтаря мирового зна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селке Янтарный находится янтарный комбин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Янтар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4000" y="691920"/>
            <a:ext cx="446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тая смола использовалась греками как лак; она была романтически названа ими по имени златовласой королевы Береники. Янтарь в основном применяется для изготовления мундштуков курительных трубок, ожерелий и в меньшей степени ручек зонтов и некоторых художественных изделий. Благодаря таким его свойствам, как мягкость и вязкость, янтарь легко обрабатывается не раскалываясь, легко поддается полировке и довольно хорошо сохраняет ее. Производство янтаря концентрируется главным образом в Калининграде, Росс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Янтарь"/>
          <p:cNvPicPr/>
          <p:nvPr/>
        </p:nvPicPr>
        <p:blipFill>
          <a:blip r:embed="rId1"/>
          <a:stretch/>
        </p:blipFill>
        <p:spPr>
          <a:xfrm>
            <a:off x="6516720" y="4292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Янтарь1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Янтарь украшения"/>
          <p:cNvPicPr/>
          <p:nvPr/>
        </p:nvPicPr>
        <p:blipFill>
          <a:blip r:embed="rId3"/>
          <a:stretch/>
        </p:blipFill>
        <p:spPr>
          <a:xfrm>
            <a:off x="179280" y="4437000"/>
            <a:ext cx="24480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Янтарь3"/>
          <p:cNvPicPr/>
          <p:nvPr/>
        </p:nvPicPr>
        <p:blipFill>
          <a:blip r:embed="rId4"/>
          <a:stretch/>
        </p:blipFill>
        <p:spPr>
          <a:xfrm>
            <a:off x="179280" y="189000"/>
            <a:ext cx="234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Черняховск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50920" y="333360"/>
            <a:ext cx="482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лининградская област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мост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стоком и Запа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125892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24000" y="54936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м году и кем основан Санкт – Петербу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м особенности планировочной структуры гор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1844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зовите достопримеч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кт – Петербур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5280" y="278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акой город Северо – Запада самый древ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4000" y="3213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каком году и из чего образовала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ининградская  обла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50920" y="4149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анклав, полуанкл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46530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СЭ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50920" y="5229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Кенигсбе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4000" y="5734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«Янтар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465300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/З: § 28, ВОПРОС 3 (письмен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ворцовая площа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Дворцовая площадь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аакиевский соб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Исакиевский собор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амятник Петру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Медный всад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Памятник Петру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рмита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Эрмитаж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-П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Новгород Велики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ходится на берегу Ильмень-оз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Вел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а Волх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Р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59:05Z</dcterms:created>
  <dc:creator>Home</dc:creator>
  <dc:description/>
  <dc:language>en-US</dc:language>
  <cp:lastModifiedBy>Admin</cp:lastModifiedBy>
  <dcterms:modified xsi:type="dcterms:W3CDTF">2014-11-24T10:38:16Z</dcterms:modified>
  <cp:revision>7</cp:revision>
  <dc:subject/>
  <dc:title>ГОРОДА   СЕВЕРО-ЗАПАДА</dc:title>
</cp:coreProperties>
</file>