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A167-012A-4EF3-96AF-8DC7AC41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8687-55B5-4DE1-835A-DAB82C06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F36-D35C-44BC-98F4-792AE120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4E0-26E0-4B05-B092-CD34249F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389B2-C544-4501-909C-8770AF38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5DB92-349D-4215-B649-173BC1D8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74CD9-7E71-4759-AECF-8B5AD092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61773-CF75-44AD-86A2-D944224D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FC612-6140-4DF1-9ACE-C42D4CB9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8AFB5-7A20-49F2-9329-23AB71F3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A7AA0-4C44-4B41-8C18-A5FCD41F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5A5-506C-42A5-A147-6EACE58A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17E91-75C4-4F18-85A7-C968275C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56723-731A-4EB5-ACF3-19A85925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6FDC2-F9F3-405F-84D0-E7A6F51F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00B62-7490-4ABE-A617-3FCBC7BE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F84C7-D925-47AF-88CF-C4B5F420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05C3-7F43-4A7B-9D94-B4C3755B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82F-853A-4859-89F0-36691159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591-6802-4895-A98E-B539E818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74B-15EF-4493-947F-A3B69017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6CC0-7DDB-4FBC-A2E4-AB792359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DD5-DE72-4E6A-89A9-2CCDD7ED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967-4FCA-40A3-AFB0-7FC4A867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2FFE-A0D6-45F6-AD66-F801E5861E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3E24-8DDE-47BA-A4D8-33BF283F82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ГОРОДА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СЕВЕРО-ЗАПАДА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РОССИ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348000" y="5229360"/>
            <a:ext cx="5796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Разработала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учитель географ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ОУ «МСОШ №16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маева Татьяна Викто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Собор святой Софи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веден в 1045-1050 год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Собор Святой Софии"/>
          <p:cNvPicPr/>
          <p:nvPr/>
        </p:nvPicPr>
        <p:blipFill>
          <a:blip r:embed="rId1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Владычная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Грановитая) палат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памятник 1433год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Грановитая палата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«Тысячелетие России»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сооружен в 1862 год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7" descr="021veliky_novgorod04v[1]"/>
          <p:cNvPicPr/>
          <p:nvPr/>
        </p:nvPicPr>
        <p:blipFill>
          <a:blip r:embed="rId1"/>
          <a:stretch/>
        </p:blipFill>
        <p:spPr>
          <a:xfrm>
            <a:off x="468360" y="1413000"/>
            <a:ext cx="3598920" cy="5184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Тысячелетие"/>
          <p:cNvPicPr/>
          <p:nvPr/>
        </p:nvPicPr>
        <p:blipFill>
          <a:blip r:embed="rId2"/>
          <a:stretch/>
        </p:blipFill>
        <p:spPr>
          <a:xfrm>
            <a:off x="4859280" y="1413000"/>
            <a:ext cx="3600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Георгиевский собор (1119 год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ниаль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оружение новгородского мастера Петра, имеющее совершенную архитектурную фор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ходится у истока Волх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7" descr="Георгиевский собор"/>
          <p:cNvPicPr/>
          <p:nvPr/>
        </p:nvPicPr>
        <p:blipFill>
          <a:blip r:embed="rId1"/>
          <a:stretch/>
        </p:blipFill>
        <p:spPr>
          <a:xfrm>
            <a:off x="324000" y="981000"/>
            <a:ext cx="41036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Памятник </a:t>
            </a:r>
            <a:br>
              <a:rPr sz="4000"/>
            </a:b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Александру Невском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памятник А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море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395280" y="476280"/>
            <a:ext cx="842472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Arial"/>
              </a:rPr>
              <a:t>Калининградская область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асть бывшей Восточной Пру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на отошла к СССР в 1945 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лининградская область стал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нклавом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Ро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сле распада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Анклав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это часть территории страны, окруженная со всех сторон территорией других государст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Калининградская область с одной стороны имеет морской бере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если анклав имеет морской берег, его называют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луанкла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Калининград (Кенигсберг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9" descr="Кафедральный собор Калининград"/>
          <p:cNvPicPr/>
          <p:nvPr/>
        </p:nvPicPr>
        <p:blipFill>
          <a:blip r:embed="rId1"/>
          <a:stretch/>
        </p:blipFill>
        <p:spPr>
          <a:xfrm>
            <a:off x="250920" y="1628640"/>
            <a:ext cx="3168720" cy="489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132000" y="1267920"/>
            <a:ext cx="6012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центр бывшей Восточной Пруссии, ныне Калининградской области России, расположен на реке Преголя при впадении ее в зали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Кеннигсберг"/>
          <p:cNvPicPr/>
          <p:nvPr/>
        </p:nvPicPr>
        <p:blipFill>
          <a:blip r:embed="rId2"/>
          <a:stretch/>
        </p:blipFill>
        <p:spPr>
          <a:xfrm>
            <a:off x="3564000" y="2924280"/>
            <a:ext cx="532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5805360"/>
            <a:ext cx="8686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Судостроительный завод «Янтарь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то крупный порт с рыбной и грузовой гаванью, важный промышленный центр с развитым машиностроением: судостроение и судоремонт, вагоностроение, производство электросварочного оборудован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920" y="2205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Завод"/>
          <p:cNvPicPr/>
          <p:nvPr/>
        </p:nvPicPr>
        <p:blipFill>
          <a:blip r:embed="rId1"/>
          <a:stretch/>
        </p:blipFill>
        <p:spPr>
          <a:xfrm>
            <a:off x="971640" y="2349360"/>
            <a:ext cx="716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Калининградская область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является свободной экономической зоной -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СЭ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6518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ЭЗ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это самостоятельные территориально-географические анклавы, полуанклавы, обособленные от остальной территории стр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Э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едоставляются льготы (таможенные, налоговые) для привлечения иностранного капитала с целью организации производств с новейшими технологи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Э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Калининградской области называется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«Янтарь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бласти находится единственный в мире карьер по добыче янтаря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анкт - Петербург основан в 1703 г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Дворцовая набережная"/>
          <p:cNvPicPr/>
          <p:nvPr/>
        </p:nvPicPr>
        <p:blipFill>
          <a:blip r:embed="rId1"/>
          <a:stretch/>
        </p:blipFill>
        <p:spPr>
          <a:xfrm>
            <a:off x="250920" y="981000"/>
            <a:ext cx="8642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Куршская коса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3059280" y="4292640"/>
            <a:ext cx="561636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есь н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уршской песчаной кос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имеются запасы янтаря мирового зна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селке Янтарный находится янтарный комбин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Янтар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24000" y="691920"/>
            <a:ext cx="446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елтая смола использовалась греками как лак; она была романтически названа ими по имени златовласой королевы Береники. Янтарь в основном применяется для изготовления мундштуков курительных трубок, ожерелий и в меньшей степени ручек зонтов и некоторых художественных изделий. Благодаря таким его свойствам, как мягкость и вязкость, янтарь легко обрабатывается не раскалываясь, легко поддается полировке и довольно хорошо сохраняет ее. Производство янтаря концентрируется главным образом в Калининграде, Росс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Янтарь"/>
          <p:cNvPicPr/>
          <p:nvPr/>
        </p:nvPicPr>
        <p:blipFill>
          <a:blip r:embed="rId1"/>
          <a:stretch/>
        </p:blipFill>
        <p:spPr>
          <a:xfrm>
            <a:off x="6516720" y="429264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Янтарь1"/>
          <p:cNvPicPr/>
          <p:nvPr/>
        </p:nvPicPr>
        <p:blipFill>
          <a:blip r:embed="rId2"/>
          <a:stretch/>
        </p:blipFill>
        <p:spPr>
          <a:xfrm>
            <a:off x="6443640" y="189000"/>
            <a:ext cx="2521080" cy="2433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Янтарь украшения"/>
          <p:cNvPicPr/>
          <p:nvPr/>
        </p:nvPicPr>
        <p:blipFill>
          <a:blip r:embed="rId3"/>
          <a:stretch/>
        </p:blipFill>
        <p:spPr>
          <a:xfrm>
            <a:off x="179280" y="4437000"/>
            <a:ext cx="2448000" cy="222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Янтарь3"/>
          <p:cNvPicPr/>
          <p:nvPr/>
        </p:nvPicPr>
        <p:blipFill>
          <a:blip r:embed="rId4"/>
          <a:stretch/>
        </p:blipFill>
        <p:spPr>
          <a:xfrm>
            <a:off x="179280" y="189000"/>
            <a:ext cx="2340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7700"/>
                            </p:stCondLst>
                            <p:childTnLst>
                              <p:par>
                                <p:cTn id="3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Черняховск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50920" y="333360"/>
            <a:ext cx="482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лининградская област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мост меж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стоком и Запа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7"/>
          <p:cNvSpPr/>
          <p:nvPr/>
        </p:nvSpPr>
        <p:spPr>
          <a:xfrm>
            <a:off x="1258920" y="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Вопрос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24000" y="549360"/>
            <a:ext cx="856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ком году и кем основан Санкт – Петербург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чем особенности планировочной структуры город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0" y="1844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Назовите достопримеча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нкт – Петербург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95280" y="2781360"/>
            <a:ext cx="82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Какой город Северо – Запада самый древн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324000" y="321300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В каком году и из чего образовалас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лининградская  облас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250920" y="4149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Что такое анклав, полуанкла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179280" y="4653000"/>
            <a:ext cx="82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Что такое СЭЗ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250920" y="522936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Что такое Кенигсберг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324000" y="57340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Что такое «Янтарь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3300"/>
                </a:solidFill>
                <a:latin typeface="Tahoma"/>
              </a:rPr>
              <a:t>МОЛОДЦЫ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0" y="4653000"/>
            <a:ext cx="896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/З: § 28, ВОПРОС 3 (письменн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ворцовая площад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Дворцовая площадь"/>
          <p:cNvPicPr/>
          <p:nvPr/>
        </p:nvPicPr>
        <p:blipFill>
          <a:blip r:embed="rId1"/>
          <a:stretch/>
        </p:blipFill>
        <p:spPr>
          <a:xfrm>
            <a:off x="539640" y="1052640"/>
            <a:ext cx="7993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саакиевский собо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Исакиевский собор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амятник Петру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Медный всадник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Памятник Петру"/>
          <p:cNvPicPr/>
          <p:nvPr/>
        </p:nvPicPr>
        <p:blipFill>
          <a:blip r:embed="rId1"/>
          <a:stretch/>
        </p:blipFill>
        <p:spPr>
          <a:xfrm>
            <a:off x="250920" y="1268280"/>
            <a:ext cx="8569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Эрмитаж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Эрмитаж"/>
          <p:cNvPicPr/>
          <p:nvPr/>
        </p:nvPicPr>
        <p:blipFill>
          <a:blip r:embed="rId1"/>
          <a:stretch/>
        </p:blipFill>
        <p:spPr>
          <a:xfrm>
            <a:off x="250920" y="907920"/>
            <a:ext cx="85690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С-П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Новгород Великий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ходится на берегу Ильмень-озе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Вел"/>
          <p:cNvPicPr/>
          <p:nvPr/>
        </p:nvPicPr>
        <p:blipFill>
          <a:blip r:embed="rId1"/>
          <a:stretch/>
        </p:blipFill>
        <p:spPr>
          <a:xfrm>
            <a:off x="324000" y="1197000"/>
            <a:ext cx="842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ка Волх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Р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5:59:05Z</dcterms:created>
  <dc:creator>Home</dc:creator>
  <dc:description/>
  <dc:language>en-US</dc:language>
  <cp:lastModifiedBy>Admin</cp:lastModifiedBy>
  <dcterms:modified xsi:type="dcterms:W3CDTF">2014-11-24T10:38:16Z</dcterms:modified>
  <cp:revision>7</cp:revision>
  <dc:subject/>
  <dc:title>ГОРОДА   СЕВЕРО-ЗАПАДА</dc:title>
</cp:coreProperties>
</file>