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A596-C6D2-47FD-8794-D9C75E8E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4F34-73E0-4F9E-8891-D1CB7139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6CA0-AE25-4FF2-8488-CC77E33A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FD19-0169-4A35-B68B-7FC545B2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A37D8-8390-48E3-9918-44CF34833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9DF35-DE30-453D-9B32-C61540A9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8E129-6851-4477-B023-1DFCB7A9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B344D-C255-418F-893D-FF31F29E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967B9-08D5-4824-944A-8FAACF37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EEEA7-1ADE-4DA3-9250-85A89322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46C98-FC82-435A-AE2D-C0BD5692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47B7-D8B3-4E6E-BA0D-C94CD49D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E83E6-09A9-46F5-8109-97211E83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2FEEA-A7C9-4903-A576-9528B071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F3F0B-48A2-46F2-AA48-9C6ACAC5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E8BC0-4D4E-47C5-AF9F-29DDD71E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24D07-CCA2-4B19-BC95-504440A9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1DD0-40BC-4862-AFD9-37B54902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696A-A5C9-47D7-B151-321AB211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5A55-2505-4EC4-AACC-D18C8156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F164-8DB5-411D-BBBD-25398032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0758-197A-4619-9891-3FF9D9FE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ADBE-E637-468B-91A4-C4A0DBB2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7A58-0AE4-4C87-B2EC-9387689D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B061-0A5F-465B-871E-370B0AD411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0E39-0353-434C-8098-13DF984C3B8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ГОРОДА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СЕВЕРО-ЗАПАДА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РОССИ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348000" y="5229360"/>
            <a:ext cx="5796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Разработала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учитель географ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ОУ «МСОШ №16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маева Татьяна Виктор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Собор святой Софи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веден в 1045-1050 год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Собор Святой Софии"/>
          <p:cNvPicPr/>
          <p:nvPr/>
        </p:nvPicPr>
        <p:blipFill>
          <a:blip r:embed="rId1"/>
          <a:stretch/>
        </p:blipFill>
        <p:spPr>
          <a:xfrm>
            <a:off x="324000" y="1484280"/>
            <a:ext cx="849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Владычная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Грановитая) палат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памятник 1433год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Грановитая палата"/>
          <p:cNvPicPr/>
          <p:nvPr/>
        </p:nvPicPr>
        <p:blipFill>
          <a:blip r:embed="rId1"/>
          <a:stretch/>
        </p:blipFill>
        <p:spPr>
          <a:xfrm>
            <a:off x="468360" y="1413000"/>
            <a:ext cx="8207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«Тысячелетие России»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сооружен в 1862 год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7" descr="021veliky_novgorod04v[1]"/>
          <p:cNvPicPr/>
          <p:nvPr/>
        </p:nvPicPr>
        <p:blipFill>
          <a:blip r:embed="rId1"/>
          <a:stretch/>
        </p:blipFill>
        <p:spPr>
          <a:xfrm>
            <a:off x="468360" y="1413000"/>
            <a:ext cx="3598920" cy="5184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Тысячелетие"/>
          <p:cNvPicPr/>
          <p:nvPr/>
        </p:nvPicPr>
        <p:blipFill>
          <a:blip r:embed="rId2"/>
          <a:stretch/>
        </p:blipFill>
        <p:spPr>
          <a:xfrm>
            <a:off x="4859280" y="1413000"/>
            <a:ext cx="3600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Георгиевский собор (1119 года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341360"/>
            <a:ext cx="403848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ниальн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оружение новгородского мастера Петра, имеющее совершенную архитектурную форм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ходится у истока Волх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7" descr="Георгиевский собор"/>
          <p:cNvPicPr/>
          <p:nvPr/>
        </p:nvPicPr>
        <p:blipFill>
          <a:blip r:embed="rId1"/>
          <a:stretch/>
        </p:blipFill>
        <p:spPr>
          <a:xfrm>
            <a:off x="324000" y="981000"/>
            <a:ext cx="41036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Памятник </a:t>
            </a:r>
            <a:br>
              <a:rPr sz="4000"/>
            </a:b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Александру Невском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памятник А"/>
          <p:cNvPicPr/>
          <p:nvPr/>
        </p:nvPicPr>
        <p:blipFill>
          <a:blip r:embed="rId1"/>
          <a:stretch/>
        </p:blipFill>
        <p:spPr>
          <a:xfrm>
            <a:off x="324000" y="1413000"/>
            <a:ext cx="849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море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3374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395280" y="476280"/>
            <a:ext cx="8424720" cy="34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Arial"/>
              </a:rPr>
              <a:t>Калининградская область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часть бывшей Восточной Пру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на отошла к СССР в 1945 г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алининградская область стал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нклавом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Росс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сле распада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Анклав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это часть территории страны, окруженная со всех сторон территорией других государст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 Калининградская область с одной стороны имеет морской бере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если анклав имеет морской берег, его называют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олуанкла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Калининград (Кенигсберг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9" descr="Кафедральный собор Калининград"/>
          <p:cNvPicPr/>
          <p:nvPr/>
        </p:nvPicPr>
        <p:blipFill>
          <a:blip r:embed="rId1"/>
          <a:stretch/>
        </p:blipFill>
        <p:spPr>
          <a:xfrm>
            <a:off x="250920" y="1628640"/>
            <a:ext cx="3168720" cy="4896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132000" y="1267920"/>
            <a:ext cx="6012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центр бывшей Восточной Пруссии, ныне Калининградской области России, расположен на реке Преголя при впадении ее в зали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Кеннигсберг"/>
          <p:cNvPicPr/>
          <p:nvPr/>
        </p:nvPicPr>
        <p:blipFill>
          <a:blip r:embed="rId2"/>
          <a:stretch/>
        </p:blipFill>
        <p:spPr>
          <a:xfrm>
            <a:off x="3564000" y="2924280"/>
            <a:ext cx="5329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5805360"/>
            <a:ext cx="8686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Судостроительный завод «Янтарь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то крупный порт с рыбной и грузовой гаванью, важный промышленный центр с развитым машиностроением: судостроение и судоремонт, вагоностроение, производство электросварочного оборудован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50920" y="2205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Завод"/>
          <p:cNvPicPr/>
          <p:nvPr/>
        </p:nvPicPr>
        <p:blipFill>
          <a:blip r:embed="rId1"/>
          <a:stretch/>
        </p:blipFill>
        <p:spPr>
          <a:xfrm>
            <a:off x="971640" y="2349360"/>
            <a:ext cx="7164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2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Калининградская область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является свободной экономической зоной -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СЭЗ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6518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ЭЗ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это самостоятельные территориально-географические анклавы, полуанклавы, обособленные от остальной территории стра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ЭЗ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редоставляются льготы (таможенные, налоговые) для привлечения иностранного капитала с целью организации производств с новейшими технологи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ЭЗ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Калининградской области называется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«Янтарь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бласти находится единственный в мире карьер по добыче янтаря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анкт - Петербург основан в 1703 г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540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Дворцовая набережная"/>
          <p:cNvPicPr/>
          <p:nvPr/>
        </p:nvPicPr>
        <p:blipFill>
          <a:blip r:embed="rId1"/>
          <a:stretch/>
        </p:blipFill>
        <p:spPr>
          <a:xfrm>
            <a:off x="250920" y="981000"/>
            <a:ext cx="8642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Куршская коса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3059280" y="4292640"/>
            <a:ext cx="561636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десь на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уршской песчаной кос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имеются запасы янтаря мирового зна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оселке Янтарный находится янтарный комбин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Янтар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24000" y="691920"/>
            <a:ext cx="446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елтая смола использовалась греками как лак; она была романтически названа ими по имени златовласой королевы Береники. Янтарь в основном применяется для изготовления мундштуков курительных трубок, ожерелий и в меньшей степени ручек зонтов и некоторых художественных изделий. Благодаря таким его свойствам, как мягкость и вязкость, янтарь легко обрабатывается не раскалываясь, легко поддается полировке и довольно хорошо сохраняет ее. Производство янтаря концентрируется главным образом в Калининграде, Росс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Янтарь"/>
          <p:cNvPicPr/>
          <p:nvPr/>
        </p:nvPicPr>
        <p:blipFill>
          <a:blip r:embed="rId1"/>
          <a:stretch/>
        </p:blipFill>
        <p:spPr>
          <a:xfrm>
            <a:off x="6516720" y="429264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Янтарь1"/>
          <p:cNvPicPr/>
          <p:nvPr/>
        </p:nvPicPr>
        <p:blipFill>
          <a:blip r:embed="rId2"/>
          <a:stretch/>
        </p:blipFill>
        <p:spPr>
          <a:xfrm>
            <a:off x="6443640" y="189000"/>
            <a:ext cx="2521080" cy="2433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Янтарь украшения"/>
          <p:cNvPicPr/>
          <p:nvPr/>
        </p:nvPicPr>
        <p:blipFill>
          <a:blip r:embed="rId3"/>
          <a:stretch/>
        </p:blipFill>
        <p:spPr>
          <a:xfrm>
            <a:off x="179280" y="4437000"/>
            <a:ext cx="2448000" cy="2222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Янтарь3"/>
          <p:cNvPicPr/>
          <p:nvPr/>
        </p:nvPicPr>
        <p:blipFill>
          <a:blip r:embed="rId4"/>
          <a:stretch/>
        </p:blipFill>
        <p:spPr>
          <a:xfrm>
            <a:off x="179280" y="189000"/>
            <a:ext cx="2340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7700"/>
                            </p:stCondLst>
                            <p:childTnLst>
                              <p:par>
                                <p:cTn id="39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Черняховск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250920" y="333360"/>
            <a:ext cx="482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алининградская область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то мост меж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остоком и Запад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7"/>
          <p:cNvSpPr/>
          <p:nvPr/>
        </p:nvSpPr>
        <p:spPr>
          <a:xfrm>
            <a:off x="1258920" y="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Вопрос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24000" y="549360"/>
            <a:ext cx="8569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аком году и кем основан Санкт – Петербург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чем особенности планировочной структуры город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0" y="1844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Назовите достопримечатель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нкт – Петербург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395280" y="2781360"/>
            <a:ext cx="82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Какой город Северо – Запада самый древн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324000" y="321300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В каком году и из чего образовалас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лининградская  облас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250920" y="4149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Что такое анклав, полуанкла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179280" y="4653000"/>
            <a:ext cx="82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Что такое СЭЗ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250920" y="522936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Что такое Кенигсберг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324000" y="57340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Что такое «Янтарь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3300"/>
                </a:solidFill>
                <a:latin typeface="Tahoma"/>
              </a:rPr>
              <a:t>МОЛОДЦЫ!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0" y="4653000"/>
            <a:ext cx="896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Д/З: § 28, ВОПРОС 3 (письменн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Дворцовая площад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Дворцовая площадь"/>
          <p:cNvPicPr/>
          <p:nvPr/>
        </p:nvPicPr>
        <p:blipFill>
          <a:blip r:embed="rId1"/>
          <a:stretch/>
        </p:blipFill>
        <p:spPr>
          <a:xfrm>
            <a:off x="539640" y="1052640"/>
            <a:ext cx="7993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саакиевский собо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Исакиевский собор"/>
          <p:cNvPicPr/>
          <p:nvPr/>
        </p:nvPicPr>
        <p:blipFill>
          <a:blip r:embed="rId1"/>
          <a:stretch/>
        </p:blipFill>
        <p:spPr>
          <a:xfrm>
            <a:off x="250920" y="981000"/>
            <a:ext cx="8713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амятник Петру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«Медный всадник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Памятник Петру"/>
          <p:cNvPicPr/>
          <p:nvPr/>
        </p:nvPicPr>
        <p:blipFill>
          <a:blip r:embed="rId1"/>
          <a:stretch/>
        </p:blipFill>
        <p:spPr>
          <a:xfrm>
            <a:off x="250920" y="1268280"/>
            <a:ext cx="8569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Эрмитаж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Эрмитаж"/>
          <p:cNvPicPr/>
          <p:nvPr/>
        </p:nvPicPr>
        <p:blipFill>
          <a:blip r:embed="rId1"/>
          <a:stretch/>
        </p:blipFill>
        <p:spPr>
          <a:xfrm>
            <a:off x="250920" y="907920"/>
            <a:ext cx="856908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С-П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Новгород Великий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ходится на берегу Ильмень-озер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Вел"/>
          <p:cNvPicPr/>
          <p:nvPr/>
        </p:nvPicPr>
        <p:blipFill>
          <a:blip r:embed="rId1"/>
          <a:stretch/>
        </p:blipFill>
        <p:spPr>
          <a:xfrm>
            <a:off x="324000" y="1197000"/>
            <a:ext cx="8424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ека Волх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Р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5:59:05Z</dcterms:created>
  <dc:creator>Home</dc:creator>
  <dc:description/>
  <dc:language>en-US</dc:language>
  <cp:lastModifiedBy>Admin</cp:lastModifiedBy>
  <dcterms:modified xsi:type="dcterms:W3CDTF">2014-11-24T10:38:16Z</dcterms:modified>
  <cp:revision>7</cp:revision>
  <dc:subject/>
  <dc:title>ГОРОДА   СЕВЕРО-ЗАПАДА</dc:title>
</cp:coreProperties>
</file>