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FC7-F614-4377-8336-739B5AE1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F18-D5BA-4AC1-B640-03DDF198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34B-BD13-42FB-9E69-71938F70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32A-A6D3-442F-BAF5-3339C45B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CABD-1883-4FF1-951F-85516D87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B9B6-1E21-4CB5-B909-B096D094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76C4-8EA6-48FF-A31A-30462AA1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B3E2-F2E2-499B-B577-B70F5F14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E78F-F521-4C25-980A-C99D9BE2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8EA-C7A7-434A-BD88-29631DCD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A5E-FEE7-43AF-AA93-BD27D447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EE2-4A53-46F9-B6D2-8EB6D2A1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11A1-50AA-402F-9744-8D972EB6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5927-B14F-46B2-A050-75132AF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DEC3-C0EC-456E-9F5C-FC9CD724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3F21-8E46-4E1C-B8DE-FCC1123E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6202-E2A5-462B-A7C6-AC3E8955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794-9C69-4AA8-AD0A-DAB3C2AC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033-7D40-4492-9B0B-22DEF990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84A-16CC-4D61-8D13-81D6D989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210-CCC7-40E9-8FD7-EEBEBE87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416-5013-448D-98E4-9EF39DA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C19-F5BC-422D-A3B2-A4359AE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76C-3A65-4FDC-8257-6C3229E1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8BE-B897-4AF1-B8BC-6AC10B4588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1EB9-5230-442C-A5C4-EB8DA26237F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3024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Литосфе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mso13AC8"/>
          <p:cNvPicPr/>
          <p:nvPr/>
        </p:nvPicPr>
        <p:blipFill>
          <a:blip r:embed="rId1"/>
          <a:srcRect l="0" t="2802" r="0" b="7378"/>
          <a:stretch/>
        </p:blipFill>
        <p:spPr>
          <a:xfrm>
            <a:off x="0" y="3556080"/>
            <a:ext cx="4824360" cy="330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so26E6E"/>
          <p:cNvPicPr/>
          <p:nvPr/>
        </p:nvPicPr>
        <p:blipFill>
          <a:blip r:embed="rId2"/>
          <a:stretch/>
        </p:blipFill>
        <p:spPr>
          <a:xfrm>
            <a:off x="5292720" y="404640"/>
            <a:ext cx="3132000" cy="308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so47635"/>
          <p:cNvPicPr/>
          <p:nvPr/>
        </p:nvPicPr>
        <p:blipFill>
          <a:blip r:embed="rId3"/>
          <a:srcRect l="4127" t="5581" r="10572" b="3661"/>
          <a:stretch/>
        </p:blipFill>
        <p:spPr>
          <a:xfrm>
            <a:off x="4427640" y="3592440"/>
            <a:ext cx="2411280" cy="3265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msoADDD3"/>
          <p:cNvPicPr/>
          <p:nvPr/>
        </p:nvPicPr>
        <p:blipFill>
          <a:blip r:embed="rId4"/>
          <a:srcRect l="9189" t="5451" r="5398" b="9437"/>
          <a:stretch/>
        </p:blipFill>
        <p:spPr>
          <a:xfrm>
            <a:off x="6694560" y="3346560"/>
            <a:ext cx="2449440" cy="351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1332000" y="1197000"/>
            <a:ext cx="349092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вка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5" descr="Картинка 3 из 98018"/>
          <p:cNvPicPr/>
          <p:nvPr/>
        </p:nvPicPr>
        <p:blipFill>
          <a:blip r:embed="rId1"/>
          <a:stretch/>
        </p:blipFill>
        <p:spPr>
          <a:xfrm>
            <a:off x="152388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авказ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Картинка 23 из 97938"/>
          <p:cNvPicPr/>
          <p:nvPr/>
        </p:nvPicPr>
        <p:blipFill>
          <a:blip r:embed="rId1"/>
          <a:stretch/>
        </p:blipFill>
        <p:spPr>
          <a:xfrm>
            <a:off x="1042920" y="78264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улканы Камчат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5" descr="Картинка 17 из 82183"/>
          <p:cNvPicPr/>
          <p:nvPr/>
        </p:nvPicPr>
        <p:blipFill>
          <a:blip r:embed="rId1"/>
          <a:stretch/>
        </p:blipFill>
        <p:spPr>
          <a:xfrm>
            <a:off x="826920" y="1728720"/>
            <a:ext cx="831708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5" descr="Картинка 24 из 95149"/>
          <p:cNvPicPr/>
          <p:nvPr/>
        </p:nvPicPr>
        <p:blipFill>
          <a:blip r:embed="rId1"/>
          <a:stretch/>
        </p:blipFill>
        <p:spPr>
          <a:xfrm>
            <a:off x="755640" y="152280"/>
            <a:ext cx="838836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лта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5" descr="Картинка 1 из 50516"/>
          <p:cNvPicPr/>
          <p:nvPr/>
        </p:nvPicPr>
        <p:blipFill>
          <a:blip r:embed="rId1"/>
          <a:stretch/>
        </p:blipFill>
        <p:spPr>
          <a:xfrm>
            <a:off x="1042920" y="1460520"/>
            <a:ext cx="810108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альские г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i?id=71094231-61-72"/>
          <p:cNvPicPr/>
          <p:nvPr/>
        </p:nvPicPr>
        <p:blipFill>
          <a:blip r:embed="rId1"/>
          <a:stretch/>
        </p:blipFill>
        <p:spPr>
          <a:xfrm>
            <a:off x="3857760" y="28954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Картинка 18 из 19858"/>
          <p:cNvPicPr/>
          <p:nvPr/>
        </p:nvPicPr>
        <p:blipFill>
          <a:blip r:embed="rId2"/>
          <a:stretch/>
        </p:blipFill>
        <p:spPr>
          <a:xfrm>
            <a:off x="1476360" y="1103400"/>
            <a:ext cx="766764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ральские го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Картинка 12 из 19858"/>
          <p:cNvPicPr/>
          <p:nvPr/>
        </p:nvPicPr>
        <p:blipFill>
          <a:blip r:embed="rId1"/>
          <a:stretch/>
        </p:blipFill>
        <p:spPr>
          <a:xfrm>
            <a:off x="1187280" y="903240"/>
            <a:ext cx="7956720" cy="59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Картинка 27 из 19850"/>
          <p:cNvPicPr/>
          <p:nvPr/>
        </p:nvPicPr>
        <p:blipFill>
          <a:blip r:embed="rId1"/>
          <a:stretch/>
        </p:blipFill>
        <p:spPr>
          <a:xfrm>
            <a:off x="971640" y="9360"/>
            <a:ext cx="7596000" cy="6848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00720" y="214200"/>
            <a:ext cx="44431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альские г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: Г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63528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7.11.201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7" descr="Картинка 52 из 19850"/>
          <p:cNvPicPr/>
          <p:nvPr/>
        </p:nvPicPr>
        <p:blipFill>
          <a:blip r:embed="rId1"/>
          <a:stretch/>
        </p:blipFill>
        <p:spPr>
          <a:xfrm>
            <a:off x="4284720" y="3616200"/>
            <a:ext cx="4859280" cy="324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Картинка 64 из 19850"/>
          <p:cNvPicPr/>
          <p:nvPr/>
        </p:nvPicPr>
        <p:blipFill>
          <a:blip r:embed="rId2"/>
          <a:stretch/>
        </p:blipFill>
        <p:spPr>
          <a:xfrm>
            <a:off x="0" y="1886040"/>
            <a:ext cx="5076720" cy="33876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250920" y="55897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р: учитель географии МАОУ  ПГО «СОШ-Лицей №4 «Интеллект» Зюзева О.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ыяснить, что такое горы. Узнать как различают  горы по высоте. Каково значение гор дл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учиться давать характеристику ГП г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нести горы на контурную кар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артинка 5 из 96073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мала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26070241Vladimir_Vysockii_-_Proshanie_s_gorami.mp3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начение гор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Горы – прекрасные пастбищ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Горы содержат в своих недрах рудные полезные ископаем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В горах строят курорты для лечения людей минеральной водой и целебными гряз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Горы –это прекрасные места отдыха, в том числе для  спортсменов горнолыжников, альпинис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личие гор по высот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изкие до 1000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Средние от 1000 до 2000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ысокие более 2000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145080" y="74880"/>
            <a:ext cx="94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: Нанести на контурную карту горные системы: Кордильеры, Анды, Гималаи, Кавказ, Уральские гор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68360" y="422100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Задание: Нанести на контурную карту горные системы: Кордильеры, Анды, Гималаи, Кавказ, Уральские го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116000" y="486900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лан характеристики ГП гор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йдите и покажите горы на карте, найдите самую высокую верши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Определите к каким горам по высоте они относя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 каком материке и в какой части находятся го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В каком направлении протянулись го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Что находится на севере, юге, западе и восто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ыяснить, что такое горы. Узнать как различают  горы по высоте. Каково значение гор дл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учиться давать характеристику ГП г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нести горы на контурную кар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параграф 20 вопросы 1,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уст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468360" y="2556000"/>
            <a:ext cx="7991280" cy="32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Картинка 10 из 18648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21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жомолун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8 из 51232"/>
          <p:cNvPicPr/>
          <p:nvPr/>
        </p:nvPicPr>
        <p:blipFill>
          <a:blip r:embed="rId1"/>
          <a:stretch/>
        </p:blipFill>
        <p:spPr>
          <a:xfrm>
            <a:off x="2476440" y="0"/>
            <a:ext cx="6667560" cy="461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000" y="213840"/>
            <a:ext cx="64594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амир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7" descr="Картинка 5 из 51230"/>
          <p:cNvPicPr/>
          <p:nvPr/>
        </p:nvPicPr>
        <p:blipFill>
          <a:blip r:embed="rId2"/>
          <a:stretch/>
        </p:blipFill>
        <p:spPr>
          <a:xfrm>
            <a:off x="0" y="3068640"/>
            <a:ext cx="507672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Картинка 11 из 227440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-384120"/>
            <a:ext cx="7792920" cy="114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н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Картинка 91 из 227440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н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рдилье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Картинка 19 из 2611"/>
          <p:cNvPicPr/>
          <p:nvPr/>
        </p:nvPicPr>
        <p:blipFill>
          <a:blip r:embed="rId1"/>
          <a:stretch/>
        </p:blipFill>
        <p:spPr>
          <a:xfrm>
            <a:off x="0" y="1054080"/>
            <a:ext cx="914400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Картинка 21 из 2611"/>
          <p:cNvPicPr/>
          <p:nvPr/>
        </p:nvPicPr>
        <p:blipFill>
          <a:blip r:embed="rId1"/>
          <a:stretch/>
        </p:blipFill>
        <p:spPr>
          <a:xfrm>
            <a:off x="0" y="-13644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32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рдилье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Картинка 20 из 96078"/>
          <p:cNvPicPr/>
          <p:nvPr/>
        </p:nvPicPr>
        <p:blipFill>
          <a:blip r:embed="rId1"/>
          <a:stretch/>
        </p:blipFill>
        <p:spPr>
          <a:xfrm>
            <a:off x="2927520" y="0"/>
            <a:ext cx="6216480" cy="466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Картинка 6 из 96078"/>
          <p:cNvPicPr/>
          <p:nvPr/>
        </p:nvPicPr>
        <p:blipFill>
          <a:blip r:embed="rId2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Альп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2:16:25Z</dcterms:created>
  <dc:creator>home</dc:creator>
  <dc:description/>
  <dc:language>en-US</dc:language>
  <cp:lastModifiedBy>Admin</cp:lastModifiedBy>
  <dcterms:modified xsi:type="dcterms:W3CDTF">2015-01-07T13:34:44Z</dcterms:modified>
  <cp:revision>16</cp:revision>
  <dc:subject/>
  <dc:title>Слайд 1</dc:title>
</cp:coreProperties>
</file>