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F815-97D0-4963-938F-E42C736A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76F-5D29-4801-872F-76D02647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292-B04B-4CCD-8260-F2B7112A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D361-5129-4B33-AAE1-0005B799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CDFE-088A-47A9-87C8-1DC7AE96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1884-A779-4C21-BE32-F2080F4D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F1AE-9532-4FEE-A0DC-9DAD573E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303F-82EC-4FC7-95AB-49E2A8D0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7AFF-0753-47B9-9911-C266DEF7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5709-323D-4264-93AF-A8CCC232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BCC4-AFE9-4ECC-B53C-4F1C4EFC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7338-4AC8-45B8-A3CA-3DB4194F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7433-E166-4BD1-A078-DE976672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9346-A281-489B-9BC9-31F74F1D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1CFD-335B-4D70-8AEA-5C17449D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BF1B-5EA4-414A-86FC-4DD0AA87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3D93-32EF-45D4-AB7B-492A8B93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B64-9CE0-47E6-9B7B-507A6020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98C-87F8-4893-8EC9-8A3BA980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6DFD-0B50-4A50-BCCF-665A3591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0FC-2DB1-48FE-82A9-DB9D260A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F28B-3B9C-41FC-AC0F-264A0AD5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8FC-E87A-4322-A66D-446C7EBE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169A-26D5-4EA9-89FE-8A949C4F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56C2-F788-46B3-B414-225C670878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9433-DF0B-4803-AB80-1EC7917B9B6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30243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Литосфе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5" descr="mso13AC8"/>
          <p:cNvPicPr/>
          <p:nvPr/>
        </p:nvPicPr>
        <p:blipFill>
          <a:blip r:embed="rId1"/>
          <a:srcRect l="0" t="2802" r="0" b="7378"/>
          <a:stretch/>
        </p:blipFill>
        <p:spPr>
          <a:xfrm>
            <a:off x="0" y="3556080"/>
            <a:ext cx="4824360" cy="3301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mso26E6E"/>
          <p:cNvPicPr/>
          <p:nvPr/>
        </p:nvPicPr>
        <p:blipFill>
          <a:blip r:embed="rId2"/>
          <a:stretch/>
        </p:blipFill>
        <p:spPr>
          <a:xfrm>
            <a:off x="5292720" y="404640"/>
            <a:ext cx="3132000" cy="3089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mso47635"/>
          <p:cNvPicPr/>
          <p:nvPr/>
        </p:nvPicPr>
        <p:blipFill>
          <a:blip r:embed="rId3"/>
          <a:srcRect l="4127" t="5581" r="10572" b="3661"/>
          <a:stretch/>
        </p:blipFill>
        <p:spPr>
          <a:xfrm>
            <a:off x="4427640" y="3592440"/>
            <a:ext cx="2411280" cy="3265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msoADDD3"/>
          <p:cNvPicPr/>
          <p:nvPr/>
        </p:nvPicPr>
        <p:blipFill>
          <a:blip r:embed="rId4"/>
          <a:srcRect l="9189" t="5451" r="5398" b="9437"/>
          <a:stretch/>
        </p:blipFill>
        <p:spPr>
          <a:xfrm>
            <a:off x="6694560" y="3346560"/>
            <a:ext cx="2449440" cy="351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5"/>
          <a:stretch/>
        </p:blipFill>
        <p:spPr>
          <a:xfrm>
            <a:off x="1332000" y="1197000"/>
            <a:ext cx="3490920" cy="21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вка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5" descr="Картинка 3 из 98018"/>
          <p:cNvPicPr/>
          <p:nvPr/>
        </p:nvPicPr>
        <p:blipFill>
          <a:blip r:embed="rId1"/>
          <a:stretch/>
        </p:blipFill>
        <p:spPr>
          <a:xfrm>
            <a:off x="152388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авказ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5" descr="Картинка 23 из 97938"/>
          <p:cNvPicPr/>
          <p:nvPr/>
        </p:nvPicPr>
        <p:blipFill>
          <a:blip r:embed="rId1"/>
          <a:stretch/>
        </p:blipFill>
        <p:spPr>
          <a:xfrm>
            <a:off x="1042920" y="782640"/>
            <a:ext cx="8101080" cy="60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улканы Камчат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5" descr="Картинка 17 из 82183"/>
          <p:cNvPicPr/>
          <p:nvPr/>
        </p:nvPicPr>
        <p:blipFill>
          <a:blip r:embed="rId1"/>
          <a:stretch/>
        </p:blipFill>
        <p:spPr>
          <a:xfrm>
            <a:off x="826920" y="1728720"/>
            <a:ext cx="8317080" cy="51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5" descr="Картинка 24 из 95149"/>
          <p:cNvPicPr/>
          <p:nvPr/>
        </p:nvPicPr>
        <p:blipFill>
          <a:blip r:embed="rId1"/>
          <a:stretch/>
        </p:blipFill>
        <p:spPr>
          <a:xfrm>
            <a:off x="755640" y="152280"/>
            <a:ext cx="838836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лта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5" descr="Картинка 1 из 50516"/>
          <p:cNvPicPr/>
          <p:nvPr/>
        </p:nvPicPr>
        <p:blipFill>
          <a:blip r:embed="rId1"/>
          <a:stretch/>
        </p:blipFill>
        <p:spPr>
          <a:xfrm>
            <a:off x="1042920" y="1460520"/>
            <a:ext cx="8101080" cy="53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ральские го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5" descr="i?id=71094231-61-72"/>
          <p:cNvPicPr/>
          <p:nvPr/>
        </p:nvPicPr>
        <p:blipFill>
          <a:blip r:embed="rId1"/>
          <a:stretch/>
        </p:blipFill>
        <p:spPr>
          <a:xfrm>
            <a:off x="3857760" y="28954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Картинка 18 из 19858"/>
          <p:cNvPicPr/>
          <p:nvPr/>
        </p:nvPicPr>
        <p:blipFill>
          <a:blip r:embed="rId2"/>
          <a:stretch/>
        </p:blipFill>
        <p:spPr>
          <a:xfrm>
            <a:off x="1476360" y="1103400"/>
            <a:ext cx="7667640" cy="57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47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Уральские гор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5" descr="Картинка 12 из 19858"/>
          <p:cNvPicPr/>
          <p:nvPr/>
        </p:nvPicPr>
        <p:blipFill>
          <a:blip r:embed="rId1"/>
          <a:stretch/>
        </p:blipFill>
        <p:spPr>
          <a:xfrm>
            <a:off x="1187280" y="903240"/>
            <a:ext cx="7956720" cy="59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9" descr="Картинка 27 из 19850"/>
          <p:cNvPicPr/>
          <p:nvPr/>
        </p:nvPicPr>
        <p:blipFill>
          <a:blip r:embed="rId1"/>
          <a:stretch/>
        </p:blipFill>
        <p:spPr>
          <a:xfrm>
            <a:off x="971640" y="9360"/>
            <a:ext cx="7596000" cy="68486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00720" y="214200"/>
            <a:ext cx="44431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ральские го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ма: Го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363528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27.11.201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7" descr="Картинка 52 из 19850"/>
          <p:cNvPicPr/>
          <p:nvPr/>
        </p:nvPicPr>
        <p:blipFill>
          <a:blip r:embed="rId1"/>
          <a:stretch/>
        </p:blipFill>
        <p:spPr>
          <a:xfrm>
            <a:off x="4284720" y="3616200"/>
            <a:ext cx="4859280" cy="3241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Картинка 64 из 19850"/>
          <p:cNvPicPr/>
          <p:nvPr/>
        </p:nvPicPr>
        <p:blipFill>
          <a:blip r:embed="rId2"/>
          <a:stretch/>
        </p:blipFill>
        <p:spPr>
          <a:xfrm>
            <a:off x="0" y="1886040"/>
            <a:ext cx="5076720" cy="33876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250920" y="558972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втор: учитель географии МАОУ  ПГО «СОШ-Лицей №4 «Интеллект» Зюзева О.Ю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Выяснить, что такое горы. Узнать как различают  горы по высоте. Каково значение гор для челове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Научиться давать характеристику ГП го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Нанести горы на контурную карт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Картинка 5 из 96073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имала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26070241Vladimir_Vysockii_-_Proshanie_s_gorami.mp3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начение гор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Горы – прекрасные пастбищ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Горы содержат в своих недрах рудные полезные ископаем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В горах строят курорты для лечения людей минеральной водой и целебными гряз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Горы –это прекрасные места отдыха, в том числе для  спортсменов горнолыжников, альпинис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зличие гор по высот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0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Низкие до 1000 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Средние от 1000 до 2000 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Высокие более 2000 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-145080" y="74880"/>
            <a:ext cx="94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е: Нанести на контурную карту горные системы: Кордильеры, Анды, Гималаи, Кавказ, Уральские гор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68360" y="422100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Задание: Нанести на контурную карту горные системы: Кордильеры, Анды, Гималаи, Кавказ, Уральские го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1116000" y="4869000"/>
            <a:ext cx="777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лан характеристики ГП гор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Найдите и покажите горы на карте, найдите самую высокую вершин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Определите к каким горам по высоте они относят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На каком материке и в какой части находятся го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В каком направлении протянулись го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Что находится на севере, юге, западе и восток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Выяснить, что такое горы. Узнать как различают  горы по высоте. Каково значение гор для челове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Научиться давать характеристику ГП го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Нанести горы на контурную карт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параграф 20 вопросы 1,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уст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468360" y="2556000"/>
            <a:ext cx="7991280" cy="32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Картинка 10 из 18648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21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жомолунг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8 из 51232"/>
          <p:cNvPicPr/>
          <p:nvPr/>
        </p:nvPicPr>
        <p:blipFill>
          <a:blip r:embed="rId1"/>
          <a:stretch/>
        </p:blipFill>
        <p:spPr>
          <a:xfrm>
            <a:off x="2476440" y="0"/>
            <a:ext cx="6667560" cy="46101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000" y="213840"/>
            <a:ext cx="645948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амир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7" descr="Картинка 5 из 51230"/>
          <p:cNvPicPr/>
          <p:nvPr/>
        </p:nvPicPr>
        <p:blipFill>
          <a:blip r:embed="rId2"/>
          <a:stretch/>
        </p:blipFill>
        <p:spPr>
          <a:xfrm>
            <a:off x="0" y="3068640"/>
            <a:ext cx="507672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Картинка 11 из 227440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0720" y="-384120"/>
            <a:ext cx="7792920" cy="114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нд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Картинка 91 из 227440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нд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ордильер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7" descr="Картинка 19 из 2611"/>
          <p:cNvPicPr/>
          <p:nvPr/>
        </p:nvPicPr>
        <p:blipFill>
          <a:blip r:embed="rId1"/>
          <a:stretch/>
        </p:blipFill>
        <p:spPr>
          <a:xfrm>
            <a:off x="0" y="1054080"/>
            <a:ext cx="9144000" cy="58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Картинка 21 из 2611"/>
          <p:cNvPicPr/>
          <p:nvPr/>
        </p:nvPicPr>
        <p:blipFill>
          <a:blip r:embed="rId1"/>
          <a:stretch/>
        </p:blipFill>
        <p:spPr>
          <a:xfrm>
            <a:off x="0" y="-13644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327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ордилье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Картинка 20 из 96078"/>
          <p:cNvPicPr/>
          <p:nvPr/>
        </p:nvPicPr>
        <p:blipFill>
          <a:blip r:embed="rId1"/>
          <a:stretch/>
        </p:blipFill>
        <p:spPr>
          <a:xfrm>
            <a:off x="2927520" y="0"/>
            <a:ext cx="6216480" cy="466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Картинка 6 из 96078"/>
          <p:cNvPicPr/>
          <p:nvPr/>
        </p:nvPicPr>
        <p:blipFill>
          <a:blip r:embed="rId2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Альп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2:16:25Z</dcterms:created>
  <dc:creator>home</dc:creator>
  <dc:description/>
  <dc:language>en-US</dc:language>
  <cp:lastModifiedBy>Admin</cp:lastModifiedBy>
  <dcterms:modified xsi:type="dcterms:W3CDTF">2015-01-07T13:34:44Z</dcterms:modified>
  <cp:revision>16</cp:revision>
  <dc:subject/>
  <dc:title>Слайд 1</dc:title>
</cp:coreProperties>
</file>