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F30-A2DC-4FA4-B34C-DC818035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1BD-A782-4359-AFD2-0677C4F7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B12-46EB-4ECC-99BD-6BDA217E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A2E-701F-4494-8D68-6A2024C9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654-6424-469C-B414-E3189B77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872D-E8FA-4E5C-BEAA-DCF5295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71B-C921-4B11-A3C8-D95FB611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3C4-3EBF-42E8-950D-58F1672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1865-4DE8-4D5C-A6DD-EEC78CAB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7061-EC71-48F4-81B6-78FBE66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F782-C1A1-4287-9511-6903B1C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DE8-DFBA-4890-9B10-7AE629B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70A-D064-4EE4-A15A-8084868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7106-31AE-470F-9392-42B2861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50EC-95A8-445E-8572-35229933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DA5-94CA-4DC0-AC06-ACB17985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BE51-03D1-457B-8E53-6DA96149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4A5-0267-460E-A25E-0CFE25B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C65-A03F-4C1D-A9C1-B4719D6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27A-F212-4421-96AE-842E3BA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4C0-3EA3-4E3F-915F-3595842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BB3-FE4B-4C58-B0ED-8BA6E1CB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56B-E762-4250-B763-ECE8F9B0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DC6-E989-4C9C-97C1-04CCD3D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A1BA-D055-4067-829A-6AE5148B5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ACD3-57D7-4273-A020-45DA9B45212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024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Литосф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mso13AC8"/>
          <p:cNvPicPr/>
          <p:nvPr/>
        </p:nvPicPr>
        <p:blipFill>
          <a:blip r:embed="rId1"/>
          <a:srcRect l="0" t="2802" r="0" b="7378"/>
          <a:stretch/>
        </p:blipFill>
        <p:spPr>
          <a:xfrm>
            <a:off x="0" y="3556080"/>
            <a:ext cx="4824360" cy="33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so26E6E"/>
          <p:cNvPicPr/>
          <p:nvPr/>
        </p:nvPicPr>
        <p:blipFill>
          <a:blip r:embed="rId2"/>
          <a:stretch/>
        </p:blipFill>
        <p:spPr>
          <a:xfrm>
            <a:off x="5292720" y="404640"/>
            <a:ext cx="3132000" cy="308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so47635"/>
          <p:cNvPicPr/>
          <p:nvPr/>
        </p:nvPicPr>
        <p:blipFill>
          <a:blip r:embed="rId3"/>
          <a:srcRect l="4127" t="5581" r="10572" b="3661"/>
          <a:stretch/>
        </p:blipFill>
        <p:spPr>
          <a:xfrm>
            <a:off x="4427640" y="3592440"/>
            <a:ext cx="2411280" cy="326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msoADDD3"/>
          <p:cNvPicPr/>
          <p:nvPr/>
        </p:nvPicPr>
        <p:blipFill>
          <a:blip r:embed="rId4"/>
          <a:srcRect l="9189" t="5451" r="5398" b="9437"/>
          <a:stretch/>
        </p:blipFill>
        <p:spPr>
          <a:xfrm>
            <a:off x="6694560" y="3346560"/>
            <a:ext cx="2449440" cy="351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1332000" y="1197000"/>
            <a:ext cx="349092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вка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5" descr="Картинка 3 из 98018"/>
          <p:cNvPicPr/>
          <p:nvPr/>
        </p:nvPicPr>
        <p:blipFill>
          <a:blip r:embed="rId1"/>
          <a:stretch/>
        </p:blipFill>
        <p:spPr>
          <a:xfrm>
            <a:off x="152388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вказ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Картинка 23 из 97938"/>
          <p:cNvPicPr/>
          <p:nvPr/>
        </p:nvPicPr>
        <p:blipFill>
          <a:blip r:embed="rId1"/>
          <a:stretch/>
        </p:blipFill>
        <p:spPr>
          <a:xfrm>
            <a:off x="1042920" y="78264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улканы Камч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5" descr="Картинка 17 из 82183"/>
          <p:cNvPicPr/>
          <p:nvPr/>
        </p:nvPicPr>
        <p:blipFill>
          <a:blip r:embed="rId1"/>
          <a:stretch/>
        </p:blipFill>
        <p:spPr>
          <a:xfrm>
            <a:off x="826920" y="1728720"/>
            <a:ext cx="83170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5" descr="Картинка 24 из 95149"/>
          <p:cNvPicPr/>
          <p:nvPr/>
        </p:nvPicPr>
        <p:blipFill>
          <a:blip r:embed="rId1"/>
          <a:stretch/>
        </p:blipFill>
        <p:spPr>
          <a:xfrm>
            <a:off x="755640" y="152280"/>
            <a:ext cx="83883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т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Картинка 1 из 50516"/>
          <p:cNvPicPr/>
          <p:nvPr/>
        </p:nvPicPr>
        <p:blipFill>
          <a:blip r:embed="rId1"/>
          <a:stretch/>
        </p:blipFill>
        <p:spPr>
          <a:xfrm>
            <a:off x="1042920" y="1460520"/>
            <a:ext cx="81010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i?id=71094231-61-72"/>
          <p:cNvPicPr/>
          <p:nvPr/>
        </p:nvPicPr>
        <p:blipFill>
          <a:blip r:embed="rId1"/>
          <a:stretch/>
        </p:blipFill>
        <p:spPr>
          <a:xfrm>
            <a:off x="3857760" y="28954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артинка 18 из 19858"/>
          <p:cNvPicPr/>
          <p:nvPr/>
        </p:nvPicPr>
        <p:blipFill>
          <a:blip r:embed="rId2"/>
          <a:stretch/>
        </p:blipFill>
        <p:spPr>
          <a:xfrm>
            <a:off x="1476360" y="1103400"/>
            <a:ext cx="76676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Картинка 12 из 19858"/>
          <p:cNvPicPr/>
          <p:nvPr/>
        </p:nvPicPr>
        <p:blipFill>
          <a:blip r:embed="rId1"/>
          <a:stretch/>
        </p:blipFill>
        <p:spPr>
          <a:xfrm>
            <a:off x="1187280" y="903240"/>
            <a:ext cx="795672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Картинка 27 из 19850"/>
          <p:cNvPicPr/>
          <p:nvPr/>
        </p:nvPicPr>
        <p:blipFill>
          <a:blip r:embed="rId1"/>
          <a:stretch/>
        </p:blipFill>
        <p:spPr>
          <a:xfrm>
            <a:off x="971640" y="9360"/>
            <a:ext cx="7596000" cy="6848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00720" y="214200"/>
            <a:ext cx="44431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: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3528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7.11.20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Картинка 52 из 19850"/>
          <p:cNvPicPr/>
          <p:nvPr/>
        </p:nvPicPr>
        <p:blipFill>
          <a:blip r:embed="rId1"/>
          <a:stretch/>
        </p:blipFill>
        <p:spPr>
          <a:xfrm>
            <a:off x="4284720" y="3616200"/>
            <a:ext cx="4859280" cy="324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артинка 64 из 19850"/>
          <p:cNvPicPr/>
          <p:nvPr/>
        </p:nvPicPr>
        <p:blipFill>
          <a:blip r:embed="rId2"/>
          <a:stretch/>
        </p:blipFill>
        <p:spPr>
          <a:xfrm>
            <a:off x="0" y="1886040"/>
            <a:ext cx="5076720" cy="3387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250920" y="55897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учитель географии МАОУ  ПГО «СОШ-Лицей №4 «Интеллект» Зюзева О.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яснить, что такое горы. Узнать как различают  горы по высоте. Каково значение гор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учиться давать характеристику ГП г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нести горы на контурную кар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артинка 5 из 9607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мала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26070241Vladimir_Vysockii_-_Proshanie_s_gorami.mp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начение гор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– прекрасные пастбищ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содержат в своих недрах рудные полезные ископаем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В горах строят курорты для лечения людей минеральной водой и целебными гряз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–это прекрасные места отдыха, в том числе для  спортсменов горнолыжников, альпинис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ие гор по высот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изкие до 1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Средние от 1000 до 2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сокие более 2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145080" y="74880"/>
            <a:ext cx="94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: Нанести на контурную карту горные системы: Кордильеры, Анды, Гималаи, Кавказ, Уральские гор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6836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Задание: Нанести на контурную карту горные системы: Кордильеры, Анды, Гималаи, Кавказ, Уральские го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116000" y="486900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 характеристики ГП гор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йдите и покажите горы на карте, найдите самую высокую верши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Определите к каким горам по высоте они относ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 каком материке и в какой части находятся г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В каком направлении протянулись г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Что находится на севере, юге, западе и вост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яснить, что такое горы. Узнать как различают  горы по высоте. Каково значение гор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учиться давать характеристику ГП г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нести горы на контурную кар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параграф 20 вопросы 1,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468360" y="2556000"/>
            <a:ext cx="7991280" cy="32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артинка 10 из 18648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жомолун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8 из 51232"/>
          <p:cNvPicPr/>
          <p:nvPr/>
        </p:nvPicPr>
        <p:blipFill>
          <a:blip r:embed="rId1"/>
          <a:stretch/>
        </p:blipFill>
        <p:spPr>
          <a:xfrm>
            <a:off x="2476440" y="0"/>
            <a:ext cx="66675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000" y="213840"/>
            <a:ext cx="64594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ами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7" descr="Картинка 5 из 51230"/>
          <p:cNvPicPr/>
          <p:nvPr/>
        </p:nvPicPr>
        <p:blipFill>
          <a:blip r:embed="rId2"/>
          <a:stretch/>
        </p:blipFill>
        <p:spPr>
          <a:xfrm>
            <a:off x="0" y="3068640"/>
            <a:ext cx="507672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11 из 227440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84120"/>
            <a:ext cx="7792920" cy="114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ка 91 из 227440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рдилье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Картинка 19 из 2611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Картинка 21 из 2611"/>
          <p:cNvPicPr/>
          <p:nvPr/>
        </p:nvPicPr>
        <p:blipFill>
          <a:blip r:embed="rId1"/>
          <a:stretch/>
        </p:blipFill>
        <p:spPr>
          <a:xfrm>
            <a:off x="0" y="-13644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32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рдилье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Картинка 20 из 96078"/>
          <p:cNvPicPr/>
          <p:nvPr/>
        </p:nvPicPr>
        <p:blipFill>
          <a:blip r:embed="rId1"/>
          <a:stretch/>
        </p:blipFill>
        <p:spPr>
          <a:xfrm>
            <a:off x="2927520" y="0"/>
            <a:ext cx="6216480" cy="466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артинка 6 из 96078"/>
          <p:cNvPicPr/>
          <p:nvPr/>
        </p:nvPicPr>
        <p:blipFill>
          <a:blip r:embed="rId2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Альп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2:16:25Z</dcterms:created>
  <dc:creator>home</dc:creator>
  <dc:description/>
  <dc:language>en-US</dc:language>
  <cp:lastModifiedBy>Admin</cp:lastModifiedBy>
  <dcterms:modified xsi:type="dcterms:W3CDTF">2015-01-07T13:34:44Z</dcterms:modified>
  <cp:revision>16</cp:revision>
  <dc:subject/>
  <dc:title>Слайд 1</dc:title>
</cp:coreProperties>
</file>