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4844-9777-43A7-B425-4F874CE96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CA40-14E5-4DF9-B1C9-074E9E80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C50E-7D1A-4C54-9060-8CF52F4E7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2E77-BB86-4096-A063-5AC765D6A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D777B-16FE-410F-9AB6-A89626366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51A3-AF30-4C8E-BCFE-5E0B0539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CC94-8B71-41D7-BFD6-AF9C4AB5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DA95-519E-4BF1-B160-84406B63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12161-8244-495D-A187-73FD93C9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BEB2-CC8D-4690-B5E7-C190B7A4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C8C0-7635-460B-96CA-E5BE6556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D62E-E727-4E4F-8BE6-2A5DC557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7FB17-C306-4212-B354-171818EB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C4DB-3C47-4610-9EE2-87A359B3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9C84-9019-4EC2-94D2-CEEC4B2B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704F-EBB9-4834-96A4-C9734487B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A0F4-9812-409B-B676-0B28D0379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B3C7D-1F7B-4305-9925-58B86D130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943C5-1BF1-470F-AF8C-288CDCFC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A0E5D-6C4D-4141-B919-6D275F97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23861-7A4B-47EE-90A6-C6947D5C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32CC5-5772-468C-BB52-A0C1228A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C074-A147-4E7F-AE1B-1AC4D580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CFC09-7F4B-4111-B5E0-8456DDC4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EA2EC-FB9C-45F2-B21F-3384B028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B417F-FDA1-444D-AF8D-60050896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2A0FD-1682-47FE-BA41-4E2A2040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BB932-7E8B-4BF0-9ECA-79BA908C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3159A-B6D0-40DD-AE19-7AF253420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7E030-728F-4D8F-AAE6-09FF05B6E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AA8A3-541E-4E7E-A0F1-25A52C6FB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D569C-8601-4A38-8F17-FBCDEFFF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E9301-9552-4644-B1D0-B686FCDB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BFAD-99C8-416F-B5A5-7AD10CEE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CF412-E99E-4ECC-95D2-D3F646AC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60B94-0908-457A-ACBD-D72ECFA8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3EF63-47BB-4728-B10B-11A8AD3B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B5D50-2868-4B1A-A735-73E4FABC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6A8F7-E675-4C4D-B680-2344B6B9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58FDD-7B48-49DD-8C50-C3204417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A3BD1-03BE-4320-B646-BD0B013A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D8A92-45AF-4BC8-85A3-E763BB156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BA543-62B8-4D0D-81EC-3D42128C3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C1378-7936-429C-A31F-DB9A2DB0E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E5F4-6062-4DBE-9A4E-499BD0D5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2C938-899C-42A6-90CE-769A499E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26DC8-2B9E-48F3-9749-6897579D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47F9F-76CA-4110-B95B-9AD1993C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A1055-4B40-4F55-9A7E-676CA085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F8A4F-7985-4F07-9FF2-8D281864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78141-51D8-411B-B3C7-14E2CD94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BECCB-4738-455D-AD37-3692922F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9471F-456B-467C-8454-C221D160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E7D8E-79FF-442D-8DDC-7686A1B1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26440-9F93-4D34-B7EB-F697C6447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7824-BD5B-478B-B904-3C09EEE3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6514B-AED8-4B48-B746-D44FB661A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FD932-3EE1-4113-92A5-71E938B16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0278A-3AAF-4B1D-8AE3-6F665580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2D452-7FAA-4499-8D15-37B1A779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69771-0C5E-4B1E-BB58-8FCA6313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7711F-C128-4D2D-B35C-B00AF30A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68EDF-30E2-407E-9174-46501A1D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FAFA7-204F-4176-8D04-CC9D53A7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9C8A0-5E2E-4605-A6E0-C732BBDB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C6CAD-C069-4505-AE10-18078437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96B0-B4AE-43A5-B0D6-134C1FD5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F808F-C3C0-4F73-9FDB-1A7441D7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60777-CADB-4410-B7C1-64B114790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E234F-7AB6-48B0-806B-0ED796D58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2B315-5A79-4D9D-8C61-1BE9FF0DB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9745B-6067-422A-B4B8-4602E776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29150-9F2A-4DC9-9553-EC94AD6C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D81E5-E1FC-48B7-A99A-C762A814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89ACD-773B-43B9-B5A8-B3EF5A4C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A5C59-B784-41C5-B859-03E3F80C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8159F-8A41-4C3A-BB3A-C9049003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A23C-8276-4269-BEB8-852DF2E3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4CDAE-B376-4D9B-AE2A-9DFC31B5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356F7-CD25-4A16-A5B2-DC8D0BC9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F62B1-0650-4F1B-A44B-479F73A6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672C9-1E80-48D4-8A03-B042C5C2D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D3658-6BC4-468D-B5AC-54F986A30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55CD6-A5A0-46D9-A7C6-DB2087BF6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9C062-430F-4935-AA46-471CD63E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5BE5C-6ADE-4E6A-9BF9-F91077C7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DFFAD-FFFE-4A06-81A0-E1D7DC2F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810FB-DE08-45ED-BFC9-C4CBAAD6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D38D-886F-471C-BB5D-517BCE19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A1CC0-C0A8-4C9A-8D41-0220A532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CB838-7DB4-4821-B73C-3910BE1E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CAAD5-E809-4D45-A8C5-7A235A0D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4C315-6F84-4CD4-99D1-FF3D40FC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B32FA-3925-42DA-9A7E-2297E3C2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9AE48-7F0D-4B09-90CA-979A9C73A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7EC72-B7BC-4F55-9F25-EA21BCC86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4060-BD35-4362-A0E7-355437DEC18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AEE9-B49C-4121-9B11-16AFCB7B2D4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1372-3BB6-4652-BECA-15D2B3327AC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B5C9-5CC2-4C01-93CA-8362A238296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A6C5-2D7C-4600-A689-10B9EF85CEE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DDF9-9FF3-463D-A91B-DFC227FD690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F59D-229E-4D42-AA7E-1AEC808365B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3E4C-0091-4C61-8C11-4047133829B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61;&#1072;&#1082;&#1072;&#1089;&#1089;&#1082;&#1080;&#1081;_&#1103;&#1079;&#1099;&#1082;" TargetMode="External"/><Relationship Id="rId2" Type="http://schemas.openxmlformats.org/officeDocument/2006/relationships/hyperlink" Target="https://ru.wikipedia.org/wiki/&#1056;&#1077;&#1082;&#1072;" TargetMode="External"/><Relationship Id="rId3" Type="http://schemas.openxmlformats.org/officeDocument/2006/relationships/hyperlink" Target="https://ru.wikipedia.org/wiki/&#1061;&#1072;&#1082;&#1072;&#1089;&#1080;&#1103;" TargetMode="External"/><Relationship Id="rId4" Type="http://schemas.openxmlformats.org/officeDocument/2006/relationships/hyperlink" Target="https://ru.wikipedia.org/wiki/&#1045;&#1085;&#1080;&#1089;&#1077;&#1081;" TargetMode="External"/><Relationship Id="rId5" Type="http://schemas.openxmlformats.org/officeDocument/2006/relationships/hyperlink" Target="https://ru.wikipedia.org/wiki/&#1041;&#1086;&#1083;&#1100;&#1096;&#1086;&#1081;_&#1040;&#1073;&#1072;&#1082;&#1072;&#1085;" TargetMode="External"/><Relationship Id="rId6" Type="http://schemas.openxmlformats.org/officeDocument/2006/relationships/hyperlink" Target="https://ru.wikipedia.org/wiki/&#1052;&#1072;&#1083;&#1099;&#1081;_&#1040;&#1073;&#1072;&#1082;&#1072;&#1085;" TargetMode="External"/><Relationship Id="rId7" Type="http://schemas.openxmlformats.org/officeDocument/2006/relationships/hyperlink" Target="https://ru.wikipedia.org/wiki/&#1047;&#1072;&#1087;&#1072;&#1076;&#1085;&#1099;&#1081;_&#1057;&#1072;&#1103;&#1085;" TargetMode="External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283600" cy="22003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Разнообразие внутренних вод России. Ре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Заголовок 1" descr=""/>
          <p:cNvPicPr/>
          <p:nvPr/>
        </p:nvPicPr>
        <p:blipFill>
          <a:blip r:embed="rId1"/>
          <a:stretch/>
        </p:blipFill>
        <p:spPr>
          <a:xfrm>
            <a:off x="85680" y="1914480"/>
            <a:ext cx="854064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Заголовок 1" descr=""/>
          <p:cNvPicPr/>
          <p:nvPr/>
        </p:nvPicPr>
        <p:blipFill>
          <a:blip r:embed="rId1"/>
          <a:stretch/>
        </p:blipFill>
        <p:spPr>
          <a:xfrm>
            <a:off x="212760" y="1773360"/>
            <a:ext cx="848664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3560760" y="2639880"/>
            <a:ext cx="2058840" cy="1243080"/>
          </a:xfrm>
          <a:prstGeom prst="rect">
            <a:avLst/>
          </a:prstGeom>
          <a:ln w="0">
            <a:noFill/>
          </a:ln>
        </p:spPr>
      </p:pic>
      <p:cxnSp>
        <p:nvCxnSpPr>
          <p:cNvPr id="374" name="Прямая со стрелкой 5"/>
          <p:cNvCxnSpPr/>
          <p:nvPr/>
        </p:nvCxnSpPr>
        <p:spPr>
          <a:xfrm flipH="1" flipV="1">
            <a:off x="2123280" y="1556640"/>
            <a:ext cx="1585080" cy="13676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75" name="Прямая со стрелкой 7"/>
          <p:cNvCxnSpPr/>
          <p:nvPr/>
        </p:nvCxnSpPr>
        <p:spPr>
          <a:xfrm flipV="1">
            <a:off x="5219640" y="1699560"/>
            <a:ext cx="1440360" cy="12978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76" name="Прямая со стрелкой 9"/>
          <p:cNvCxnSpPr/>
          <p:nvPr/>
        </p:nvCxnSpPr>
        <p:spPr>
          <a:xfrm flipH="1">
            <a:off x="1692000" y="3428640"/>
            <a:ext cx="2232720" cy="10803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77" name="Прямая со стрелкой 11"/>
          <p:cNvCxnSpPr/>
          <p:nvPr/>
        </p:nvCxnSpPr>
        <p:spPr>
          <a:xfrm>
            <a:off x="5219640" y="3428640"/>
            <a:ext cx="1656720" cy="11527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1125000" y="1622520"/>
            <a:ext cx="2025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ельеф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Заголовок 1" descr=""/>
          <p:cNvPicPr/>
          <p:nvPr/>
        </p:nvPicPr>
        <p:blipFill>
          <a:blip r:embed="rId1"/>
          <a:stretch/>
        </p:blipFill>
        <p:spPr>
          <a:xfrm>
            <a:off x="3365640" y="2627280"/>
            <a:ext cx="2065320" cy="1243080"/>
          </a:xfrm>
          <a:prstGeom prst="rect">
            <a:avLst/>
          </a:prstGeom>
          <a:ln w="0">
            <a:noFill/>
          </a:ln>
        </p:spPr>
      </p:pic>
      <p:sp>
        <p:nvSpPr>
          <p:cNvPr id="380" name="Объект 2"/>
          <p:cNvSpPr/>
          <p:nvPr/>
        </p:nvSpPr>
        <p:spPr>
          <a:xfrm>
            <a:off x="5940360" y="1413000"/>
            <a:ext cx="208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Климат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Объект 2"/>
          <p:cNvSpPr/>
          <p:nvPr/>
        </p:nvSpPr>
        <p:spPr>
          <a:xfrm>
            <a:off x="6084720" y="4292640"/>
            <a:ext cx="26733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Lucida Sans Unicode"/>
              </a:rPr>
              <a:t>Густота речной сети, питание, режим, ледостав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Объект 2"/>
          <p:cNvSpPr/>
          <p:nvPr/>
        </p:nvSpPr>
        <p:spPr>
          <a:xfrm>
            <a:off x="611280" y="4557600"/>
            <a:ext cx="3035160" cy="16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Направление, характер течения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383" name="Прямая со стрелкой 7"/>
          <p:cNvCxnSpPr/>
          <p:nvPr/>
        </p:nvCxnSpPr>
        <p:spPr>
          <a:xfrm flipV="1">
            <a:off x="5076720" y="1844280"/>
            <a:ext cx="791280" cy="11534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84" name="Прямая со стрелкой 11"/>
          <p:cNvCxnSpPr/>
          <p:nvPr/>
        </p:nvCxnSpPr>
        <p:spPr>
          <a:xfrm>
            <a:off x="5003280" y="3499920"/>
            <a:ext cx="1081800" cy="10087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85" name="Прямая со стрелкой 13"/>
          <p:cNvCxnSpPr/>
          <p:nvPr/>
        </p:nvCxnSpPr>
        <p:spPr>
          <a:xfrm flipH="1">
            <a:off x="2775960" y="3499920"/>
            <a:ext cx="1075320" cy="10580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86" name="Прямая со стрелкой 19"/>
          <p:cNvCxnSpPr/>
          <p:nvPr/>
        </p:nvCxnSpPr>
        <p:spPr>
          <a:xfrm flipH="1" flipV="1">
            <a:off x="2592000" y="2162880"/>
            <a:ext cx="1054800" cy="8708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Lucida Sans Unicode"/>
              </a:rPr>
              <a:t>Термины по теме: «Внутренние воды и водные ресурсы»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Река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естественный постоянный водный поток, протекающий в разработанном им углублении –</a:t>
            </a: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русле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Речная долина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вытянутое углубление на земной поверхности, выработанное постоянными водными потоками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Пойма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 место, заливаемое талыми водами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Исток-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начало реки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Устье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место впадения реки в другую реку, озеро или море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Притоки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водотоки,  впадающие в реку. (левые, правые.)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Длина реки 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 расстояние от истока до устья (иногда с длиной самого большого притока)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Бассейн реки 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участок земной поверхности, с которого река собирает в себя всю воду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Водораздел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граница между двумя речными бассейнами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Речная система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река со всеми притоками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Режим реки -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 жизнь речного потока в течение суток, сезонов, года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Типы питания реки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: дождевое, снеговое, ледниковое, подземное, смешанное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Lucida Sans Unicode"/>
              </a:rPr>
              <a:t>На стр.80-83 найти и выписать в тетрадь следующие понятия: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Падение реки-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Уклон реки-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Половодье-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Паводок-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Межень-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Годовой сток-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Наводнение-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Заголовок 1" descr=""/>
          <p:cNvPicPr/>
          <p:nvPr/>
        </p:nvPicPr>
        <p:blipFill>
          <a:blip r:embed="rId1"/>
          <a:stretch/>
        </p:blipFill>
        <p:spPr>
          <a:xfrm>
            <a:off x="212760" y="-49320"/>
            <a:ext cx="84866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Название рек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Длина, площадь бассейн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)Исток, усть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)Режим, питание реки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5)Хозяйственное значени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Заголовок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Абакан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, в верхнем течении </a:t>
            </a: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Большой Абакан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 (</a:t>
            </a:r>
            <a:r>
              <a:rPr b="0" lang="ru-RU" sz="25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хак.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i="1" lang="ru-RU" sz="2500" spc="-1" strike="noStrike">
                <a:solidFill>
                  <a:srgbClr val="000000"/>
                </a:solidFill>
                <a:latin typeface="Lucida Sans Unicode"/>
              </a:rPr>
              <a:t>Ағбан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) — </a:t>
            </a:r>
            <a:r>
              <a:rPr b="0" lang="ru-RU" sz="25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река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 в</a:t>
            </a:r>
            <a:r>
              <a:rPr b="0" lang="ru-RU" sz="25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Хакасии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, один из крупнейших левобережных притоков </a:t>
            </a:r>
            <a:r>
              <a:rPr b="0" lang="ru-RU" sz="25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Енисея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. Длина реки — 327 км (с Большим Абаканом — 514 км), площадь её водосборного бассейна — 32000 км²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Образуется слиянием </a:t>
            </a:r>
            <a:r>
              <a:rPr b="0" lang="ru-RU" sz="2500" spc="-1" strike="noStrike" u="sng">
                <a:solidFill>
                  <a:srgbClr val="ff8119"/>
                </a:solidFill>
                <a:uFillTx/>
                <a:latin typeface="Lucida Sans Unicode"/>
                <a:hlinkClick r:id="rId5"/>
              </a:rPr>
              <a:t>Большого Абакана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 и </a:t>
            </a:r>
            <a:r>
              <a:rPr b="0" lang="ru-RU" sz="2500" spc="-1" strike="noStrike" u="sng">
                <a:solidFill>
                  <a:srgbClr val="ff8119"/>
                </a:solidFill>
                <a:uFillTx/>
                <a:latin typeface="Lucida Sans Unicode"/>
                <a:hlinkClick r:id="rId6"/>
              </a:rPr>
              <a:t>Малого Абакана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, берущих начало на северных склонах </a:t>
            </a:r>
            <a:r>
              <a:rPr b="0" lang="ru-RU" sz="2500" spc="-1" strike="noStrike" u="sng">
                <a:solidFill>
                  <a:srgbClr val="ff8119"/>
                </a:solidFill>
                <a:uFillTx/>
                <a:latin typeface="Lucida Sans Unicode"/>
                <a:hlinkClick r:id="rId7"/>
              </a:rPr>
              <a:t>Западного Саяна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 и 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Алтайских гор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. Впадает в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Красноярское водохранилище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 у подножья горы 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Самохвал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Заголовок 1" descr=""/>
          <p:cNvPicPr/>
          <p:nvPr/>
        </p:nvPicPr>
        <p:blipFill>
          <a:blip r:embed="rId8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На контурной карте обозначить реки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1)Бассейн Северного Ледовитого океана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:  Северная Двина, Мезень, Печора, Обь (с притоком Иртыш), Енисей (с притоками Нижняя Тунгуска, Подкаменная Тунгуска, Ангара), Лена (с притоком Вилюй), Индигирка, Колыма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2)Бассейн Тихого океана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:  Анадырь, Амур (с притоками Шилка, Аргунь)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3)Бассейн Атлантического океана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: Дон, Днепр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4)Реки внутреннего стока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: Волга(с притоками Кама , Ока), Урал, Терек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.устно вопросы учебника п. 12 стр. 84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.выучить все понятия по теме «Реки»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.Атлас стр.14 выучить «Реки» (подготовка к зачёту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.сообщения к следующему уроку по теме «Озера России»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Заголовок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3T04:33:22Z</dcterms:created>
  <dc:creator>1</dc:creator>
  <dc:description/>
  <dc:language>en-US</dc:language>
  <cp:lastModifiedBy>1</cp:lastModifiedBy>
  <dcterms:modified xsi:type="dcterms:W3CDTF">2014-11-03T04:50:23Z</dcterms:modified>
  <cp:revision>2</cp:revision>
  <dc:subject/>
  <dc:title>Внутренние воды России.</dc:title>
</cp:coreProperties>
</file>