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207-87EB-42FB-82F5-241E1F8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92B-A755-4E49-B63D-360EFE22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DE3-9E49-46C2-A702-FF6890C8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40E-FDB1-4F6A-BDF0-33BE643F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9A8A-1CE2-4C1A-AC5D-06FF213E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FBE5-C42D-4F4E-B325-58051123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5315-A5C6-4C3D-BAC0-E98C75A9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AEEE-6275-4F30-8F1C-C5F85198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9633-A198-4D9E-9105-F981D8A1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CC64-2E34-4E3D-8C4A-DD85EF87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2226-E07A-4FFA-BE62-BAECB53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749-E297-4F7E-B56C-235637A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A7D-4E42-4E73-8494-21EA8E53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2FCC-36BD-4C94-B4DE-46F7C6A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20E1-AB3C-4E39-A13D-279C27A8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303C-04B8-45F1-9D2B-23DB0E41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4EC0-5BEB-4916-B20B-64C40C99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3723-8DCF-4294-B28D-C08A1188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4871-B2BE-4A7D-AB41-53675173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9FBC-7EF0-4F00-BA98-EFD2644E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0904-A1D7-4CC2-B83A-131161FD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EFA9-5405-43BC-AA87-DEA245F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5A5-8290-47B1-B780-665D1B47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6B09-EEE2-4BC0-B481-8F8984E1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CC13-5769-44D1-9B38-D617C2F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A6CA-8ECC-4E1E-9410-DD5212A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FE01-3C2B-42EF-97CE-B7344E1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65FA-C188-4905-AE27-B5A99291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F21F-262B-40CB-BB79-62FFABF5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44FB-5301-4E6A-9AE6-0BC334BD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C2A5-F9A1-4ED4-BC39-0E089A49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2DEB-5F6F-4862-B5F8-BD2676E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056E-0BEF-4D43-B4ED-A5FF188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4EE-19B2-4EA3-B2F7-53AD0F29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7CB23-FF1B-4717-AF08-C39701D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CC3F-EBF4-4BF7-8CE3-523DE4EA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3EBCA-74D3-4CD9-A6F1-DBBC5A4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B505-423B-456D-888A-D56BCB86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7978-9BD8-42D5-985B-CB3CE53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5A78-86C6-43D0-8076-8AFAC32C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FF8B-7018-4732-BB40-60E3E4FE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7874-781C-478A-B844-6357454E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BC19E-782A-468F-81EC-17C549B3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459C3-D068-490B-9BBE-33A0E8B7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836-D784-4070-8D2A-960F4111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4570-0197-4340-8F27-5505CAFC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82E0-FA95-4AA7-90B0-D7488FFF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0626F-2BD1-4626-B1C7-54005E7C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0BBF-CDC8-4FBC-80BE-4C8E9DF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2DFC-B12E-4286-A2EF-2F3C8FD6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4DE66-9C58-43E6-9993-A95CDDB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5599-DB5D-4D36-AEFF-9A5C826E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76F2-306F-4C5C-8EC5-DCFEB56D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4251-4555-4E87-9F16-ED2BB7F2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D92B-6701-4CB8-805C-C494A993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A80-B956-47B7-9820-33DE6ED2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DFD7F-BD05-480E-8B9D-A447007F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0A54-679A-4EFE-B2AA-13C36CC8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47D39-8518-4244-90E4-055F94E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B799-9513-4DDA-B5E3-CAA3C062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FE7E9-FB00-45AE-B848-AC9D7AE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1B4C-44FD-445B-B7BE-D956DDD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C6BAE-8867-4B66-8B8E-F4986EAF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4270-311A-4BB3-8FB9-8407EA6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A4AF-104A-473F-AA7F-90784E11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34BA-69DF-4206-B764-E3054A8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DAE-560D-4AC6-8C79-50EF83D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CCB1-BCBC-4D84-8D56-586F835A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CF509-7452-4A1B-947B-3428E89F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28F8-2A2F-43E8-BE55-BAC9E39E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DC6BA-658D-4A33-9A1B-82DB6885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8729-0CE0-4F5C-93DE-02951ABC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AE1E9-0298-4159-99E2-50D17562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78D68-8C05-446C-8DB3-7B86E4E5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1330A-4F27-498C-BB9A-5A161272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594E-D9F6-4E6C-8823-88DD3E26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B49A-CCA9-4379-A1BE-72978A5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F90-8563-4D61-99B3-CCE0944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FBDC-BEF3-4048-B6B2-BDA652BE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46772-3B78-4749-B646-0700A6C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35E75-BB17-4398-B572-018571A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BB0D-C060-4B13-8590-69303692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D6F9-E2FB-4CC6-9B3A-38C3A699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EE6A2-E308-4048-9ADC-D321E751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3DF6-076C-4DAE-AFE1-87926775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FB9BF-7918-423F-8AD6-63017092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D58B-557C-43BF-8317-70950FA0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8DB3E-7804-43CB-9FCD-9A1C669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897-D680-40A4-B9B6-A97D0E9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54F53-4B28-48B4-A422-54070C7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A5EBF-933E-4288-B07A-AD86FB4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96AC6-DC2C-4073-8126-30A21AF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88F6-ADB1-430D-80D6-9381011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6FC2-7921-4F20-A474-798F7C44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C0B61-4EDD-442F-84BF-A5212273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A06F3-5E54-4FA7-83FC-15462E5F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51BD-BA42-4DF6-9223-E5AAD6661A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AD19-C298-4E92-B754-704DB41F8C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3848-C4AD-46EC-ACE1-4CA5614F94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AF8F-1357-4E26-A207-4BCACA6982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ABE9-40E0-4124-89F6-741CF4DD93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924-6231-4D45-914B-66C96D1261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826B-C9E7-48E3-A0F1-3F2C3C6883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ACB-BC3A-4F0A-B344-231CDEA748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1;&#1072;&#1082;&#1072;&#1089;&#1089;&#1082;&#1080;&#1081;_&#1103;&#1079;&#1099;&#1082;" TargetMode="External"/><Relationship Id="rId2" Type="http://schemas.openxmlformats.org/officeDocument/2006/relationships/hyperlink" Target="https://ru.wikipedia.org/wiki/&#1056;&#1077;&#1082;&#1072;" TargetMode="External"/><Relationship Id="rId3" Type="http://schemas.openxmlformats.org/officeDocument/2006/relationships/hyperlink" Target="https://ru.wikipedia.org/wiki/&#1061;&#1072;&#1082;&#1072;&#1089;&#1080;&#1103;" TargetMode="External"/><Relationship Id="rId4" Type="http://schemas.openxmlformats.org/officeDocument/2006/relationships/hyperlink" Target="https://ru.wikipedia.org/wiki/&#1045;&#1085;&#1080;&#1089;&#1077;&#1081;" TargetMode="External"/><Relationship Id="rId5" Type="http://schemas.openxmlformats.org/officeDocument/2006/relationships/hyperlink" Target="https://ru.wikipedia.org/wiki/&#1041;&#1086;&#1083;&#1100;&#1096;&#1086;&#1081;_&#1040;&#1073;&#1072;&#1082;&#1072;&#1085;" TargetMode="External"/><Relationship Id="rId6" Type="http://schemas.openxmlformats.org/officeDocument/2006/relationships/hyperlink" Target="https://ru.wikipedia.org/wiki/&#1052;&#1072;&#1083;&#1099;&#1081;_&#1040;&#1073;&#1072;&#1082;&#1072;&#1085;" TargetMode="External"/><Relationship Id="rId7" Type="http://schemas.openxmlformats.org/officeDocument/2006/relationships/hyperlink" Target="https://ru.wikipedia.org/wiki/&#1047;&#1072;&#1087;&#1072;&#1076;&#1085;&#1099;&#1081;_&#1057;&#1072;&#1103;&#1085;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8360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Разнообразие внутренних вод России. Ре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85680" y="1914480"/>
            <a:ext cx="85406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212760" y="1773360"/>
            <a:ext cx="84866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3560760" y="2639880"/>
            <a:ext cx="2058840" cy="124308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5"/>
          <p:cNvCxnSpPr/>
          <p:nvPr/>
        </p:nvCxnSpPr>
        <p:spPr>
          <a:xfrm flipH="1" flipV="1">
            <a:off x="2123280" y="1556640"/>
            <a:ext cx="1585080" cy="1367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5" name="Прямая со стрелкой 7"/>
          <p:cNvCxnSpPr/>
          <p:nvPr/>
        </p:nvCxnSpPr>
        <p:spPr>
          <a:xfrm flipV="1">
            <a:off x="5219640" y="1699560"/>
            <a:ext cx="1440360" cy="1297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6" name="Прямая со стрелкой 9"/>
          <p:cNvCxnSpPr/>
          <p:nvPr/>
        </p:nvCxnSpPr>
        <p:spPr>
          <a:xfrm flipH="1">
            <a:off x="1692000" y="3428640"/>
            <a:ext cx="2232720" cy="108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77" name="Прямая со стрелкой 11"/>
          <p:cNvCxnSpPr/>
          <p:nvPr/>
        </p:nvCxnSpPr>
        <p:spPr>
          <a:xfrm>
            <a:off x="5219640" y="3428640"/>
            <a:ext cx="1656720" cy="115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25000" y="1622520"/>
            <a:ext cx="2025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лье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3365640" y="2627280"/>
            <a:ext cx="2065320" cy="1243080"/>
          </a:xfrm>
          <a:prstGeom prst="rect">
            <a:avLst/>
          </a:prstGeom>
          <a:ln w="0">
            <a:noFill/>
          </a:ln>
        </p:spPr>
      </p:pic>
      <p:sp>
        <p:nvSpPr>
          <p:cNvPr id="380" name="Объект 2"/>
          <p:cNvSpPr/>
          <p:nvPr/>
        </p:nvSpPr>
        <p:spPr>
          <a:xfrm>
            <a:off x="5940360" y="141300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Клима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Объект 2"/>
          <p:cNvSpPr/>
          <p:nvPr/>
        </p:nvSpPr>
        <p:spPr>
          <a:xfrm>
            <a:off x="6084720" y="4292640"/>
            <a:ext cx="2673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Густота речной сети, питание, режим, ледостав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Объект 2"/>
          <p:cNvSpPr/>
          <p:nvPr/>
        </p:nvSpPr>
        <p:spPr>
          <a:xfrm>
            <a:off x="611280" y="4557600"/>
            <a:ext cx="303516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правление, характер те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83" name="Прямая со стрелкой 7"/>
          <p:cNvCxnSpPr/>
          <p:nvPr/>
        </p:nvCxnSpPr>
        <p:spPr>
          <a:xfrm flipV="1">
            <a:off x="5076720" y="1844280"/>
            <a:ext cx="791280" cy="1153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Прямая со стрелкой 11"/>
          <p:cNvCxnSpPr/>
          <p:nvPr/>
        </p:nvCxnSpPr>
        <p:spPr>
          <a:xfrm>
            <a:off x="5003280" y="3499920"/>
            <a:ext cx="1081800" cy="1008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5" name="Прямая со стрелкой 13"/>
          <p:cNvCxnSpPr/>
          <p:nvPr/>
        </p:nvCxnSpPr>
        <p:spPr>
          <a:xfrm flipH="1">
            <a:off x="2775960" y="3499920"/>
            <a:ext cx="1075320" cy="1058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6" name="Прямая со стрелкой 19"/>
          <p:cNvCxnSpPr/>
          <p:nvPr/>
        </p:nvCxnSpPr>
        <p:spPr>
          <a:xfrm flipH="1" flipV="1">
            <a:off x="2592000" y="2162880"/>
            <a:ext cx="1054800" cy="870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Термины по теме: «Внутренние воды и водные ресурсы»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к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естественный постоянный водный поток, протекающий в разработанном им углублении –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ус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чная долин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вытянутое углубление на земной поверхности, выработанное постоянными водными поток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йм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место, заливаемое талыми вод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Исток-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чало рек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Усть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место впадения реки в другую реку, озеро или море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рито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водотоки,  впадающие в реку. (левые, правые.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Длина реки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расстояние от истока до устья (иногда с длиной самого большого притока)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Бассейн реки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часток земной поверхности, с которого река собирает в себя всю воду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Водоразде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граница между двумя речными бассейн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чн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река со всеми притоками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Режим реки -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жизнь речного потока в течение суток, сезонов, года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Типы питания ре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: дождевое, снеговое, ледниковое, подземное, смешанное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Lucida Sans Unicode"/>
              </a:rPr>
              <a:t>На стр.80-83 найти и выписать в тетрадь следующие понятия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адение реки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Уклон реки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ловодье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аводок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Межень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Годовой сток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Наводнение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212760" y="-49320"/>
            <a:ext cx="8486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Название ре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Длина, площадь бассей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Исток, усть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ежим, питание реки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Хозяйственное знач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Абак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в верхнем течении 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Большой Абак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(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хак.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i="1" lang="ru-RU" sz="2500" spc="-1" strike="noStrike">
                <a:solidFill>
                  <a:srgbClr val="000000"/>
                </a:solidFill>
                <a:latin typeface="Lucida Sans Unicode"/>
              </a:rPr>
              <a:t>Ағбан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) —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рек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в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Хакаси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один из крупнейших левобережных притоков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Енисея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Длина реки — 327 км (с Большим Абаканом — 514 км), площадь её водосборного бассейна — 32000 км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разуется слиянием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Большого Абак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и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Малого Абак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, берущих начало на северных склонах </a:t>
            </a:r>
            <a:r>
              <a:rPr b="0" lang="ru-RU" sz="25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Западного Сая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и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Алтайских гор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 Впадает в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расноярское водохранилище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у подножья горы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Самохвал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8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На контурной карте обозначить реки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1)Бассейн Северного Ледовит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 Северная Двина, Мезень, Печора, Обь (с притоком Иртыш), Енисей (с притоками Нижняя Тунгуска, Подкаменная Тунгуска, Ангара), Лена (с притоком Вилюй), Индигирка, Колым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2)Бассейн Тих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 Анадырь, Амур (с притоками Шилка, Аргунь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3)Бассейн Атлантического океан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Дон, Днепр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4)Реки внутреннего стока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: Волга(с притоками Кама , Ока), Урал, Терек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устно вопросы учебника п. 12 стр. 84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выучить все понятия по теме «Реки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Атлас стр.14 выучить «Реки» (подготовка к зачёту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сообщения к следующему уроку по теме «Озера России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04:33:22Z</dcterms:created>
  <dc:creator>1</dc:creator>
  <dc:description/>
  <dc:language>en-US</dc:language>
  <cp:lastModifiedBy>1</cp:lastModifiedBy>
  <dcterms:modified xsi:type="dcterms:W3CDTF">2014-11-03T04:50:23Z</dcterms:modified>
  <cp:revision>2</cp:revision>
  <dc:subject/>
  <dc:title>Внутренние воды России.</dc:title>
</cp:coreProperties>
</file>