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042-8A2E-4A8E-B58C-5E6B0FAB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5A3-67CD-4874-8D41-E7CDB826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EE8-74FD-47FB-8872-B5861712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4FB-DF2D-499D-B0FF-28047A42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AC00-271C-45A6-AB62-3395ECE7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6BB-628C-4598-AD19-2AC99B0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0732-29D4-47AB-BED1-F6082611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B7BE-C62A-4BD9-BF60-5A236305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683C-17D9-4DDF-873E-987F2449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207B-A906-4C5B-8A4F-AEC7C969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27A-6BEF-427E-9F25-09088FF2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AFF-B700-4242-AF1B-FC41192C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0660-253B-4689-A5E9-1FB2C5EC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68BB-B835-4B18-B8AE-4E051E74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AAA7-83FC-4EC1-869D-B1E353C2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4FBA-B666-4978-A4FA-E44935DD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4CF9-C0A9-4F60-80BD-33483C21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0E63-9992-4DD6-A562-231259C2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43E1-F755-4D28-AD73-EADB5018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E683-DF2C-47ED-9111-F5C7C80F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C510-24CB-4771-BA42-8931B39F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B746-7998-4611-B157-97C4E382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76F-C004-4219-BDD5-BDBC5E19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EF6D-33DC-48FC-BEF2-B6326819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1AA6-E02C-483C-87E7-6573D01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5B65-EEB0-4753-BEC6-57F1A62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7DFF-01EA-4E29-8555-372C4FF9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5A22-5B2F-4D23-865F-09F675B2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8B09-0FA7-43DE-865D-12816A7D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5FBB-B85D-4A0A-A2F8-A5B10AE7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5CE5-AA85-4EDE-B767-1471FD89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ACAE-E89F-426C-83DD-BDE009EB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567A-A3EF-4B66-9BF9-F10ECC85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149-963B-4A17-837C-3A3500AC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AB15-B0D8-401C-B011-50F25FC1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961A-972C-4D17-9A7A-2A869803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6C51-84AF-42E5-A39C-6398762E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5AFC8-A40D-476E-A9E1-B29D8736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D6F0E-10FF-41B8-8C77-AAC9C51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B56EE-943D-4E78-B57C-8FBA2049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6FF3-9CEE-4EB1-8895-4F41C485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FEB9-DD3C-4D1D-865A-BD58E537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FDC1-85EA-46BA-B252-B71AD1DF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08DC1-B609-44AA-8FC6-492C3043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C36-F755-497C-B360-A9E3ECFA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9526-3347-4404-A23F-D763E0B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3A7A9-B0C2-409F-AFAB-A771BCE5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B40B-675F-4778-800E-98ECA179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E8BBA-FB32-44AD-939A-554685D6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7F99F-A118-405D-8305-25DF839B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E7C4-07C7-42F5-8A61-407ECECB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CFFB-DDDF-4BEE-AB42-01B670F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4C77-3E32-49F4-A919-FB8A609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5C343-02D7-421D-A8BD-D4727F28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9EA2-7BE0-4D65-9108-8A4D784C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42B-639A-4B61-AAA2-C810BA4F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9639-6A75-4FF4-B101-58A51351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EB22-9184-44C7-9886-164FE41A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5CBBD-FC7E-41E0-B94A-68B6F153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5692B-A5A9-4585-8209-8F294C45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55FA-558A-4081-922E-B3E0F1CC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F2017-A38C-494E-AF8F-9F67A6A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DD08B-423E-4CB3-9F8A-E74B2B48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33D9F-978A-4B36-98F3-F1052D26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B0F09-26DD-45A8-ADF9-0F01304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4E17-FE14-43D7-B4F4-8D802EF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6A0-1260-4A46-B707-6333438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3CE26-8044-4E87-A025-981099EC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84A3C-E1E9-40D4-B97B-A5F514F2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56A50-B8D5-428B-8343-D93A5E5A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364C4-57B8-45C7-8817-AE80C0C4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E6058-D287-475E-BDF6-7838FE9F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4FF2-85C3-48A2-B3E7-9267AA65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203FB-7FAC-41AF-83DE-EC930E70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4D703-6AAC-4E03-96CE-7657DAB6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E790F-8FF2-4026-9B01-CB11B3FC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749E-2C8B-4D02-A598-2BA9320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DAD-5497-47CE-B348-BAB5941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537FF-1F29-4E03-A659-BC14B66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C0EC2-E49E-4328-BB26-BD5CCBD3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7A738-D4FB-4464-AC38-DB2E61F1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4422-2B95-4EDF-A39D-382CA1FE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3280-3F32-415E-8934-520A90AF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691D5-2301-4247-AAB7-27318B47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4E784-8FFE-4A87-91B9-9EE5A1FC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5213-CDEC-46DA-9D8F-A27E04E8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37862-DA72-449D-AAD4-9FD85FCE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C91F-03FD-485E-BEBD-927A535E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976-C1D2-475D-9F55-FE6B14F6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302DE-A41F-41A7-BE79-1E4A4E48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017F5-3E48-4E16-9004-182F0C6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24D5C-1CBC-4E6F-B1A5-A644A46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96C8-3580-44A6-A6AA-9BCF13C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EDBB3-2AA7-4C55-9203-89D6703B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64C6E-810D-4C07-A333-56FADD1C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11275-4A68-4592-8E79-52DD8A53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7DD2-5B85-4A58-9189-ADAE837A5D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DAAF-958D-44FD-B647-BAE60BE438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136E-332E-42F9-AB89-2EBA28718B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FD09-8051-4DE9-85A0-16F117F96E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DA87-DC95-452D-8AE5-301C3FBF08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E4CE-6403-430D-A4DA-07FCA66D2F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ACF9-0DA4-4C0A-8FAE-F2D6583277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DE93-6A5F-4414-8D8F-A70C61D2B0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1;&#1072;&#1082;&#1072;&#1089;&#1089;&#1082;&#1080;&#1081;_&#1103;&#1079;&#1099;&#1082;" TargetMode="External"/><Relationship Id="rId2" Type="http://schemas.openxmlformats.org/officeDocument/2006/relationships/hyperlink" Target="https://ru.wikipedia.org/wiki/&#1056;&#1077;&#1082;&#1072;" TargetMode="External"/><Relationship Id="rId3" Type="http://schemas.openxmlformats.org/officeDocument/2006/relationships/hyperlink" Target="https://ru.wikipedia.org/wiki/&#1061;&#1072;&#1082;&#1072;&#1089;&#1080;&#1103;" TargetMode="External"/><Relationship Id="rId4" Type="http://schemas.openxmlformats.org/officeDocument/2006/relationships/hyperlink" Target="https://ru.wikipedia.org/wiki/&#1045;&#1085;&#1080;&#1089;&#1077;&#1081;" TargetMode="External"/><Relationship Id="rId5" Type="http://schemas.openxmlformats.org/officeDocument/2006/relationships/hyperlink" Target="https://ru.wikipedia.org/wiki/&#1041;&#1086;&#1083;&#1100;&#1096;&#1086;&#1081;_&#1040;&#1073;&#1072;&#1082;&#1072;&#1085;" TargetMode="External"/><Relationship Id="rId6" Type="http://schemas.openxmlformats.org/officeDocument/2006/relationships/hyperlink" Target="https://ru.wikipedia.org/wiki/&#1052;&#1072;&#1083;&#1099;&#1081;_&#1040;&#1073;&#1072;&#1082;&#1072;&#1085;" TargetMode="External"/><Relationship Id="rId7" Type="http://schemas.openxmlformats.org/officeDocument/2006/relationships/hyperlink" Target="https://ru.wikipedia.org/wiki/&#1047;&#1072;&#1087;&#1072;&#1076;&#1085;&#1099;&#1081;_&#1057;&#1072;&#1103;&#1085;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8360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Разнообразие внутренних вод России. Ре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85680" y="1914480"/>
            <a:ext cx="85406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212760" y="1773360"/>
            <a:ext cx="84866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3560760" y="2639880"/>
            <a:ext cx="2058840" cy="124308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5"/>
          <p:cNvCxnSpPr/>
          <p:nvPr/>
        </p:nvCxnSpPr>
        <p:spPr>
          <a:xfrm flipH="1" flipV="1">
            <a:off x="2123280" y="1556640"/>
            <a:ext cx="1585080" cy="1367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5" name="Прямая со стрелкой 7"/>
          <p:cNvCxnSpPr/>
          <p:nvPr/>
        </p:nvCxnSpPr>
        <p:spPr>
          <a:xfrm flipV="1">
            <a:off x="5219640" y="1699560"/>
            <a:ext cx="1440360" cy="1297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6" name="Прямая со стрелкой 9"/>
          <p:cNvCxnSpPr/>
          <p:nvPr/>
        </p:nvCxnSpPr>
        <p:spPr>
          <a:xfrm flipH="1">
            <a:off x="1692000" y="3428640"/>
            <a:ext cx="2232720" cy="108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7" name="Прямая со стрелкой 11"/>
          <p:cNvCxnSpPr/>
          <p:nvPr/>
        </p:nvCxnSpPr>
        <p:spPr>
          <a:xfrm>
            <a:off x="5219640" y="3428640"/>
            <a:ext cx="1656720" cy="115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125000" y="1622520"/>
            <a:ext cx="2025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лье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3365640" y="2627280"/>
            <a:ext cx="2065320" cy="1243080"/>
          </a:xfrm>
          <a:prstGeom prst="rect">
            <a:avLst/>
          </a:prstGeom>
          <a:ln w="0">
            <a:noFill/>
          </a:ln>
        </p:spPr>
      </p:pic>
      <p:sp>
        <p:nvSpPr>
          <p:cNvPr id="380" name="Объект 2"/>
          <p:cNvSpPr/>
          <p:nvPr/>
        </p:nvSpPr>
        <p:spPr>
          <a:xfrm>
            <a:off x="5940360" y="1413000"/>
            <a:ext cx="20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Клима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Объект 2"/>
          <p:cNvSpPr/>
          <p:nvPr/>
        </p:nvSpPr>
        <p:spPr>
          <a:xfrm>
            <a:off x="6084720" y="4292640"/>
            <a:ext cx="2673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Густота речной сети, питание, режим, ледостав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Объект 2"/>
          <p:cNvSpPr/>
          <p:nvPr/>
        </p:nvSpPr>
        <p:spPr>
          <a:xfrm>
            <a:off x="611280" y="4557600"/>
            <a:ext cx="303516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правление, характер теч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83" name="Прямая со стрелкой 7"/>
          <p:cNvCxnSpPr/>
          <p:nvPr/>
        </p:nvCxnSpPr>
        <p:spPr>
          <a:xfrm flipV="1">
            <a:off x="5076720" y="1844280"/>
            <a:ext cx="791280" cy="1153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Прямая со стрелкой 11"/>
          <p:cNvCxnSpPr/>
          <p:nvPr/>
        </p:nvCxnSpPr>
        <p:spPr>
          <a:xfrm>
            <a:off x="5003280" y="3499920"/>
            <a:ext cx="1081800" cy="1008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5" name="Прямая со стрелкой 13"/>
          <p:cNvCxnSpPr/>
          <p:nvPr/>
        </p:nvCxnSpPr>
        <p:spPr>
          <a:xfrm flipH="1">
            <a:off x="2775960" y="3499920"/>
            <a:ext cx="1075320" cy="1058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6" name="Прямая со стрелкой 19"/>
          <p:cNvCxnSpPr/>
          <p:nvPr/>
        </p:nvCxnSpPr>
        <p:spPr>
          <a:xfrm flipH="1" flipV="1">
            <a:off x="2592000" y="2162880"/>
            <a:ext cx="1054800" cy="87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Термины по теме: «Внутренние воды и водные ресурсы»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к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естественный постоянный водный поток, протекающий в разработанном им углублении –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ус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чная долин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вытянутое углубление на земной поверхности, выработанное постоянными водными поток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йм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место, заливаемое талыми вод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Исток-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чало рек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Усть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место впадения реки в другую реку, озеро или море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рито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водотоки,  впадающие в реку. (левые, правые.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Длина реки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расстояние от истока до устья (иногда с длиной самого большого притока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Бассейн реки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часток земной поверхности, с которого река собирает в себя всю воду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Водоразде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граница между двумя речными бассейн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чн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река со всеми приток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жим реки -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жизнь речного потока в течение суток, сезонов, года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Типы питания ре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: дождевое, снеговое, ледниковое, подземное, смешанное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На стр.80-83 найти и выписать в тетрадь следующие понятия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адение реки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Уклон реки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ловодье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аводок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Межень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Годовой сток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Наводнение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212760" y="-49320"/>
            <a:ext cx="8486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Название ре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Длина, площадь бассей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Исток, усть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ежим, питание реки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Хозяйственное знач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Абак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в верхнем течении 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Большой Абак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(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хак.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Ағб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) —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рек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в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Хакаси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один из крупнейших левобережных притоков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Енисея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 Длина реки — 327 км (с Большим Абаканом — 514 км), площадь её водосборного бассейна — 32000 км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бразуется слиянием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Большого Абак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и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Малого Абак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берущих начало на северных склонах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Западного Сая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и 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Алтайских гор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 Впадает в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расноярское водохранилище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у подножья горы 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Самохвал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8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На контурной карте обозначить реки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1)Бассейн Северного Ледовит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 Северная Двина, Мезень, Печора, Обь (с притоком Иртыш), Енисей (с притоками Нижняя Тунгуска, Подкаменная Тунгуска, Ангара), Лена (с притоком Вилюй), Индигирка, Колым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2)Бассейн Тих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 Анадырь, Амур (с притоками Шилка, Аргунь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3)Бассейн Атлантическ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Дон, Днепр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4)Реки внутреннего сток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Волга(с притоками Кама , Ока), Урал, Терек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устно вопросы учебника п. 12 стр. 84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выучить все понятия по теме «Реки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Атлас стр.14 выучить «Реки» (подготовка к зачёту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сообщения к следующему уроку по теме «Озера России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04:33:22Z</dcterms:created>
  <dc:creator>1</dc:creator>
  <dc:description/>
  <dc:language>en-US</dc:language>
  <cp:lastModifiedBy>1</cp:lastModifiedBy>
  <dcterms:modified xsi:type="dcterms:W3CDTF">2014-11-03T04:50:23Z</dcterms:modified>
  <cp:revision>2</cp:revision>
  <dc:subject/>
  <dc:title>Внутренние воды России.</dc:title>
</cp:coreProperties>
</file>