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1.wmf" ContentType="image/x-wmf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6.wmf" ContentType="image/x-wmf"/>
  <Override PartName="/ppt/media/image8.png" ContentType="image/png"/>
  <Override PartName="/ppt/media/image5.wmf" ContentType="image/x-wmf"/>
  <Override PartName="/ppt/media/image10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.jpeg" ContentType="image/jpeg"/>
  <Override PartName="/ppt/media/image11.png" ContentType="image/png"/>
  <Override PartName="/ppt/media/image9.jpeg" ContentType="image/jpeg"/>
  <Override PartName="/ppt/media/image14.png" ContentType="image/png"/>
  <Override PartName="/ppt/media/image15.wmf" ContentType="image/x-wmf"/>
  <Override PartName="/ppt/media/image17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8B6-E7CB-408A-BB2A-A7576503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C06-77EF-49D2-9EA7-92E1D542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353-FD04-4414-9263-3C2EF380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DA8-73D7-4EBE-9D87-8EE409BF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17D-2A93-4FCA-9323-1713F606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A09-3A84-4811-9114-BCA90A01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88A-C628-409A-BD45-A216BCF1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388-8B2A-40D1-9EDB-6A38E9A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C8E-4745-4AF8-986E-B62C6F1C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D05-9D77-4A55-9765-83ADA3A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B11-8224-47FD-9EA9-5E74515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D15-7A14-4312-B209-64FF50A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40F6-B748-409C-B73E-1F9719DE4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D:\Лидия\шаблоны\для работы\ramki\BRD474.wmf"/>
          <p:cNvPicPr/>
          <p:nvPr/>
        </p:nvPicPr>
        <p:blipFill>
          <a:blip r:embed="rId2"/>
          <a:stretch/>
        </p:blipFill>
        <p:spPr>
          <a:xfrm>
            <a:off x="250920" y="260280"/>
            <a:ext cx="1725480" cy="1816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D:\Лидия\шаблоны\для работы\ramki\BRD474.wmf"/>
          <p:cNvPicPr/>
          <p:nvPr/>
        </p:nvPicPr>
        <p:blipFill>
          <a:blip r:embed="rId3"/>
          <a:stretch/>
        </p:blipFill>
        <p:spPr>
          <a:xfrm rot="10800000">
            <a:off x="7164000" y="4797000"/>
            <a:ext cx="1724040" cy="1816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D:\Лидия\шаблоны\для работы\ramki\BRD474.wmf"/>
          <p:cNvPicPr/>
          <p:nvPr/>
        </p:nvPicPr>
        <p:blipFill>
          <a:blip r:embed="rId4"/>
          <a:stretch/>
        </p:blipFill>
        <p:spPr>
          <a:xfrm rot="5400000">
            <a:off x="7138800" y="214200"/>
            <a:ext cx="1724040" cy="1815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ramki\BRD474.wmf"/>
          <p:cNvPicPr/>
          <p:nvPr/>
        </p:nvPicPr>
        <p:blipFill>
          <a:blip r:embed="rId5"/>
          <a:stretch/>
        </p:blipFill>
        <p:spPr>
          <a:xfrm rot="16200000">
            <a:off x="296640" y="4822560"/>
            <a:ext cx="1724040" cy="18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4.imgsmail.ru/imgpreview?key=http%3A//babyfor.ru/file/27877.jpg&amp;mb=imgdb_preview_32" TargetMode="External"/><Relationship Id="rId2" Type="http://schemas.openxmlformats.org/officeDocument/2006/relationships/hyperlink" Target="http://go3.imgsmail.ru/imgpreview?key=http%3A//lenagold.ru/fon/clipart/v/vaza/vaza18.jpg&amp;mb=imgdb_preview_5" TargetMode="External"/><Relationship Id="rId3" Type="http://schemas.openxmlformats.org/officeDocument/2006/relationships/hyperlink" Target="http://go2.imgsmail.ru/imgpreview?key=http%3A//intertrade.kz/img/catalogue/00074871%5Fb.jpg&amp;mb=imgdb_preview_53" TargetMode="External"/><Relationship Id="rId4" Type="http://schemas.openxmlformats.org/officeDocument/2006/relationships/hyperlink" Target="http://go3.imgsmail.ru/imgpreview?key=http%3A//www.ljplus.ru/img4/1/0/1001smile/%5F835432%5F7.jpg&amp;mb=imgdb_preview_120" TargetMode="External"/><Relationship Id="rId5" Type="http://schemas.openxmlformats.org/officeDocument/2006/relationships/hyperlink" Target="http://go1.imgsmail.ru/imgpreview?key=http%3A//sampospb.ru/upload/images/prufilbrus%5Ffoto.jpg&amp;mb=imgdb_preview_42" TargetMode="External"/><Relationship Id="rId6" Type="http://schemas.openxmlformats.org/officeDocument/2006/relationships/hyperlink" Target="http://go1.imgsmail.ru/imgpreview?key=http%3A//allgfx.net/uploads/posts/2011-02/thumbs/1296959297%5Fcrow.jpg&amp;mb=imgdb_preview_41" TargetMode="External"/><Relationship Id="rId7" Type="http://schemas.openxmlformats.org/officeDocument/2006/relationships/hyperlink" Target="http://go1.imgsmail.ru/imgpreview?key=http%3A//weboptica.ru/upload/marks/321%5Fimage%5F7773.jpg&amp;mb=imgdb_preview_43" TargetMode="External"/><Relationship Id="rId8" Type="http://schemas.openxmlformats.org/officeDocument/2006/relationships/hyperlink" Target="http://900igr.net/datas/muzyka/Noty-rojal.files/0005-005-Fa.jpg" TargetMode="External"/><Relationship Id="rId9" Type="http://schemas.openxmlformats.org/officeDocument/2006/relationships/hyperlink" Target="http://go2.imgsmail.ru/imgpreview?key=http%3A//ravden.3dn.ru/Raskraski/Raznoe/3026.jpg&amp;mb=imgdb_preview_92" TargetMode="External"/><Relationship Id="rId10" Type="http://schemas.openxmlformats.org/officeDocument/2006/relationships/hyperlink" Target="http://go4.imgsmail.ru/imgpreview?key=http%3A//cinemarket.ru/sites/cinemarket/files/imagecache/1000/zizzle-pirates-caribbean-jack-sparrows-electronic-clash-flash-cutlass.jpg&amp;mb=imgdb_preview_88-" TargetMode="External"/><Relationship Id="rId11" Type="http://schemas.openxmlformats.org/officeDocument/2006/relationships/hyperlink" Target="http://go4.imgsmail.ru/imgpreview?key=http%3A//cinemarket.ru/sites/cinemarket/files/imagecache/1000/zizzle-pirates-caribbean-jack-sparrows-electronic-clash-flash-cutlass.jpg&amp;mb=imgdb_preview_88-" TargetMode="External"/><Relationship Id="rId12" Type="http://schemas.openxmlformats.org/officeDocument/2006/relationships/hyperlink" Target="http://www.artsides.ru/big/item_2418.jpg-" TargetMode="External"/><Relationship Id="rId13" Type="http://schemas.openxmlformats.org/officeDocument/2006/relationships/hyperlink" Target="http://www.artsides.ru/big/item_2418.jpg-" TargetMode="External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o4.imgsmail.ru/imgpreview?key=http%3A//estet-mebel.ru/images/871%5F6001.jpg&amp;mb=imgdb_preview_58-" TargetMode="External"/><Relationship Id="rId2" Type="http://schemas.openxmlformats.org/officeDocument/2006/relationships/hyperlink" Target="http://go4.imgsmail.ru/imgpreview?key=http%3A//estet-mebel.ru/images/871%5F6001.jpg&amp;mb=imgdb_preview_58-" TargetMode="External"/><Relationship Id="rId3" Type="http://schemas.openxmlformats.org/officeDocument/2006/relationships/hyperlink" Target="http://go4.imgsmail.ru/imgpreview?key=http%3A//estet-mebel.ru/images/871%5F6001.jpg&amp;mb=imgdb_preview_58-" TargetMode="External"/><Relationship Id="rId4" Type="http://schemas.openxmlformats.org/officeDocument/2006/relationships/hyperlink" Target="http://go4.imgsmail.ru/imgpreview?key=http%3A//estet-mebel.ru/images/871%5F6001.jpg&amp;mb=imgdb_preview_58-" TargetMode="External"/><Relationship Id="rId5" Type="http://schemas.openxmlformats.org/officeDocument/2006/relationships/hyperlink" Target="http://ejko.ru/images/ejik4.jpg-" TargetMode="External"/><Relationship Id="rId6" Type="http://schemas.openxmlformats.org/officeDocument/2006/relationships/hyperlink" Target="http://ejko.ru/images/ejik4.jpg-" TargetMode="External"/><Relationship Id="rId7" Type="http://schemas.openxmlformats.org/officeDocument/2006/relationships/hyperlink" Target="http://motoservis.ru/data/photos/1284035533.jpg-" TargetMode="External"/><Relationship Id="rId8" Type="http://schemas.openxmlformats.org/officeDocument/2006/relationships/hyperlink" Target="http://motoservis.ru/data/photos/1284035533.jpg-" TargetMode="External"/><Relationship Id="rId9" Type="http://schemas.openxmlformats.org/officeDocument/2006/relationships/hyperlink" Target="http://go1.imgsmail.ru/imgpreview?key=http%3A//www.svadba66.ru/content/photo/13600/13521/201010/132578/132578l.jpg&amp;mb=imgdb_preview_85" TargetMode="External"/><Relationship Id="rId10" Type="http://schemas.openxmlformats.org/officeDocument/2006/relationships/hyperlink" Target="http://go2.imgsmail.ru/imgpreview?key=http%3A//vse-skazki.ru/images/stories/Izobradzeniya%5Fiz%5Fskazok/Narodnie%5Fskazki/b/bashkirskie/Lica-plytovka.png&amp;mb=imgdb_preview_6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Ребусы «Город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40000" y="4292280"/>
            <a:ext cx="3203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орбатова И.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учитель географ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ОБУ Чесменская СОШ №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img1.liveinternet.ru/images/attach/c/3/75/42/75042351_WindowsLiveWriter_5116ba35d3ef_BA24_RRSRRSRSRyoRyo_SRRyoS_RRSRRRR_RRyoSR_19_e5df17e6b04f4411b68a54d6b8302851.jpg"/>
          <p:cNvPicPr/>
          <p:nvPr/>
        </p:nvPicPr>
        <p:blipFill>
          <a:blip r:embed="rId1"/>
          <a:stretch/>
        </p:blipFill>
        <p:spPr>
          <a:xfrm>
            <a:off x="900000" y="393372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bygaga.com.ua/uploads/posts/2013-10/1383133615_krasivye-fotografii-gorodov-so-vsego-mira-32.jpg"/>
          <p:cNvPicPr/>
          <p:nvPr/>
        </p:nvPicPr>
        <p:blipFill>
          <a:blip r:embed="rId2"/>
          <a:stretch/>
        </p:blipFill>
        <p:spPr>
          <a:xfrm>
            <a:off x="2987640" y="333360"/>
            <a:ext cx="3198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1944720" cy="24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2556000" y="765000"/>
            <a:ext cx="5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851280" y="1125360"/>
            <a:ext cx="5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012000" y="1052640"/>
            <a:ext cx="81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6659640" y="2637000"/>
            <a:ext cx="23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504d"/>
                </a:solidFill>
                <a:latin typeface="Times New Roman"/>
              </a:rPr>
              <a:t>Д</a:t>
            </a:r>
            <a:r>
              <a:rPr b="1" lang="ru-RU" sz="9600" spc="-1" strike="noStrike">
                <a:solidFill>
                  <a:srgbClr val="00b05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0" t="0" r="0" b="9196"/>
          <a:stretch/>
        </p:blipFill>
        <p:spPr>
          <a:xfrm>
            <a:off x="900000" y="1557360"/>
            <a:ext cx="2941920" cy="4221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135240" y="69228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rcRect l="11759" t="9449" r="10961" b="28187"/>
          <a:stretch/>
        </p:blipFill>
        <p:spPr>
          <a:xfrm>
            <a:off x="4932360" y="2349360"/>
            <a:ext cx="3311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j0230952"/>
          <p:cNvPicPr/>
          <p:nvPr/>
        </p:nvPicPr>
        <p:blipFill>
          <a:blip r:embed="rId1"/>
          <a:stretch/>
        </p:blipFill>
        <p:spPr>
          <a:xfrm>
            <a:off x="3419640" y="981000"/>
            <a:ext cx="2431800" cy="3465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382920" y="5084640"/>
            <a:ext cx="246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Arial"/>
              </a:rPr>
              <a:t>Д=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664000" cy="1944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55640" y="1197000"/>
            <a:ext cx="81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Arial"/>
              </a:rPr>
              <a:t>,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389480" cy="2732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356000" y="1052640"/>
            <a:ext cx="5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40556" t="26204" r="19549" b="24804"/>
          <a:stretch/>
        </p:blipFill>
        <p:spPr>
          <a:xfrm>
            <a:off x="3635280" y="2421000"/>
            <a:ext cx="2737080" cy="2520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9"/>
          <p:cNvSpPr/>
          <p:nvPr/>
        </p:nvSpPr>
        <p:spPr>
          <a:xfrm>
            <a:off x="1554120" y="2708280"/>
            <a:ext cx="112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Arial"/>
              </a:rPr>
              <a:t>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016000" cy="2336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487600" y="62064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864680" y="69228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1905120" cy="1787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6303960" y="1125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8175600" y="112536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3782880" y="443700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19047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76220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2922480" y="119700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5446080" y="5084640"/>
            <a:ext cx="178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Т=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1855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560" y="1125000"/>
            <a:ext cx="7643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га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ри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л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н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лог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роне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иссаб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ки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o4.imgsmail.ru/imgpreview?key=http%3A//babyfor.ru/file/27877.jpg&amp;mb=imgdb_preview_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аре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o3.imgsmail.ru/imgpreview?key=http%3A//lenagold.ru/fon/clipart/v/vaza/vaza18.jpg&amp;mb=imgdb_preview_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go2.imgsmail.ru/imgpreview?key=http%3A//intertrade.kz/img/catalogue/00074871%5Fb.jpg&amp;mb=imgdb_preview_5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go3.imgsmail.ru/imgpreview?key=http%3A//www.ljplus.ru/img4/1/0/1001smile/%5F835432%5F7.jpg&amp;mb=imgdb_preview_12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go1.imgsmail.ru/imgpreview?key=http%3A//sampospb.ru/upload/images/prufilbrus%5Ffoto.jpg&amp;mb=imgdb_preview_4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go1.imgsmail.ru/imgpreview?key=http%3A//allgfx.net/uploads/posts/2011-02/thumbs/1296959297%5Fcrow.jpg&amp;mb=imgdb_preview_4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вор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go1.imgsmail.ru/imgpreview?key=http%3A//weboptica.ru/upload/marks/321%5Fimage%5F7773.jpg&amp;mb=imgdb_preview_4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900igr.net/datas/muzyka/Noty-rojal.files/0005-005-Fa.jpg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нота 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go2.imgsmail.ru/imgpreview?key=http%3A//ravden.3dn.ru/Raskraski/Raznoe/3026.jpg&amp;mb=imgdb_preview_9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зон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4.imgsmail.ru/imgpreview?key=http%3A//cinemarket.ru/sites/cinemarket/files/imagecache/1000/zizzle-pirates-caribbean-jack-sparrows-electronic-clash-flash-cutlass.jpg&amp;mb=imgdb_preview_88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аб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826920" y="4046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artsides.ru/big/item_2418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o4.imgsmail.ru/imgpreview?key=http%3A//estet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bel.ru/images/871%5F6001.jpg&amp;mb=imgdb_preview_58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пар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jko.ru/images/ejik4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е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motoservis.ru/data/photos/1284035533.jp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ан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go1.imgsmail.ru/imgpreview?key=http%3A//www.svadba66.ru/content/photo/13600/13521/201010/132578/132578l.jpg&amp;mb=imgdb_preview_85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зам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2.imgsmail.ru/imgpreview?key=http%3A//vse-skazki.ru/images/stories/Izobradzeniya%5Fiz%5Fskazok/Narodnie%5Fskazki/b/bashkirskie/Lica-plytovka.png&amp;mb=imgdb_preview_6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и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4.imgsmail.ru/imgpreview?key=http%3A//intertrade.kz/img/catalogue/00060716%5Fb.jpg&amp;mb=imgdb_preview_5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соб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2.imgsmail.ru/imgpreview?key=http%3A//www.stihi.ru/pics/2010/01/02/2921.jpg&amp;mb=imgdb_preview_3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пету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o4.imgsmail.ru/imgpreview?key=http%3A//bukashka.org/wp-content/2010/01/kit1.jpg&amp;mb=imgdb_preview_7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ки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2513160" cy="2681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413720" y="2276640"/>
            <a:ext cx="186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802760" y="4724280"/>
            <a:ext cx="272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О=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j0088188"/>
          <p:cNvPicPr/>
          <p:nvPr/>
        </p:nvPicPr>
        <p:blipFill>
          <a:blip r:embed="rId1"/>
          <a:stretch/>
        </p:blipFill>
        <p:spPr>
          <a:xfrm>
            <a:off x="5435640" y="1484280"/>
            <a:ext cx="2193840" cy="4248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7667640" y="549360"/>
            <a:ext cx="86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762440" cy="23907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0"/>
          <p:cNvSpPr/>
          <p:nvPr/>
        </p:nvSpPr>
        <p:spPr>
          <a:xfrm>
            <a:off x="3132000" y="692280"/>
            <a:ext cx="3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492360" y="692280"/>
            <a:ext cx="7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j0088188"/>
          <p:cNvPicPr/>
          <p:nvPr/>
        </p:nvPicPr>
        <p:blipFill>
          <a:blip r:embed="rId1"/>
          <a:stretch/>
        </p:blipFill>
        <p:spPr>
          <a:xfrm>
            <a:off x="3780000" y="1773360"/>
            <a:ext cx="1688760" cy="326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j0335801"/>
          <p:cNvPicPr/>
          <p:nvPr/>
        </p:nvPicPr>
        <p:blipFill>
          <a:blip r:embed="rId2"/>
          <a:stretch/>
        </p:blipFill>
        <p:spPr>
          <a:xfrm rot="2323200">
            <a:off x="6252840" y="2009880"/>
            <a:ext cx="1466640" cy="2670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5292720" y="0"/>
            <a:ext cx="62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바탕"/>
                <a:ea typeface="바탕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7667640" y="0"/>
            <a:ext cx="45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바탕"/>
                <a:ea typeface="바탕"/>
              </a:rPr>
              <a:t>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2880000" cy="2163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1258920" y="0"/>
            <a:ext cx="288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2060"/>
                </a:solidFill>
                <a:latin typeface="BatangChe"/>
                <a:ea typeface="BatangChe"/>
              </a:rPr>
              <a:t>,,,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904760" cy="181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j0401064"/>
          <p:cNvPicPr/>
          <p:nvPr/>
        </p:nvPicPr>
        <p:blipFill>
          <a:blip r:embed="rId2"/>
          <a:stretch/>
        </p:blipFill>
        <p:spPr>
          <a:xfrm rot="1402200">
            <a:off x="3470040" y="2049480"/>
            <a:ext cx="2039760" cy="3578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5364000" y="620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5867280" y="2421000"/>
            <a:ext cx="2521080" cy="2303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1"/>
          <p:cNvSpPr/>
          <p:nvPr/>
        </p:nvSpPr>
        <p:spPr>
          <a:xfrm>
            <a:off x="7596360" y="476280"/>
            <a:ext cx="144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2268360" y="620640"/>
            <a:ext cx="15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2665440" cy="21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rcRect l="11759" t="9449" r="10961" b="28187"/>
          <a:stretch/>
        </p:blipFill>
        <p:spPr>
          <a:xfrm>
            <a:off x="4572000" y="191628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2632680" y="83664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932360" y="414972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Arial"/>
              </a:rPr>
              <a:t>Е=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0" t="0" r="14645" b="0"/>
          <a:stretch/>
        </p:blipFill>
        <p:spPr>
          <a:xfrm>
            <a:off x="539640" y="1773360"/>
            <a:ext cx="2880000" cy="360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j0326486"/>
          <p:cNvPicPr/>
          <p:nvPr/>
        </p:nvPicPr>
        <p:blipFill>
          <a:blip r:embed="rId2"/>
          <a:stretch/>
        </p:blipFill>
        <p:spPr>
          <a:xfrm>
            <a:off x="5435640" y="220500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2987640" y="692280"/>
            <a:ext cx="86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4859280" y="69228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885080" y="692280"/>
            <a:ext cx="5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1" descr="j0193374"/>
          <p:cNvPicPr/>
          <p:nvPr/>
        </p:nvPicPr>
        <p:blipFill>
          <a:blip r:embed="rId1"/>
          <a:stretch/>
        </p:blipFill>
        <p:spPr>
          <a:xfrm>
            <a:off x="1042920" y="1916280"/>
            <a:ext cx="3164040" cy="3017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564000" y="692280"/>
            <a:ext cx="5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882480" y="620640"/>
            <a:ext cx="11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rcRect l="0" t="0" r="22517" b="6765"/>
          <a:stretch/>
        </p:blipFill>
        <p:spPr>
          <a:xfrm>
            <a:off x="4643280" y="2276640"/>
            <a:ext cx="295308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j0351349"/>
          <p:cNvPicPr/>
          <p:nvPr/>
        </p:nvPicPr>
        <p:blipFill>
          <a:blip r:embed="rId1"/>
          <a:stretch/>
        </p:blipFill>
        <p:spPr>
          <a:xfrm>
            <a:off x="4572000" y="2205000"/>
            <a:ext cx="140652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j0351349"/>
          <p:cNvPicPr/>
          <p:nvPr/>
        </p:nvPicPr>
        <p:blipFill>
          <a:blip r:embed="rId2"/>
          <a:stretch/>
        </p:blipFill>
        <p:spPr>
          <a:xfrm>
            <a:off x="6012000" y="2205000"/>
            <a:ext cx="1512720" cy="2935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279880" cy="273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2273040" y="90792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Arial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7:15:17Z</dcterms:created>
  <dc:creator>клайшевич</dc:creator>
  <dc:description/>
  <dc:language>en-US</dc:language>
  <cp:lastModifiedBy>2014</cp:lastModifiedBy>
  <dcterms:modified xsi:type="dcterms:W3CDTF">2014-12-08T16:05:01Z</dcterms:modified>
  <cp:revision>45</cp:revision>
  <dc:subject/>
  <dc:title>Слайд 1</dc:title>
</cp:coreProperties>
</file>