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9.wmf" ContentType="image/x-wmf"/>
  <Override PartName="/ppt/media/image5.jpeg" ContentType="image/jpeg"/>
  <Override PartName="/ppt/media/image26.jpeg" ContentType="image/jpeg"/>
  <Override PartName="/ppt/media/image8.jpeg" ContentType="image/jpeg"/>
  <Override PartName="/ppt/media/image2.gif" ContentType="image/gif"/>
  <Override PartName="/ppt/media/image4.png" ContentType="image/png"/>
  <Override PartName="/ppt/media/image3.gif" ContentType="image/gif"/>
  <Override PartName="/ppt/media/image10.wmf" ContentType="image/x-wmf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A575-6EBE-44D5-8FF2-020B6267AD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5E9B-7489-4429-B12C-8B11EA7BC3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9BD2-D926-4D26-B3AB-25FCDD94C1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3BB2-0A44-4017-95AB-B61F7DDA3B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1E34-0099-4D91-B1A7-668A84E695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9E07-07DB-44E7-B7FA-AC693D5F8A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6387-E200-4F2D-9342-D8A1C6568C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B5A8-5E76-48E0-B478-89C14B086E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C66D-6B79-45B4-963B-372DF7FDF0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77EF-672A-4EC9-B211-DE6DF6F5F3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3057-7197-405C-B3F2-4CFAB97CE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E54A-366E-4E06-AD1A-8BCB7A07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F7BF-C140-4B3C-8DF3-5699DCC79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17EF-276E-471E-A9B3-F1CF5E7D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5C5D-FFBD-45D6-9E7A-A9B417BD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BE2E-206F-4446-B18E-E726B6F1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6A84-1A25-4567-A5CE-5C9638D3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21DE-B83D-4063-A8E5-97A36616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BEC0-10A9-410D-8286-5715809F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CC68-4999-4FF6-8B19-C2957C45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BE5E-BB7A-4CFB-99BC-47441C16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6AD2-E69B-4332-A515-8AE7010B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9AA5-8A8C-4653-971B-10437B7B835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A7BE-9EC8-435D-96D9-7C992CB66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Z:\newtek\_backgrounds_1.02\Ryan\PP Template 13\drops_falling.gif"/>
          <p:cNvPicPr/>
          <p:nvPr/>
        </p:nvPicPr>
        <p:blipFill>
          <a:blip r:embed="rId2"/>
          <a:stretch/>
        </p:blipFill>
        <p:spPr>
          <a:xfrm flipH="1"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62120" y="609480"/>
            <a:ext cx="7848360" cy="5478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 rot="20851200">
            <a:off x="990720" y="1599840"/>
            <a:ext cx="71676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Вода  для жизни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ли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послание воды человеку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83059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7.11. 2014 г    Жуленко О.А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9389-02C0-46AE-8396-DF0B2846E0D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 rot="20762400">
            <a:off x="533160" y="3809880"/>
            <a:ext cx="3124080" cy="234324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 rot="280200">
            <a:off x="5714640" y="3886200"/>
            <a:ext cx="2857680" cy="236232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 rot="1168200">
            <a:off x="5257440" y="914040"/>
            <a:ext cx="3048120" cy="20574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 rot="20584200">
            <a:off x="762120" y="609480"/>
            <a:ext cx="2971800" cy="219096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3048120" y="2590920"/>
            <a:ext cx="3124080" cy="228276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7.11. 2014 г    Жуленко О.А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052C-34D7-4A6E-8887-6A3764BC45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marL="11664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Спасибо </a:t>
            </a:r>
            <a:br>
              <a:rPr sz="6000"/>
            </a:b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за сотворчество!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7.11. 2014 г    Жуленко О.А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C5BE-D6DC-4123-A49E-CB2B98F29B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mph" presetID="27" repeatCount="indefinite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39" dur="500" autoRev="1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0" dur="500" autoRev="1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" dur="500" autoRev="1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image015"/>
          <p:cNvPicPr/>
          <p:nvPr/>
        </p:nvPicPr>
        <p:blipFill>
          <a:blip r:embed="rId2"/>
          <a:stretch/>
        </p:blipFill>
        <p:spPr>
          <a:xfrm>
            <a:off x="990720" y="380880"/>
            <a:ext cx="2228760" cy="2743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240" y="3352680"/>
            <a:ext cx="57913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Вода!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У тебя нет ни цвета, ни вкуса, ни запах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Тебя невозможно описа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Тобой наслаждают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не ведая, что ты тако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Нельзя сказа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что ты необходима для жизн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ты сама жизнь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2_14-313x400"/>
          <p:cNvPicPr/>
          <p:nvPr/>
        </p:nvPicPr>
        <p:blipFill>
          <a:blip r:embed="rId3"/>
          <a:stretch/>
        </p:blipFill>
        <p:spPr>
          <a:xfrm>
            <a:off x="5791320" y="914400"/>
            <a:ext cx="3100320" cy="3962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248520" y="4038480"/>
            <a:ext cx="2286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уан де Сент-Экзюпер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7.11. 2014 г    Жуленко О.А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B4A5-9570-447A-B12E-BFAFC0647D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autoRev="1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" dur="500" autoRev="1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" dur="500" autoRev="1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27" repeatCount="indefinite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6" dur="500" autoRev="1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" dur="500" autoRev="1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" dur="500" autoRev="1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53733217"/>
          <p:cNvPicPr/>
          <p:nvPr/>
        </p:nvPicPr>
        <p:blipFill>
          <a:blip r:embed="rId2"/>
          <a:srcRect l="30195" t="0" r="5614" b="16341"/>
          <a:stretch/>
        </p:blipFill>
        <p:spPr>
          <a:xfrm>
            <a:off x="533520" y="914400"/>
            <a:ext cx="6095880" cy="3041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Земля –планеты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img4"/>
          <p:cNvPicPr/>
          <p:nvPr/>
        </p:nvPicPr>
        <p:blipFill>
          <a:blip r:embed="rId3"/>
          <a:srcRect l="5267" t="10818" r="1317" b="0"/>
          <a:stretch/>
        </p:blipFill>
        <p:spPr>
          <a:xfrm>
            <a:off x="3352680" y="3809880"/>
            <a:ext cx="5410440" cy="28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7.11. 2014 г    Жуленко О.А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FDDB-1E6B-44B5-90E5-684761621C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419360" y="762120"/>
            <a:ext cx="41907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Содерж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вода для жизн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«озеро надежды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невероятно, но фак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послание воды     человек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воду сохранить нельзя уничтожит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3200400" cy="2133720"/>
          </a:xfrm>
          <a:prstGeom prst="rect">
            <a:avLst/>
          </a:prstGeom>
          <a:ln w="0">
            <a:noFill/>
          </a:ln>
        </p:spPr>
      </p:pic>
      <p:sp>
        <p:nvSpPr>
          <p:cNvPr id="62" name="WordArt 5"/>
          <p:cNvSpPr txBox="1"/>
          <p:nvPr/>
        </p:nvSpPr>
        <p:spPr>
          <a:xfrm>
            <a:off x="533520" y="2590920"/>
            <a:ext cx="3581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99cc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слание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99cc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99cc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ды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99cc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99cc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еловеку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99cc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3"/>
          <a:stretch/>
        </p:blipFill>
        <p:spPr>
          <a:xfrm>
            <a:off x="609480" y="4191120"/>
            <a:ext cx="3276720" cy="2286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0" y="2712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7.11. 2014 г    Жуленко О.А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1513-C50F-4A1C-9EC1-8FB6D2184F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25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4" dur="25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" dur="25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ода для жиз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51051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роходят эры – миллионолеть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Земля живет и будет жить всег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ка в артериях ее не иссяк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сточник Жизни – Чистая вод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Ковалевская НИ\ВОДА фото\7015399_322690001.jpg"/>
          <p:cNvPicPr/>
          <p:nvPr/>
        </p:nvPicPr>
        <p:blipFill>
          <a:blip r:embed="rId2"/>
          <a:stretch/>
        </p:blipFill>
        <p:spPr>
          <a:xfrm rot="540000">
            <a:off x="6477120" y="380520"/>
            <a:ext cx="1828800" cy="1737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7"/>
          <p:cNvSpPr/>
          <p:nvPr/>
        </p:nvSpPr>
        <p:spPr>
          <a:xfrm>
            <a:off x="1295280" y="2514600"/>
            <a:ext cx="5257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Вода- это то, что всем жизнь нам дает.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Что силы и бодрости нам придает…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Для нас же вода должна чистою бы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Давайте же воду все будем беречь.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От трат неразумных ее все стереч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voda-v-jizni-cheloveka"/>
          <p:cNvPicPr/>
          <p:nvPr/>
        </p:nvPicPr>
        <p:blipFill>
          <a:blip r:embed="rId3"/>
          <a:stretch/>
        </p:blipFill>
        <p:spPr>
          <a:xfrm rot="631200">
            <a:off x="6400440" y="2514240"/>
            <a:ext cx="2055960" cy="19051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0"/>
          <p:cNvSpPr/>
          <p:nvPr/>
        </p:nvSpPr>
        <p:spPr>
          <a:xfrm>
            <a:off x="3276720" y="4419720"/>
            <a:ext cx="53337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Иначе закончится может вода,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И жиз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на планете затихнет тогд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n836540"/>
          <p:cNvPicPr/>
          <p:nvPr/>
        </p:nvPicPr>
        <p:blipFill>
          <a:blip r:embed="rId4"/>
          <a:stretch/>
        </p:blipFill>
        <p:spPr>
          <a:xfrm rot="21366000">
            <a:off x="1600200" y="4419360"/>
            <a:ext cx="2209680" cy="2058840"/>
          </a:xfrm>
          <a:prstGeom prst="rect">
            <a:avLst/>
          </a:prstGeom>
          <a:ln w="0">
            <a:noFill/>
          </a:ln>
        </p:spPr>
      </p:pic>
      <p:pic>
        <p:nvPicPr>
          <p:cNvPr id="74" name="0162.mp3" descr=""/>
          <p:cNvPicPr/>
          <p:nvPr/>
        </p:nvPicPr>
        <p:blipFill>
          <a:blip r:embed="rId5"/>
          <a:stretch/>
        </p:blipFill>
        <p:spPr>
          <a:xfrm>
            <a:off x="815328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7.11. 2014 г    Жуленко О.А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F9B2-9735-4A70-9D80-1FC926E7B5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35083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350532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«ОЗЕРО НАДЕЖДЫ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6248520"/>
            <a:ext cx="7086600" cy="33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Баксанское ущелье. Долина нарзан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914400" y="3276720"/>
            <a:ext cx="2286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зеро Тамбук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gallery_promo19160430"/>
          <p:cNvPicPr/>
          <p:nvPr/>
        </p:nvPicPr>
        <p:blipFill>
          <a:blip r:embed="rId2"/>
          <a:stretch/>
        </p:blipFill>
        <p:spPr>
          <a:xfrm>
            <a:off x="685800" y="838080"/>
            <a:ext cx="3276720" cy="236232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sp>
        <p:nvSpPr>
          <p:cNvPr id="79" name="Rectangle 7"/>
          <p:cNvSpPr/>
          <p:nvPr/>
        </p:nvSpPr>
        <p:spPr>
          <a:xfrm>
            <a:off x="4495680" y="304920"/>
            <a:ext cx="41911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«РЕКА МОЕГО ДЕТСТ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f9e0bd1d3bd3"/>
          <p:cNvPicPr/>
          <p:nvPr/>
        </p:nvPicPr>
        <p:blipFill>
          <a:blip r:embed="rId3"/>
          <a:stretch/>
        </p:blipFill>
        <p:spPr>
          <a:xfrm>
            <a:off x="4876920" y="838080"/>
            <a:ext cx="3504960" cy="234324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sp>
        <p:nvSpPr>
          <p:cNvPr id="81" name="Rectangle 9"/>
          <p:cNvSpPr/>
          <p:nvPr/>
        </p:nvSpPr>
        <p:spPr>
          <a:xfrm>
            <a:off x="4803840" y="3352680"/>
            <a:ext cx="3727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Река Нальчик на входе в г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1798560" y="3657600"/>
            <a:ext cx="42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«РОДНИК МОЕЙ Ю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1" descr="2007-04-107"/>
          <p:cNvPicPr/>
          <p:nvPr/>
        </p:nvPicPr>
        <p:blipFill>
          <a:blip r:embed="rId4"/>
          <a:stretch/>
        </p:blipFill>
        <p:spPr>
          <a:xfrm>
            <a:off x="1447920" y="4191120"/>
            <a:ext cx="5867280" cy="19810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7.11. 2014 г    Жуленко О.А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C6A6-24C8-454C-A34B-339C9DDEB0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Невероятно, но факт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Расход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воды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населением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непомерно огромен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На фоне того, что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количество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пригодной для потребления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воды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постоянно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окращается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 перед  ЧЕЛОВЕКОМ встает вопрос о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рациональном использовании водных запа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609480" y="21024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80"/>
                </a:solidFill>
                <a:uFillTx/>
                <a:latin typeface="Times New Roman"/>
              </a:rPr>
              <a:t>Р</a:t>
            </a:r>
            <a:r>
              <a:rPr b="1" lang="en-US" sz="2000" spc="-1" strike="noStrike" u="sng">
                <a:solidFill>
                  <a:srgbClr val="000080"/>
                </a:solidFill>
                <a:uFillTx/>
                <a:latin typeface="Times New Roman"/>
                <a:ea typeface="Times New Roman"/>
              </a:rPr>
              <a:t>асход вод</a:t>
            </a:r>
            <a:r>
              <a:rPr b="1" lang="en-US" sz="2000" spc="-1" strike="noStrike" u="sng">
                <a:solidFill>
                  <a:srgbClr val="000080"/>
                </a:solidFill>
                <a:uFillTx/>
                <a:latin typeface="Times New Roman"/>
              </a:rPr>
              <a:t>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8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000" spc="-1" strike="noStrike" u="sng">
                <a:solidFill>
                  <a:srgbClr val="000080"/>
                </a:solidFill>
                <a:uFillTx/>
                <a:latin typeface="Times New Roman"/>
                <a:ea typeface="Times New Roman"/>
              </a:rPr>
              <a:t>в домашнем хозяйств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04920" y="2895480"/>
          <a:ext cx="4114800" cy="3353040"/>
        </p:xfrm>
        <a:graphic>
          <a:graphicData uri="http://schemas.openxmlformats.org/drawingml/2006/table">
            <a:tbl>
              <a:tblPr/>
              <a:tblGrid>
                <a:gridCol w="3263760"/>
                <a:gridCol w="851040"/>
              </a:tblGrid>
              <a:tr h="5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Вид потреб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асход воды,  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Чистка зуб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Туалет, 1 смы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уш 15 мину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Ва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Мытьё ру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Мытьё автомашины из шлан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олив огорода в течение 10 ми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тирка в стиральной маши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одтекающий кр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0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Rectangle 135"/>
          <p:cNvSpPr/>
          <p:nvPr/>
        </p:nvSpPr>
        <p:spPr>
          <a:xfrm>
            <a:off x="5486400" y="2209680"/>
            <a:ext cx="32767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36"/>
          <p:cNvSpPr/>
          <p:nvPr/>
        </p:nvSpPr>
        <p:spPr>
          <a:xfrm>
            <a:off x="4876920" y="2141280"/>
            <a:ext cx="380988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Что мы можем вмес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организовать в школ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«Клуб юных экологов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провести тематические ак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и экологические деса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на темы сбережения водных ресурс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сохранения ре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провести конкурс рисунков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плакатов на тему: «Сохраним природу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создать отряд волонтер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желающих сохранить малые ре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создать детское движ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«Река моего детств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7.11. 2014 г    Жуленко О.А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515F-B43F-48DD-85BF-CE68A55E52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ОСЛАНИЕ ВОДЫ ЧЕЛОВЕКУ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2320" y="5028840"/>
            <a:ext cx="64008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Я, ВОДА,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вас призываю - берегите природу сейчас</a:t>
            </a:r>
            <a:r>
              <a:rPr b="1" i="1" lang="en-US" sz="1600" spc="-1" strike="noStrike" u="sng">
                <a:solidFill>
                  <a:srgbClr val="000066"/>
                </a:solidFill>
                <a:uFillTx/>
                <a:latin typeface="Arial"/>
              </a:rPr>
              <a:t>,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пока не поздно, экономьте энергию, воду и природные ресурсы, так как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вы будущее нашей плане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С уважением, ваша ВОД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380880" y="1143000"/>
            <a:ext cx="670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« Я, ВОДА, я - часть тебя.  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Я бескорыстно отдаю себя тебе, ЧЕЛОВЕК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утоляю жажду, нежно ласкаю в   объятьях целебных источников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лечу целебными грязями, даю  тебе пищу физическую и духовную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…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228600" y="3124080"/>
            <a:ext cx="69343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И  всё это потому что, 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ВЫ, жители этой планеты не бережёте воду,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очень много её расходуете без пользы.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Вода загрязняется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мощны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заводами и фабриками, множество утечек нефти,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все отходы стекаю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в воды морей, рек и озёр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1" i="1" lang="en-US" sz="1400" spc="-1" strike="noStrike" u="sng">
                <a:solidFill>
                  <a:srgbClr val="000066"/>
                </a:solidFill>
                <a:uFillTx/>
                <a:latin typeface="Arial"/>
              </a:rPr>
              <a:t>Не останется деревьев и растений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вообще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леса вырубают,  почва разрушается.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Кислород будет вырабатываться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искусственно</a:t>
            </a:r>
            <a:r>
              <a:rPr b="1" i="1" lang="en-US" sz="1400" spc="-1" strike="noStrike" u="sng">
                <a:solidFill>
                  <a:srgbClr val="000066"/>
                </a:solidFill>
                <a:uFillTx/>
                <a:latin typeface="Arial"/>
              </a:rPr>
              <a:t>.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Воздуха не будет, так как ВЫ, ЛЮДИ, его сильно загрязняе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002038"/>
          <p:cNvPicPr/>
          <p:nvPr/>
        </p:nvPicPr>
        <p:blipFill>
          <a:blip r:embed="rId2"/>
          <a:stretch/>
        </p:blipFill>
        <p:spPr>
          <a:xfrm rot="574200">
            <a:off x="7314840" y="3429000"/>
            <a:ext cx="1360440" cy="12952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95" name="Picture 9" descr="26072"/>
          <p:cNvPicPr/>
          <p:nvPr/>
        </p:nvPicPr>
        <p:blipFill>
          <a:blip r:embed="rId3"/>
          <a:stretch/>
        </p:blipFill>
        <p:spPr>
          <a:xfrm rot="20837400">
            <a:off x="228240" y="1980720"/>
            <a:ext cx="1752480" cy="114300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96" name="Rectangle 6"/>
          <p:cNvSpPr/>
          <p:nvPr/>
        </p:nvSpPr>
        <p:spPr>
          <a:xfrm>
            <a:off x="1600200" y="1828800"/>
            <a:ext cx="7315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Я, ВОДА,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обращаюсь к тебе, ЧЕЛОВЕК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, с этим посланием, так ка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только от каждого из вас, и именно сейчас зависит, будем ли мы жить завтр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Скоро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не останется  чистой воды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– она вся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будет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только в закрыт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искусственных хранилищах</a:t>
            </a:r>
            <a:r>
              <a:rPr b="1" i="1" lang="en-US" sz="14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1" i="1" lang="en-US" sz="14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Там будет очищаться, и стоить очень дор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В реках и озёрах   её тоже не останется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1326_46"/>
          <p:cNvPicPr/>
          <p:nvPr/>
        </p:nvPicPr>
        <p:blipFill>
          <a:blip r:embed="rId4"/>
          <a:stretch/>
        </p:blipFill>
        <p:spPr>
          <a:xfrm rot="20509200">
            <a:off x="533160" y="4952520"/>
            <a:ext cx="1595160" cy="12956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98" name="Picture 12" descr="2010-09-22_12-58-25_9913276112"/>
          <p:cNvPicPr/>
          <p:nvPr/>
        </p:nvPicPr>
        <p:blipFill>
          <a:blip r:embed="rId5"/>
          <a:stretch/>
        </p:blipFill>
        <p:spPr>
          <a:xfrm rot="958200">
            <a:off x="7162560" y="838080"/>
            <a:ext cx="1523880" cy="11052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99" name="Г.Ф.Гендель - Музыка на воде Сюита 1  (audiopoisk.com).mp3" descr=""/>
          <p:cNvPicPr/>
          <p:nvPr/>
        </p:nvPicPr>
        <p:blipFill>
          <a:blip r:embed="rId6"/>
          <a:stretch/>
        </p:blipFill>
        <p:spPr>
          <a:xfrm>
            <a:off x="71629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666880" y="5943600"/>
            <a:ext cx="914400" cy="304920"/>
          </a:xfrm>
          <a:custGeom>
            <a:avLst/>
            <a:gdLst>
              <a:gd name="textAreaLeft" fmla="*/ 19440 w 914400"/>
              <a:gd name="textAreaRight" fmla="*/ 894960 w 9144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64724" h="21600">
                <a:moveTo>
                  <a:pt x="0" y="0"/>
                </a:moveTo>
                <a:lnTo>
                  <a:pt x="64724" y="0"/>
                </a:lnTo>
                <a:lnTo>
                  <a:pt x="64724" y="21600"/>
                </a:lnTo>
                <a:lnTo>
                  <a:pt x="0" y="21600"/>
                </a:lnTo>
                <a:close/>
              </a:path>
              <a:path fill="lightenLess" w="64724" h="21600">
                <a:moveTo>
                  <a:pt x="0" y="0"/>
                </a:moveTo>
                <a:lnTo>
                  <a:pt x="64724" y="0"/>
                </a:lnTo>
                <a:lnTo>
                  <a:pt x="63324" y="1400"/>
                </a:lnTo>
                <a:lnTo>
                  <a:pt x="1400" y="1400"/>
                </a:lnTo>
                <a:close/>
              </a:path>
              <a:path fill="darken" w="64724" h="21600">
                <a:moveTo>
                  <a:pt x="64724" y="0"/>
                </a:moveTo>
                <a:lnTo>
                  <a:pt x="64724" y="21600"/>
                </a:lnTo>
                <a:lnTo>
                  <a:pt x="63324" y="20200"/>
                </a:lnTo>
                <a:lnTo>
                  <a:pt x="63324" y="1400"/>
                </a:lnTo>
                <a:close/>
              </a:path>
              <a:path fill="darkenLess" w="64724" h="21600">
                <a:moveTo>
                  <a:pt x="647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4" y="20200"/>
                </a:lnTo>
                <a:close/>
              </a:path>
              <a:path fill="lighten" w="647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24" h="21600">
                <a:moveTo>
                  <a:pt x="25355" y="3794"/>
                </a:moveTo>
                <a:lnTo>
                  <a:pt x="39368" y="10800"/>
                </a:lnTo>
                <a:lnTo>
                  <a:pt x="2535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5943600"/>
            <a:ext cx="838080" cy="304920"/>
          </a:xfrm>
          <a:custGeom>
            <a:avLst/>
            <a:gdLst>
              <a:gd name="textAreaLeft" fmla="*/ 19440 w 838080"/>
              <a:gd name="textAreaRight" fmla="*/ 818640 w 838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9324" h="21600">
                <a:moveTo>
                  <a:pt x="0" y="0"/>
                </a:moveTo>
                <a:lnTo>
                  <a:pt x="59324" y="0"/>
                </a:lnTo>
                <a:lnTo>
                  <a:pt x="59324" y="21600"/>
                </a:lnTo>
                <a:lnTo>
                  <a:pt x="0" y="21600"/>
                </a:lnTo>
                <a:close/>
              </a:path>
              <a:path fill="lightenLess" w="59324" h="21600">
                <a:moveTo>
                  <a:pt x="0" y="0"/>
                </a:moveTo>
                <a:lnTo>
                  <a:pt x="59324" y="0"/>
                </a:lnTo>
                <a:lnTo>
                  <a:pt x="57924" y="1400"/>
                </a:lnTo>
                <a:lnTo>
                  <a:pt x="1400" y="1400"/>
                </a:lnTo>
                <a:close/>
              </a:path>
              <a:path fill="darken" w="59324" h="21600">
                <a:moveTo>
                  <a:pt x="59324" y="0"/>
                </a:moveTo>
                <a:lnTo>
                  <a:pt x="59324" y="21600"/>
                </a:lnTo>
                <a:lnTo>
                  <a:pt x="57924" y="20200"/>
                </a:lnTo>
                <a:lnTo>
                  <a:pt x="57924" y="1400"/>
                </a:lnTo>
                <a:close/>
              </a:path>
              <a:path fill="darkenLess" w="59324" h="21600">
                <a:moveTo>
                  <a:pt x="59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24" y="20200"/>
                </a:lnTo>
                <a:close/>
              </a:path>
              <a:path fill="lighten" w="59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24" h="21600">
                <a:moveTo>
                  <a:pt x="22655" y="3794"/>
                </a:moveTo>
                <a:lnTo>
                  <a:pt x="36668" y="10800"/>
                </a:lnTo>
                <a:lnTo>
                  <a:pt x="22655" y="17806"/>
                </a:lnTo>
                <a:close/>
              </a:path>
            </a:pathLst>
          </a:custGeom>
          <a:solidFill>
            <a:srgbClr val="62b7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7.11. 2014 г    Жуленко О.А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D116-DB94-4A74-ACAE-E7702D2AB7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ОДУ СОХРАНИТЬ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НЕЛЬЗЯ УНИЧТО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28640" y="2743200"/>
            <a:ext cx="35053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Если хотите исцелиться…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«Вода- водица,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Светлая царица,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Милая сестрица,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Ты моя родная,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Пожалей меня!</a:t>
            </a:r>
            <a:br>
              <a:rPr sz="16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3505320" y="990720"/>
            <a:ext cx="533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ТВОЙ ВЫБОР - ГДЕ ПОСТАВИТЬ ЗАПЯТУЮ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04920" y="1219320"/>
            <a:ext cx="3429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Вода живет, бежит и дышит.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Вода слова и мысли слышит.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И всё, что было – вода помнит.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И всё, что просите – исполнит!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Вода бессмертна и вечна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И дарит жизнь Земле о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5395680" y="1295280"/>
            <a:ext cx="3102120" cy="12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Издревле люди воду чтили.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Молились ей, детей крестили…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Любую грязь вода смывает,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Нас от болезней защищает.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Вода нам дарит чистоту,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Здоровье, радость, красот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609480" y="4724280"/>
            <a:ext cx="3267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И все живущие народы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Любят прохладу, любят воду.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Озера, реки и моря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Мы любим, видимо, не зря.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Вода – народов колыбель,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Вода – всеобщая купе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4343400" y="4572000"/>
            <a:ext cx="36482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Удали усталость,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И отодвинь старость,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Исцели болезни,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Будь же мне полезной,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Будь ко мне добра,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Милая сестра!»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         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В. Николае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0"/>
          <p:cNvSpPr/>
          <p:nvPr/>
        </p:nvSpPr>
        <p:spPr>
          <a:xfrm>
            <a:off x="6477120" y="152280"/>
            <a:ext cx="304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Сергей_Беликов_-_Живи_родник_(-).mp3" descr=""/>
          <p:cNvPicPr/>
          <p:nvPr/>
        </p:nvPicPr>
        <p:blipFill>
          <a:blip r:embed="rId2"/>
          <a:stretch/>
        </p:blipFill>
        <p:spPr>
          <a:xfrm>
            <a:off x="7621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3794"/>
                </a:moveTo>
                <a:lnTo>
                  <a:pt x="24558" y="10800"/>
                </a:lnTo>
                <a:lnTo>
                  <a:pt x="1054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 rot="21184800">
            <a:off x="609480" y="2895480"/>
            <a:ext cx="2362320" cy="163224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 rot="358800">
            <a:off x="6459120" y="3066840"/>
            <a:ext cx="2286000" cy="17128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5334120" y="0"/>
            <a:ext cx="533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7.11. 2014 г    Жуленко О.А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2074-7123-44F5-8E94-8357916795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205782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25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4" dur="25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" dur="25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25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5" dur="25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6" dur="25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5T19:51:24Z</dcterms:created>
  <dc:creator>Ольга</dc:creator>
  <dc:description/>
  <dc:language>en-US</dc:language>
  <cp:lastModifiedBy>Ольга</cp:lastModifiedBy>
  <dcterms:modified xsi:type="dcterms:W3CDTF">2015-01-04T15:04:44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