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3.gif" ContentType="image/gif"/>
  <Override PartName="/ppt/media/image10.wmf" ContentType="image/x-wmf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BF86-CF15-4160-AAE2-B78E5B00F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56C2-D979-4CA0-BE53-BA24032BB5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341C-555D-4878-9A68-CBBA3029C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3D46-5B60-49EB-A416-B955682C49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37A8-C5E1-4769-AD09-383610A06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FB6E-E2F7-4F4E-9CAD-D98CD11501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A94C-56CA-4809-8653-F1F408D58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2BB3-202E-4FA2-B6A9-D7D67DF42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8AA8-C254-4D56-BB31-EBA2D75D39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88F0-FEFF-4C51-8691-6902BDDF9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8A0-1F16-4C57-BD83-968212B4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4B5-760E-4CAD-83C8-1010D164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6D6-73DF-4C0D-8B68-D13CD090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E24-24DF-44B8-AF35-06B73439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C1D-BA18-4BD2-97AC-2E8D5D32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532-DB94-4E25-B60B-436B8984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611-E8CB-4DD0-9C6F-6A7C5002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020-7B87-4EEE-B8D7-AE4C3F9F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EBA-BC9C-422B-8618-66F1EE5F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F90-5022-4631-A933-DF20C8E3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B79-9529-435B-81AF-EE766AB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7C6-1C34-4514-92A7-DF3EA147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F27E-A726-4408-BEB7-5B72C45D6D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B116-9F31-4089-9E84-FDE76B027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Z:\newtek\_backgrounds_1.02\Ryan\PP Template 13\drops_falling.gif"/>
          <p:cNvPicPr/>
          <p:nvPr/>
        </p:nvPicPr>
        <p:blipFill>
          <a:blip r:embed="rId2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62120" y="609480"/>
            <a:ext cx="7848360" cy="5478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20851200">
            <a:off x="990720" y="1599840"/>
            <a:ext cx="7167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ода  для жизни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ли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послание воды человеку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F84-1A8C-4482-A37F-D816C081A9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20762400">
            <a:off x="533160" y="3809880"/>
            <a:ext cx="3124080" cy="2343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rot="280200">
            <a:off x="5714640" y="3886200"/>
            <a:ext cx="2857680" cy="2362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rot="1168200">
            <a:off x="5257440" y="914040"/>
            <a:ext cx="3048120" cy="20574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 rot="20584200">
            <a:off x="762120" y="609480"/>
            <a:ext cx="2971800" cy="21909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048120" y="2590920"/>
            <a:ext cx="3124080" cy="2282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E51-91A0-4732-8079-F83A221890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Спасибо 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за сотворчество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D73-241E-4556-8657-9E3D96201B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27" repeatCount="indefinite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39" dur="500" autoRev="1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" dur="500" autoRev="1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" dur="500" autoRev="1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image015"/>
          <p:cNvPicPr/>
          <p:nvPr/>
        </p:nvPicPr>
        <p:blipFill>
          <a:blip r:embed="rId2"/>
          <a:stretch/>
        </p:blipFill>
        <p:spPr>
          <a:xfrm>
            <a:off x="990720" y="380880"/>
            <a:ext cx="222876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3352680"/>
            <a:ext cx="57913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ода!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 тебя нет ни цвета, ни вкуса, ни запах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ебя невозможно опис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обой наслаждаю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е ведая, что ты та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ельзя сказ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что ты необходима для жиз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ы сама жизнь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_14-313x400"/>
          <p:cNvPicPr/>
          <p:nvPr/>
        </p:nvPicPr>
        <p:blipFill>
          <a:blip r:embed="rId3"/>
          <a:stretch/>
        </p:blipFill>
        <p:spPr>
          <a:xfrm>
            <a:off x="5791320" y="914400"/>
            <a:ext cx="3100320" cy="3962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248520" y="40384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уан де Сент-Экзюпер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F70-917F-4BC3-B0F1-B0F25514EA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autoRev="1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7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6" dur="500" autoRev="1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500" autoRev="1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53733217"/>
          <p:cNvPicPr/>
          <p:nvPr/>
        </p:nvPicPr>
        <p:blipFill>
          <a:blip r:embed="rId2"/>
          <a:srcRect l="30195" t="0" r="5614" b="16341"/>
          <a:stretch/>
        </p:blipFill>
        <p:spPr>
          <a:xfrm>
            <a:off x="533520" y="914400"/>
            <a:ext cx="6095880" cy="3041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Земля –планеты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mg4"/>
          <p:cNvPicPr/>
          <p:nvPr/>
        </p:nvPicPr>
        <p:blipFill>
          <a:blip r:embed="rId3"/>
          <a:srcRect l="5267" t="10818" r="1317" b="0"/>
          <a:stretch/>
        </p:blipFill>
        <p:spPr>
          <a:xfrm>
            <a:off x="3352680" y="3809880"/>
            <a:ext cx="541044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8ED-C50B-492F-BF01-74A4FC563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419360" y="762120"/>
            <a:ext cx="4190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вода для жизн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озеро надежды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евероятно, но фак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слание воды     челове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оду сохранить нельзя уничтож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533520" y="259092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ани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ды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ловеку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327672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271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11C-1222-4FA3-A69C-098D4F47CF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да для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5105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оходят эры – миллионолет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Земля живет и будет жить всег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ка в артериях ее не иссяк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сточник Жизни – Чистая вод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Ковалевская НИ\ВОДА фото\7015399_322690001.jpg"/>
          <p:cNvPicPr/>
          <p:nvPr/>
        </p:nvPicPr>
        <p:blipFill>
          <a:blip r:embed="rId2"/>
          <a:stretch/>
        </p:blipFill>
        <p:spPr>
          <a:xfrm rot="540000">
            <a:off x="6477120" y="380520"/>
            <a:ext cx="1828800" cy="17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1295280" y="251460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ода- это то, что всем жизнь нам дает.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Что силы и бодрости нам придает…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Для нас же вода должна чистою бы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Давайте же воду все будем беречь.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т трат неразумных ее все стереч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voda-v-jizni-cheloveka"/>
          <p:cNvPicPr/>
          <p:nvPr/>
        </p:nvPicPr>
        <p:blipFill>
          <a:blip r:embed="rId3"/>
          <a:stretch/>
        </p:blipFill>
        <p:spPr>
          <a:xfrm rot="631200">
            <a:off x="6400440" y="2514240"/>
            <a:ext cx="2055960" cy="1905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276720" y="4419720"/>
            <a:ext cx="53337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наче закончится может вода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а планете затихнет тогд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n836540"/>
          <p:cNvPicPr/>
          <p:nvPr/>
        </p:nvPicPr>
        <p:blipFill>
          <a:blip r:embed="rId4"/>
          <a:stretch/>
        </p:blipFill>
        <p:spPr>
          <a:xfrm rot="21366000">
            <a:off x="1600200" y="4419360"/>
            <a:ext cx="2209680" cy="2058840"/>
          </a:xfrm>
          <a:prstGeom prst="rect">
            <a:avLst/>
          </a:prstGeom>
          <a:ln w="0">
            <a:noFill/>
          </a:ln>
        </p:spPr>
      </p:pic>
      <p:pic>
        <p:nvPicPr>
          <p:cNvPr id="74" name="0162.mp3" descr=""/>
          <p:cNvPicPr/>
          <p:nvPr/>
        </p:nvPicPr>
        <p:blipFill>
          <a:blip r:embed="rId5"/>
          <a:stretch/>
        </p:blipFill>
        <p:spPr>
          <a:xfrm>
            <a:off x="81532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3BC-C72A-4046-A0A5-CD15B4BF46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508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505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ОЗЕРО НАДЕЖДЫ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6248520"/>
            <a:ext cx="7086600" cy="3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аксанское ущелье. Долина нарзан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914400" y="3276720"/>
            <a:ext cx="2286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зеро Тамбу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gallery_promo19160430"/>
          <p:cNvPicPr/>
          <p:nvPr/>
        </p:nvPicPr>
        <p:blipFill>
          <a:blip r:embed="rId2"/>
          <a:stretch/>
        </p:blipFill>
        <p:spPr>
          <a:xfrm>
            <a:off x="685800" y="838080"/>
            <a:ext cx="3276720" cy="2362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79" name="Rectangle 7"/>
          <p:cNvSpPr/>
          <p:nvPr/>
        </p:nvSpPr>
        <p:spPr>
          <a:xfrm>
            <a:off x="4495680" y="304920"/>
            <a:ext cx="4191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РЕКА МОЕГО ДЕТ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f9e0bd1d3bd3"/>
          <p:cNvPicPr/>
          <p:nvPr/>
        </p:nvPicPr>
        <p:blipFill>
          <a:blip r:embed="rId3"/>
          <a:stretch/>
        </p:blipFill>
        <p:spPr>
          <a:xfrm>
            <a:off x="4876920" y="838080"/>
            <a:ext cx="3504960" cy="2343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81" name="Rectangle 9"/>
          <p:cNvSpPr/>
          <p:nvPr/>
        </p:nvSpPr>
        <p:spPr>
          <a:xfrm>
            <a:off x="4803840" y="3352680"/>
            <a:ext cx="372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ека Нальчик на входе в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798560" y="365760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РОДНИК МОЕЙ Ю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2007-04-107"/>
          <p:cNvPicPr/>
          <p:nvPr/>
        </p:nvPicPr>
        <p:blipFill>
          <a:blip r:embed="rId4"/>
          <a:stretch/>
        </p:blipFill>
        <p:spPr>
          <a:xfrm>
            <a:off x="1447920" y="4191120"/>
            <a:ext cx="5867280" cy="1981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4EA-E939-4C64-9CA8-933FD4BC2A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Невероятно, но факт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схо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воды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населением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непомерно огромен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 фоне того, что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оличество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ригодной для потребления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од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остоянн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кращается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 перед  ЧЕЛОВЕКОМ встает вопрос о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циональном использовании водных зап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21024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</a:rPr>
              <a:t>Р</a:t>
            </a: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асход вод</a:t>
            </a: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в домашнем хозяйст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2895480"/>
          <a:ext cx="4114800" cy="3353040"/>
        </p:xfrm>
        <a:graphic>
          <a:graphicData uri="http://schemas.openxmlformats.org/drawingml/2006/table">
            <a:tbl>
              <a:tblPr/>
              <a:tblGrid>
                <a:gridCol w="3263760"/>
                <a:gridCol w="851040"/>
              </a:tblGrid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ид потре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асход воды,  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Чистка зуб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уалет, 1 смы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уш 15 мин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ытьё р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ытьё автомашины из шла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лив огорода в течение 10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ирка в стиральной маш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дтекающий кр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35"/>
          <p:cNvSpPr/>
          <p:nvPr/>
        </p:nvSpPr>
        <p:spPr>
          <a:xfrm>
            <a:off x="5486400" y="2209680"/>
            <a:ext cx="3276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6"/>
          <p:cNvSpPr/>
          <p:nvPr/>
        </p:nvSpPr>
        <p:spPr>
          <a:xfrm>
            <a:off x="4876920" y="2141280"/>
            <a:ext cx="38098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Что мы можем вмес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рганизовать в шко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«Клуб юных экологов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провести тематические 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и экологические дес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а темы сбережения водных ресурс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хранения ре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провести конкурс рисунков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плакатов на тему: «Сохраним природу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здать отряд волонтер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желающих сохранить малые ре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создать детское дви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«Река моего детств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CAA-B966-4F43-8103-BF0B01543B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СЛАНИЕ ВОДЫ ЧЕЛОВЕКУ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2320" y="5028840"/>
            <a:ext cx="64008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Я, ВОДА,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ас призываю - берегите природу сейчас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,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пока не поздно, экономьте энергию, воду и природные ресурсы, так как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ы будущее нашей план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 уважением, ваша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80880" y="1143000"/>
            <a:ext cx="670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« Я, ВОДА, я - часть тебя.  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Я бескорыстно отдаю себя тебе, ЧЕЛОВЕК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утоляю жажду, нежно ласкаю в   объятьях целебных источник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лечу целебными грязями, даю  тебе пищу физическую и духовную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…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28600" y="3124080"/>
            <a:ext cx="693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  всё это потому что, 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ВЫ, жители этой планеты не бережёте воду,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очень много её расходуете без пользы.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Вода загрязняется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мощ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заводами и фабриками, множество утечек нефти,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все отходы стека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в воды морей, рек и озёр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i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Не останется деревьев и растений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вообще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леса вырубают,  почва разрушается.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Кислород будет вырабатываться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искусственно</a:t>
            </a:r>
            <a:r>
              <a:rPr b="1" i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Воздуха не будет, так как ВЫ, ЛЮДИ, его сильно загрязня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002038"/>
          <p:cNvPicPr/>
          <p:nvPr/>
        </p:nvPicPr>
        <p:blipFill>
          <a:blip r:embed="rId2"/>
          <a:stretch/>
        </p:blipFill>
        <p:spPr>
          <a:xfrm rot="574200">
            <a:off x="7314840" y="3429000"/>
            <a:ext cx="1360440" cy="12952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5" name="Picture 9" descr="26072"/>
          <p:cNvPicPr/>
          <p:nvPr/>
        </p:nvPicPr>
        <p:blipFill>
          <a:blip r:embed="rId3"/>
          <a:stretch/>
        </p:blipFill>
        <p:spPr>
          <a:xfrm rot="20837400">
            <a:off x="228240" y="1980720"/>
            <a:ext cx="1752480" cy="1143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1600200" y="1828800"/>
            <a:ext cx="7315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Я, ВОДА,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обращаюсь к тебе, ЧЕЛОВЕК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, с этим посланием, так к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только от каждого из вас, и именно сейчас зависит, будем ли мы жить завт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Скоро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не останется  чистой воды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– она вся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будет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только в закрыт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искусственных хранилищах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i="1" lang="en-US" sz="1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Там будет очищаться, и стоить очень дор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В реках и озёрах   её тоже не останется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1326_46"/>
          <p:cNvPicPr/>
          <p:nvPr/>
        </p:nvPicPr>
        <p:blipFill>
          <a:blip r:embed="rId4"/>
          <a:stretch/>
        </p:blipFill>
        <p:spPr>
          <a:xfrm rot="20509200">
            <a:off x="533160" y="4952520"/>
            <a:ext cx="1595160" cy="1295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8" name="Picture 12" descr="2010-09-22_12-58-25_9913276112"/>
          <p:cNvPicPr/>
          <p:nvPr/>
        </p:nvPicPr>
        <p:blipFill>
          <a:blip r:embed="rId5"/>
          <a:stretch/>
        </p:blipFill>
        <p:spPr>
          <a:xfrm rot="958200">
            <a:off x="7162560" y="838080"/>
            <a:ext cx="1523880" cy="11052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9" name="Г.Ф.Гендель - Музыка на воде Сюита 1  (audiopoisk.com).mp3" descr=""/>
          <p:cNvPicPr/>
          <p:nvPr/>
        </p:nvPicPr>
        <p:blipFill>
          <a:blip r:embed="rId6"/>
          <a:stretch/>
        </p:blipFill>
        <p:spPr>
          <a:xfrm>
            <a:off x="7162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666880" y="59436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3794"/>
                </a:moveTo>
                <a:lnTo>
                  <a:pt x="39368" y="10800"/>
                </a:lnTo>
                <a:lnTo>
                  <a:pt x="2535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594360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24" h="21600">
                <a:moveTo>
                  <a:pt x="22655" y="3794"/>
                </a:moveTo>
                <a:lnTo>
                  <a:pt x="36668" y="10800"/>
                </a:lnTo>
                <a:lnTo>
                  <a:pt x="22655" y="17806"/>
                </a:lnTo>
                <a:close/>
              </a:path>
            </a:pathLst>
          </a:custGeom>
          <a:solidFill>
            <a:srgbClr val="62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E79-ED45-4DF2-AEEF-DDCDA6449B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ОДУ СОХРАНИТЬ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НЕЛЬЗЯ УНИЧТ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8640" y="2743200"/>
            <a:ext cx="3505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Если хотите исцелиться…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«Вода- водица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Светлая царица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Милая сестрица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Ты моя родная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Пожалей меня!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505320" y="990720"/>
            <a:ext cx="533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ТВОЙ ВЫБОР - ГДЕ ПОСТАВИТЬ ЗАПЯТУ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04920" y="1219320"/>
            <a:ext cx="3429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живет, бежит и дышит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слова и мысли слышит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всё, что было – вода помнит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всё, что просите – исполнит!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бессмертна и вечна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дарит жизнь Земле 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395680" y="1295280"/>
            <a:ext cx="310212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здревле люди воду чтили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Молились ей, детей крестили…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Любую грязь вода смывает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Нас от болезней защищает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нам дарит чистоту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Здоровье, радость, красот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09480" y="4724280"/>
            <a:ext cx="3267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все живущие народы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Любят прохладу, любят воду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Озера, реки и моря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Мы любим, видимо, не зря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– народов колыбель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– всеобщая куп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4343400" y="4572000"/>
            <a:ext cx="3648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Удали усталость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отодвинь старость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сцели болезни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Будь же мне полезной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Будь ко мне добра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Милая сестра!»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В. Никола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0"/>
          <p:cNvSpPr/>
          <p:nvPr/>
        </p:nvSpPr>
        <p:spPr>
          <a:xfrm>
            <a:off x="6477120" y="152280"/>
            <a:ext cx="30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ергей_Беликов_-_Живи_родник_(-).mp3" descr=""/>
          <p:cNvPicPr/>
          <p:nvPr/>
        </p:nvPicPr>
        <p:blipFill>
          <a:blip r:embed="rId2"/>
          <a:stretch/>
        </p:blipFill>
        <p:spPr>
          <a:xfrm>
            <a:off x="7621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24558" y="10800"/>
                </a:lnTo>
                <a:lnTo>
                  <a:pt x="105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21184800">
            <a:off x="609480" y="2895480"/>
            <a:ext cx="2362320" cy="163224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 rot="358800">
            <a:off x="6459120" y="3066840"/>
            <a:ext cx="2286000" cy="1712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334120" y="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8E4-70EA-46DA-A0C0-C5789C82AA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05782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5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9:51:24Z</dcterms:created>
  <dc:creator>Ольга</dc:creator>
  <dc:description/>
  <dc:language>en-US</dc:language>
  <cp:lastModifiedBy>Ольга</cp:lastModifiedBy>
  <dcterms:modified xsi:type="dcterms:W3CDTF">2015-01-04T15:04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