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3.gif" ContentType="image/gif"/>
  <Override PartName="/ppt/media/image10.wmf" ContentType="image/x-wmf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517B-D6A0-4823-B5A3-6F082D17D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B025-3762-4CC0-8440-173B71A1AB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0848-DBBF-4FC5-81F9-B112CE420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9D5-A60E-49ED-B2EA-5B39DFF11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8FB7-0A5C-4CC3-8E26-806D885A1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B0AB-E3CF-4436-8596-FE4A1B1C3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2419-3EB2-4E69-BE6A-0AF028FCF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B31C-6912-4B25-A9A0-9078700EB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A45-8EA9-4485-8839-E3169B8A7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266E-BE5F-4E7E-9F5C-8AE464A888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4DB-EF1E-4C1F-B3A9-C6388DC8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9D7-30EC-4F38-B1D4-44429381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84B-854D-4DC3-A770-0BD4E235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26B-4AAB-47D6-A12E-94BD7366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1C6-4455-4688-B5FB-EA19C68A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07D-BE1C-4ED3-8122-7CAFDAEA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048-B496-43EE-93B3-D1E3C3C5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537-4DDB-4C20-9218-9DB96335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E08-E12B-401F-A74A-6F7841D1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2FF-89B1-44C0-B883-8074AB05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E12-19AE-41C6-8ABF-E4E2E37A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882-2E64-4A3A-B895-1EAE3FD7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E05E-B542-438B-AE39-298347AAC3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0ED-5777-4297-8F5D-799A7DBD6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Z:\newtek\_backgrounds_1.02\Ryan\PP Template 13\drops_falling.gif"/>
          <p:cNvPicPr/>
          <p:nvPr/>
        </p:nvPicPr>
        <p:blipFill>
          <a:blip r:embed="rId2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62120" y="609480"/>
            <a:ext cx="7848360" cy="547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20851200">
            <a:off x="990720" y="1599840"/>
            <a:ext cx="7167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ода  для жизни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ли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ослание воды человеку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482-E3B6-4954-B884-739FE0A0AC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20762400">
            <a:off x="533160" y="3809880"/>
            <a:ext cx="3124080" cy="2343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280200">
            <a:off x="5714640" y="3886200"/>
            <a:ext cx="2857680" cy="2362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1168200">
            <a:off x="5257440" y="914040"/>
            <a:ext cx="3048120" cy="20574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 rot="20584200">
            <a:off x="762120" y="609480"/>
            <a:ext cx="2971800" cy="21909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048120" y="2590920"/>
            <a:ext cx="3124080" cy="2282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99B-A841-446F-99F6-29D3A26926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Спасибо 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за сотворчество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F29-DB27-4742-841F-7102495D5D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7" repeatCount="indefinite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39" dur="500" autoRev="1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500" autoRev="1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500" autoRev="1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age015"/>
          <p:cNvPicPr/>
          <p:nvPr/>
        </p:nvPicPr>
        <p:blipFill>
          <a:blip r:embed="rId2"/>
          <a:stretch/>
        </p:blipFill>
        <p:spPr>
          <a:xfrm>
            <a:off x="990720" y="380880"/>
            <a:ext cx="222876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3352680"/>
            <a:ext cx="5791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ода!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 тебя нет ни цвета, ни вкуса, ни запах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ебя невозможно опис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обой наслаждаю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е ведая, что ты та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ельзя сказ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что ты необходима для жиз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ы сама жизнь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_14-313x400"/>
          <p:cNvPicPr/>
          <p:nvPr/>
        </p:nvPicPr>
        <p:blipFill>
          <a:blip r:embed="rId3"/>
          <a:stretch/>
        </p:blipFill>
        <p:spPr>
          <a:xfrm>
            <a:off x="5791320" y="914400"/>
            <a:ext cx="3100320" cy="3962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248520" y="40384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уан де Сент-Экзюпер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C18-DBFA-453C-90D0-57E96B448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autoRev="1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7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6" dur="500" autoRev="1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500" autoRev="1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53733217"/>
          <p:cNvPicPr/>
          <p:nvPr/>
        </p:nvPicPr>
        <p:blipFill>
          <a:blip r:embed="rId2"/>
          <a:srcRect l="30195" t="0" r="5614" b="16341"/>
          <a:stretch/>
        </p:blipFill>
        <p:spPr>
          <a:xfrm>
            <a:off x="533520" y="914400"/>
            <a:ext cx="6095880" cy="3041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Земля –планеты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mg4"/>
          <p:cNvPicPr/>
          <p:nvPr/>
        </p:nvPicPr>
        <p:blipFill>
          <a:blip r:embed="rId3"/>
          <a:srcRect l="5267" t="10818" r="1317" b="0"/>
          <a:stretch/>
        </p:blipFill>
        <p:spPr>
          <a:xfrm>
            <a:off x="3352680" y="3809880"/>
            <a:ext cx="541044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BDC-CF9E-4983-B4F2-E3A8927B23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4190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вода для жизн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озеро надежды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евероятно, но фак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слание воды     челове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оду сохранить нельзя уничтож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533520" y="259092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ани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ды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ловеку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32767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271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989-67B9-4961-97EF-25BEE1465D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да для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5105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оходят эры – миллионолет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емля живет и будет жить 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ка в артериях ее не иссяк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сточник Жизни – Чистая во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Ковалевская НИ\ВОДА фото\7015399_322690001.jpg"/>
          <p:cNvPicPr/>
          <p:nvPr/>
        </p:nvPicPr>
        <p:blipFill>
          <a:blip r:embed="rId2"/>
          <a:stretch/>
        </p:blipFill>
        <p:spPr>
          <a:xfrm rot="540000">
            <a:off x="6477120" y="380520"/>
            <a:ext cx="1828800" cy="17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1295280" y="251460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ода- это то, что всем жизнь нам дает.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то силы и бодрости нам придает…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Для нас же вода должна чистою бы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Давайте же воду все будем беречь.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т трат неразумных ее все стереч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voda-v-jizni-cheloveka"/>
          <p:cNvPicPr/>
          <p:nvPr/>
        </p:nvPicPr>
        <p:blipFill>
          <a:blip r:embed="rId3"/>
          <a:stretch/>
        </p:blipFill>
        <p:spPr>
          <a:xfrm rot="631200">
            <a:off x="6400440" y="2514240"/>
            <a:ext cx="2055960" cy="1905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276720" y="4419720"/>
            <a:ext cx="53337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наче закончится может вода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а планете затихнет тог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n836540"/>
          <p:cNvPicPr/>
          <p:nvPr/>
        </p:nvPicPr>
        <p:blipFill>
          <a:blip r:embed="rId4"/>
          <a:stretch/>
        </p:blipFill>
        <p:spPr>
          <a:xfrm rot="21366000">
            <a:off x="1600200" y="4419360"/>
            <a:ext cx="2209680" cy="2058840"/>
          </a:xfrm>
          <a:prstGeom prst="rect">
            <a:avLst/>
          </a:prstGeom>
          <a:ln w="0">
            <a:noFill/>
          </a:ln>
        </p:spPr>
      </p:pic>
      <p:pic>
        <p:nvPicPr>
          <p:cNvPr id="74" name="0162.mp3" descr=""/>
          <p:cNvPicPr/>
          <p:nvPr/>
        </p:nvPicPr>
        <p:blipFill>
          <a:blip r:embed="rId5"/>
          <a:stretch/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379-BD00-4B3A-9720-D1198CD0CB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508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505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ОЗЕРО НАДЕЖДЫ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6248520"/>
            <a:ext cx="7086600" cy="3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аксанское ущелье. Долина нарзан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914400" y="3276720"/>
            <a:ext cx="2286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зеро Тамбу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gallery_promo19160430"/>
          <p:cNvPicPr/>
          <p:nvPr/>
        </p:nvPicPr>
        <p:blipFill>
          <a:blip r:embed="rId2"/>
          <a:stretch/>
        </p:blipFill>
        <p:spPr>
          <a:xfrm>
            <a:off x="685800" y="838080"/>
            <a:ext cx="3276720" cy="2362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79" name="Rectangle 7"/>
          <p:cNvSpPr/>
          <p:nvPr/>
        </p:nvSpPr>
        <p:spPr>
          <a:xfrm>
            <a:off x="4495680" y="304920"/>
            <a:ext cx="4191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РЕКА МОЕГО ДЕТ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f9e0bd1d3bd3"/>
          <p:cNvPicPr/>
          <p:nvPr/>
        </p:nvPicPr>
        <p:blipFill>
          <a:blip r:embed="rId3"/>
          <a:stretch/>
        </p:blipFill>
        <p:spPr>
          <a:xfrm>
            <a:off x="4876920" y="838080"/>
            <a:ext cx="3504960" cy="2343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1" name="Rectangle 9"/>
          <p:cNvSpPr/>
          <p:nvPr/>
        </p:nvSpPr>
        <p:spPr>
          <a:xfrm>
            <a:off x="4803840" y="3352680"/>
            <a:ext cx="372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ека Нальчик на входе в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798560" y="36576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РОДНИК МОЕЙ Ю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2007-04-107"/>
          <p:cNvPicPr/>
          <p:nvPr/>
        </p:nvPicPr>
        <p:blipFill>
          <a:blip r:embed="rId4"/>
          <a:stretch/>
        </p:blipFill>
        <p:spPr>
          <a:xfrm>
            <a:off x="1447920" y="4191120"/>
            <a:ext cx="5867280" cy="198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2A8-A7A3-4B25-B860-8136FC4796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евероятно, но факт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схо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воды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населением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непомерно огромен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 фоне того, что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оличество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игодной для потребления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од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остоянн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кращается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 перед  ЧЕЛОВЕКОМ встает вопрос о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циональном использовании водных зап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2102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</a:rPr>
              <a:t>Р</a:t>
            </a: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асход вод</a:t>
            </a: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в домашнем хозяйст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2895480"/>
          <a:ext cx="4114800" cy="3353040"/>
        </p:xfrm>
        <a:graphic>
          <a:graphicData uri="http://schemas.openxmlformats.org/drawingml/2006/table">
            <a:tbl>
              <a:tblPr/>
              <a:tblGrid>
                <a:gridCol w="3263760"/>
                <a:gridCol w="851040"/>
              </a:tblGrid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ид потре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асход воды, 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Чистка зуб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уалет, 1 смы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уш 15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ытьё р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ытьё автомашины из шла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лив огорода в течение 1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ирка в стиральной маш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дтекающий кр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35"/>
          <p:cNvSpPr/>
          <p:nvPr/>
        </p:nvSpPr>
        <p:spPr>
          <a:xfrm>
            <a:off x="5486400" y="2209680"/>
            <a:ext cx="3276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6"/>
          <p:cNvSpPr/>
          <p:nvPr/>
        </p:nvSpPr>
        <p:spPr>
          <a:xfrm>
            <a:off x="4876920" y="2141280"/>
            <a:ext cx="38098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Что мы можем вмес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рганизовать в шко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«Клуб юных экологов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провести тематические 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и экологические дес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а темы сбережения водных ресурс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хранения ре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провести конкурс рисунков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лакатов на тему: «Сохраним природу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здать отряд волонтер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желающих сохранить малые ре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создать детское дви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«Река моего детств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E8C-020C-4231-B8E4-FB7ED3B55A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СЛАНИЕ ВОДЫ ЧЕЛОВЕКУ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2320" y="5028840"/>
            <a:ext cx="64008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Я, ВОДА,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ас призываю - берегите природу сейчас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,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пока не поздно, экономьте энергию, воду и природные ресурсы, так как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ы будущее нашей план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 уважением, ваша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80880" y="11430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« Я, ВОДА, я - часть тебя. 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Я бескорыстно отдаю себя тебе, ЧЕЛОВЕК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утоляю жажду, нежно ласкаю в   объятьях целебных источни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лечу целебными грязями, даю  тебе пищу физическую и духовную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…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28600" y="312408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  всё это потому что,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Ы, жители этой планеты не бережёте воду,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чень много её расходуете без пользы.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ода загрязняется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мощ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заводами и фабриками, множество утечек нефти,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се отходы стека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 воды морей, рек и озёр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Не останется деревьев и растений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вообще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леса вырубают,  почва разрушается.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Кислород будет вырабатываться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искусственно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Воздуха не будет, так как ВЫ, ЛЮДИ, его сильно загрязня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002038"/>
          <p:cNvPicPr/>
          <p:nvPr/>
        </p:nvPicPr>
        <p:blipFill>
          <a:blip r:embed="rId2"/>
          <a:stretch/>
        </p:blipFill>
        <p:spPr>
          <a:xfrm rot="574200">
            <a:off x="7314840" y="3429000"/>
            <a:ext cx="1360440" cy="12952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5" name="Picture 9" descr="26072"/>
          <p:cNvPicPr/>
          <p:nvPr/>
        </p:nvPicPr>
        <p:blipFill>
          <a:blip r:embed="rId3"/>
          <a:stretch/>
        </p:blipFill>
        <p:spPr>
          <a:xfrm rot="20837400">
            <a:off x="228240" y="1980720"/>
            <a:ext cx="1752480" cy="1143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1600200" y="182880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Я, ВОДА,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обращаюсь к тебе, ЧЕЛОВЕК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, с этим посланием, так к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только от каждого из вас, и именно сейчас зависит, будем ли мы жить зав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Скоро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не останется  чистой воды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– она вся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будет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только в закрыт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искусственных хранилищах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ам будет очищаться, и стоить очень дор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 реках и озёрах   её тоже не останется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1326_46"/>
          <p:cNvPicPr/>
          <p:nvPr/>
        </p:nvPicPr>
        <p:blipFill>
          <a:blip r:embed="rId4"/>
          <a:stretch/>
        </p:blipFill>
        <p:spPr>
          <a:xfrm rot="20509200">
            <a:off x="533160" y="4952520"/>
            <a:ext cx="1595160" cy="1295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8" name="Picture 12" descr="2010-09-22_12-58-25_9913276112"/>
          <p:cNvPicPr/>
          <p:nvPr/>
        </p:nvPicPr>
        <p:blipFill>
          <a:blip r:embed="rId5"/>
          <a:stretch/>
        </p:blipFill>
        <p:spPr>
          <a:xfrm rot="958200">
            <a:off x="7162560" y="838080"/>
            <a:ext cx="1523880" cy="1105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9" name="Г.Ф.Гендель - Музыка на воде Сюита 1  (audiopoisk.com).mp3" descr=""/>
          <p:cNvPicPr/>
          <p:nvPr/>
        </p:nvPicPr>
        <p:blipFill>
          <a:blip r:embed="rId6"/>
          <a:stretch/>
        </p:blipFill>
        <p:spPr>
          <a:xfrm>
            <a:off x="7162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66880" y="59436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3794"/>
                </a:moveTo>
                <a:lnTo>
                  <a:pt x="39368" y="10800"/>
                </a:lnTo>
                <a:lnTo>
                  <a:pt x="2535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59436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22655" y="3794"/>
                </a:moveTo>
                <a:lnTo>
                  <a:pt x="36668" y="10800"/>
                </a:lnTo>
                <a:lnTo>
                  <a:pt x="22655" y="17806"/>
                </a:lnTo>
                <a:close/>
              </a:path>
            </a:pathLst>
          </a:custGeom>
          <a:solidFill>
            <a:srgbClr val="62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47D-7F8B-451A-AFEE-6D5DC06662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ОДУ СОХРАНИТЬ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НЕЛЬЗЯ УНИЧТ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8640" y="2743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Если хотите исцелиться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«Вода- водиц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Светлая цариц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илая сестриц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Ты моя родная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ожалей меня!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505320" y="990720"/>
            <a:ext cx="533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ТВОЙ ВЫБОР - ГДЕ ПОСТАВИТЬ ЗАПЯТУ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04920" y="1219320"/>
            <a:ext cx="342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живет, бежит и дыши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слова и мысли слыши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всё, что было – вода помни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всё, что просите – исполнит!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бессмертна и вечна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дарит жизнь Земле 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395680" y="1295280"/>
            <a:ext cx="310212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здревле люди воду чтили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олились ей, детей крестили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Любую грязь вода смывает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Нас от болезней защищае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нам дарит чистоту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Здоровье, радость, красот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09480" y="4724280"/>
            <a:ext cx="3267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все живущие народы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Любят прохладу, любят воду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Озера, реки и моря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ы любим, видимо, не зря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– народов колыбель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– всеобщая куп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4343400" y="4572000"/>
            <a:ext cx="3648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Удали усталость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отодвинь старость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сцели болезни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Будь же мне полезной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Будь ко мне добр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илая сестра!»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. Никола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6477120" y="1522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ергей_Беликов_-_Живи_родник_(-).mp3" descr=""/>
          <p:cNvPicPr/>
          <p:nvPr/>
        </p:nvPicPr>
        <p:blipFill>
          <a:blip r:embed="rId2"/>
          <a:stretch/>
        </p:blipFill>
        <p:spPr>
          <a:xfrm>
            <a:off x="7621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21184800">
            <a:off x="609480" y="2895480"/>
            <a:ext cx="2362320" cy="163224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 rot="358800">
            <a:off x="6459120" y="3066840"/>
            <a:ext cx="2286000" cy="1712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334120" y="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EF5-17ED-42BD-995B-520D9A1695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0578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9:51:24Z</dcterms:created>
  <dc:creator>Ольга</dc:creator>
  <dc:description/>
  <dc:language>en-US</dc:language>
  <cp:lastModifiedBy>Ольга</cp:lastModifiedBy>
  <dcterms:modified xsi:type="dcterms:W3CDTF">2015-01-04T15:04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