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491-AAB4-4D6A-AE8E-4402DB1C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633-089F-43F4-BBEA-B456B392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200-743C-468E-992F-99ED337F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F2E-5BA7-43CC-ABB9-A4108E9A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84A-F785-46F3-89AF-6C96C860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041-3DB8-4C95-AC30-3DCE68E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B9E-2D6B-4E13-8F47-30FD13A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256-4707-450F-B4B5-D552E3F4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A08-828C-4944-B070-77F7D3C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AB4-5998-4EFA-9459-32A0EA18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92D-9236-4C30-842E-AE0137F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48D-8FA9-4E6F-9B82-6E1C2EF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04B-A2F3-4E1A-B5BB-58BF2C32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57720"/>
            <a:ext cx="82771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Экономико - географическое положение                     Кабардино - Балкарской Республики. Символика.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592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еография КБР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3313080" cy="2808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427640" y="4797360"/>
            <a:ext cx="388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E33-7D36-4EB4-B3DD-93D6263D1B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2637000"/>
            <a:ext cx="8245440" cy="8632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орода – курорты Кавказских Минеральн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3745080" cy="2492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744720" cy="26445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3357720"/>
            <a:ext cx="3744720" cy="2813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3816360" cy="2862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300720" y="5734080"/>
            <a:ext cx="223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Пяти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4922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Железн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27664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. Кисл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7340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ссент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4284720" y="638172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10800"/>
                </a:moveTo>
                <a:lnTo>
                  <a:pt x="35009" y="3794"/>
                </a:lnTo>
                <a:lnTo>
                  <a:pt x="3500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2BA-CE9C-4CFC-BA77-F82E6C6EFD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имволика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solidFill>
            <a:srgbClr val="fdfc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26920" y="119700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436572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29264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941720"/>
            <a:ext cx="7993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имном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вляется торжественная музыка,  созда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использованием интонаций и колоритов кабардин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алкарских и русских народных пес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/>
          </p:cNvPr>
          <p:cNvSpPr/>
          <p:nvPr/>
        </p:nvSpPr>
        <p:spPr>
          <a:xfrm>
            <a:off x="611280" y="6165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8406"/>
                </a:moveTo>
                <a:lnTo>
                  <a:pt x="20822" y="8406"/>
                </a:lnTo>
                <a:lnTo>
                  <a:pt x="25244" y="3794"/>
                </a:lnTo>
                <a:lnTo>
                  <a:pt x="25244" y="17806"/>
                </a:lnTo>
                <a:lnTo>
                  <a:pt x="20822" y="13194"/>
                </a:lnTo>
                <a:lnTo>
                  <a:pt x="16392" y="13194"/>
                </a:lnTo>
                <a:close/>
              </a:path>
              <a:path fill="darken" w="46797" h="21600">
                <a:moveTo>
                  <a:pt x="26897" y="10800"/>
                </a:moveTo>
                <a:lnTo>
                  <a:pt x="30405" y="10800"/>
                </a:lnTo>
              </a:path>
              <a:path fill="darken" w="46797" h="21600">
                <a:moveTo>
                  <a:pt x="26897" y="8406"/>
                </a:moveTo>
                <a:lnTo>
                  <a:pt x="30405" y="5639"/>
                </a:lnTo>
              </a:path>
              <a:path fill="darken" w="46797" h="21600">
                <a:moveTo>
                  <a:pt x="26897" y="13194"/>
                </a:moveTo>
                <a:lnTo>
                  <a:pt x="30405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924-308A-49F0-A50F-B3339333D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2060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оверим главное: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лощадь Кабардино –Балкарской Республики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о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елите субъекты, граничащие с Кабардино –Балкарской Республикой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делайте вывод о «+» и «-» экономико-географического положения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56546" b="83428"/>
          <a:stretch/>
        </p:blipFill>
        <p:spPr>
          <a:xfrm>
            <a:off x="468360" y="1844640"/>
            <a:ext cx="792000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F9B-BF30-4EFD-A229-C1FF87CAD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355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абота с картой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уметь называть и показывать субъекты, граничащие с республ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Учебник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стр.-3-4, вопросы стр.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Подготовить мини –сообщ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или презентация -5-7 слайдов) по теме «Влияние специфики географического положения Кабардино –Балкарской Республики на социально – экономический и культурный уровень жиз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B33-AC56-4D12-98AA-4727FBB4F6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Цели и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сширить и углубить знания школьников об особенностях географического положения Кабардино - Балкарской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Познакомить с особенностями экономики - географического  и политико- географического положения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Определить границы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 Продолжить формирование умений работать с географическими картами и другими источниками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Развивающ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Формировать умения чётко и ясно излагать свои мыс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  </a:t>
            </a: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Воспитать чувство патриотиз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E01-8D19-4908-B6DC-A1E3AA9C1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Экономико –географическое по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 Символи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ер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флаг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им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909-E6E1-4864-81FB-66310C0F5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бардино – Балкар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k2"/>
          <p:cNvPicPr/>
          <p:nvPr/>
        </p:nvPicPr>
        <p:blipFill>
          <a:blip r:embed="rId3"/>
          <a:stretch/>
        </p:blipFill>
        <p:spPr>
          <a:xfrm>
            <a:off x="3635280" y="1052640"/>
            <a:ext cx="4175280" cy="34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156360" y="3716280"/>
            <a:ext cx="15825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Площадь КБ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,5 тыс. кв. км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941720"/>
            <a:ext cx="215640" cy="1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497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659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685-E1B3-4D76-A46F-943B00E6E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229000"/>
            <a:ext cx="8496360" cy="143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абардино –Балкарская Республика находится на стыке Европы и Азии в пределах Северного Кавказа, который является частью горной страны Кавказ, расположенного на перешейке между Чёрным и Каспийским мор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489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675640" y="623736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164360" y="6308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3794"/>
                </a:moveTo>
                <a:lnTo>
                  <a:pt x="26742" y="10800"/>
                </a:lnTo>
                <a:lnTo>
                  <a:pt x="1272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C3E-5B09-40BC-9231-A75AFD2EDD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481800" cy="5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райние точки  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2"/>
          <p:cNvPicPr/>
          <p:nvPr/>
        </p:nvPicPr>
        <p:blipFill>
          <a:blip r:embed="rId2"/>
          <a:stretch/>
        </p:blipFill>
        <p:spPr>
          <a:xfrm>
            <a:off x="250920" y="836640"/>
            <a:ext cx="5473440" cy="4967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940360" y="692280"/>
            <a:ext cx="2879640" cy="1657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евер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обережье реки К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сушливые степ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клонной равнины (б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 Малакановск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0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83664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2421000"/>
            <a:ext cx="280800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юж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вал Гезевцек (3462м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авного Кавказского хреб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4 км западнее ме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де смыкаются гран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ной Осетии и Гру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3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13360"/>
            <a:ext cx="2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076640"/>
            <a:ext cx="2952720" cy="1440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падная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ч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юго-западу от горы Эльбр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плато Хотюта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единяющим Боковой хребе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лавным Кавказск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2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78936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950080"/>
            <a:ext cx="8713800" cy="71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осточ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  склон Терского хребта (433м)  -</a:t>
            </a: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637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7451640" y="6308640"/>
            <a:ext cx="647640" cy="40500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4529" h="21600">
                <a:moveTo>
                  <a:pt x="0" y="0"/>
                </a:moveTo>
                <a:lnTo>
                  <a:pt x="34529" y="0"/>
                </a:lnTo>
                <a:lnTo>
                  <a:pt x="34529" y="21600"/>
                </a:lnTo>
                <a:lnTo>
                  <a:pt x="0" y="21600"/>
                </a:lnTo>
                <a:close/>
              </a:path>
              <a:path fill="lightenLess" w="34529" h="21600">
                <a:moveTo>
                  <a:pt x="0" y="0"/>
                </a:moveTo>
                <a:lnTo>
                  <a:pt x="34529" y="0"/>
                </a:lnTo>
                <a:lnTo>
                  <a:pt x="33129" y="1400"/>
                </a:lnTo>
                <a:lnTo>
                  <a:pt x="1400" y="1400"/>
                </a:lnTo>
                <a:close/>
              </a:path>
              <a:path fill="darken" w="34529" h="21600">
                <a:moveTo>
                  <a:pt x="34529" y="0"/>
                </a:moveTo>
                <a:lnTo>
                  <a:pt x="34529" y="21600"/>
                </a:lnTo>
                <a:lnTo>
                  <a:pt x="33129" y="20200"/>
                </a:lnTo>
                <a:lnTo>
                  <a:pt x="33129" y="1400"/>
                </a:lnTo>
                <a:close/>
              </a:path>
              <a:path fill="darkenLess" w="34529" h="21600">
                <a:moveTo>
                  <a:pt x="34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29" y="20200"/>
                </a:lnTo>
                <a:close/>
              </a:path>
              <a:path fill="lighten" w="34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29" h="21600">
                <a:moveTo>
                  <a:pt x="10258" y="3794"/>
                </a:moveTo>
                <a:lnTo>
                  <a:pt x="24271" y="10800"/>
                </a:lnTo>
                <a:lnTo>
                  <a:pt x="102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70B-8CFE-4AA3-BAB2-7C7A476E0207}" type="slidenum">
              <a:t>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882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Нальчик – столица 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1551" t="17638" r="12390" b="5249"/>
          <a:stretch/>
        </p:blipFill>
        <p:spPr>
          <a:xfrm>
            <a:off x="684360" y="1052640"/>
            <a:ext cx="6767280" cy="5038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427640" y="3357720"/>
            <a:ext cx="73080" cy="72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5229360"/>
            <a:ext cx="3384720" cy="1079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Н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ш. 2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5640" y="630864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417-6F14-47D2-9F28-80FD8AD7D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543640" cy="55436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700360" y="3789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341360"/>
            <a:ext cx="252108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 КБ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696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141720"/>
            <a:ext cx="2736720" cy="3457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судар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ру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0,7 км. </a:t>
            </a:r>
            <a:br>
              <a:rPr sz="20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8964720" cy="1052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бъекты, граничащие с Кабардино – Балкарской Рес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.</a:t>
            </a:r>
            <a:r>
              <a:rPr b="1" lang="en-US" sz="7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88B-A711-4806-8CA0-CD229C942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bright="24000"/>
          </a:blip>
          <a:stretch/>
        </p:blipFill>
        <p:spPr>
          <a:xfrm rot="21364800">
            <a:off x="611280" y="333000"/>
            <a:ext cx="2593800" cy="1832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250920" y="1844640"/>
            <a:ext cx="396072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вные ч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кономико – географ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бардино – Балка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89000"/>
            <a:ext cx="396072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Централь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Северном Кав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91628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едство с эконом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иболее развитой групп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родов КМВ и с круп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анспортным уз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429264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Широтн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земных транспор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агистр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40360" y="1412640"/>
            <a:ext cx="792000" cy="1584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997360"/>
            <a:ext cx="647640" cy="71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2924280"/>
            <a:ext cx="64764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077400">
            <a:off x="1042560" y="4365360"/>
            <a:ext cx="2592360" cy="194472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995640" y="2924280"/>
            <a:ext cx="289080" cy="217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132000" y="6308640"/>
            <a:ext cx="936720" cy="405000"/>
          </a:xfrm>
          <a:custGeom>
            <a:avLst/>
            <a:gdLst>
              <a:gd name="textAreaLeft" fmla="*/ 25920 w 936720"/>
              <a:gd name="textAreaRight" fmla="*/ 910800 w 936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9933" h="21600">
                <a:moveTo>
                  <a:pt x="0" y="0"/>
                </a:moveTo>
                <a:lnTo>
                  <a:pt x="49933" y="0"/>
                </a:lnTo>
                <a:lnTo>
                  <a:pt x="49933" y="21600"/>
                </a:lnTo>
                <a:lnTo>
                  <a:pt x="0" y="21600"/>
                </a:lnTo>
                <a:close/>
              </a:path>
              <a:path fill="lightenLess" w="49933" h="21600">
                <a:moveTo>
                  <a:pt x="0" y="0"/>
                </a:moveTo>
                <a:lnTo>
                  <a:pt x="49933" y="0"/>
                </a:lnTo>
                <a:lnTo>
                  <a:pt x="48533" y="1400"/>
                </a:lnTo>
                <a:lnTo>
                  <a:pt x="1400" y="1400"/>
                </a:lnTo>
                <a:close/>
              </a:path>
              <a:path fill="darken" w="49933" h="21600">
                <a:moveTo>
                  <a:pt x="49933" y="0"/>
                </a:moveTo>
                <a:lnTo>
                  <a:pt x="49933" y="21600"/>
                </a:lnTo>
                <a:lnTo>
                  <a:pt x="48533" y="20200"/>
                </a:lnTo>
                <a:lnTo>
                  <a:pt x="48533" y="1400"/>
                </a:lnTo>
                <a:close/>
              </a:path>
              <a:path fill="darkenLess" w="49933" h="21600">
                <a:moveTo>
                  <a:pt x="49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33" y="20200"/>
                </a:lnTo>
                <a:close/>
              </a:path>
              <a:path fill="lighten" w="49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33" h="21600">
                <a:moveTo>
                  <a:pt x="17960" y="3794"/>
                </a:moveTo>
                <a:lnTo>
                  <a:pt x="31973" y="10800"/>
                </a:lnTo>
                <a:lnTo>
                  <a:pt x="1796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C62-D7B0-4F85-8142-193AAB391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7:41:04Z</dcterms:created>
  <dc:creator>Ольга</dc:creator>
  <dc:description/>
  <dc:language>en-US</dc:language>
  <cp:lastModifiedBy>Ольга</cp:lastModifiedBy>
  <dcterms:modified xsi:type="dcterms:W3CDTF">2015-01-08T15:01:12Z</dcterms:modified>
  <cp:revision>68</cp:revision>
  <dc:subject/>
  <dc:title>Слайд 1</dc:title>
</cp:coreProperties>
</file>