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E22-800A-4407-ABA0-5C22CFE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4E8-294B-4A90-BA41-135D6AB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A08-E1CF-466F-9D39-4AB28238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D25-84BE-471A-846C-C546B5CB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55D-40FF-47EA-94B1-30A1CD4D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7EA-4D87-4ED7-84F5-46959D8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349-9894-4301-9C85-FFC498B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14E-0950-474E-8EBB-7C41A03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678-43F8-4B36-9982-5C049E78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731-DFFC-4697-AD92-3DD3919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BCE-B80E-4474-BE94-8338CAC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418-4B25-4369-8400-7CED9B4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C3A0-DF2F-4B87-988A-0F5B73D4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57720"/>
            <a:ext cx="82771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Экономико - географическое положение                     Кабардино - Балкарской Республики. Символика.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592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еография КБР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3313080" cy="2808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427640" y="4797360"/>
            <a:ext cx="388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E04-1BE4-4462-8D3D-E0DECB5A7C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2637000"/>
            <a:ext cx="8245440" cy="8632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орода – курорты Кавказских Минеральн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3745080" cy="2492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744720" cy="26445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3357720"/>
            <a:ext cx="3744720" cy="2813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3816360" cy="2862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300720" y="5734080"/>
            <a:ext cx="223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Пяти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4922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Железн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27664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. Кисл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7340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ссент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4284720" y="638172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10800"/>
                </a:moveTo>
                <a:lnTo>
                  <a:pt x="35009" y="3794"/>
                </a:lnTo>
                <a:lnTo>
                  <a:pt x="3500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E37-06C4-4DCC-9C54-1933669692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имволика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solidFill>
            <a:srgbClr val="fdfc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26920" y="119700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436572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29264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941720"/>
            <a:ext cx="7993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имном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вляется торжественная музыка,  созда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использованием интонаций и колоритов кабардин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алкарских и русских народных пес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/>
          </p:cNvPr>
          <p:cNvSpPr/>
          <p:nvPr/>
        </p:nvSpPr>
        <p:spPr>
          <a:xfrm>
            <a:off x="611280" y="6165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8406"/>
                </a:moveTo>
                <a:lnTo>
                  <a:pt x="20822" y="8406"/>
                </a:lnTo>
                <a:lnTo>
                  <a:pt x="25244" y="3794"/>
                </a:lnTo>
                <a:lnTo>
                  <a:pt x="25244" y="17806"/>
                </a:lnTo>
                <a:lnTo>
                  <a:pt x="20822" y="13194"/>
                </a:lnTo>
                <a:lnTo>
                  <a:pt x="16392" y="13194"/>
                </a:lnTo>
                <a:close/>
              </a:path>
              <a:path fill="darken" w="46797" h="21600">
                <a:moveTo>
                  <a:pt x="26897" y="10800"/>
                </a:moveTo>
                <a:lnTo>
                  <a:pt x="30405" y="10800"/>
                </a:lnTo>
              </a:path>
              <a:path fill="darken" w="46797" h="21600">
                <a:moveTo>
                  <a:pt x="26897" y="8406"/>
                </a:moveTo>
                <a:lnTo>
                  <a:pt x="30405" y="5639"/>
                </a:lnTo>
              </a:path>
              <a:path fill="darken" w="46797" h="21600">
                <a:moveTo>
                  <a:pt x="26897" y="13194"/>
                </a:moveTo>
                <a:lnTo>
                  <a:pt x="30405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4DC-9ABD-49C8-B9E7-C2CCBB09EE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2060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оверим главное: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лощадь Кабардино –Балкарской Республики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о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елите субъекты, граничащие с Кабардино –Балкарской Республикой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делайте вывод о «+» и «-» экономико-географического положения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56546" b="83428"/>
          <a:stretch/>
        </p:blipFill>
        <p:spPr>
          <a:xfrm>
            <a:off x="468360" y="1844640"/>
            <a:ext cx="792000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AF1-7748-4F3F-9AA2-5ED9F20651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355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абота с картой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уметь называть и показывать субъекты, граничащие с республ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Учебник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стр.-3-4, вопросы стр.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Подготовить мини –сообщ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или презентация -5-7 слайдов) по теме «Влияние специфики географического положения Кабардино –Балкарской Республики на социально – экономический и культурный уровень жиз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B29-1AED-48D2-A563-BB29C55000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Цели и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сширить и углубить знания школьников об особенностях географического положения Кабардино - Балкарской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Познакомить с особенностями экономики - географического  и политико- географического положения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Определить границы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 Продолжить формирование умений работать с географическими картами и другими источниками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Развивающ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Формировать умения чётко и ясно излагать свои мыс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  </a:t>
            </a: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Воспитать чувство патриотиз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D66-1FAA-49EA-9A7F-10F5D890F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Экономико –географическое по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 Символи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ер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флаг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им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659-3A7A-4D73-8B8E-8B51B89A2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бардино – Балкар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k2"/>
          <p:cNvPicPr/>
          <p:nvPr/>
        </p:nvPicPr>
        <p:blipFill>
          <a:blip r:embed="rId3"/>
          <a:stretch/>
        </p:blipFill>
        <p:spPr>
          <a:xfrm>
            <a:off x="3635280" y="1052640"/>
            <a:ext cx="4175280" cy="34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156360" y="3716280"/>
            <a:ext cx="15825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Площадь КБ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,5 тыс. кв. км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941720"/>
            <a:ext cx="215640" cy="1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497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659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B7D-E070-4CA8-A204-5FD2E12E70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229000"/>
            <a:ext cx="8496360" cy="143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абардино –Балкарская Республика находится на стыке Европы и Азии в пределах Северного Кавказа, который является частью горной страны Кавказ, расположенного на перешейке между Чёрным и Каспийским мор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489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675640" y="623736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164360" y="6308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3794"/>
                </a:moveTo>
                <a:lnTo>
                  <a:pt x="26742" y="10800"/>
                </a:lnTo>
                <a:lnTo>
                  <a:pt x="1272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D27-DAA5-455B-8FE3-1A9ADFEFE4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481800" cy="5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райние точки  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2"/>
          <p:cNvPicPr/>
          <p:nvPr/>
        </p:nvPicPr>
        <p:blipFill>
          <a:blip r:embed="rId2"/>
          <a:stretch/>
        </p:blipFill>
        <p:spPr>
          <a:xfrm>
            <a:off x="250920" y="836640"/>
            <a:ext cx="5473440" cy="4967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940360" y="692280"/>
            <a:ext cx="2879640" cy="1657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евер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обережье реки К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сушливые степ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клонной равнины (б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 Малакановск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0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83664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2421000"/>
            <a:ext cx="280800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юж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вал Гезевцек (3462м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авного Кавказского хреб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4 км западнее ме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де смыкаются гран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ной Осетии и Гру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3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13360"/>
            <a:ext cx="2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076640"/>
            <a:ext cx="2952720" cy="1440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падная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ч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юго-западу от горы Эльбр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плато Хотюта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единяющим Боковой хребе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лавным Кавказск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2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78936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950080"/>
            <a:ext cx="8713800" cy="71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осточ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  склон Терского хребта (433м)  -</a:t>
            </a: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637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7451640" y="6308640"/>
            <a:ext cx="647640" cy="40500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4529" h="21600">
                <a:moveTo>
                  <a:pt x="0" y="0"/>
                </a:moveTo>
                <a:lnTo>
                  <a:pt x="34529" y="0"/>
                </a:lnTo>
                <a:lnTo>
                  <a:pt x="34529" y="21600"/>
                </a:lnTo>
                <a:lnTo>
                  <a:pt x="0" y="21600"/>
                </a:lnTo>
                <a:close/>
              </a:path>
              <a:path fill="lightenLess" w="34529" h="21600">
                <a:moveTo>
                  <a:pt x="0" y="0"/>
                </a:moveTo>
                <a:lnTo>
                  <a:pt x="34529" y="0"/>
                </a:lnTo>
                <a:lnTo>
                  <a:pt x="33129" y="1400"/>
                </a:lnTo>
                <a:lnTo>
                  <a:pt x="1400" y="1400"/>
                </a:lnTo>
                <a:close/>
              </a:path>
              <a:path fill="darken" w="34529" h="21600">
                <a:moveTo>
                  <a:pt x="34529" y="0"/>
                </a:moveTo>
                <a:lnTo>
                  <a:pt x="34529" y="21600"/>
                </a:lnTo>
                <a:lnTo>
                  <a:pt x="33129" y="20200"/>
                </a:lnTo>
                <a:lnTo>
                  <a:pt x="33129" y="1400"/>
                </a:lnTo>
                <a:close/>
              </a:path>
              <a:path fill="darkenLess" w="34529" h="21600">
                <a:moveTo>
                  <a:pt x="34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29" y="20200"/>
                </a:lnTo>
                <a:close/>
              </a:path>
              <a:path fill="lighten" w="34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29" h="21600">
                <a:moveTo>
                  <a:pt x="10258" y="3794"/>
                </a:moveTo>
                <a:lnTo>
                  <a:pt x="24271" y="10800"/>
                </a:lnTo>
                <a:lnTo>
                  <a:pt x="102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9DA-5030-4317-9866-F8A4CB92F7C1}" type="slidenum">
              <a:t>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882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Нальчик – столица 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1551" t="17638" r="12390" b="5249"/>
          <a:stretch/>
        </p:blipFill>
        <p:spPr>
          <a:xfrm>
            <a:off x="684360" y="1052640"/>
            <a:ext cx="6767280" cy="5038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427640" y="3357720"/>
            <a:ext cx="73080" cy="72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5229360"/>
            <a:ext cx="3384720" cy="1079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Н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ш. 2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5640" y="630864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943-7E55-48C5-91A0-8D5417C47C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543640" cy="55436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700360" y="3789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341360"/>
            <a:ext cx="252108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 КБ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696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141720"/>
            <a:ext cx="2736720" cy="3457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судар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ру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0,7 км. </a:t>
            </a:r>
            <a:br>
              <a:rPr sz="20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8964720" cy="1052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бъекты, граничащие с Кабардино – Балкарской Рес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.</a:t>
            </a:r>
            <a:r>
              <a:rPr b="1" lang="en-US" sz="7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45B-93E6-401A-881F-D3AA0D6D2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bright="24000"/>
          </a:blip>
          <a:stretch/>
        </p:blipFill>
        <p:spPr>
          <a:xfrm rot="21364800">
            <a:off x="611280" y="333000"/>
            <a:ext cx="2593800" cy="1832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250920" y="1844640"/>
            <a:ext cx="396072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вные ч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кономико – географ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бардино – Балка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89000"/>
            <a:ext cx="396072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Централь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Северном Кав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91628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едство с эконом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иболее развитой групп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родов КМВ и с круп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анспортным уз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429264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Широтн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земных транспор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агистр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40360" y="1412640"/>
            <a:ext cx="792000" cy="1584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997360"/>
            <a:ext cx="647640" cy="71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2924280"/>
            <a:ext cx="64764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077400">
            <a:off x="1042560" y="4365360"/>
            <a:ext cx="2592360" cy="194472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995640" y="2924280"/>
            <a:ext cx="289080" cy="217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132000" y="6308640"/>
            <a:ext cx="936720" cy="405000"/>
          </a:xfrm>
          <a:custGeom>
            <a:avLst/>
            <a:gdLst>
              <a:gd name="textAreaLeft" fmla="*/ 25920 w 936720"/>
              <a:gd name="textAreaRight" fmla="*/ 910800 w 936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9933" h="21600">
                <a:moveTo>
                  <a:pt x="0" y="0"/>
                </a:moveTo>
                <a:lnTo>
                  <a:pt x="49933" y="0"/>
                </a:lnTo>
                <a:lnTo>
                  <a:pt x="49933" y="21600"/>
                </a:lnTo>
                <a:lnTo>
                  <a:pt x="0" y="21600"/>
                </a:lnTo>
                <a:close/>
              </a:path>
              <a:path fill="lightenLess" w="49933" h="21600">
                <a:moveTo>
                  <a:pt x="0" y="0"/>
                </a:moveTo>
                <a:lnTo>
                  <a:pt x="49933" y="0"/>
                </a:lnTo>
                <a:lnTo>
                  <a:pt x="48533" y="1400"/>
                </a:lnTo>
                <a:lnTo>
                  <a:pt x="1400" y="1400"/>
                </a:lnTo>
                <a:close/>
              </a:path>
              <a:path fill="darken" w="49933" h="21600">
                <a:moveTo>
                  <a:pt x="49933" y="0"/>
                </a:moveTo>
                <a:lnTo>
                  <a:pt x="49933" y="21600"/>
                </a:lnTo>
                <a:lnTo>
                  <a:pt x="48533" y="20200"/>
                </a:lnTo>
                <a:lnTo>
                  <a:pt x="48533" y="1400"/>
                </a:lnTo>
                <a:close/>
              </a:path>
              <a:path fill="darkenLess" w="49933" h="21600">
                <a:moveTo>
                  <a:pt x="49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33" y="20200"/>
                </a:lnTo>
                <a:close/>
              </a:path>
              <a:path fill="lighten" w="49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33" h="21600">
                <a:moveTo>
                  <a:pt x="17960" y="3794"/>
                </a:moveTo>
                <a:lnTo>
                  <a:pt x="31973" y="10800"/>
                </a:lnTo>
                <a:lnTo>
                  <a:pt x="1796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631-F58D-407A-A57E-CAA8130CA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7:41:04Z</dcterms:created>
  <dc:creator>Ольга</dc:creator>
  <dc:description/>
  <dc:language>en-US</dc:language>
  <cp:lastModifiedBy>Ольга</cp:lastModifiedBy>
  <dcterms:modified xsi:type="dcterms:W3CDTF">2015-01-08T15:01:12Z</dcterms:modified>
  <cp:revision>68</cp:revision>
  <dc:subject/>
  <dc:title>Слайд 1</dc:title>
</cp:coreProperties>
</file>