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604-6822-4BE4-A769-77151753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33E-AFE3-4DD7-A3AB-C833A88B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EC9-340D-44B0-BD5F-E7A06BF7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FDC-AB99-4B7E-A9F3-3EEA041A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313-C0E3-4C01-BF6E-08F78956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B91-A362-4D60-A83E-BDB0CD6E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AEB-670C-45A9-A86F-444C8A4B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EF9-4285-4A7B-9198-A54CC6E8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3D1-278D-470F-9E91-13FCB303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635-BA77-4386-8CFA-49E269B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F89-9EF1-434A-B4EE-7F52AE7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FF1-920C-483C-8998-203A732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6EF-9B21-4541-87BA-9CA320AE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57720"/>
            <a:ext cx="82771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Экономико - географическое положение                     Кабардино - Балкарской Республики. Символика.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592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еография КБР 9 к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3313080" cy="2808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427640" y="4797360"/>
            <a:ext cx="388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AB0-240E-4452-A996-1C3F92ED19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2637000"/>
            <a:ext cx="8245440" cy="8632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орода – курорты Кавказских Минеральн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3745080" cy="24922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744720" cy="264456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3357720"/>
            <a:ext cx="3744720" cy="2813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3816360" cy="2862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300720" y="5734080"/>
            <a:ext cx="223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Пяти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4922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Железн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27664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. Кисловод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5734080"/>
            <a:ext cx="27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ссент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4284720" y="6381720"/>
            <a:ext cx="934920" cy="3603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05" h="21600">
                <a:moveTo>
                  <a:pt x="0" y="0"/>
                </a:moveTo>
                <a:lnTo>
                  <a:pt x="56005" y="0"/>
                </a:lnTo>
                <a:lnTo>
                  <a:pt x="56005" y="21600"/>
                </a:lnTo>
                <a:lnTo>
                  <a:pt x="0" y="21600"/>
                </a:lnTo>
                <a:close/>
              </a:path>
              <a:path fill="lightenLess" w="56005" h="21600">
                <a:moveTo>
                  <a:pt x="0" y="0"/>
                </a:moveTo>
                <a:lnTo>
                  <a:pt x="56005" y="0"/>
                </a:lnTo>
                <a:lnTo>
                  <a:pt x="54605" y="1400"/>
                </a:lnTo>
                <a:lnTo>
                  <a:pt x="1400" y="1400"/>
                </a:lnTo>
                <a:close/>
              </a:path>
              <a:path fill="darken" w="56005" h="21600">
                <a:moveTo>
                  <a:pt x="56005" y="0"/>
                </a:moveTo>
                <a:lnTo>
                  <a:pt x="56005" y="21600"/>
                </a:lnTo>
                <a:lnTo>
                  <a:pt x="54605" y="20200"/>
                </a:lnTo>
                <a:lnTo>
                  <a:pt x="54605" y="1400"/>
                </a:lnTo>
                <a:close/>
              </a:path>
              <a:path fill="darkenLess" w="56005" h="21600">
                <a:moveTo>
                  <a:pt x="5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05" y="20200"/>
                </a:lnTo>
                <a:close/>
              </a:path>
              <a:path fill="lighten" w="5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05" h="21600">
                <a:moveTo>
                  <a:pt x="20996" y="10800"/>
                </a:moveTo>
                <a:lnTo>
                  <a:pt x="35009" y="3794"/>
                </a:lnTo>
                <a:lnTo>
                  <a:pt x="3500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FB9-A4A0-4DF8-9B44-516B23F721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имволика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solidFill>
            <a:srgbClr val="fdfc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26920" y="119700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436572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29264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941720"/>
            <a:ext cx="79930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имном Кабардино-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является торжественная музыка,  созда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использованием интонаций и колоритов кабардин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алкарских и русских народных пес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/>
          </p:cNvPr>
          <p:cNvSpPr/>
          <p:nvPr/>
        </p:nvSpPr>
        <p:spPr>
          <a:xfrm>
            <a:off x="611280" y="6165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8406"/>
                </a:moveTo>
                <a:lnTo>
                  <a:pt x="20822" y="8406"/>
                </a:lnTo>
                <a:lnTo>
                  <a:pt x="25244" y="3794"/>
                </a:lnTo>
                <a:lnTo>
                  <a:pt x="25244" y="17806"/>
                </a:lnTo>
                <a:lnTo>
                  <a:pt x="20822" y="13194"/>
                </a:lnTo>
                <a:lnTo>
                  <a:pt x="16392" y="13194"/>
                </a:lnTo>
                <a:close/>
              </a:path>
              <a:path fill="darken" w="46797" h="21600">
                <a:moveTo>
                  <a:pt x="26897" y="10800"/>
                </a:moveTo>
                <a:lnTo>
                  <a:pt x="30405" y="10800"/>
                </a:lnTo>
              </a:path>
              <a:path fill="darken" w="46797" h="21600">
                <a:moveTo>
                  <a:pt x="26897" y="8406"/>
                </a:moveTo>
                <a:lnTo>
                  <a:pt x="30405" y="5639"/>
                </a:lnTo>
              </a:path>
              <a:path fill="darken" w="46797" h="21600">
                <a:moveTo>
                  <a:pt x="26897" y="13194"/>
                </a:moveTo>
                <a:lnTo>
                  <a:pt x="30405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2F4-4241-481A-BA8E-D86BC8C25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2060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Проверим главное: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площадь Кабардино –Балкарской Республики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о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елите субъекты, граничащие с Кабардино –Балкарской Республикой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делайте вывод о «+» и «-» экономико-географического положения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56546" b="83428"/>
          <a:stretch/>
        </p:blipFill>
        <p:spPr>
          <a:xfrm>
            <a:off x="468360" y="1844640"/>
            <a:ext cx="792000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B0B-6A5C-413F-97F3-A0FAC7AA9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355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Работа с картой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уметь называть и показывать субъекты, граничащие с республ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Учебник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стр.-3-4, вопросы стр.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Подготовить мини –сообщени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или презентация -5-7 слайдов) по теме «Влияние специфики географического положения Кабардино –Балкарской Республики на социально – экономический и культурный уровень жиз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A5A-3245-4CF0-A31E-41B9DE4BE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Цели и 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Образов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сширить и углубить знания школьников об особенностях географического положения Кабардино - Балкарской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Познакомить с особенностями экономики - географического  и политико- географического положения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Определить границы Республ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 Продолжить формирование умений работать с географическими картами и другими источниками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Развивающ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Формировать умения чётко и ясно излагать свои мыс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  </a:t>
            </a:r>
            <a:r>
              <a:rPr b="0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Воспитать чувство патриотиз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AB8-475C-4902-AE87-FE7825F1CB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Экономико –географическое поло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2. Символи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ерб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флаг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-гим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CEB-3B6C-415C-808F-1DD5A57C6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бардино – Балкар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k2"/>
          <p:cNvPicPr/>
          <p:nvPr/>
        </p:nvPicPr>
        <p:blipFill>
          <a:blip r:embed="rId3"/>
          <a:stretch/>
        </p:blipFill>
        <p:spPr>
          <a:xfrm>
            <a:off x="3635280" y="1052640"/>
            <a:ext cx="4175280" cy="34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156360" y="3716280"/>
            <a:ext cx="15825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Площадь КБ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,5 тыс. кв. км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941720"/>
            <a:ext cx="215640" cy="1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497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6659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BB4-2D6B-4E35-BFF4-55EF3E8FE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229000"/>
            <a:ext cx="8496360" cy="143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абардино –Балкарская Республика находится на стыке Европы и Азии в пределах Северного Кавказа, который является частью горной страны Кавказ, расположенного на перешейке между Чёрным и Каспийским мор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489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675640" y="623736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7164360" y="6308640"/>
            <a:ext cx="792360" cy="43344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72" h="21600">
                <a:moveTo>
                  <a:pt x="0" y="0"/>
                </a:moveTo>
                <a:lnTo>
                  <a:pt x="39472" y="0"/>
                </a:lnTo>
                <a:lnTo>
                  <a:pt x="39472" y="21600"/>
                </a:lnTo>
                <a:lnTo>
                  <a:pt x="0" y="21600"/>
                </a:lnTo>
                <a:close/>
              </a:path>
              <a:path fill="lightenLess" w="39472" h="21600">
                <a:moveTo>
                  <a:pt x="0" y="0"/>
                </a:moveTo>
                <a:lnTo>
                  <a:pt x="39472" y="0"/>
                </a:lnTo>
                <a:lnTo>
                  <a:pt x="38072" y="1400"/>
                </a:lnTo>
                <a:lnTo>
                  <a:pt x="1400" y="1400"/>
                </a:lnTo>
                <a:close/>
              </a:path>
              <a:path fill="darken" w="39472" h="21600">
                <a:moveTo>
                  <a:pt x="39472" y="0"/>
                </a:moveTo>
                <a:lnTo>
                  <a:pt x="39472" y="21600"/>
                </a:lnTo>
                <a:lnTo>
                  <a:pt x="38072" y="20200"/>
                </a:lnTo>
                <a:lnTo>
                  <a:pt x="38072" y="1400"/>
                </a:lnTo>
                <a:close/>
              </a:path>
              <a:path fill="darkenLess" w="39472" h="21600">
                <a:moveTo>
                  <a:pt x="39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72" y="20200"/>
                </a:lnTo>
                <a:close/>
              </a:path>
              <a:path fill="lighten" w="39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72" h="21600">
                <a:moveTo>
                  <a:pt x="12729" y="3794"/>
                </a:moveTo>
                <a:lnTo>
                  <a:pt x="26742" y="10800"/>
                </a:lnTo>
                <a:lnTo>
                  <a:pt x="1272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3E9-5F2A-4D40-B7FF-580B740F12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481800" cy="5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райние точки  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2"/>
          <p:cNvPicPr/>
          <p:nvPr/>
        </p:nvPicPr>
        <p:blipFill>
          <a:blip r:embed="rId2"/>
          <a:stretch/>
        </p:blipFill>
        <p:spPr>
          <a:xfrm>
            <a:off x="250920" y="836640"/>
            <a:ext cx="5473440" cy="4967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940360" y="692280"/>
            <a:ext cx="2879640" cy="1657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север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вобережье реки К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сушливые степ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клонной равнины (б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 Малакановск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0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83664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2421000"/>
            <a:ext cx="280800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юж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вал Гезевцек (3462м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авного Кавказского хреб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4 км западнее ме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де смыкаются гран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бардино – Балкарской Республ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еверной Осетии и Гру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3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013360"/>
            <a:ext cx="2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4076640"/>
            <a:ext cx="2952720" cy="1440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западная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ч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 юго-западу от горы Эльбр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плато Хотюта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единяющим Боковой хребе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лавным Кавказск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2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78936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950080"/>
            <a:ext cx="8713800" cy="71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айняя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восточная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очка –   склон Терского хребта (433м)  -</a:t>
            </a:r>
            <a:r>
              <a:rPr b="0" lang="ru-RU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.ш. и 44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637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7451640" y="6308640"/>
            <a:ext cx="647640" cy="40500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4529" h="21600">
                <a:moveTo>
                  <a:pt x="0" y="0"/>
                </a:moveTo>
                <a:lnTo>
                  <a:pt x="34529" y="0"/>
                </a:lnTo>
                <a:lnTo>
                  <a:pt x="34529" y="21600"/>
                </a:lnTo>
                <a:lnTo>
                  <a:pt x="0" y="21600"/>
                </a:lnTo>
                <a:close/>
              </a:path>
              <a:path fill="lightenLess" w="34529" h="21600">
                <a:moveTo>
                  <a:pt x="0" y="0"/>
                </a:moveTo>
                <a:lnTo>
                  <a:pt x="34529" y="0"/>
                </a:lnTo>
                <a:lnTo>
                  <a:pt x="33129" y="1400"/>
                </a:lnTo>
                <a:lnTo>
                  <a:pt x="1400" y="1400"/>
                </a:lnTo>
                <a:close/>
              </a:path>
              <a:path fill="darken" w="34529" h="21600">
                <a:moveTo>
                  <a:pt x="34529" y="0"/>
                </a:moveTo>
                <a:lnTo>
                  <a:pt x="34529" y="21600"/>
                </a:lnTo>
                <a:lnTo>
                  <a:pt x="33129" y="20200"/>
                </a:lnTo>
                <a:lnTo>
                  <a:pt x="33129" y="1400"/>
                </a:lnTo>
                <a:close/>
              </a:path>
              <a:path fill="darkenLess" w="34529" h="21600">
                <a:moveTo>
                  <a:pt x="34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29" y="20200"/>
                </a:lnTo>
                <a:close/>
              </a:path>
              <a:path fill="lighten" w="34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29" h="21600">
                <a:moveTo>
                  <a:pt x="10258" y="3794"/>
                </a:moveTo>
                <a:lnTo>
                  <a:pt x="24271" y="10800"/>
                </a:lnTo>
                <a:lnTo>
                  <a:pt x="102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F36-B01B-4D36-824B-EDA8DDDED632}" type="slidenum">
              <a:t>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" dur="1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" dur="50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882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Нальчик – столица 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11551" t="17638" r="12390" b="5249"/>
          <a:stretch/>
        </p:blipFill>
        <p:spPr>
          <a:xfrm>
            <a:off x="684360" y="1052640"/>
            <a:ext cx="6767280" cy="5038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427640" y="3357720"/>
            <a:ext cx="73080" cy="72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5229360"/>
            <a:ext cx="3384720" cy="1079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На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.ш. 2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и 4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'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75640" y="6308640"/>
            <a:ext cx="2890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936-E563-48EE-A244-F1342E40DE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5543640" cy="55436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700360" y="3789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341360"/>
            <a:ext cx="252108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 КБ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696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141720"/>
            <a:ext cx="2736720" cy="3457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судар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ру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тяж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30,7 км. </a:t>
            </a:r>
            <a:br>
              <a:rPr sz="20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0"/>
            <a:ext cx="8964720" cy="1052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бъекты, граничащие с Кабардино – Балкарской Республ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раница.</a:t>
            </a:r>
            <a:r>
              <a:rPr b="1" lang="en-US" sz="7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04360" y="6308640"/>
            <a:ext cx="288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7C7-3303-450A-9C67-914D858E1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bright="24000"/>
          </a:blip>
          <a:stretch/>
        </p:blipFill>
        <p:spPr>
          <a:xfrm rot="21364800">
            <a:off x="611280" y="333000"/>
            <a:ext cx="2593800" cy="183204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250920" y="1844640"/>
            <a:ext cx="396072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лавные ч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кономико – географ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бардино – Балка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89000"/>
            <a:ext cx="396072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Централь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 Северном Кав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91628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седство с экономиче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иболее развитой групп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родов КМВ и с круп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ранспортным уз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4292640"/>
            <a:ext cx="3960720" cy="201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Широтн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земных транспор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агистр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40360" y="1412640"/>
            <a:ext cx="792000" cy="1584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997360"/>
            <a:ext cx="647640" cy="71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2924280"/>
            <a:ext cx="64764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077400">
            <a:off x="1042560" y="4365360"/>
            <a:ext cx="2592360" cy="194472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995640" y="2924280"/>
            <a:ext cx="289080" cy="217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132000" y="6308640"/>
            <a:ext cx="936720" cy="405000"/>
          </a:xfrm>
          <a:custGeom>
            <a:avLst/>
            <a:gdLst>
              <a:gd name="textAreaLeft" fmla="*/ 25920 w 936720"/>
              <a:gd name="textAreaRight" fmla="*/ 910800 w 936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9933" h="21600">
                <a:moveTo>
                  <a:pt x="0" y="0"/>
                </a:moveTo>
                <a:lnTo>
                  <a:pt x="49933" y="0"/>
                </a:lnTo>
                <a:lnTo>
                  <a:pt x="49933" y="21600"/>
                </a:lnTo>
                <a:lnTo>
                  <a:pt x="0" y="21600"/>
                </a:lnTo>
                <a:close/>
              </a:path>
              <a:path fill="lightenLess" w="49933" h="21600">
                <a:moveTo>
                  <a:pt x="0" y="0"/>
                </a:moveTo>
                <a:lnTo>
                  <a:pt x="49933" y="0"/>
                </a:lnTo>
                <a:lnTo>
                  <a:pt x="48533" y="1400"/>
                </a:lnTo>
                <a:lnTo>
                  <a:pt x="1400" y="1400"/>
                </a:lnTo>
                <a:close/>
              </a:path>
              <a:path fill="darken" w="49933" h="21600">
                <a:moveTo>
                  <a:pt x="49933" y="0"/>
                </a:moveTo>
                <a:lnTo>
                  <a:pt x="49933" y="21600"/>
                </a:lnTo>
                <a:lnTo>
                  <a:pt x="48533" y="20200"/>
                </a:lnTo>
                <a:lnTo>
                  <a:pt x="48533" y="1400"/>
                </a:lnTo>
                <a:close/>
              </a:path>
              <a:path fill="darkenLess" w="49933" h="21600">
                <a:moveTo>
                  <a:pt x="49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33" y="20200"/>
                </a:lnTo>
                <a:close/>
              </a:path>
              <a:path fill="lighten" w="49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33" h="21600">
                <a:moveTo>
                  <a:pt x="17960" y="3794"/>
                </a:moveTo>
                <a:lnTo>
                  <a:pt x="31973" y="10800"/>
                </a:lnTo>
                <a:lnTo>
                  <a:pt x="1796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9AF-69B5-4884-BFD7-1931054722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7:41:04Z</dcterms:created>
  <dc:creator>Ольга</dc:creator>
  <dc:description/>
  <dc:language>en-US</dc:language>
  <cp:lastModifiedBy>Ольга</cp:lastModifiedBy>
  <dcterms:modified xsi:type="dcterms:W3CDTF">2015-01-08T15:01:12Z</dcterms:modified>
  <cp:revision>68</cp:revision>
  <dc:subject/>
  <dc:title>Слайд 1</dc:title>
</cp:coreProperties>
</file>