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44.jpeg" ContentType="image/jpeg"/>
  <Override PartName="/ppt/media/image31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9.jpeg" ContentType="image/jpeg"/>
  <Override PartName="/ppt/media/image48.png" ContentType="image/png"/>
  <Override PartName="/ppt/media/image12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.png" ContentType="image/pn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5A0-6331-405C-9D15-D48D15AE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8D0-B977-4B8F-9567-FCD20ACD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6414-E2A4-4725-8FA2-15D1E224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411-BE97-43CB-86ED-F036E0C8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887B-8DD5-4221-9DC2-2ED6D6FC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7E94-8536-4484-A4BD-35CF4245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9F02-571D-4C96-B9E7-842B02B6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834C-AB14-4F6B-8A0C-279C31EA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41BC-8B9E-49CE-8993-5E12EF67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EA12-AFCC-474C-93B8-87BB138C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0EB4-8887-4ED7-A2E4-6B672D40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C564-412D-457E-A1B2-120B9276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EC6E-5313-4BA2-96E3-CED49387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194C-D93E-43F6-976A-7C55D641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17D1-2BD8-4885-BE32-E7FD85FB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D3AF-780E-4AF1-8F8E-34AA310C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B9B8-AE1F-400F-ABD9-1E4F4D18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A5D80-7AAA-4CCC-9E51-905115AA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BC222-8003-4F7F-80E1-FCC5857D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BCE64-29CD-4FE7-874C-B2476903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0A898-D07B-4AA9-9A4F-44C06994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BED7-78E3-4EB3-A0B1-3205E474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5A1-14CF-460A-9294-C41786DD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14B36-872E-47F8-BE56-AA3B68D9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B6E8-DC5C-4A2A-910B-82CA0433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E0C7-3D7F-4D10-B9EE-7B374CA6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D377-EA16-4F30-AD42-4A977B6B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26D00-9FAF-4C70-AF72-FB834AC1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CDE86-F9E4-464D-92E9-28BB0F9E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840F-39B9-4C7F-9F4B-BAFDBF43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58356-1987-49BD-B82D-155743CF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7F3EA-2608-4F80-8640-0F65EB36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5C607-6DD0-424A-96F2-BF738CC2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529-0FE3-42B6-B783-3A6793B7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520D5-071B-4025-90DB-80AA9DE3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D5F0B-9C99-40EB-A4A8-F10241C3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59A5F-6EDD-4B14-B8AE-92544DA3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4D2A7-6ABD-49D3-BEEC-8257F4F5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958A0-18C3-40BA-8CE6-28251A6D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C38C3-3037-44E8-B0D2-3D78FD29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D4006-A154-4868-AB15-FC9ADBFE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67948-F717-4773-8F95-5D23CD32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9EA68-0487-4D0A-8EDB-34AB1D00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FA2-CBDF-4007-8691-ACC0750E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E68-34B2-4A57-BD05-4B567F12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3DB-B144-4078-9148-483F251F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935A-DB6D-490E-A4FC-3B6891F9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4E7-0378-4BC4-96D4-FC7442B5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7998-F33B-4EC6-823B-C96F66B64DE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C94A-6BB4-44C8-8D6E-62A9512794D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B9E5-FDC1-430D-A9F8-11094E8D872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DCB4-6A62-4C7B-9F7C-ED95B3FDCEE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682560" y="1695600"/>
            <a:ext cx="7785000" cy="1796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1332000" y="3429000"/>
            <a:ext cx="6408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дагаска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ынок Зу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Содержимое 3" descr="041.jpg"/>
          <p:cNvPicPr/>
          <p:nvPr/>
        </p:nvPicPr>
        <p:blipFill>
          <a:blip r:embed="rId1"/>
          <a:stretch/>
        </p:blipFill>
        <p:spPr>
          <a:xfrm>
            <a:off x="285840" y="2071800"/>
            <a:ext cx="8645400" cy="3857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ынок зебу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Содержимое 3" descr="tb9.jpg"/>
          <p:cNvPicPr/>
          <p:nvPr/>
        </p:nvPicPr>
        <p:blipFill>
          <a:blip r:embed="rId1"/>
          <a:stretch/>
        </p:blipFill>
        <p:spPr>
          <a:xfrm>
            <a:off x="1928880" y="1785960"/>
            <a:ext cx="542916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Содержимое 3" descr="1549.jpg"/>
          <p:cNvPicPr/>
          <p:nvPr/>
        </p:nvPicPr>
        <p:blipFill>
          <a:blip r:embed="rId1"/>
          <a:stretch/>
        </p:blipFill>
        <p:spPr>
          <a:xfrm>
            <a:off x="0" y="0"/>
            <a:ext cx="9204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атр «Хира гаси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Содержимое 3" descr="хира гаси3.jpg"/>
          <p:cNvPicPr/>
          <p:nvPr/>
        </p:nvPicPr>
        <p:blipFill>
          <a:blip r:embed="rId1"/>
          <a:stretch/>
        </p:blipFill>
        <p:spPr>
          <a:xfrm>
            <a:off x="928800" y="1785960"/>
            <a:ext cx="6929280" cy="4873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Содержимое 3" descr="хира гаси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8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Содержимое 3" descr="мадаг.jpg"/>
          <p:cNvPicPr/>
          <p:nvPr/>
        </p:nvPicPr>
        <p:blipFill>
          <a:blip r:embed="rId1"/>
          <a:stretch/>
        </p:blipFill>
        <p:spPr>
          <a:xfrm>
            <a:off x="-96840" y="0"/>
            <a:ext cx="9240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-12600" y="701640"/>
            <a:ext cx="9248760" cy="34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Содержимое 5" descr="цинги6.jpg"/>
          <p:cNvPicPr/>
          <p:nvPr/>
        </p:nvPicPr>
        <p:blipFill>
          <a:blip r:embed="rId1"/>
          <a:stretch/>
        </p:blipFill>
        <p:spPr>
          <a:xfrm>
            <a:off x="0" y="0"/>
            <a:ext cx="9259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34" name="Содержимое 6" descr="цинги.jpg"/>
          <p:cNvPicPr/>
          <p:nvPr/>
        </p:nvPicPr>
        <p:blipFill>
          <a:blip r:embed="rId1"/>
          <a:stretch/>
        </p:blipFill>
        <p:spPr>
          <a:xfrm>
            <a:off x="0" y="0"/>
            <a:ext cx="456408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Содержимое 7" descr="цинги7.jpg"/>
          <p:cNvPicPr/>
          <p:nvPr/>
        </p:nvPicPr>
        <p:blipFill>
          <a:blip r:embed="rId2"/>
          <a:stretch/>
        </p:blipFill>
        <p:spPr>
          <a:xfrm>
            <a:off x="4500720" y="0"/>
            <a:ext cx="4714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о. Нуси-Б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Содержимое 5" descr="сент-мари.jpg"/>
          <p:cNvPicPr/>
          <p:nvPr/>
        </p:nvPicPr>
        <p:blipFill>
          <a:blip r:embed="rId1"/>
          <a:stretch/>
        </p:blipFill>
        <p:spPr>
          <a:xfrm>
            <a:off x="1000080" y="1714680"/>
            <a:ext cx="732960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Содержимое 4" descr="mdg.gif"/>
          <p:cNvPicPr/>
          <p:nvPr/>
        </p:nvPicPr>
        <p:blipFill>
          <a:blip r:embed="rId1"/>
          <a:stretch/>
        </p:blipFill>
        <p:spPr>
          <a:xfrm>
            <a:off x="285840" y="1928880"/>
            <a:ext cx="4157640" cy="2786040"/>
          </a:xfrm>
          <a:prstGeom prst="rect">
            <a:avLst/>
          </a:prstGeom>
          <a:ln w="0">
            <a:noFill/>
          </a:ln>
        </p:spPr>
      </p:pic>
      <p:pic>
        <p:nvPicPr>
          <p:cNvPr id="200" name="Содержимое 5" descr="mdg_g.gif"/>
          <p:cNvPicPr/>
          <p:nvPr/>
        </p:nvPicPr>
        <p:blipFill>
          <a:blip r:embed="rId2"/>
          <a:stretch/>
        </p:blipFill>
        <p:spPr>
          <a:xfrm>
            <a:off x="5572080" y="185724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латбище пиратов на о. Сент - Мар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Содержимое 5" descr="пират.jpg"/>
          <p:cNvPicPr/>
          <p:nvPr/>
        </p:nvPicPr>
        <p:blipFill>
          <a:blip r:embed="rId1"/>
          <a:stretch/>
        </p:blipFill>
        <p:spPr>
          <a:xfrm>
            <a:off x="1214280" y="1928880"/>
            <a:ext cx="6572520" cy="4616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Содержимое 3" descr="пиратск кл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0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уранда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Содержимое 3" descr="алея баобабов.jpg"/>
          <p:cNvPicPr/>
          <p:nvPr/>
        </p:nvPicPr>
        <p:blipFill>
          <a:blip r:embed="rId1"/>
          <a:stretch/>
        </p:blipFill>
        <p:spPr>
          <a:xfrm>
            <a:off x="214200" y="1785960"/>
            <a:ext cx="870588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Содержимое 4" descr="алея баобабов1.jpg"/>
          <p:cNvPicPr/>
          <p:nvPr/>
        </p:nvPicPr>
        <p:blipFill>
          <a:blip r:embed="rId1"/>
          <a:stretch/>
        </p:blipFill>
        <p:spPr>
          <a:xfrm>
            <a:off x="0" y="0"/>
            <a:ext cx="4714920" cy="687708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5" descr="0_16dfe_321c2eb2_XL.jpg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0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-49320" y="701640"/>
            <a:ext cx="9315720" cy="33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ольцехвостые лему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Содержимое 3" descr="14007.jpg"/>
          <p:cNvPicPr/>
          <p:nvPr/>
        </p:nvPicPr>
        <p:blipFill>
          <a:blip r:embed="rId1"/>
          <a:stretch/>
        </p:blipFill>
        <p:spPr>
          <a:xfrm>
            <a:off x="1285920" y="1857240"/>
            <a:ext cx="6715080" cy="4772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Содержимое 3" descr="14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Содержимое 3" descr="14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73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Содержимое 3" descr="14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Содержимое 3" descr="лемуры 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8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cf9b"/>
                </a:solidFill>
                <a:latin typeface="Calibri"/>
              </a:rPr>
              <a:t>о.Мадагаскар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1719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лощадь 587000 к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колок древнего суперматерика   Гондван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жит параллельно восточному берегу Африки, отделяясь от него Мозамбикским пролив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Содержимое 4" descr="Satellite_image_of_Madagascar_in_September_2003.jpg"/>
          <p:cNvPicPr/>
          <p:nvPr/>
        </p:nvPicPr>
        <p:blipFill>
          <a:blip r:embed="rId1"/>
          <a:stretch/>
        </p:blipFill>
        <p:spPr>
          <a:xfrm>
            <a:off x="4214880" y="214200"/>
            <a:ext cx="414324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емур сифа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Содержимое 3" descr="лемур сифака.jpg"/>
          <p:cNvPicPr/>
          <p:nvPr/>
        </p:nvPicPr>
        <p:blipFill>
          <a:blip r:embed="rId1"/>
          <a:stretch/>
        </p:blipFill>
        <p:spPr>
          <a:xfrm>
            <a:off x="1785960" y="1928880"/>
            <a:ext cx="5214960" cy="478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2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дагаскарская руконож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1" name="Содержимое 3" descr="мадагаск руконожка ай ай.jpg"/>
          <p:cNvPicPr/>
          <p:nvPr/>
        </p:nvPicPr>
        <p:blipFill>
          <a:blip r:embed="rId1"/>
          <a:stretch/>
        </p:blipFill>
        <p:spPr>
          <a:xfrm>
            <a:off x="1285920" y="1785960"/>
            <a:ext cx="678636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9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ыжий пушистый лему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Содержимое 7" descr="рыжий пушистый2.jpg"/>
          <p:cNvPicPr/>
          <p:nvPr/>
        </p:nvPicPr>
        <p:blipFill>
          <a:blip r:embed="rId1"/>
          <a:stretch/>
        </p:blipFill>
        <p:spPr>
          <a:xfrm>
            <a:off x="857160" y="1785960"/>
            <a:ext cx="748836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9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0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Содержимое 4" descr="06.jpg"/>
          <p:cNvPicPr/>
          <p:nvPr/>
        </p:nvPicPr>
        <p:blipFill>
          <a:blip r:embed="rId1"/>
          <a:stretch/>
        </p:blipFill>
        <p:spPr>
          <a:xfrm>
            <a:off x="0" y="0"/>
            <a:ext cx="467208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Содержимое 5" descr="рыжий пушистый.jpg"/>
          <p:cNvPicPr/>
          <p:nvPr/>
        </p:nvPicPr>
        <p:blipFill>
          <a:blip r:embed="rId2"/>
          <a:stretch/>
        </p:blipFill>
        <p:spPr>
          <a:xfrm>
            <a:off x="4214880" y="0"/>
            <a:ext cx="4949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0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др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Содержимое 4" descr="индри1.jpg"/>
          <p:cNvPicPr/>
          <p:nvPr/>
        </p:nvPicPr>
        <p:blipFill>
          <a:blip r:embed="rId1"/>
          <a:stretch/>
        </p:blipFill>
        <p:spPr>
          <a:xfrm>
            <a:off x="928800" y="1714680"/>
            <a:ext cx="3071880" cy="479232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5" descr="индриевые.jpg"/>
          <p:cNvPicPr/>
          <p:nvPr/>
        </p:nvPicPr>
        <p:blipFill>
          <a:blip r:embed="rId2"/>
          <a:stretch/>
        </p:blipFill>
        <p:spPr>
          <a:xfrm>
            <a:off x="4500720" y="1714680"/>
            <a:ext cx="4116240" cy="471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85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85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3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684e"/>
                </a:solidFill>
                <a:latin typeface="Calibri"/>
              </a:rPr>
              <a:t>Большой мышиный лемур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Рисунок 4" descr="большой мышин лемур.jpg"/>
          <p:cNvPicPr/>
          <p:nvPr/>
        </p:nvPicPr>
        <p:blipFill>
          <a:blip r:embed="rId1"/>
          <a:srcRect l="0" t="23219" r="0" b="23219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slow">
    <p:dissolve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еизвестный карликовый лемур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Содержимое 3" descr="неизуч лемур.jpg"/>
          <p:cNvPicPr/>
          <p:nvPr/>
        </p:nvPicPr>
        <p:blipFill>
          <a:blip r:embed="rId1"/>
          <a:stretch/>
        </p:blipFill>
        <p:spPr>
          <a:xfrm>
            <a:off x="857160" y="1785960"/>
            <a:ext cx="725832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14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ос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Содержимое 3" descr="фоса крупн хищ.jpg"/>
          <p:cNvPicPr/>
          <p:nvPr/>
        </p:nvPicPr>
        <p:blipFill>
          <a:blip r:embed="rId1"/>
          <a:stretch/>
        </p:blipFill>
        <p:spPr>
          <a:xfrm>
            <a:off x="1500120" y="1714680"/>
            <a:ext cx="6357960" cy="480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4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51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3449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нтральное нагорь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Содержимое 3" descr="id036-300x225.jpg"/>
          <p:cNvPicPr/>
          <p:nvPr/>
        </p:nvPicPr>
        <p:blipFill>
          <a:blip r:embed="rId1"/>
          <a:stretch/>
        </p:blipFill>
        <p:spPr>
          <a:xfrm>
            <a:off x="1428840" y="1857240"/>
            <a:ext cx="6429240" cy="482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42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3" descr="центральн 3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нтананариву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Содержимое 3" descr="800px-Antananarivo_рува.jpg"/>
          <p:cNvPicPr/>
          <p:nvPr/>
        </p:nvPicPr>
        <p:blipFill>
          <a:blip r:embed="rId1"/>
          <a:stretch/>
        </p:blipFill>
        <p:spPr>
          <a:xfrm>
            <a:off x="1071720" y="1785960"/>
            <a:ext cx="728640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Содержимое 3" descr="Antananarivosunset.jpg"/>
          <p:cNvPicPr/>
          <p:nvPr/>
        </p:nvPicPr>
        <p:blipFill>
          <a:blip r:embed="rId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0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нсамбль дворцов Ру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Содержимое 7" descr="рува2.jpg"/>
          <p:cNvPicPr/>
          <p:nvPr/>
        </p:nvPicPr>
        <p:blipFill>
          <a:blip r:embed="rId1"/>
          <a:stretch/>
        </p:blipFill>
        <p:spPr>
          <a:xfrm>
            <a:off x="1000080" y="1714680"/>
            <a:ext cx="692964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хициланфандзак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Содержимое 3" descr="ьахиланафад.jpg"/>
          <p:cNvPicPr/>
          <p:nvPr/>
        </p:nvPicPr>
        <p:blipFill>
          <a:blip r:embed="rId1"/>
          <a:stretch/>
        </p:blipFill>
        <p:spPr>
          <a:xfrm>
            <a:off x="2500200" y="1785960"/>
            <a:ext cx="385776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4:29:04Z</dcterms:created>
  <dc:creator>SamLab.ws</dc:creator>
  <dc:description/>
  <dc:language>en-US</dc:language>
  <cp:lastModifiedBy>SamLab.ws</cp:lastModifiedBy>
  <dcterms:modified xsi:type="dcterms:W3CDTF">2010-12-01T00:48:47Z</dcterms:modified>
  <cp:revision>17</cp:revision>
  <dc:subject/>
  <dc:title>Мое виртуальное путешествие на</dc:title>
</cp:coreProperties>
</file>