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44.jpeg" ContentType="image/jpeg"/>
  <Override PartName="/ppt/media/image31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76D-0050-4DBA-B194-AAFF1FC0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F3F-E0FB-4E60-A514-5A5B5666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2A6-05CD-4DD4-941A-14A8BB3B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103-429E-4EFD-998D-093FC86B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E115-B540-4804-A747-2961F44B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27A3-0184-4563-94AB-38796E72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0D46-3C35-4115-B2D5-21AC232F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F135-D345-434B-8BAE-B316285A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A87E-D33D-470D-AAFD-F440F976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0F83-72B7-4F4A-87B4-FB112DA0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05F6-5B5C-4659-B1FA-289E7F0E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B15-D4D5-4649-94A3-63CAF9D3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35BE-D4DF-467D-9A0C-B8A8396F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91CD-9FE7-4FE5-84FC-E9363C35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E694-C260-4993-8B40-0C8DFAEC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4767-F216-4A93-906D-900D53C6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09D4-18FE-48D6-87B9-CD5D041E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C864-FD06-419B-B6AB-DB09101C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46AC-6622-46D4-9045-7441078D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159E7-FE2B-472A-B012-9A8F90F1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4D54-011C-4BAB-8E38-FA852E29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B53A-741E-4AB4-A05A-6CFD5D50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ECD-B04E-4912-A28B-B04CB989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E438-8D86-4337-9EF1-7B8D91BA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9BEA-98F4-4A93-B5E6-A970CF8C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AFEE7-B552-4F0F-9083-4752A19C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C333-2D01-4306-A216-7246B6E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7CC3C-3471-44E1-A55B-A109ACC5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CD18-A167-42FC-86AB-3F288031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5BD48-32BB-4319-84F9-54C4CEAD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72A2E-44DA-4873-A38C-85789BAB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D2187-F6E7-4A41-BBC1-A7ECACCF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FB2D-11A1-4C14-84C9-8B369E53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F95-E4E0-4D47-83F8-469CAA8B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AF824-79A3-4739-A9DA-D24B6379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79227-5762-4F74-9B68-6AB8F5DE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A9B9-05EC-4CBB-AE1C-536DEE8F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0C2C-AA49-425A-A072-A2211359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103F5-BD0D-4394-BE83-0346E404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CDA41-24F0-49F2-8C38-E46C6D10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4DBA-B962-4A3B-A6EA-AF1F5DE3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C7F0A-3305-4489-8CE6-3853ACE6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59E12-F3C7-4E81-B845-BCDA9D0F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50F-495A-42C9-8D00-8361E1C9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A44-CAC5-40B4-ABAB-39136D71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64C-ACBA-4554-AD15-12E3565E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406-1AE2-457A-BBCB-D7DDB817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65E-9826-40AC-886C-A4940C86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046E-5AA4-49EF-803F-6607643EC5A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E77B-19A2-44CF-9B6F-80BDDB3629C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05B1-8907-4857-8394-6E5DEA7BA15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E1AC-B819-4428-AEA5-3E69A941BB7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682560" y="1695600"/>
            <a:ext cx="7785000" cy="1796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1332000" y="3429000"/>
            <a:ext cx="6408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дагаска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ынок Зу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одержимое 3" descr="041.jpg"/>
          <p:cNvPicPr/>
          <p:nvPr/>
        </p:nvPicPr>
        <p:blipFill>
          <a:blip r:embed="rId1"/>
          <a:stretch/>
        </p:blipFill>
        <p:spPr>
          <a:xfrm>
            <a:off x="285840" y="2071800"/>
            <a:ext cx="8645400" cy="385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ынок зебу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Содержимое 3" descr="tb9.jpg"/>
          <p:cNvPicPr/>
          <p:nvPr/>
        </p:nvPicPr>
        <p:blipFill>
          <a:blip r:embed="rId1"/>
          <a:stretch/>
        </p:blipFill>
        <p:spPr>
          <a:xfrm>
            <a:off x="1928880" y="1785960"/>
            <a:ext cx="54291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1549.jpg"/>
          <p:cNvPicPr/>
          <p:nvPr/>
        </p:nvPicPr>
        <p:blipFill>
          <a:blip r:embed="rId1"/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атр «Хира гаси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Содержимое 3" descr="хира гаси3.jpg"/>
          <p:cNvPicPr/>
          <p:nvPr/>
        </p:nvPicPr>
        <p:blipFill>
          <a:blip r:embed="rId1"/>
          <a:stretch/>
        </p:blipFill>
        <p:spPr>
          <a:xfrm>
            <a:off x="928800" y="1785960"/>
            <a:ext cx="6929280" cy="4873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Содержимое 3" descr="хира гаси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Содержимое 3" descr="мадаг.jpg"/>
          <p:cNvPicPr/>
          <p:nvPr/>
        </p:nvPicPr>
        <p:blipFill>
          <a:blip r:embed="rId1"/>
          <a:stretch/>
        </p:blipFill>
        <p:spPr>
          <a:xfrm>
            <a:off x="-96840" y="0"/>
            <a:ext cx="924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-12600" y="701640"/>
            <a:ext cx="9248760" cy="34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Содержимое 5" descr="цинги6.jpg"/>
          <p:cNvPicPr/>
          <p:nvPr/>
        </p:nvPicPr>
        <p:blipFill>
          <a:blip r:embed="rId1"/>
          <a:stretch/>
        </p:blipFill>
        <p:spPr>
          <a:xfrm>
            <a:off x="0" y="0"/>
            <a:ext cx="9259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34" name="Содержимое 6" descr="цинги.jpg"/>
          <p:cNvPicPr/>
          <p:nvPr/>
        </p:nvPicPr>
        <p:blipFill>
          <a:blip r:embed="rId1"/>
          <a:stretch/>
        </p:blipFill>
        <p:spPr>
          <a:xfrm>
            <a:off x="0" y="0"/>
            <a:ext cx="456408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7" descr="цинги7.jpg"/>
          <p:cNvPicPr/>
          <p:nvPr/>
        </p:nvPicPr>
        <p:blipFill>
          <a:blip r:embed="rId2"/>
          <a:stretch/>
        </p:blipFill>
        <p:spPr>
          <a:xfrm>
            <a:off x="4500720" y="0"/>
            <a:ext cx="4714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о. Нуси-Б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5" descr="сент-мари.jpg"/>
          <p:cNvPicPr/>
          <p:nvPr/>
        </p:nvPicPr>
        <p:blipFill>
          <a:blip r:embed="rId1"/>
          <a:stretch/>
        </p:blipFill>
        <p:spPr>
          <a:xfrm>
            <a:off x="1000080" y="1714680"/>
            <a:ext cx="732960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Содержимое 4" descr="mdg.gif"/>
          <p:cNvPicPr/>
          <p:nvPr/>
        </p:nvPicPr>
        <p:blipFill>
          <a:blip r:embed="rId1"/>
          <a:stretch/>
        </p:blipFill>
        <p:spPr>
          <a:xfrm>
            <a:off x="285840" y="1928880"/>
            <a:ext cx="4157640" cy="2786040"/>
          </a:xfrm>
          <a:prstGeom prst="rect">
            <a:avLst/>
          </a:prstGeom>
          <a:ln w="0">
            <a:noFill/>
          </a:ln>
        </p:spPr>
      </p:pic>
      <p:pic>
        <p:nvPicPr>
          <p:cNvPr id="200" name="Содержимое 5" descr="mdg_g.gif"/>
          <p:cNvPicPr/>
          <p:nvPr/>
        </p:nvPicPr>
        <p:blipFill>
          <a:blip r:embed="rId2"/>
          <a:stretch/>
        </p:blipFill>
        <p:spPr>
          <a:xfrm>
            <a:off x="5572080" y="18572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латбище пиратов на о. Сент - Мар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Содержимое 5" descr="пират.jpg"/>
          <p:cNvPicPr/>
          <p:nvPr/>
        </p:nvPicPr>
        <p:blipFill>
          <a:blip r:embed="rId1"/>
          <a:stretch/>
        </p:blipFill>
        <p:spPr>
          <a:xfrm>
            <a:off x="1214280" y="1928880"/>
            <a:ext cx="6572520" cy="4616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1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3" descr="пиратск кл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уранда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3" descr="алея баобабов.jpg"/>
          <p:cNvPicPr/>
          <p:nvPr/>
        </p:nvPicPr>
        <p:blipFill>
          <a:blip r:embed="rId1"/>
          <a:stretch/>
        </p:blipFill>
        <p:spPr>
          <a:xfrm>
            <a:off x="214200" y="1785960"/>
            <a:ext cx="870588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Содержимое 4" descr="алея баобабов1.jpg"/>
          <p:cNvPicPr/>
          <p:nvPr/>
        </p:nvPicPr>
        <p:blipFill>
          <a:blip r:embed="rId1"/>
          <a:stretch/>
        </p:blipFill>
        <p:spPr>
          <a:xfrm>
            <a:off x="0" y="0"/>
            <a:ext cx="4714920" cy="687708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5" descr="0_16dfe_321c2eb2_XL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8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-49320" y="701640"/>
            <a:ext cx="9315720" cy="33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льцехвостые лему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Содержимое 3" descr="14007.jpg"/>
          <p:cNvPicPr/>
          <p:nvPr/>
        </p:nvPicPr>
        <p:blipFill>
          <a:blip r:embed="rId1"/>
          <a:stretch/>
        </p:blipFill>
        <p:spPr>
          <a:xfrm>
            <a:off x="1285920" y="1857240"/>
            <a:ext cx="6715080" cy="4772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Содержимое 3" descr="14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Содержимое 3" descr="14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Содержимое 3" descr="14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Содержимое 3" descr="лемуры 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8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cf9b"/>
                </a:solidFill>
                <a:latin typeface="Calibri"/>
              </a:rPr>
              <a:t>о.Мадагаскар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лощадь 587000 к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колок древнего суперматерика   Гондван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жит параллельно восточному берегу Африки, отделяясь от него Мозамбикским пролив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Содержимое 4" descr="Satellite_image_of_Madagascar_in_September_2003.jpg"/>
          <p:cNvPicPr/>
          <p:nvPr/>
        </p:nvPicPr>
        <p:blipFill>
          <a:blip r:embed="rId1"/>
          <a:stretch/>
        </p:blipFill>
        <p:spPr>
          <a:xfrm>
            <a:off x="4214880" y="214200"/>
            <a:ext cx="41432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емур сифа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Содержимое 3" descr="лемур сифака.jpg"/>
          <p:cNvPicPr/>
          <p:nvPr/>
        </p:nvPicPr>
        <p:blipFill>
          <a:blip r:embed="rId1"/>
          <a:stretch/>
        </p:blipFill>
        <p:spPr>
          <a:xfrm>
            <a:off x="1785960" y="1928880"/>
            <a:ext cx="5214960" cy="478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4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дагаскарская руконож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Содержимое 3" descr="мадагаск руконожка ай ай.jpg"/>
          <p:cNvPicPr/>
          <p:nvPr/>
        </p:nvPicPr>
        <p:blipFill>
          <a:blip r:embed="rId1"/>
          <a:stretch/>
        </p:blipFill>
        <p:spPr>
          <a:xfrm>
            <a:off x="1285920" y="1785960"/>
            <a:ext cx="67863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ыжий пушистый лему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Содержимое 7" descr="рыжий пушистый2.jpg"/>
          <p:cNvPicPr/>
          <p:nvPr/>
        </p:nvPicPr>
        <p:blipFill>
          <a:blip r:embed="rId1"/>
          <a:stretch/>
        </p:blipFill>
        <p:spPr>
          <a:xfrm>
            <a:off x="857160" y="1785960"/>
            <a:ext cx="748836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8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Содержимое 4" descr="06.jpg"/>
          <p:cNvPicPr/>
          <p:nvPr/>
        </p:nvPicPr>
        <p:blipFill>
          <a:blip r:embed="rId1"/>
          <a:stretch/>
        </p:blipFill>
        <p:spPr>
          <a:xfrm>
            <a:off x="0" y="0"/>
            <a:ext cx="467208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5" descr="рыжий пушистый.jpg"/>
          <p:cNvPicPr/>
          <p:nvPr/>
        </p:nvPicPr>
        <p:blipFill>
          <a:blip r:embed="rId2"/>
          <a:stretch/>
        </p:blipFill>
        <p:spPr>
          <a:xfrm>
            <a:off x="4214880" y="0"/>
            <a:ext cx="4949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др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Содержимое 4" descr="индри1.jpg"/>
          <p:cNvPicPr/>
          <p:nvPr/>
        </p:nvPicPr>
        <p:blipFill>
          <a:blip r:embed="rId1"/>
          <a:stretch/>
        </p:blipFill>
        <p:spPr>
          <a:xfrm>
            <a:off x="928800" y="1714680"/>
            <a:ext cx="3071880" cy="479232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5" descr="индриевые.jpg"/>
          <p:cNvPicPr/>
          <p:nvPr/>
        </p:nvPicPr>
        <p:blipFill>
          <a:blip r:embed="rId2"/>
          <a:stretch/>
        </p:blipFill>
        <p:spPr>
          <a:xfrm>
            <a:off x="4500720" y="1714680"/>
            <a:ext cx="4116240" cy="471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4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5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684e"/>
                </a:solidFill>
                <a:latin typeface="Calibri"/>
              </a:rPr>
              <a:t>Большой мышиный лемур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Рисунок 4" descr="большой мышин лемур.jpg"/>
          <p:cNvPicPr/>
          <p:nvPr/>
        </p:nvPicPr>
        <p:blipFill>
          <a:blip r:embed="rId1"/>
          <a:srcRect l="0" t="23219" r="0" b="23219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slow">
    <p:dissolv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3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еизвестный карликовый лемур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Содержимое 3" descr="неизуч лемур.jpg"/>
          <p:cNvPicPr/>
          <p:nvPr/>
        </p:nvPicPr>
        <p:blipFill>
          <a:blip r:embed="rId1"/>
          <a:stretch/>
        </p:blipFill>
        <p:spPr>
          <a:xfrm>
            <a:off x="857160" y="1785960"/>
            <a:ext cx="725832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с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Содержимое 3" descr="фоса крупн хищ.jpg"/>
          <p:cNvPicPr/>
          <p:nvPr/>
        </p:nvPicPr>
        <p:blipFill>
          <a:blip r:embed="rId1"/>
          <a:stretch/>
        </p:blipFill>
        <p:spPr>
          <a:xfrm>
            <a:off x="1500120" y="1714680"/>
            <a:ext cx="6357960" cy="480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27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4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344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нтральное нагорь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Содержимое 3" descr="id036-300x225.jpg"/>
          <p:cNvPicPr/>
          <p:nvPr/>
        </p:nvPicPr>
        <p:blipFill>
          <a:blip r:embed="rId1"/>
          <a:stretch/>
        </p:blipFill>
        <p:spPr>
          <a:xfrm>
            <a:off x="1428840" y="1857240"/>
            <a:ext cx="6429240" cy="482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44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3" descr="центральн 3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тананариву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3" descr="800px-Antananarivo_рува.jpg"/>
          <p:cNvPicPr/>
          <p:nvPr/>
        </p:nvPicPr>
        <p:blipFill>
          <a:blip r:embed="rId1"/>
          <a:stretch/>
        </p:blipFill>
        <p:spPr>
          <a:xfrm>
            <a:off x="1071720" y="1785960"/>
            <a:ext cx="72864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3" descr="Antananarivosunset.jpg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0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самбль дворцов Ру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7" descr="рува2.jpg"/>
          <p:cNvPicPr/>
          <p:nvPr/>
        </p:nvPicPr>
        <p:blipFill>
          <a:blip r:embed="rId1"/>
          <a:stretch/>
        </p:blipFill>
        <p:spPr>
          <a:xfrm>
            <a:off x="1000080" y="1714680"/>
            <a:ext cx="692964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4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хициланфандзак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Содержимое 3" descr="ьахиланафад.jpg"/>
          <p:cNvPicPr/>
          <p:nvPr/>
        </p:nvPicPr>
        <p:blipFill>
          <a:blip r:embed="rId1"/>
          <a:stretch/>
        </p:blipFill>
        <p:spPr>
          <a:xfrm>
            <a:off x="2500200" y="1785960"/>
            <a:ext cx="38577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4:29:04Z</dcterms:created>
  <dc:creator>SamLab.ws</dc:creator>
  <dc:description/>
  <dc:language>en-US</dc:language>
  <cp:lastModifiedBy>SamLab.ws</cp:lastModifiedBy>
  <dcterms:modified xsi:type="dcterms:W3CDTF">2010-12-01T00:48:47Z</dcterms:modified>
  <cp:revision>17</cp:revision>
  <dc:subject/>
  <dc:title>Мое виртуальное путешествие на</dc:title>
</cp:coreProperties>
</file>