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44.jpeg" ContentType="image/jpeg"/>
  <Override PartName="/ppt/media/image31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E0B-05DA-442A-91AD-7B2F1B1C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F28-EE77-46CA-862A-61A6598B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451-258E-49D6-B5AC-B6AACE84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AAA-EC1F-4DE6-8542-40646FEE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DB9E-A84B-4BE5-A2D3-A2E2B4E2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E82F-FA73-499F-B2D7-A2624DCF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EFBA-5A2D-417F-8455-7833754A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D37F-2E41-48E3-80A9-C6A2C147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F445-EC36-45CD-AA55-AA006AB8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BA0B-54A5-4E6E-8DF7-4D46DDB6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F83B-FF12-4F33-B315-B7B6430C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70A-1283-433C-9340-E0786AF7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2A51-9891-4B99-A141-E46358D4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901F-6B1C-4FE2-A697-F382EBFC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5628-9B97-44B1-8F88-636126FB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5539-7593-4713-81D8-EF8E2536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B4D0-2DB0-4FE5-8301-2A4F9AF6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30E2-622E-4DB5-8E80-3546CBF6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283B-E121-45CA-8A96-8726F749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80314-BC91-4378-8F7E-C8146BFB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8E60-2D9A-4F02-A705-05140FB5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146E-6C76-4070-B8B7-9441B16E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C43-38D8-4711-B034-817C441B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0EDA-904A-4C01-9590-663C029A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90C7-5AE6-4803-BD7E-456EA3C9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86F8-1266-4696-8118-C377AF25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D5534-3FA2-4796-9E2A-D2C33666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2D80-5B97-48A2-9255-1537F72A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E9557-D5A7-4314-8182-2B8DE467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B340-923C-4F62-9B56-D738BF86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A711-5099-4D0E-A13C-48C6462E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2BAA-6E9C-4C71-BE69-2E4950FD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D99AE-60C6-46C8-BFEC-BD3857FD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8BC-341D-4143-A642-5E82DD6E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604C-0204-4DA9-A348-25F67EB4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9771-E0A4-4FF2-9430-0ABE4C04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E5E3-5FC6-4DB8-8AD3-2A5D24BA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E097-5BB1-420A-80B2-17A6A077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60016-CCF0-4D52-A6E4-D999D09A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1F2A3-25AE-46DF-A7D5-3C2293C5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79ED-11D3-4870-889D-1E4D7892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EA2C7-871D-4736-8107-078D5EE4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B6E95-D770-4003-AB9A-912D3CFF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78C-30F1-4087-8906-67C0B06F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56C-3036-4FF9-AEED-779D0C4D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961-0336-4C54-9412-04FD302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D7D-DAFB-4299-B789-3AB9280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BDD-252F-46AA-958C-1A934342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3871-AA5F-4069-B54C-43799F6F5AA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B4BD-D3E6-468E-BB0F-CAA0D0B4ED4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41BC-2BE9-44A7-B379-CA212614E84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47F9-A5FC-4FEE-9B09-E9BCBF2D9CB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682560" y="1695600"/>
            <a:ext cx="7785000" cy="1796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1332000" y="3429000"/>
            <a:ext cx="6408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дагаска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ынок Зу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одержимое 3" descr="041.jpg"/>
          <p:cNvPicPr/>
          <p:nvPr/>
        </p:nvPicPr>
        <p:blipFill>
          <a:blip r:embed="rId1"/>
          <a:stretch/>
        </p:blipFill>
        <p:spPr>
          <a:xfrm>
            <a:off x="285840" y="2071800"/>
            <a:ext cx="8645400" cy="385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ынок зебу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Содержимое 3" descr="tb9.jpg"/>
          <p:cNvPicPr/>
          <p:nvPr/>
        </p:nvPicPr>
        <p:blipFill>
          <a:blip r:embed="rId1"/>
          <a:stretch/>
        </p:blipFill>
        <p:spPr>
          <a:xfrm>
            <a:off x="1928880" y="1785960"/>
            <a:ext cx="54291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1549.jpg"/>
          <p:cNvPicPr/>
          <p:nvPr/>
        </p:nvPicPr>
        <p:blipFill>
          <a:blip r:embed="rId1"/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атр «Хира гаси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Содержимое 3" descr="хира гаси3.jpg"/>
          <p:cNvPicPr/>
          <p:nvPr/>
        </p:nvPicPr>
        <p:blipFill>
          <a:blip r:embed="rId1"/>
          <a:stretch/>
        </p:blipFill>
        <p:spPr>
          <a:xfrm>
            <a:off x="928800" y="1785960"/>
            <a:ext cx="6929280" cy="4873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Содержимое 3" descr="хира гаси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8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Содержимое 3" descr="мадаг.jpg"/>
          <p:cNvPicPr/>
          <p:nvPr/>
        </p:nvPicPr>
        <p:blipFill>
          <a:blip r:embed="rId1"/>
          <a:stretch/>
        </p:blipFill>
        <p:spPr>
          <a:xfrm>
            <a:off x="-96840" y="0"/>
            <a:ext cx="924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-12600" y="701640"/>
            <a:ext cx="9248760" cy="34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Содержимое 5" descr="цинги6.jpg"/>
          <p:cNvPicPr/>
          <p:nvPr/>
        </p:nvPicPr>
        <p:blipFill>
          <a:blip r:embed="rId1"/>
          <a:stretch/>
        </p:blipFill>
        <p:spPr>
          <a:xfrm>
            <a:off x="0" y="0"/>
            <a:ext cx="9259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34" name="Содержимое 6" descr="цинги.jpg"/>
          <p:cNvPicPr/>
          <p:nvPr/>
        </p:nvPicPr>
        <p:blipFill>
          <a:blip r:embed="rId1"/>
          <a:stretch/>
        </p:blipFill>
        <p:spPr>
          <a:xfrm>
            <a:off x="0" y="0"/>
            <a:ext cx="456408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7" descr="цинги7.jpg"/>
          <p:cNvPicPr/>
          <p:nvPr/>
        </p:nvPicPr>
        <p:blipFill>
          <a:blip r:embed="rId2"/>
          <a:stretch/>
        </p:blipFill>
        <p:spPr>
          <a:xfrm>
            <a:off x="4500720" y="0"/>
            <a:ext cx="4714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о. Нуси-Б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5" descr="сент-мари.jpg"/>
          <p:cNvPicPr/>
          <p:nvPr/>
        </p:nvPicPr>
        <p:blipFill>
          <a:blip r:embed="rId1"/>
          <a:stretch/>
        </p:blipFill>
        <p:spPr>
          <a:xfrm>
            <a:off x="1000080" y="1714680"/>
            <a:ext cx="732960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Содержимое 4" descr="mdg.gif"/>
          <p:cNvPicPr/>
          <p:nvPr/>
        </p:nvPicPr>
        <p:blipFill>
          <a:blip r:embed="rId1"/>
          <a:stretch/>
        </p:blipFill>
        <p:spPr>
          <a:xfrm>
            <a:off x="285840" y="1928880"/>
            <a:ext cx="4157640" cy="2786040"/>
          </a:xfrm>
          <a:prstGeom prst="rect">
            <a:avLst/>
          </a:prstGeom>
          <a:ln w="0">
            <a:noFill/>
          </a:ln>
        </p:spPr>
      </p:pic>
      <p:pic>
        <p:nvPicPr>
          <p:cNvPr id="200" name="Содержимое 5" descr="mdg_g.gif"/>
          <p:cNvPicPr/>
          <p:nvPr/>
        </p:nvPicPr>
        <p:blipFill>
          <a:blip r:embed="rId2"/>
          <a:stretch/>
        </p:blipFill>
        <p:spPr>
          <a:xfrm>
            <a:off x="5572080" y="18572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латбище пиратов на о. Сент - Мар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5" descr="пират.jpg"/>
          <p:cNvPicPr/>
          <p:nvPr/>
        </p:nvPicPr>
        <p:blipFill>
          <a:blip r:embed="rId1"/>
          <a:stretch/>
        </p:blipFill>
        <p:spPr>
          <a:xfrm>
            <a:off x="1214280" y="1928880"/>
            <a:ext cx="6572520" cy="4616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3" descr="пиратск кл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уранда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3" descr="алея баобабов.jpg"/>
          <p:cNvPicPr/>
          <p:nvPr/>
        </p:nvPicPr>
        <p:blipFill>
          <a:blip r:embed="rId1"/>
          <a:stretch/>
        </p:blipFill>
        <p:spPr>
          <a:xfrm>
            <a:off x="214200" y="1785960"/>
            <a:ext cx="870588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4" descr="алея баобабов1.jpg"/>
          <p:cNvPicPr/>
          <p:nvPr/>
        </p:nvPicPr>
        <p:blipFill>
          <a:blip r:embed="rId1"/>
          <a:stretch/>
        </p:blipFill>
        <p:spPr>
          <a:xfrm>
            <a:off x="0" y="0"/>
            <a:ext cx="4714920" cy="687708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5" descr="0_16dfe_321c2eb2_XL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-49320" y="701640"/>
            <a:ext cx="9315720" cy="33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льцехвостые лему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Содержимое 3" descr="14007.jpg"/>
          <p:cNvPicPr/>
          <p:nvPr/>
        </p:nvPicPr>
        <p:blipFill>
          <a:blip r:embed="rId1"/>
          <a:stretch/>
        </p:blipFill>
        <p:spPr>
          <a:xfrm>
            <a:off x="1285920" y="1857240"/>
            <a:ext cx="6715080" cy="4772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Содержимое 3" descr="14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Содержимое 3" descr="14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Содержимое 3" descr="14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Содержимое 3" descr="лемуры 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8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cf9b"/>
                </a:solidFill>
                <a:latin typeface="Calibri"/>
              </a:rPr>
              <a:t>о.Мадагаскар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лощадь 587000 к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колок древнего суперматерика   Гондван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жит параллельно восточному берегу Африки, отделяясь от него Мозамбикским пролив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Содержимое 4" descr="Satellite_image_of_Madagascar_in_September_2003.jpg"/>
          <p:cNvPicPr/>
          <p:nvPr/>
        </p:nvPicPr>
        <p:blipFill>
          <a:blip r:embed="rId1"/>
          <a:stretch/>
        </p:blipFill>
        <p:spPr>
          <a:xfrm>
            <a:off x="4214880" y="214200"/>
            <a:ext cx="41432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емур сифа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Содержимое 3" descr="лемур сифака.jpg"/>
          <p:cNvPicPr/>
          <p:nvPr/>
        </p:nvPicPr>
        <p:blipFill>
          <a:blip r:embed="rId1"/>
          <a:stretch/>
        </p:blipFill>
        <p:spPr>
          <a:xfrm>
            <a:off x="1785960" y="1928880"/>
            <a:ext cx="5214960" cy="478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2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дагаскарская руконож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Содержимое 3" descr="мадагаск руконожка ай ай.jpg"/>
          <p:cNvPicPr/>
          <p:nvPr/>
        </p:nvPicPr>
        <p:blipFill>
          <a:blip r:embed="rId1"/>
          <a:stretch/>
        </p:blipFill>
        <p:spPr>
          <a:xfrm>
            <a:off x="1285920" y="1785960"/>
            <a:ext cx="67863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ыжий пушистый лему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Содержимое 7" descr="рыжий пушистый2.jpg"/>
          <p:cNvPicPr/>
          <p:nvPr/>
        </p:nvPicPr>
        <p:blipFill>
          <a:blip r:embed="rId1"/>
          <a:stretch/>
        </p:blipFill>
        <p:spPr>
          <a:xfrm>
            <a:off x="857160" y="1785960"/>
            <a:ext cx="748836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Содержимое 4" descr="06.jpg"/>
          <p:cNvPicPr/>
          <p:nvPr/>
        </p:nvPicPr>
        <p:blipFill>
          <a:blip r:embed="rId1"/>
          <a:stretch/>
        </p:blipFill>
        <p:spPr>
          <a:xfrm>
            <a:off x="0" y="0"/>
            <a:ext cx="467208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5" descr="рыжий пушистый.jpg"/>
          <p:cNvPicPr/>
          <p:nvPr/>
        </p:nvPicPr>
        <p:blipFill>
          <a:blip r:embed="rId2"/>
          <a:stretch/>
        </p:blipFill>
        <p:spPr>
          <a:xfrm>
            <a:off x="4214880" y="0"/>
            <a:ext cx="4949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др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4" descr="индри1.jpg"/>
          <p:cNvPicPr/>
          <p:nvPr/>
        </p:nvPicPr>
        <p:blipFill>
          <a:blip r:embed="rId1"/>
          <a:stretch/>
        </p:blipFill>
        <p:spPr>
          <a:xfrm>
            <a:off x="928800" y="1714680"/>
            <a:ext cx="3071880" cy="479232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5" descr="индриевые.jpg"/>
          <p:cNvPicPr/>
          <p:nvPr/>
        </p:nvPicPr>
        <p:blipFill>
          <a:blip r:embed="rId2"/>
          <a:stretch/>
        </p:blipFill>
        <p:spPr>
          <a:xfrm>
            <a:off x="4500720" y="1714680"/>
            <a:ext cx="4116240" cy="471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2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684e"/>
                </a:solidFill>
                <a:latin typeface="Calibri"/>
              </a:rPr>
              <a:t>Большой мышиный лемур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Рисунок 4" descr="большой мышин лемур.jpg"/>
          <p:cNvPicPr/>
          <p:nvPr/>
        </p:nvPicPr>
        <p:blipFill>
          <a:blip r:embed="rId1"/>
          <a:srcRect l="0" t="23219" r="0" b="23219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slow">
    <p:dissolve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еизвестный карликовый лемур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Содержимое 3" descr="неизуч лемур.jpg"/>
          <p:cNvPicPr/>
          <p:nvPr/>
        </p:nvPicPr>
        <p:blipFill>
          <a:blip r:embed="rId1"/>
          <a:stretch/>
        </p:blipFill>
        <p:spPr>
          <a:xfrm>
            <a:off x="857160" y="1785960"/>
            <a:ext cx="725832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с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Содержимое 3" descr="фоса крупн хищ.jpg"/>
          <p:cNvPicPr/>
          <p:nvPr/>
        </p:nvPicPr>
        <p:blipFill>
          <a:blip r:embed="rId1"/>
          <a:stretch/>
        </p:blipFill>
        <p:spPr>
          <a:xfrm>
            <a:off x="1500120" y="1714680"/>
            <a:ext cx="6357960" cy="480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7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344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нтральное нагорь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3" descr="id036-300x225.jpg"/>
          <p:cNvPicPr/>
          <p:nvPr/>
        </p:nvPicPr>
        <p:blipFill>
          <a:blip r:embed="rId1"/>
          <a:stretch/>
        </p:blipFill>
        <p:spPr>
          <a:xfrm>
            <a:off x="1428840" y="1857240"/>
            <a:ext cx="6429240" cy="482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43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3" descr="центральн 3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тананариву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3" descr="800px-Antananarivo_рува.jpg"/>
          <p:cNvPicPr/>
          <p:nvPr/>
        </p:nvPicPr>
        <p:blipFill>
          <a:blip r:embed="rId1"/>
          <a:stretch/>
        </p:blipFill>
        <p:spPr>
          <a:xfrm>
            <a:off x="1071720" y="1785960"/>
            <a:ext cx="72864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3" descr="Antananarivosunset.jpg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самбль дворцов Ру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7" descr="рува2.jpg"/>
          <p:cNvPicPr/>
          <p:nvPr/>
        </p:nvPicPr>
        <p:blipFill>
          <a:blip r:embed="rId1"/>
          <a:stretch/>
        </p:blipFill>
        <p:spPr>
          <a:xfrm>
            <a:off x="1000080" y="1714680"/>
            <a:ext cx="692964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3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хициланфандзак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ьахиланафад.jpg"/>
          <p:cNvPicPr/>
          <p:nvPr/>
        </p:nvPicPr>
        <p:blipFill>
          <a:blip r:embed="rId1"/>
          <a:stretch/>
        </p:blipFill>
        <p:spPr>
          <a:xfrm>
            <a:off x="2500200" y="1785960"/>
            <a:ext cx="38577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4:29:04Z</dcterms:created>
  <dc:creator>SamLab.ws</dc:creator>
  <dc:description/>
  <dc:language>en-US</dc:language>
  <cp:lastModifiedBy>SamLab.ws</cp:lastModifiedBy>
  <dcterms:modified xsi:type="dcterms:W3CDTF">2010-12-01T00:48:47Z</dcterms:modified>
  <cp:revision>17</cp:revision>
  <dc:subject/>
  <dc:title>Мое виртуальное путешествие на</dc:title>
</cp:coreProperties>
</file>