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2493-9AB0-49C4-B60C-4B0537873D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3358-D313-4CB4-A586-AD0A4763BF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6212-8CA4-4699-AB30-0B4FBC0255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0056-63BD-411F-8293-8C9FADF928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9AFB-A1DC-4210-940A-1EF42AD079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96C8-4425-46A7-84A9-BA6F251831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9D75-A665-4263-A8A9-9F4C7D3A3E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E5A8-F2B1-4043-BA63-E3D787F739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3D36-A1AF-4FB3-B304-BEABF52D75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BA94-1C35-4BBD-84D7-3375B03346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3195-C3B8-4474-A24B-1E20D17658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E09-5817-49AA-AA0D-0600960C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B8F-F64B-49A7-B576-BD3A9A9F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A17-F86A-4289-A463-62FF0DD4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79CB-A9A4-496D-8568-D23EF365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E2F-5467-4DD9-ACDF-E74CD155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904-5ABE-47DB-9BE8-9DA2B286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AD0-EA05-425E-B002-951B9123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5A4-5C78-4D42-B99E-C5B9F86A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739-9F44-43B3-9A71-C5C586F7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DBD-5443-406F-8B89-74E2E931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8C6-564D-4EB8-B956-721637AF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436-72D4-4D7F-974A-3C2AAA4D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FC55-3F01-4256-A0B3-4034E89F10E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roshkolu.ru/user/Polikarpowa/file/572078/" TargetMode="External"/><Relationship Id="rId2" Type="http://schemas.openxmlformats.org/officeDocument/2006/relationships/hyperlink" Target="http://www.it-ru/profil.aspx?cat_no=692&amp;d_no=48111&amp;all=1&amp;page=3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solidFill>
            <a:srgbClr val="6c6c6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Готовимся к ЕГЭ по географ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Горизонтальный свиток 4"/>
          <p:cNvSpPr/>
          <p:nvPr/>
        </p:nvSpPr>
        <p:spPr>
          <a:xfrm>
            <a:off x="1752480" y="990720"/>
            <a:ext cx="6248520" cy="2133360"/>
          </a:xfrm>
          <a:prstGeom prst="horizontalScroll">
            <a:avLst>
              <a:gd name="adj" fmla="val 12500"/>
            </a:avLst>
          </a:prstGeom>
          <a:solidFill>
            <a:srgbClr val="6c6c6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00"/>
                </a:solidFill>
                <a:latin typeface="Monotype Corsiva"/>
              </a:rPr>
              <a:t>ТРЕНАЖЕР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00"/>
                </a:solidFill>
                <a:latin typeface="Monotype Corsiva"/>
              </a:rPr>
              <a:t>11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Скругленный прямоугольник 5"/>
          <p:cNvSpPr/>
          <p:nvPr/>
        </p:nvSpPr>
        <p:spPr>
          <a:xfrm>
            <a:off x="380880" y="3352680"/>
            <a:ext cx="5105520" cy="2971800"/>
          </a:xfrm>
          <a:prstGeom prst="roundRect">
            <a:avLst>
              <a:gd name="adj" fmla="val 16667"/>
            </a:avLst>
          </a:prstGeom>
          <a:solidFill>
            <a:srgbClr val="6c6c6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Страны Европы, Азии, Афри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8"/>
          <p:cNvSpPr/>
          <p:nvPr/>
        </p:nvSpPr>
        <p:spPr>
          <a:xfrm>
            <a:off x="5867280" y="4495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Прямоугольник 14"/>
          <p:cNvGrpSpPr/>
          <p:nvPr/>
        </p:nvGrpSpPr>
        <p:grpSpPr>
          <a:xfrm>
            <a:off x="2803680" y="1878120"/>
            <a:ext cx="3279600" cy="2560680"/>
            <a:chOff x="2803680" y="1878120"/>
            <a:chExt cx="3279600" cy="2560680"/>
          </a:xfrm>
        </p:grpSpPr>
        <p:pic>
          <p:nvPicPr>
            <p:cNvPr id="184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2803680" y="1878120"/>
              <a:ext cx="327960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048120" y="2036880"/>
              <a:ext cx="28954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1. ЮА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2. Лив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3. Сомал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4. Конг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Прямоугольник 17"/>
          <p:cNvSpPr/>
          <p:nvPr/>
        </p:nvSpPr>
        <p:spPr>
          <a:xfrm>
            <a:off x="838080" y="152280"/>
            <a:ext cx="7162920" cy="15242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8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на, богатая лесными ресурс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13"/>
          <p:cNvSpPr/>
          <p:nvPr/>
        </p:nvSpPr>
        <p:spPr>
          <a:xfrm>
            <a:off x="83808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838080" y="4648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29"/>
          <p:cNvSpPr/>
          <p:nvPr/>
        </p:nvSpPr>
        <p:spPr>
          <a:xfrm>
            <a:off x="31240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30"/>
          <p:cNvSpPr/>
          <p:nvPr/>
        </p:nvSpPr>
        <p:spPr>
          <a:xfrm>
            <a:off x="3048120" y="4648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8"/>
          <p:cNvSpPr/>
          <p:nvPr/>
        </p:nvSpPr>
        <p:spPr>
          <a:xfrm>
            <a:off x="5867280" y="5562720"/>
            <a:ext cx="129564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Прямоугольник 14"/>
          <p:cNvGrpSpPr/>
          <p:nvPr/>
        </p:nvGrpSpPr>
        <p:grpSpPr>
          <a:xfrm>
            <a:off x="1859040" y="1962000"/>
            <a:ext cx="4041720" cy="2281320"/>
            <a:chOff x="1859040" y="1962000"/>
            <a:chExt cx="4041720" cy="2281320"/>
          </a:xfrm>
        </p:grpSpPr>
        <p:pic>
          <p:nvPicPr>
            <p:cNvPr id="201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859040" y="1962000"/>
              <a:ext cx="404172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104920" y="2133720"/>
              <a:ext cx="3657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Аргенти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Индонез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Итал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ЮА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Прямоугольник 16"/>
          <p:cNvSpPr/>
          <p:nvPr/>
        </p:nvSpPr>
        <p:spPr>
          <a:xfrm>
            <a:off x="762120" y="152280"/>
            <a:ext cx="7391160" cy="160020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9. Эта страна входит в число мировых лидеров по производству рис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14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5867280" y="4495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Прямоугольник 14"/>
          <p:cNvGrpSpPr/>
          <p:nvPr/>
        </p:nvGrpSpPr>
        <p:grpSpPr>
          <a:xfrm>
            <a:off x="5010120" y="2266920"/>
            <a:ext cx="4097520" cy="2281320"/>
            <a:chOff x="5010120" y="2266920"/>
            <a:chExt cx="4097520" cy="2281320"/>
          </a:xfrm>
        </p:grpSpPr>
        <p:pic>
          <p:nvPicPr>
            <p:cNvPr id="218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5010120" y="2266920"/>
              <a:ext cx="409752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257800" y="2438280"/>
              <a:ext cx="3710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Япо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Сингапу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Монак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Ватика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Прямоугольник 17"/>
          <p:cNvSpPr/>
          <p:nvPr/>
        </p:nvSpPr>
        <p:spPr>
          <a:xfrm>
            <a:off x="838080" y="152280"/>
            <a:ext cx="7162920" cy="15242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10.Определите страну по ее краткому описанию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838080" y="1828800"/>
            <a:ext cx="426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«Это государство с самой маленькой площадью территории и минимальным числом жителей, уникальное по форме правления. Здесь имеется свое правительство, банк, гвардия, законы. Сфера деятельности этого государства – весь мир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a7a7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ные  материа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610480" cy="5105160"/>
          </a:xfrm>
          <a:prstGeom prst="rect">
            <a:avLst/>
          </a:prstGeom>
          <a:solidFill>
            <a:srgbClr val="a7a7a7"/>
          </a:solidFill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1) Шаблон  презентации – Поликарпова Е.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1"/>
              </a:rPr>
              <a:t>http://www.proshkolu.ru/user/Polikarpowa/file/572078/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2) Шаблон учебного тренажёра –Захарова Т.А., Байдакова Т.Б. –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f5f5f"/>
                </a:solidFill>
                <a:uFillTx/>
                <a:latin typeface="Calibri"/>
                <a:ea typeface="Times New Roman"/>
                <a:hlinkClick r:id="rId2"/>
              </a:rPr>
              <a:t>   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ww.it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u/profil.aspx?cat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o=692&amp;d_no=48111&amp;all=1&amp;page=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3) Барабанов В.В., Амбарцумова Э.М., Дюкова С.Е.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Чичерина О.В. ЕГЭ 2012. География. Типовые  тесто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задания. – М.: Издательство «Экзамен», 2012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4) Соловьева Ю.А. ЕГЭ 2012. География. Сборник  заданий. –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М.: Эксмо, 2011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143000" y="152280"/>
            <a:ext cx="6934320" cy="114300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Инструкция по работе с тренаже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28600" y="1600200"/>
            <a:ext cx="8686800" cy="435996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Учебный тренажер содержит 10 заданий ЕГЭ-2015  по  географ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Каждое  задание  имеет  4 варианта  ответа, 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ых  нужно   выбрать  один  правиль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в при этом на кружок рядом с выбран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нтом  отв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Если ответ правильный, появится «плюс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Если ответ неверный, появится «минус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Переход к следующему заданию осуществляется по кнопке вни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5">
            <a:hlinkClick r:id="" action="ppaction://hlinkshowjump?jump=nextslide"/>
          </p:cNvPr>
          <p:cNvSpPr/>
          <p:nvPr/>
        </p:nvSpPr>
        <p:spPr>
          <a:xfrm>
            <a:off x="80010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83808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838080" y="4648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29"/>
          <p:cNvSpPr/>
          <p:nvPr/>
        </p:nvSpPr>
        <p:spPr>
          <a:xfrm>
            <a:off x="31240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 30"/>
          <p:cNvSpPr/>
          <p:nvPr/>
        </p:nvSpPr>
        <p:spPr>
          <a:xfrm>
            <a:off x="3048120" y="4648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5867280" y="5562720"/>
            <a:ext cx="129564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Прямоугольник 14"/>
          <p:cNvGrpSpPr/>
          <p:nvPr/>
        </p:nvGrpSpPr>
        <p:grpSpPr>
          <a:xfrm>
            <a:off x="1962000" y="1962000"/>
            <a:ext cx="4048200" cy="2281320"/>
            <a:chOff x="1962000" y="1962000"/>
            <a:chExt cx="4048200" cy="2281320"/>
          </a:xfrm>
        </p:grpSpPr>
        <p:pic>
          <p:nvPicPr>
            <p:cNvPr id="69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962000" y="1962000"/>
              <a:ext cx="404820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209680" y="2133720"/>
              <a:ext cx="3657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Непал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Великобрита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Монгол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Египе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Прямоугольник 16"/>
          <p:cNvSpPr/>
          <p:nvPr/>
        </p:nvSpPr>
        <p:spPr>
          <a:xfrm>
            <a:off x="762120" y="152280"/>
            <a:ext cx="7391160" cy="160020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1. В какой из перечисленных стран наиболее велика доля горожан в общей численности насел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13"/>
          <p:cNvSpPr/>
          <p:nvPr/>
        </p:nvSpPr>
        <p:spPr>
          <a:xfrm>
            <a:off x="762120" y="4648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14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447920" y="437688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29"/>
          <p:cNvSpPr/>
          <p:nvPr/>
        </p:nvSpPr>
        <p:spPr>
          <a:xfrm>
            <a:off x="2971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8"/>
          <p:cNvSpPr/>
          <p:nvPr/>
        </p:nvSpPr>
        <p:spPr>
          <a:xfrm>
            <a:off x="5867280" y="55627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Прямоугольник 27"/>
          <p:cNvGrpSpPr/>
          <p:nvPr/>
        </p:nvGrpSpPr>
        <p:grpSpPr>
          <a:xfrm>
            <a:off x="2292480" y="1809720"/>
            <a:ext cx="5016240" cy="2274840"/>
            <a:chOff x="2292480" y="1809720"/>
            <a:chExt cx="5016240" cy="2274840"/>
          </a:xfrm>
        </p:grpSpPr>
        <p:pic>
          <p:nvPicPr>
            <p:cNvPr id="86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292480" y="1809720"/>
              <a:ext cx="5016240" cy="22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517840" y="1981080"/>
              <a:ext cx="46479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рвег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удовская Арав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на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захста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Прямоугольник 16"/>
          <p:cNvSpPr/>
          <p:nvPr/>
        </p:nvSpPr>
        <p:spPr>
          <a:xfrm>
            <a:off x="1122480" y="304920"/>
            <a:ext cx="6802200" cy="1295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Какая из  перечисленных стран входит в состав ОПЕ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4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29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8"/>
          <p:cNvSpPr/>
          <p:nvPr/>
        </p:nvSpPr>
        <p:spPr>
          <a:xfrm>
            <a:off x="5867280" y="4495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Прямоугольник 14"/>
          <p:cNvGrpSpPr/>
          <p:nvPr/>
        </p:nvGrpSpPr>
        <p:grpSpPr>
          <a:xfrm>
            <a:off x="2981160" y="1889280"/>
            <a:ext cx="3286440" cy="2274840"/>
            <a:chOff x="2981160" y="1889280"/>
            <a:chExt cx="3286440" cy="2274840"/>
          </a:xfrm>
        </p:grpSpPr>
        <p:pic>
          <p:nvPicPr>
            <p:cNvPr id="103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2981160" y="1889280"/>
              <a:ext cx="3286440" cy="22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27400" y="2057400"/>
              <a:ext cx="2895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Вьетнам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Узбекиста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Ира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Да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Прямоугольник 17"/>
          <p:cNvSpPr/>
          <p:nvPr/>
        </p:nvSpPr>
        <p:spPr>
          <a:xfrm>
            <a:off x="838080" y="152280"/>
            <a:ext cx="7162920" cy="15242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3. Для какой из перечисленных стран характерен миграционный прирост насел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11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762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23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29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0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17220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838080" y="152280"/>
            <a:ext cx="7696440" cy="12956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4. Для какой из перечисленных стран характерна структура ВВП ,показанная на диаграмм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Рисунок 17" descr=""/>
          <p:cNvPicPr/>
          <p:nvPr/>
        </p:nvPicPr>
        <p:blipFill>
          <a:blip r:embed="rId1"/>
          <a:srcRect l="16318" t="44728" r="23023" b="19039"/>
          <a:stretch/>
        </p:blipFill>
        <p:spPr>
          <a:xfrm>
            <a:off x="1828800" y="1447920"/>
            <a:ext cx="556272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11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762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8"/>
          <p:cNvSpPr/>
          <p:nvPr/>
        </p:nvSpPr>
        <p:spPr>
          <a:xfrm>
            <a:off x="1447920" y="447660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29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30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17220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Прямоугольник 14"/>
          <p:cNvGrpSpPr/>
          <p:nvPr/>
        </p:nvGrpSpPr>
        <p:grpSpPr>
          <a:xfrm>
            <a:off x="2859120" y="1736640"/>
            <a:ext cx="3340080" cy="2268720"/>
            <a:chOff x="2859120" y="1736640"/>
            <a:chExt cx="3340080" cy="2268720"/>
          </a:xfrm>
        </p:grpSpPr>
        <p:pic>
          <p:nvPicPr>
            <p:cNvPr id="135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2859120" y="1736640"/>
              <a:ext cx="334008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086280" y="1905120"/>
              <a:ext cx="29718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д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ита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донез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нгладеш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Прямоугольник 16"/>
          <p:cNvSpPr/>
          <p:nvPr/>
        </p:nvSpPr>
        <p:spPr>
          <a:xfrm>
            <a:off x="838080" y="152280"/>
            <a:ext cx="7696440" cy="1295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Какая из перечисленных стран входит в состав АСЕА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29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5867280" y="4495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7"/>
          <p:cNvSpPr/>
          <p:nvPr/>
        </p:nvSpPr>
        <p:spPr>
          <a:xfrm>
            <a:off x="838080" y="152280"/>
            <a:ext cx="7162920" cy="15242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6.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Транспортная система зарубежной Европы выделяется в мир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941400" y="1905120"/>
            <a:ext cx="670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. самой большой дальностью перевоз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2. отсутствием речного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3. преобладанием железнодорожного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4. самой высокой густотой транспортной се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5867280" y="4495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Прямоугольник 14"/>
          <p:cNvGrpSpPr/>
          <p:nvPr/>
        </p:nvGrpSpPr>
        <p:grpSpPr>
          <a:xfrm>
            <a:off x="2981160" y="1895400"/>
            <a:ext cx="3286440" cy="2268720"/>
            <a:chOff x="2981160" y="1895400"/>
            <a:chExt cx="3286440" cy="2268720"/>
          </a:xfrm>
        </p:grpSpPr>
        <p:pic>
          <p:nvPicPr>
            <p:cNvPr id="167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2981160" y="1895400"/>
              <a:ext cx="328644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227400" y="2057400"/>
              <a:ext cx="2895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. Замб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2. Ниге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3. Тунис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4. Мал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Прямоугольник 17"/>
          <p:cNvSpPr/>
          <p:nvPr/>
        </p:nvSpPr>
        <p:spPr>
          <a:xfrm>
            <a:off x="838080" y="152280"/>
            <a:ext cx="7162920" cy="15242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7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орское положение имеет стр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Ахметшина</dc:creator>
  <dc:description/>
  <dc:language>en-US</dc:language>
  <cp:lastModifiedBy>Осташкина</cp:lastModifiedBy>
  <dcterms:modified xsi:type="dcterms:W3CDTF">2015-01-08T04:48:47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