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14B2-D4D5-4E9D-8303-BC78EB904D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2363-CEE4-4DB4-B939-6BBEABD8C4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525F-B5E6-49FA-98C2-046F9DB768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CE55-FAE0-4325-BCB8-B320AED37F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C6E5-C00A-4444-9C7B-D48BD3A91E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79AF-1347-43D0-B883-FDC1408178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FD0F-C8DC-489D-A6B5-01F4BCC469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B419-B1D1-4567-A6BD-0A71906080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9191-C6A1-4FE3-B1AF-76757EBABE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0AED-D254-4E31-9923-9EF87FEADB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7A60-2364-4DA1-B8E9-054717B39A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85E1-B537-4163-80DF-A4BA92B8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8686-FD6C-4A2F-82D6-BB3527F6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803-47D5-4E7B-8FD8-02FEEB56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2B0-471C-4FDC-B0F3-B406D5BC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28F-D104-4F8A-A879-4E99AA4F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D4A-59A7-444D-BF53-4AA514A3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848-FBB4-4CD6-8A91-9A733A2B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08F-95AD-4DB4-BC01-66F6A28E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748-9CB7-4F19-9D64-05B4B47A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A95-2D82-4202-94CA-0634774F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FCDB-DB7C-44CA-AC62-147AF0C4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B8A-ADE4-473B-A742-48F181EA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6E45-34A7-4ED8-866F-CF009D80C55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roshkolu.ru/user/Polikarpowa/file/572078/" TargetMode="External"/><Relationship Id="rId2" Type="http://schemas.openxmlformats.org/officeDocument/2006/relationships/hyperlink" Target="http://www.it-ru/profil.aspx?cat_no=692&amp;d_no=48111&amp;all=1&amp;page=3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solidFill>
            <a:srgbClr val="6c6c6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Готовимся к ЕГЭ по географ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Горизонтальный свиток 4"/>
          <p:cNvSpPr/>
          <p:nvPr/>
        </p:nvSpPr>
        <p:spPr>
          <a:xfrm>
            <a:off x="1752480" y="990720"/>
            <a:ext cx="6248520" cy="2133360"/>
          </a:xfrm>
          <a:prstGeom prst="horizontalScroll">
            <a:avLst>
              <a:gd name="adj" fmla="val 12500"/>
            </a:avLst>
          </a:prstGeom>
          <a:solidFill>
            <a:srgbClr val="6c6c6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6600"/>
                </a:solidFill>
                <a:latin typeface="Monotype Corsiva"/>
              </a:rPr>
              <a:t>ТРЕНАЖЕР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6600"/>
                </a:solidFill>
                <a:latin typeface="Monotype Corsiva"/>
              </a:rPr>
              <a:t>11 клас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Скругленный прямоугольник 5"/>
          <p:cNvSpPr/>
          <p:nvPr/>
        </p:nvSpPr>
        <p:spPr>
          <a:xfrm>
            <a:off x="380880" y="3352680"/>
            <a:ext cx="5105520" cy="2971800"/>
          </a:xfrm>
          <a:prstGeom prst="roundRect">
            <a:avLst>
              <a:gd name="adj" fmla="val 16667"/>
            </a:avLst>
          </a:prstGeom>
          <a:solidFill>
            <a:srgbClr val="6c6c6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Страны Европы, Азии, Афри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762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8"/>
          <p:cNvSpPr/>
          <p:nvPr/>
        </p:nvSpPr>
        <p:spPr>
          <a:xfrm>
            <a:off x="5867280" y="4495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Прямоугольник 14"/>
          <p:cNvGrpSpPr/>
          <p:nvPr/>
        </p:nvGrpSpPr>
        <p:grpSpPr>
          <a:xfrm>
            <a:off x="2803680" y="1878120"/>
            <a:ext cx="3279600" cy="2560680"/>
            <a:chOff x="2803680" y="1878120"/>
            <a:chExt cx="3279600" cy="2560680"/>
          </a:xfrm>
        </p:grpSpPr>
        <p:pic>
          <p:nvPicPr>
            <p:cNvPr id="184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2803680" y="1878120"/>
              <a:ext cx="327960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048120" y="2036880"/>
              <a:ext cx="28954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1. ЮА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2. Лив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3. Сомал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4. Конг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Прямоугольник 17"/>
          <p:cNvSpPr/>
          <p:nvPr/>
        </p:nvSpPr>
        <p:spPr>
          <a:xfrm>
            <a:off x="838080" y="152280"/>
            <a:ext cx="7162920" cy="152424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8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ана, богатая лесными ресурс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8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730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13"/>
          <p:cNvSpPr/>
          <p:nvPr/>
        </p:nvSpPr>
        <p:spPr>
          <a:xfrm>
            <a:off x="83808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14"/>
          <p:cNvSpPr/>
          <p:nvPr/>
        </p:nvSpPr>
        <p:spPr>
          <a:xfrm>
            <a:off x="838080" y="4648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29"/>
          <p:cNvSpPr/>
          <p:nvPr/>
        </p:nvSpPr>
        <p:spPr>
          <a:xfrm>
            <a:off x="31240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30"/>
          <p:cNvSpPr/>
          <p:nvPr/>
        </p:nvSpPr>
        <p:spPr>
          <a:xfrm>
            <a:off x="3048120" y="4648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8"/>
          <p:cNvSpPr/>
          <p:nvPr/>
        </p:nvSpPr>
        <p:spPr>
          <a:xfrm>
            <a:off x="5867280" y="5562720"/>
            <a:ext cx="129564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Прямоугольник 14"/>
          <p:cNvGrpSpPr/>
          <p:nvPr/>
        </p:nvGrpSpPr>
        <p:grpSpPr>
          <a:xfrm>
            <a:off x="1859040" y="1962000"/>
            <a:ext cx="4041720" cy="2281320"/>
            <a:chOff x="1859040" y="1962000"/>
            <a:chExt cx="4041720" cy="2281320"/>
          </a:xfrm>
        </p:grpSpPr>
        <p:pic>
          <p:nvPicPr>
            <p:cNvPr id="201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1859040" y="1962000"/>
              <a:ext cx="4041720" cy="22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104920" y="2133720"/>
              <a:ext cx="3657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Аргентин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Индонез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Итал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ЮА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Прямоугольник 16"/>
          <p:cNvSpPr/>
          <p:nvPr/>
        </p:nvSpPr>
        <p:spPr>
          <a:xfrm>
            <a:off x="762120" y="152280"/>
            <a:ext cx="7391160" cy="160020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9. Эта страна входит в число мировых лидеров по производству рис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13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14"/>
          <p:cNvSpPr/>
          <p:nvPr/>
        </p:nvSpPr>
        <p:spPr>
          <a:xfrm>
            <a:off x="762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18"/>
          <p:cNvSpPr/>
          <p:nvPr/>
        </p:nvSpPr>
        <p:spPr>
          <a:xfrm>
            <a:off x="5867280" y="4495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Прямоугольник 14"/>
          <p:cNvGrpSpPr/>
          <p:nvPr/>
        </p:nvGrpSpPr>
        <p:grpSpPr>
          <a:xfrm>
            <a:off x="5010120" y="2266920"/>
            <a:ext cx="4097520" cy="2281320"/>
            <a:chOff x="5010120" y="2266920"/>
            <a:chExt cx="4097520" cy="2281320"/>
          </a:xfrm>
        </p:grpSpPr>
        <p:pic>
          <p:nvPicPr>
            <p:cNvPr id="218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5010120" y="2266920"/>
              <a:ext cx="4097520" cy="22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257800" y="2438280"/>
              <a:ext cx="3710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Япо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Сингапу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Монак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Ватика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Прямоугольник 17"/>
          <p:cNvSpPr/>
          <p:nvPr/>
        </p:nvSpPr>
        <p:spPr>
          <a:xfrm>
            <a:off x="838080" y="152280"/>
            <a:ext cx="7162920" cy="152424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ahoma"/>
                <a:ea typeface="Tahoma"/>
              </a:rPr>
              <a:t>10.Определите страну по ее краткому описанию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838080" y="1828800"/>
            <a:ext cx="426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«Это государство с самой маленькой площадью территории и минимальным числом жителей, уникальное по форме правления. Здесь имеется свое правительство, банк, гвардия, законы. Сфера деятельности этого государства – весь мир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876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00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a7a7a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ные  материа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610480" cy="5105160"/>
          </a:xfrm>
          <a:prstGeom prst="rect">
            <a:avLst/>
          </a:prstGeom>
          <a:solidFill>
            <a:srgbClr val="a7a7a7"/>
          </a:solidFill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1) Шаблон  презентации – Поликарпова Е.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5f5f5f"/>
                </a:solidFill>
                <a:uFillTx/>
                <a:latin typeface="Times New Roman"/>
                <a:ea typeface="Times New Roman"/>
                <a:hlinkClick r:id="rId1"/>
              </a:rPr>
              <a:t>http://www.proshkolu.ru/user/Polikarpowa/file/572078/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2) Шаблон учебного тренажёра –Захарова Т.А., Байдакова Т.Б. –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f5f5f"/>
                </a:solidFill>
                <a:uFillTx/>
                <a:latin typeface="Calibri"/>
                <a:ea typeface="Times New Roman"/>
                <a:hlinkClick r:id="rId2"/>
              </a:rPr>
              <a:t>   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ww.it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u/profil.aspx?cat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o=692&amp;d_no=48111&amp;all=1&amp;page=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3) Барабанов В.В., Амбарцумова Э.М., Дюкова С.Е.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Чичерина О.В. ЕГЭ 2012. География. Типовые  тестов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задания. – М.: Издательство «Экзамен», 2012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4) Соловьева Ю.А. ЕГЭ 2012. География. Сборник  заданий. –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М.: Эксмо, 2011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143000" y="152280"/>
            <a:ext cx="6934320" cy="114300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Инструкция по работе с тренаже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228600" y="1600200"/>
            <a:ext cx="8686800" cy="435996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Учебный тренажер содержит 10 заданий ЕГЭ-2015  по  географ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Каждое  задание  имеет  4 варианта  ответа, 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торых  нужно   выбрать  один  правиль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жав при этом на кружок рядом с выбран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риантом  отв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Если ответ правильный, появится «плюс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Если ответ неверный, появится «минус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Переход к следующему заданию осуществляется по кнопке вни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5">
            <a:hlinkClick r:id="" action="ppaction://hlinkshowjump?jump=nextslide"/>
          </p:cNvPr>
          <p:cNvSpPr/>
          <p:nvPr/>
        </p:nvSpPr>
        <p:spPr>
          <a:xfrm>
            <a:off x="80010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3"/>
          <p:cNvSpPr/>
          <p:nvPr/>
        </p:nvSpPr>
        <p:spPr>
          <a:xfrm>
            <a:off x="83808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838080" y="4648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29"/>
          <p:cNvSpPr/>
          <p:nvPr/>
        </p:nvSpPr>
        <p:spPr>
          <a:xfrm>
            <a:off x="31240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Oval 30"/>
          <p:cNvSpPr/>
          <p:nvPr/>
        </p:nvSpPr>
        <p:spPr>
          <a:xfrm>
            <a:off x="3048120" y="4648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5867280" y="5562720"/>
            <a:ext cx="129564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Прямоугольник 14"/>
          <p:cNvGrpSpPr/>
          <p:nvPr/>
        </p:nvGrpSpPr>
        <p:grpSpPr>
          <a:xfrm>
            <a:off x="1962000" y="1962000"/>
            <a:ext cx="4048200" cy="2281320"/>
            <a:chOff x="1962000" y="1962000"/>
            <a:chExt cx="4048200" cy="2281320"/>
          </a:xfrm>
        </p:grpSpPr>
        <p:pic>
          <p:nvPicPr>
            <p:cNvPr id="69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1962000" y="1962000"/>
              <a:ext cx="4048200" cy="22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209680" y="2133720"/>
              <a:ext cx="3657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Непал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Великобрита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Монгол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Египе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Прямоугольник 16"/>
          <p:cNvSpPr/>
          <p:nvPr/>
        </p:nvSpPr>
        <p:spPr>
          <a:xfrm>
            <a:off x="762120" y="152280"/>
            <a:ext cx="7391160" cy="160020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1. В какой из перечисленных стран наиболее велика доля горожан в общей численности насел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13"/>
          <p:cNvSpPr/>
          <p:nvPr/>
        </p:nvSpPr>
        <p:spPr>
          <a:xfrm>
            <a:off x="762120" y="4648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14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447920" y="437688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Oval 29"/>
          <p:cNvSpPr/>
          <p:nvPr/>
        </p:nvSpPr>
        <p:spPr>
          <a:xfrm>
            <a:off x="2971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Oval 30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8"/>
          <p:cNvSpPr/>
          <p:nvPr/>
        </p:nvSpPr>
        <p:spPr>
          <a:xfrm>
            <a:off x="5867280" y="556272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Прямоугольник 27"/>
          <p:cNvGrpSpPr/>
          <p:nvPr/>
        </p:nvGrpSpPr>
        <p:grpSpPr>
          <a:xfrm>
            <a:off x="2292480" y="1809720"/>
            <a:ext cx="5016240" cy="2274840"/>
            <a:chOff x="2292480" y="1809720"/>
            <a:chExt cx="5016240" cy="2274840"/>
          </a:xfrm>
        </p:grpSpPr>
        <p:pic>
          <p:nvPicPr>
            <p:cNvPr id="86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292480" y="1809720"/>
              <a:ext cx="5016240" cy="22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517840" y="1981080"/>
              <a:ext cx="46479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орвег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аудовская Арав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над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захста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Прямоугольник 16"/>
          <p:cNvSpPr/>
          <p:nvPr/>
        </p:nvSpPr>
        <p:spPr>
          <a:xfrm>
            <a:off x="1122480" y="304920"/>
            <a:ext cx="6802200" cy="1295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Какая из  перечисленных стран входит в состав ОПЕ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3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4"/>
          <p:cNvSpPr/>
          <p:nvPr/>
        </p:nvSpPr>
        <p:spPr>
          <a:xfrm>
            <a:off x="762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29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30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8"/>
          <p:cNvSpPr/>
          <p:nvPr/>
        </p:nvSpPr>
        <p:spPr>
          <a:xfrm>
            <a:off x="5867280" y="4495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Прямоугольник 14"/>
          <p:cNvGrpSpPr/>
          <p:nvPr/>
        </p:nvGrpSpPr>
        <p:grpSpPr>
          <a:xfrm>
            <a:off x="2981160" y="1889280"/>
            <a:ext cx="3286440" cy="2274840"/>
            <a:chOff x="2981160" y="1889280"/>
            <a:chExt cx="3286440" cy="2274840"/>
          </a:xfrm>
        </p:grpSpPr>
        <p:pic>
          <p:nvPicPr>
            <p:cNvPr id="103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2981160" y="1889280"/>
              <a:ext cx="3286440" cy="22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227400" y="2057400"/>
              <a:ext cx="28954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Вьетнам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Узбекиста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Ирак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70c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Calibri"/>
                  <a:ea typeface="Times New Roman"/>
                </a:rPr>
                <a:t>Да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Прямоугольник 17"/>
          <p:cNvSpPr/>
          <p:nvPr/>
        </p:nvSpPr>
        <p:spPr>
          <a:xfrm>
            <a:off x="838080" y="152280"/>
            <a:ext cx="7162920" cy="152424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3. Для какой из перечисленных стран характерен миграционный прирост насел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11"/>
          <p:cNvSpPr/>
          <p:nvPr/>
        </p:nvSpPr>
        <p:spPr>
          <a:xfrm>
            <a:off x="762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762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23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29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0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17220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16"/>
          <p:cNvSpPr/>
          <p:nvPr/>
        </p:nvSpPr>
        <p:spPr>
          <a:xfrm>
            <a:off x="838080" y="152280"/>
            <a:ext cx="7696440" cy="129564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4. Для какой из перечисленных стран характерна структура ВВП ,показанная на диаграмм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Рисунок 17" descr=""/>
          <p:cNvPicPr/>
          <p:nvPr/>
        </p:nvPicPr>
        <p:blipFill>
          <a:blip r:embed="rId1"/>
          <a:srcRect l="16318" t="44728" r="23023" b="19039"/>
          <a:stretch/>
        </p:blipFill>
        <p:spPr>
          <a:xfrm>
            <a:off x="1828800" y="1447920"/>
            <a:ext cx="556272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11"/>
          <p:cNvSpPr/>
          <p:nvPr/>
        </p:nvSpPr>
        <p:spPr>
          <a:xfrm>
            <a:off x="762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13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762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8"/>
          <p:cNvSpPr/>
          <p:nvPr/>
        </p:nvSpPr>
        <p:spPr>
          <a:xfrm>
            <a:off x="1447920" y="447660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23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29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30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8"/>
          <p:cNvSpPr/>
          <p:nvPr/>
        </p:nvSpPr>
        <p:spPr>
          <a:xfrm>
            <a:off x="5867280" y="457200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17220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Прямоугольник 14"/>
          <p:cNvGrpSpPr/>
          <p:nvPr/>
        </p:nvGrpSpPr>
        <p:grpSpPr>
          <a:xfrm>
            <a:off x="2859120" y="1736640"/>
            <a:ext cx="3340080" cy="2268720"/>
            <a:chOff x="2859120" y="1736640"/>
            <a:chExt cx="3340080" cy="2268720"/>
          </a:xfrm>
        </p:grpSpPr>
        <p:pic>
          <p:nvPicPr>
            <p:cNvPr id="135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2859120" y="1736640"/>
              <a:ext cx="3340080" cy="22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086280" y="1905120"/>
              <a:ext cx="29718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д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ита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донез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нгладеш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Прямоугольник 16"/>
          <p:cNvSpPr/>
          <p:nvPr/>
        </p:nvSpPr>
        <p:spPr>
          <a:xfrm>
            <a:off x="838080" y="152280"/>
            <a:ext cx="7696440" cy="1295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Какая из перечисленных стран входит в состав АСЕАН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4"/>
          <p:cNvSpPr/>
          <p:nvPr/>
        </p:nvSpPr>
        <p:spPr>
          <a:xfrm>
            <a:off x="762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29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30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5867280" y="4495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17"/>
          <p:cNvSpPr/>
          <p:nvPr/>
        </p:nvSpPr>
        <p:spPr>
          <a:xfrm>
            <a:off x="838080" y="152280"/>
            <a:ext cx="7162920" cy="152424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6.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Транспортная система зарубежной Европы выделяется в мир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1"/>
          <p:cNvSpPr/>
          <p:nvPr/>
        </p:nvSpPr>
        <p:spPr>
          <a:xfrm>
            <a:off x="941400" y="1905120"/>
            <a:ext cx="6705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1. самой большой дальностью перевоз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2. отсутствием речного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3. преобладанием железнодорожного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4. самой высокой густотой транспортной се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11"/>
          <p:cNvSpPr/>
          <p:nvPr/>
        </p:nvSpPr>
        <p:spPr>
          <a:xfrm>
            <a:off x="525780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525780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762120" y="571500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762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1447920" y="4495680"/>
            <a:ext cx="129528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3"/>
          <p:cNvSpPr/>
          <p:nvPr/>
        </p:nvSpPr>
        <p:spPr>
          <a:xfrm>
            <a:off x="746748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8"/>
          <p:cNvSpPr/>
          <p:nvPr/>
        </p:nvSpPr>
        <p:spPr>
          <a:xfrm>
            <a:off x="746748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9"/>
          <p:cNvSpPr/>
          <p:nvPr/>
        </p:nvSpPr>
        <p:spPr>
          <a:xfrm>
            <a:off x="3048120" y="579132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30"/>
          <p:cNvSpPr/>
          <p:nvPr/>
        </p:nvSpPr>
        <p:spPr>
          <a:xfrm>
            <a:off x="3048120" y="4724280"/>
            <a:ext cx="360360" cy="36036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8"/>
          <p:cNvSpPr/>
          <p:nvPr/>
        </p:nvSpPr>
        <p:spPr>
          <a:xfrm>
            <a:off x="1447920" y="5562720"/>
            <a:ext cx="1295280" cy="707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18"/>
          <p:cNvSpPr/>
          <p:nvPr/>
        </p:nvSpPr>
        <p:spPr>
          <a:xfrm>
            <a:off x="5867280" y="4495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5867280" y="5638680"/>
            <a:ext cx="1295640" cy="708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381880" y="6248520"/>
            <a:ext cx="586080" cy="433440"/>
          </a:xfrm>
          <a:custGeom>
            <a:avLst/>
            <a:gdLst>
              <a:gd name="textAreaLeft" fmla="*/ 28080 w 586080"/>
              <a:gd name="textAreaRight" fmla="*/ 558000 w 586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200" h="21600">
                <a:moveTo>
                  <a:pt x="0" y="0"/>
                </a:moveTo>
                <a:lnTo>
                  <a:pt x="29200" y="0"/>
                </a:lnTo>
                <a:lnTo>
                  <a:pt x="29200" y="21600"/>
                </a:lnTo>
                <a:lnTo>
                  <a:pt x="0" y="21600"/>
                </a:lnTo>
                <a:close/>
              </a:path>
              <a:path fill="lightenLess" w="29200" h="21600">
                <a:moveTo>
                  <a:pt x="0" y="0"/>
                </a:moveTo>
                <a:lnTo>
                  <a:pt x="29200" y="0"/>
                </a:lnTo>
                <a:lnTo>
                  <a:pt x="27800" y="1400"/>
                </a:lnTo>
                <a:lnTo>
                  <a:pt x="1400" y="1400"/>
                </a:lnTo>
                <a:close/>
              </a:path>
              <a:path fill="darken" w="29200" h="21600">
                <a:moveTo>
                  <a:pt x="29200" y="0"/>
                </a:moveTo>
                <a:lnTo>
                  <a:pt x="29200" y="21600"/>
                </a:lnTo>
                <a:lnTo>
                  <a:pt x="27800" y="20200"/>
                </a:lnTo>
                <a:lnTo>
                  <a:pt x="27800" y="1400"/>
                </a:lnTo>
                <a:close/>
              </a:path>
              <a:path fill="darkenLess" w="29200" h="21600">
                <a:moveTo>
                  <a:pt x="29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0" y="20200"/>
                </a:lnTo>
                <a:close/>
              </a:path>
              <a:path fill="lighten" w="29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0" h="21600">
                <a:moveTo>
                  <a:pt x="7594" y="3794"/>
                </a:moveTo>
                <a:lnTo>
                  <a:pt x="21607" y="10800"/>
                </a:lnTo>
                <a:lnTo>
                  <a:pt x="7594" y="1780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Прямоугольник 14"/>
          <p:cNvGrpSpPr/>
          <p:nvPr/>
        </p:nvGrpSpPr>
        <p:grpSpPr>
          <a:xfrm>
            <a:off x="2981160" y="1895400"/>
            <a:ext cx="3286440" cy="2268720"/>
            <a:chOff x="2981160" y="1895400"/>
            <a:chExt cx="3286440" cy="2268720"/>
          </a:xfrm>
        </p:grpSpPr>
        <p:pic>
          <p:nvPicPr>
            <p:cNvPr id="167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2981160" y="1895400"/>
              <a:ext cx="3286440" cy="22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227400" y="2057400"/>
              <a:ext cx="28954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. Замб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2. Ниге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3. Тунис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4. Мал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Прямоугольник 17"/>
          <p:cNvSpPr/>
          <p:nvPr/>
        </p:nvSpPr>
        <p:spPr>
          <a:xfrm>
            <a:off x="838080" y="152280"/>
            <a:ext cx="7162920" cy="1524240"/>
          </a:xfrm>
          <a:prstGeom prst="rect">
            <a:avLst/>
          </a:prstGeom>
          <a:solidFill>
            <a:srgbClr val="6c6c6c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7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орское положение имеет стра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Ахметшина</dc:creator>
  <dc:description/>
  <dc:language>en-US</dc:language>
  <cp:lastModifiedBy>Осташкина</cp:lastModifiedBy>
  <dcterms:modified xsi:type="dcterms:W3CDTF">2015-01-08T04:48:47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