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2D2-285F-4C83-A4C2-046B6139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0E5-A41B-47FD-B3F5-7673BCEF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474-1AF1-44E3-9F68-5F62EF69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CF4-E290-4E2B-BED0-2A19A7D4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1486-2727-401A-A4B2-5A4E069B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9FAE-D489-4248-A013-8FDF80AB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D103-50A6-4E66-9A43-AF2154CE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E1BA-C6E8-483A-90DD-C7137D99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6CDE-CD25-4CCD-ADE8-D3546714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74FF-1DAF-41FD-86ED-FF75F4ED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DBF8-6ADA-4D69-B3E6-DAEFD17D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8D9-41C1-490C-8476-3416AABC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F768-C66C-41F5-A837-BD724485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680D-53B4-4342-BB35-4E778E7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A146-E747-4F52-AA61-6DD07FB4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81C2-EC54-4C38-9F72-EB8C85AE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91D1-046C-4FB6-91F7-21EDACCF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DC4-AD43-4234-94A7-22BB6FDA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5FC-4C5E-44C7-A839-0E1A1B08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62A-014E-4CD2-843B-E7DEA2D6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544-DB09-4AA0-B60C-FF7248D6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3DE-2E80-4582-988F-6BD45F59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77B-1787-4861-B688-023F089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AA2-B934-4B6E-9672-8C67C454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80F5-99F5-4541-B70E-D8940F4217F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617B-1C7D-4239-9F30-8707BDC7A78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сновные требования к здоровьесберегающему урок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доровье-это состояние полного физического, психического и социального благополучия, а не только отсутствие болезней или физических дефектов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доровь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изическ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сихическ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равственн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уховное здоровь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ебования к здоровьесберегающему уроку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игиенические условия в класс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ло видов учеб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яя продолжительность и частота чередования различных видов учеб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ло и использованных учителем видов преподав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редование видов преподав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активирующих мет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ительность применения ТС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мение учителя использовать возможности показ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зы учащихся и их черед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изкультминутки и физкультпауз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ние у школьников ЗОЖ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личие у школьников мотив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лагоприятный психологический климат на уро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личие микроконфликт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ладающее выражение лица учител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 показателя окончания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тоговая плотность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мент наступления утом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мп и особенности окончания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и вид учеников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ходящих с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 забывайте о собственном здоровье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547640" y="2575080"/>
            <a:ext cx="626436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Больной учитель н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жет воспитать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х учеников!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3:47:30Z</dcterms:created>
  <dc:creator>Рахимжанова З.Т.</dc:creator>
  <dc:description/>
  <dc:language>en-US</dc:language>
  <cp:lastModifiedBy>PUTNIK OS</cp:lastModifiedBy>
  <dcterms:modified xsi:type="dcterms:W3CDTF">2010-04-19T09:40:15Z</dcterms:modified>
  <cp:revision>6</cp:revision>
  <dc:subject/>
  <dc:title>Основные требования к здоровьесберегающему уроку.</dc:title>
</cp:coreProperties>
</file>