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6AD4-01FA-4858-8053-B9A3BE43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8330-5F1C-4CD3-AFD3-E784D793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8FCF-4BD6-4195-8389-6565B340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E892-7034-4A1F-9D03-5A685011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F3F3-A96F-4BAB-9360-8D012B5F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E5B1-2A94-4170-9800-913A77CA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BCD9-E369-487C-A4C2-4C14803A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3561-A39E-4E0A-8F54-7441E059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9CDD-8E1D-4B3F-A62A-ECF4AADA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9E16-BEA7-46C3-A1C8-65E3E475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7F65-8EED-44B9-B92A-C5240871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3E65-B9B4-423C-A31E-FEFB4D45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20FE-B91B-45A1-9CBB-1DE80E92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FB4A-FA7D-4658-B2A4-832F39EE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1919-BB62-45B9-A0FC-DFA0F6BC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50BA-A398-4651-BBFB-0EC3C92B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52EB-B7BB-46D6-8C96-FC1F633A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9715-EBCD-437D-9C63-F356354A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9828-AB1F-4A9F-A708-DAE7DC37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8814-E7C7-40B5-96EE-845A1FA1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4A46-76A4-4F92-92FE-2305363D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D975-904D-44F8-93C3-540CAD63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8BDE-2F5E-4878-B8AC-69ECE629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3651-17E7-48A1-AA74-5EA6780E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7D17-D758-4678-8A5C-71EDE27E82A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5ADD-1706-402D-AB75-DBD2B434287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Основные требования к здоровьесберегающему уроку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доровье-это состояние полного физического, психического и социального благополучия, а не только отсутствие болезней или физических дефектов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иды здоровь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Физическое здоровь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сихическое здоровь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циальное здоровь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равственное здоровь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уховное здоровь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ребования к здоровьесберегающему уроку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игиенические условия в класс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исло видов учебной деятель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редняя продолжительность и частота чередования различных видов учебной деятель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исло и использованных учителем видов преподава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ередование видов преподава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спользование активирующих метод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лительность применения ТС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мение учителя использовать возможности показ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зы учащихся и их чередова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Физкультминутки и физкультпауз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Формирование у школьников ЗОЖ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личие у школьников мотив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лагоприятный психологический климат на урок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личие микроконфликт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обладающее выражение лица учител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4 показателя окончания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тоговая плотность уро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мент наступления утомл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мп и особенности окончания уро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стояние и вид учеников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ходящих с уро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е забывайте о собственном здоровье!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1547640" y="2575080"/>
            <a:ext cx="6264360" cy="31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Больной учитель н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жет воспитать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ых учеников!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23:47:30Z</dcterms:created>
  <dc:creator>Рахимжанова З.Т.</dc:creator>
  <dc:description/>
  <dc:language>en-US</dc:language>
  <cp:lastModifiedBy>PUTNIK OS</cp:lastModifiedBy>
  <dcterms:modified xsi:type="dcterms:W3CDTF">2010-04-19T09:40:15Z</dcterms:modified>
  <cp:revision>6</cp:revision>
  <dc:subject/>
  <dc:title>Основные требования к здоровьесберегающему уроку.</dc:title>
</cp:coreProperties>
</file>