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B85-88CC-4932-B99E-007F8036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A0B-01EB-4386-BE3E-EDB0AFF8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5EE-A0A1-42AF-B112-168301A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FF2-8EDC-4548-9233-A952CA77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5A0-6AB1-402D-BBDC-4FFE0D1D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E72-668B-4DFE-AF69-443CCF9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850-6736-4769-844A-1CF6FA2C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A9F2-C3E2-4F76-8849-B06A2A40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5B1D-D571-4271-A2FC-B592051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A1C-472E-463C-8949-EC71BDC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736-656A-4CE2-B965-35B90C1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0D7-0BA1-417F-9769-2DE0A7C6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44D8-BDF7-4917-8A81-706E7A4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FA8-C004-471F-9075-B0E0FFA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492-67EB-4E88-92A9-FAB7C94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027-AB3D-4534-858C-8A3AD9D5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400-6A74-4455-B03E-08B57E7A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787-6E79-4507-ADF1-1A00296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A5A-84F3-4B9A-959B-28F5FD8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F62-1498-4C09-B96D-C41F6132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2D8-9998-4154-BA08-73BB1284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E43-4DDE-4F70-910E-FC1AD6D7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9B9-AC86-41C2-9914-D85092F3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1DC-9007-444A-845D-7D86274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A386-A101-4403-8EB4-3CAA5EF827D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4B8-14D2-4083-BB6D-CA7CD96AE0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новные требования к здоровьесберегающему урок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оровье-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доровь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их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равствен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хов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бования к здоровьесберегающему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гиенические условия в класс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и использованных учителем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редование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активирующих мет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ительность применения ТС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 учителя использовать возможности показ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зы учащихся и их черед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культминутки и физкультпауз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 школьников ЗО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у школьников мотив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агоприятный психологический климат на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микро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ладающее выражение лица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 показателя окончания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тоговая плотность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мент наступления утом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мп и особенности окончания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и вид ученико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ходящих с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 забывайте о собственном здоровь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547640" y="2575080"/>
            <a:ext cx="626436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ольной учитель н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жет воспита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х учеников!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3:47:30Z</dcterms:created>
  <dc:creator>Рахимжанова З.Т.</dc:creator>
  <dc:description/>
  <dc:language>en-US</dc:language>
  <cp:lastModifiedBy>PUTNIK OS</cp:lastModifiedBy>
  <dcterms:modified xsi:type="dcterms:W3CDTF">2010-04-19T09:40:15Z</dcterms:modified>
  <cp:revision>6</cp:revision>
  <dc:subject/>
  <dc:title>Основные требования к здоровьесберегающему уроку.</dc:title>
</cp:coreProperties>
</file>