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F9DF-FFAE-4A3A-B8BC-1EE86BBF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D7C0-0FE8-43F1-8D49-84A2A3D8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A06C-D558-456B-9ABD-D132F0403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CC2E-5C14-4A41-B8F6-90E5A20A2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8001-BED4-4ABB-A3D6-65FB99572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ECF5-3DC9-454C-A7DD-8F439987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66BE-03D1-488D-BF8B-6944BEB4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0905-9519-4B29-83A9-8F8014F8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8FC9-6BA0-41FE-B61A-A07B7276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9CAE-A57C-42F3-93BA-FB378701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D11D-6C21-464B-B707-EE3D3432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1B39-2440-43AC-B6B1-062D9400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7EDB-4BEA-41D6-B3B8-4A5246DB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50F4-EB70-4C8D-9F9F-FAACEE1C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4F77-2792-4E52-A132-6E9EF397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7925-055C-4937-8EC3-2250E84D5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5513-0CD2-4337-A3B9-C667F22C3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ADB9-339A-4CC5-AE0A-50D77433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E22C-A51E-413A-8AA6-98C05930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6861-97B0-423C-889E-3A2991CE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3356-6A9A-44F6-9B91-33ACB33D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3305-F192-4A5B-997E-FED56891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24E3-61A3-4529-8AC0-64203F73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B2A3-E911-442A-8DB1-7520294A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03DD-6187-43C4-B00B-82F74F3FBA3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DC6C-E317-4B13-B191-910C1D8DE37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Японский Парк цветов Асикага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6" name="" descr=" (700x525, 412Kb)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 (700x525, 425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 (700x525, 99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 (699x465, 91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&amp;Pcy;&amp;acy;&amp;rcy;&amp;kcy; &amp;tscy;&amp;vcy;&amp;iecy;&amp;tcy;&amp;ocy;&amp;vcy; &amp;Acy;&amp;scy;&amp;icy;&amp;kcy;&amp;acy;&amp;gcy;&amp;acy; - &amp;Scy;&amp;vcy;&amp;iecy;&amp;tcy;&amp;lcy;&amp;acy;&amp;ncy;&amp;acy; &amp;Vcy;&amp;acy;&amp;lcy;&amp;iecy;&amp;rcy;&amp;softcy;&amp;iecy;&amp;vcy;&amp;ncy;&amp;acy; &amp;Bcy;&amp;acy;&amp;rcy;&amp;acy;&amp;ncy;&amp;tscy;&amp;iecy;&amp;vcy;&amp;acy;"/>
          <p:cNvPicPr/>
          <p:nvPr/>
        </p:nvPicPr>
        <p:blipFill>
          <a:blip r:embed="rId1"/>
          <a:stretch/>
        </p:blipFill>
        <p:spPr>
          <a:xfrm>
            <a:off x="0" y="0"/>
            <a:ext cx="9144000" cy="7543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 (525x700, 145Kb)"/>
          <p:cNvPicPr/>
          <p:nvPr/>
        </p:nvPicPr>
        <p:blipFill>
          <a:blip r:embed="rId1"/>
          <a:stretch/>
        </p:blipFill>
        <p:spPr>
          <a:xfrm>
            <a:off x="0" y="0"/>
            <a:ext cx="9144000" cy="6667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 (525x700, 161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&amp;YAcy;&amp;pcy;&amp;ocy;&amp;ncy;&amp;scy;&amp;kcy;&amp;icy;&amp;jcy; &amp;tscy;&amp;vcy;&amp;iecy;&amp;tcy;&amp;ocy;&amp;chcy;&amp;ncy;&amp;ycy;&amp;jcy; &amp;pcy;&amp;acy;&amp;rcy;&amp;kcy; &amp;Acy;&amp;scy;&amp;icy;&amp;kcy;&amp;acy;&amp;gcy;&amp;acy;: &amp;tcy;&amp;ocy;&amp;ncy;&amp;ncy;&amp;iecy;&amp;lcy;&amp;softcy; &amp;icy;&amp;zcy; &amp;gcy;&amp;lcy;&amp;icy;&amp;tscy;&amp;icy;&amp;ncy;&amp;icy;&amp;j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&amp;YAcy;&amp;pcy;&amp;ocy;&amp;ncy;&amp;scy;&amp;kcy;&amp;icy;&amp;jcy; &amp;tscy;&amp;vcy;&amp;iecy;&amp;tcy;&amp;ocy;&amp;chcy;&amp;ncy;&amp;ycy;&amp;jcy; &amp;pcy;&amp;acy;&amp;rcy;&amp;kcy; &amp;Acy;&amp;scy;&amp;icy;&amp;kcy;&amp;acy;&amp;gcy;&amp;acy;: &amp;tcy;&amp;ocy;&amp;ncy;&amp;ncy;&amp;iecy;&amp;lcy;&amp;softcy; &amp;icy;&amp;zcy; &amp;gcy;&amp;lcy;&amp;icy;&amp;tscy;&amp;icy;&amp;ncy;&amp;icy;&amp;j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674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3 (700x530, 143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238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&amp;Pcy;&amp;ocy;&amp;tcy;&amp;rcy;&amp;yacy;&amp;scy;&amp;acy;&amp;yucy;&amp;shchcy;&amp;icy;&amp;jcy; &amp;lcy;&amp;icy;&amp;vcy;&amp;iecy;&amp;ncy;&amp;softcy; &amp;ncy;&amp;iecy;&amp;zhcy;&amp;ncy;&amp;ycy;&amp;khcy; &amp;gcy;&amp;lcy;&amp;icy;&amp;tscy;&amp;icy;&amp;ncy;&amp;icy;&amp;jcy; &amp;vcy; &amp;pcy;&amp;acy;&amp;rcy;&amp;kcy;&amp;iecy; &amp;tscy;&amp;vcy;&amp;iecy;&amp;tcy;&amp;ocy;&amp;vcy; &amp;Acy;&amp;scy;&amp;icy;&amp;kcy;&amp;acy;&amp;gcy;&amp;a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&amp;Pcy;&amp;ocy;&amp;tcy;&amp;rcy;&amp;yacy;&amp;scy;&amp;acy;&amp;yucy;&amp;shchcy;&amp;icy;&amp;jcy; &amp;lcy;&amp;icy;&amp;vcy;&amp;iecy;&amp;ncy;&amp;softcy; &amp;ncy;&amp;iecy;&amp;zhcy;&amp;ncy;&amp;ycy;&amp;khcy; &amp;gcy;&amp;lcy;&amp;icy;&amp;tscy;&amp;icy;&amp;ncy;&amp;icy;&amp;jcy; &amp;vcy; &amp;pcy;&amp;acy;&amp;rcy;&amp;kcy;&amp;iecy; &amp;tscy;&amp;vcy;&amp;iecy;&amp;tcy;&amp;ocy;&amp;vcy; &amp;Acy;&amp;scy;&amp;icy;&amp;kcy;&amp;acy;&amp;gcy;&amp;acy;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&amp;Pcy;&amp;acy;&amp;rcy;&amp;kcy; &amp;tscy;&amp;vcy;&amp;iecy;&amp;tcy;&amp;ocy;&amp;vcy; &amp;Acy;&amp;scy;&amp;icy;&amp;kcy;&amp;acy;&amp;gcy;&amp;acy;  - &amp;Scy;&amp;vcy;&amp;iecy;&amp;tcy;&amp;lcy;&amp;acy;&amp;ncy;&amp;acy; &amp;Vcy;&amp;acy;&amp;lcy;&amp;iecy;&amp;rcy;&amp;softcy;&amp;iecy;&amp;vcy;&amp;ncy;&amp;acy; &amp;Bcy;&amp;acy;&amp;rcy;&amp;acy;&amp;ncy;&amp;tscy;&amp;iecy;&amp;vcy;&amp;acy;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8080" y="838080"/>
            <a:ext cx="7993080" cy="51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лагодарим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имание!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8000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4 (700x466, 166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1334155081_x_5f322a0f (604x453, 136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325440"/>
            <a:ext cx="807732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1 (700x525, 137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 (699x465, 98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7:24:01Z</dcterms:created>
  <dc:creator>Пользователь</dc:creator>
  <dc:description/>
  <dc:language>en-US</dc:language>
  <cp:lastModifiedBy>Ольга</cp:lastModifiedBy>
  <dcterms:modified xsi:type="dcterms:W3CDTF">2013-04-21T08:37:38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