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282-F292-48EE-AB8E-47FA277D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FD5-4CE7-4DF0-9EDC-3A0B7BE2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F5D-A28F-4D6C-8203-A9A874E9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495-3474-4822-8697-0E86758B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55EF-1AC9-4453-9858-E3F432F6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B564-BD03-44AE-AA45-88155EED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412-7A9B-45FF-B5D1-C533DCB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F14-9AFA-4B30-BD72-58477A7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BB58-6AC9-44BB-972E-AFE44CB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86E-D048-4699-8820-FE8010C1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455-EA08-41F1-86DD-29250FE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FFB-84A6-4442-BA2F-924021E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4491-ED61-45D4-B23E-5AC7A1A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F29C-FD6E-48F5-9CC7-DA61832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A2C-937C-4160-8401-BC0E791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F845-4FFC-46F7-96CC-E2B13345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ECA9-F174-42C0-BE9A-5884D1C6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446-1BC8-436A-8C1B-8DF1B2B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96F-2F9D-42EA-9A2D-A7137AA7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8EE-ADE1-4160-B3B8-1B23EA6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FAF-446F-41DA-BA68-C39DEE98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7DF-C30B-41A9-AE10-8486BF2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BC2-0B6F-4125-B3B8-1AB649F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35A-2DE7-446C-95E7-C93B9D7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2C52-9A2B-4C78-B58D-C6A6DA2D1E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C176-58A9-4181-8283-520A1B6AF6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Японский Парк цветов Асикаг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 (700x525, 412Kb)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 (700x525, 42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 (700x525, 9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 (699x465, 9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&amp;Pcy;&amp;acy;&amp;rcy;&amp;kcy; &amp;tscy;&amp;vcy;&amp;iecy;&amp;tcy;&amp;ocy;&amp;vcy; &amp;Acy;&amp;scy;&amp;icy;&amp;kcy;&amp;acy;&amp;gcy;&amp;acy;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 (525x700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 (525x700, 16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3 (700x530, 14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&amp;Pcy;&amp;acy;&amp;rcy;&amp;kcy; &amp;tscy;&amp;vcy;&amp;iecy;&amp;tcy;&amp;ocy;&amp;vcy; &amp;Acy;&amp;scy;&amp;icy;&amp;kcy;&amp;acy;&amp;gcy;&amp;acy; 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8080" y="838080"/>
            <a:ext cx="7993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им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4 (700x466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1334155081_x_5f322a0f (604x453, 13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1 (700x525, 13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 (699x465, 98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24:01Z</dcterms:created>
  <dc:creator>Пользователь</dc:creator>
  <dc:description/>
  <dc:language>en-US</dc:language>
  <cp:lastModifiedBy>Ольга</cp:lastModifiedBy>
  <dcterms:modified xsi:type="dcterms:W3CDTF">2013-04-21T08:37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