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364-D4D8-4EBF-953C-BE140897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452-18C2-4C7F-B909-BDF8C96E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039-528F-4455-8E98-297F45DB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C4A-100D-4CD7-A57F-F752F8DB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5F66-F352-41B7-ACD0-93A1814B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43CE-397F-45A8-BB89-321EA909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7409-12D6-4677-AB9A-80851D0F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37BC-A13E-470A-82A4-BED70710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0BB4-5036-4D6E-8C7A-7E264443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EE84-F3D1-482B-8A72-E5C2933D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C666-59CD-4D95-AC0E-0BAB6128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3F4-008A-490C-9223-FB6465B5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A1B2-2175-4824-8F95-BB925AD9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D7D5-8B3E-4A9B-9C36-30434B0A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CE22-4AD0-453F-A708-7DDF9DAC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3A33-D5CD-439F-A8A7-6A66F618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DFD2-EDB0-4E3A-B8D0-78EBAA2A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FBB-DA6B-4B37-ACFA-CDEE784E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561-CFBC-4DD4-8B97-1C7636EB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F38-0CAC-4C30-9704-6C0969D5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2F2-5818-4D87-B7B8-250A68CD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0A5-53FD-40B8-8086-29EFBFF0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2BA-C3E9-411D-8CFE-008A55EC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695-B655-43C1-A881-C0C4C0BE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11B8-7651-414D-865E-64041A2D7BD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7121-BCD4-46CC-96C5-CABE6529DE0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Японский Парк цветов Асикага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 (700x525, 412Kb)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 (700x525, 425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 (700x525, 99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 (699x465, 91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&amp;Pcy;&amp;acy;&amp;rcy;&amp;kcy; &amp;tscy;&amp;vcy;&amp;iecy;&amp;tcy;&amp;ocy;&amp;vcy; &amp;Acy;&amp;scy;&amp;icy;&amp;kcy;&amp;acy;&amp;gcy;&amp;acy; - &amp;Scy;&amp;vcy;&amp;iecy;&amp;tcy;&amp;lcy;&amp;acy;&amp;ncy;&amp;acy; &amp;Vcy;&amp;acy;&amp;lcy;&amp;iecy;&amp;rcy;&amp;softcy;&amp;iecy;&amp;vcy;&amp;ncy;&amp;acy; &amp;Bcy;&amp;acy;&amp;rcy;&amp;acy;&amp;ncy;&amp;tscy;&amp;iecy;&amp;v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 (525x700, 145Kb)"/>
          <p:cNvPicPr/>
          <p:nvPr/>
        </p:nvPicPr>
        <p:blipFill>
          <a:blip r:embed="rId1"/>
          <a:stretch/>
        </p:blipFill>
        <p:spPr>
          <a:xfrm>
            <a:off x="0" y="0"/>
            <a:ext cx="9144000" cy="6667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 (525x700, 161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&amp;YAcy;&amp;pcy;&amp;ocy;&amp;ncy;&amp;scy;&amp;kcy;&amp;icy;&amp;jcy; &amp;tscy;&amp;vcy;&amp;iecy;&amp;tcy;&amp;ocy;&amp;chcy;&amp;ncy;&amp;ycy;&amp;jcy; &amp;pcy;&amp;acy;&amp;rcy;&amp;kcy; &amp;Acy;&amp;scy;&amp;icy;&amp;kcy;&amp;acy;&amp;gcy;&amp;acy;: &amp;tcy;&amp;ocy;&amp;ncy;&amp;ncy;&amp;iecy;&amp;lcy;&amp;softcy; &amp;icy;&amp;zcy; &amp;gcy;&amp;lcy;&amp;icy;&amp;tscy;&amp;icy;&amp;ncy;&amp;icy;&amp;j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&amp;YAcy;&amp;pcy;&amp;ocy;&amp;ncy;&amp;scy;&amp;kcy;&amp;icy;&amp;jcy; &amp;tscy;&amp;vcy;&amp;iecy;&amp;tcy;&amp;ocy;&amp;chcy;&amp;ncy;&amp;ycy;&amp;jcy; &amp;pcy;&amp;acy;&amp;rcy;&amp;kcy; &amp;Acy;&amp;scy;&amp;icy;&amp;kcy;&amp;acy;&amp;gcy;&amp;acy;: &amp;tcy;&amp;ocy;&amp;ncy;&amp;ncy;&amp;iecy;&amp;lcy;&amp;softcy; &amp;icy;&amp;zcy; &amp;gcy;&amp;lcy;&amp;icy;&amp;tscy;&amp;icy;&amp;ncy;&amp;icy;&amp;j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3 (700x530, 143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&amp;Pcy;&amp;ocy;&amp;tcy;&amp;rcy;&amp;yacy;&amp;scy;&amp;acy;&amp;yucy;&amp;shchcy;&amp;icy;&amp;jcy; &amp;lcy;&amp;icy;&amp;vcy;&amp;iecy;&amp;ncy;&amp;softcy; &amp;ncy;&amp;iecy;&amp;zhcy;&amp;ncy;&amp;ycy;&amp;khcy; &amp;gcy;&amp;lcy;&amp;icy;&amp;tscy;&amp;icy;&amp;ncy;&amp;icy;&amp;jcy; &amp;vcy; &amp;pcy;&amp;acy;&amp;rcy;&amp;kcy;&amp;iecy; &amp;tscy;&amp;vcy;&amp;iecy;&amp;tcy;&amp;ocy;&amp;vcy; &amp;Acy;&amp;scy;&amp;icy;&amp;kcy;&amp;acy;&amp;g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&amp;Pcy;&amp;ocy;&amp;tcy;&amp;rcy;&amp;yacy;&amp;scy;&amp;acy;&amp;yucy;&amp;shchcy;&amp;icy;&amp;jcy; &amp;lcy;&amp;icy;&amp;vcy;&amp;iecy;&amp;ncy;&amp;softcy; &amp;ncy;&amp;iecy;&amp;zhcy;&amp;ncy;&amp;ycy;&amp;khcy; &amp;gcy;&amp;lcy;&amp;icy;&amp;tscy;&amp;icy;&amp;ncy;&amp;icy;&amp;jcy; &amp;vcy; &amp;pcy;&amp;acy;&amp;rcy;&amp;kcy;&amp;iecy; &amp;tscy;&amp;vcy;&amp;iecy;&amp;tcy;&amp;ocy;&amp;vcy; &amp;Acy;&amp;scy;&amp;icy;&amp;kcy;&amp;acy;&amp;gcy;&amp;acy;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&amp;Pcy;&amp;acy;&amp;rcy;&amp;kcy; &amp;tscy;&amp;vcy;&amp;iecy;&amp;tcy;&amp;ocy;&amp;vcy; &amp;Acy;&amp;scy;&amp;icy;&amp;kcy;&amp;acy;&amp;gcy;&amp;acy;  - &amp;Scy;&amp;vcy;&amp;iecy;&amp;tcy;&amp;lcy;&amp;acy;&amp;ncy;&amp;acy; &amp;Vcy;&amp;acy;&amp;lcy;&amp;iecy;&amp;rcy;&amp;softcy;&amp;iecy;&amp;vcy;&amp;ncy;&amp;acy; &amp;Bcy;&amp;acy;&amp;rcy;&amp;acy;&amp;ncy;&amp;tscy;&amp;iecy;&amp;vcy;&amp;acy;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8080" y="838080"/>
            <a:ext cx="799308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агодарим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8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4 (700x466, 16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1334155081_x_5f322a0f (604x453, 13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25440"/>
            <a:ext cx="80773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1 (700x525, 137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 (699x465, 98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7:24:01Z</dcterms:created>
  <dc:creator>Пользователь</dc:creator>
  <dc:description/>
  <dc:language>en-US</dc:language>
  <cp:lastModifiedBy>Ольга</cp:lastModifiedBy>
  <dcterms:modified xsi:type="dcterms:W3CDTF">2013-04-21T08:37:3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