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2A2-559F-42FB-9CC7-D1B3388D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65B-4BB6-401F-9987-A7D77B79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899-8FB5-4DD0-ACB1-C4065FE6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4B3-CF34-4B86-AE6F-3749562E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F63-C36D-41AD-B717-FED2E04F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14F-AECE-435C-9A6B-FC72C2B0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E75-BE05-4857-B44A-7C95D2D7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DD6-ADC7-47CA-B33D-9AF30F6A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694-97E6-42AA-9F0D-14A9842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62C-C70A-489A-956F-0756414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8D1-4F67-4D7C-8212-E78E751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455-E201-4945-B330-FF0C275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5FC-109A-4FAB-A27E-41FC53D48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из ГИ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высокоразвитая страна занимает территорию четырёх крупных и нескольких тысяч мелких  островов. Особенностью природы является преобладание горного рельефа, высокая сейсмичность, активный вулканизм. Страна бедна полезными ископаемыми. Из – за вытянутости в меридиональном направлении климатические условия  разнообразны. Более 60% территории, главным образом горы, покрыто лесами смешанными, широколиственными и переменно-влажными (в том числе муссонными). Средняя плотность населения превышает 100 человек на1 км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Я - - - - 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tena%2003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2903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46" name="i-main-pic" descr="Картинка 2 из 6559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30783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47" name="Picture 6" descr="4ef56bf180d5e2939715efed14bbe0b2"/>
          <p:cNvPicPr/>
          <p:nvPr/>
        </p:nvPicPr>
        <p:blipFill>
          <a:blip r:embed="rId3"/>
          <a:stretch/>
        </p:blipFill>
        <p:spPr>
          <a:xfrm>
            <a:off x="900000" y="3429000"/>
            <a:ext cx="4392720" cy="329580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User\Desktop\42GPHVa5kGI.jpg"/>
          <p:cNvPicPr/>
          <p:nvPr/>
        </p:nvPicPr>
        <p:blipFill>
          <a:blip r:embed="rId1"/>
          <a:stretch/>
        </p:blipFill>
        <p:spPr>
          <a:xfrm>
            <a:off x="1476360" y="620640"/>
            <a:ext cx="56926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itaiskaya_stena021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5616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52" name="Picture 5" descr="Kitaiskaya_stena022"/>
          <p:cNvPicPr/>
          <p:nvPr/>
        </p:nvPicPr>
        <p:blipFill>
          <a:blip r:embed="rId2"/>
          <a:stretch/>
        </p:blipFill>
        <p:spPr>
          <a:xfrm>
            <a:off x="4427640" y="189000"/>
            <a:ext cx="3922560" cy="6408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63231179_1282844069_4.jpg"/>
          <p:cNvPicPr/>
          <p:nvPr/>
        </p:nvPicPr>
        <p:blipFill>
          <a:blip r:embed="rId2"/>
          <a:stretch/>
        </p:blipFill>
        <p:spPr>
          <a:xfrm>
            <a:off x="2195640" y="204840"/>
            <a:ext cx="44402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траны Восточной Азии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итай и Япо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еографическое полож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казать на карте страну, столицу и страны – соседи; водами каких морей и океанов омыва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Природа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льеф страны , полезные ископаемые, климатические условия страны, крупные реки и озера, природные зоны - растительный и животный мир стр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.Насел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роды и их зан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882800"/>
                <a:gridCol w="3168720"/>
                <a:gridCol w="3178080"/>
              </a:tblGrid>
              <a:tr h="155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чер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зеле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288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347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75 -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59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ьте, что вы совершили путешествие в Японию (Китай). Что вы расскажите своим товарищам о природе этой страны, населении и его хозяйственно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3:56:51Z</dcterms:created>
  <dc:creator>степан</dc:creator>
  <dc:description/>
  <dc:language>en-US</dc:language>
  <cp:lastModifiedBy>Пользователь</cp:lastModifiedBy>
  <dcterms:modified xsi:type="dcterms:W3CDTF">2014-04-09T16:02:46Z</dcterms:modified>
  <cp:revision>18</cp:revision>
  <dc:subject/>
  <dc:title>Культура Китая</dc:title>
</cp:coreProperties>
</file>