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803-2DF1-4AD8-B028-B24417DD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556-2249-49E2-8047-F3041064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2B5-513D-4680-B54F-163C5F66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89F-1EB7-4A42-8094-53064FD8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C48-3D9A-4851-970C-2F94B097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292-F4FE-48A8-AB98-6A08ABC0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238-873E-4B06-8749-195642B7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50F-59D6-4843-9AA2-72615CE7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B5E-62B2-4818-B34C-1EC9A787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A3C-0BBB-45F0-93B7-E7580967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702-DDBA-4D83-A639-068D3A5E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26E-C7C2-4494-94EE-44FC742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9987-C2E1-4583-A8DA-12049D9FC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из ГИ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а высокоразвитая страна занимает территорию четырёх крупных и нескольких тысяч мелких  островов. Особенностью природы является преобладание горного рельефа, высокая сейсмичность, активный вулканизм. Страна бедна полезными ископаемыми. Из – за вытянутости в меридиональном направлении климатические условия  разнообразны. Более 60% территории, главным образом горы, покрыто лесами смешанными, широколиственными и переменно-влажными (в том числе муссонными). Средняя плотность населения превышает 100 человек на1 км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Я - - - - 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tena%2003"/>
          <p:cNvPicPr/>
          <p:nvPr/>
        </p:nvPicPr>
        <p:blipFill>
          <a:blip r:embed="rId1"/>
          <a:stretch/>
        </p:blipFill>
        <p:spPr>
          <a:xfrm>
            <a:off x="250920" y="260280"/>
            <a:ext cx="4321080" cy="2903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46" name="i-main-pic" descr="Картинка 2 из 6559"/>
          <p:cNvPicPr/>
          <p:nvPr/>
        </p:nvPicPr>
        <p:blipFill>
          <a:blip r:embed="rId2"/>
          <a:stretch/>
        </p:blipFill>
        <p:spPr>
          <a:xfrm>
            <a:off x="4140360" y="1125360"/>
            <a:ext cx="4752720" cy="30783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pic>
        <p:nvPicPr>
          <p:cNvPr id="47" name="Picture 6" descr="4ef56bf180d5e2939715efed14bbe0b2"/>
          <p:cNvPicPr/>
          <p:nvPr/>
        </p:nvPicPr>
        <p:blipFill>
          <a:blip r:embed="rId3"/>
          <a:stretch/>
        </p:blipFill>
        <p:spPr>
          <a:xfrm>
            <a:off x="900000" y="3429000"/>
            <a:ext cx="4392720" cy="3295800"/>
          </a:xfrm>
          <a:prstGeom prst="rect">
            <a:avLst/>
          </a:prstGeom>
          <a:ln w="38160">
            <a:solidFill>
              <a:srgbClr val="33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Users\User\Desktop\42GPHVa5kGI.jpg"/>
          <p:cNvPicPr/>
          <p:nvPr/>
        </p:nvPicPr>
        <p:blipFill>
          <a:blip r:embed="rId1"/>
          <a:stretch/>
        </p:blipFill>
        <p:spPr>
          <a:xfrm>
            <a:off x="1476360" y="620640"/>
            <a:ext cx="569268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Kitaiskaya_stena021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56167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52" name="Picture 5" descr="Kitaiskaya_stena022"/>
          <p:cNvPicPr/>
          <p:nvPr/>
        </p:nvPicPr>
        <p:blipFill>
          <a:blip r:embed="rId2"/>
          <a:stretch/>
        </p:blipFill>
        <p:spPr>
          <a:xfrm>
            <a:off x="4427640" y="189000"/>
            <a:ext cx="3922560" cy="6408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User\Desktop\63231179_1282844069_4.jpg"/>
          <p:cNvPicPr/>
          <p:nvPr/>
        </p:nvPicPr>
        <p:blipFill>
          <a:blip r:embed="rId2"/>
          <a:stretch/>
        </p:blipFill>
        <p:spPr>
          <a:xfrm>
            <a:off x="2195640" y="204840"/>
            <a:ext cx="44402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траны Восточной Азии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итай и Япо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еографическое положение стран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казать на карте страну, столицу и страны – соседи; водами каких морей и океанов омыва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Природа стран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льеф страны , полезные ископаемые, климатические условия страны, крупные реки и озера, природные зоны - растительный и животный мир стра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.Население стран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роды и их заня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1882800"/>
                <a:gridCol w="3168720"/>
                <a:gridCol w="3178080"/>
              </a:tblGrid>
              <a:tr h="155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 А. Корин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 В. Душ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 А. Щенев (черный учеб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 В. Душ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. А. Корин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 А. Щенев (зеленый учеб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 288 вопросы 1-3 у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 347 вопросы 1-3 у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3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исать интересные факты о странах §75 -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исать интересные факты о странах §59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6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ьте, что вы совершили путешествие в Японию (Китай). Что вы расскажите своим товарищам о природе этой страны, населении и его хозяйственной деятельност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3:56:51Z</dcterms:created>
  <dc:creator>степан</dc:creator>
  <dc:description/>
  <dc:language>en-US</dc:language>
  <cp:lastModifiedBy>Пользователь</cp:lastModifiedBy>
  <dcterms:modified xsi:type="dcterms:W3CDTF">2014-04-09T16:02:46Z</dcterms:modified>
  <cp:revision>18</cp:revision>
  <dc:subject/>
  <dc:title>Культура Китая</dc:title>
</cp:coreProperties>
</file>