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D20-7F77-4550-B0AD-926578B5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676-393F-4393-91FB-853D762A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CAA37-7A44-44E1-914C-AE28EFBE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41B83-45D7-4A42-938A-DCD9310E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68919-F8A7-4741-A88E-EFCAA27E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51DA9-2C0F-43A6-AC6D-0BE9687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05777-57FA-4841-9BC2-76E9173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D8EEF-1119-4B74-AAF3-D3508AD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156F0-4E77-40A6-9D81-85E2C4D5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4D379-058A-4A7E-87B4-5DA624AE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F4F03-E3E5-4741-8A1A-403A4F1D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1EB-0510-429B-9FDD-BCC3F839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2BF-6364-449E-88CD-A3DC5E04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A680-4FFE-47EA-9746-F64320EE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A136-31F1-47C4-A19C-F7A6F9CD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A6EF-A2F6-40F6-BEB4-DFD3FBB5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4B3B-1AED-47E3-A593-02DDA58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B979-F89F-4FFD-9B42-C6DB5FB8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54D3-055D-4C31-AC7D-BA84E927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DE6-9A2A-4F90-AF33-12CB1947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193-4D75-4729-809E-3F8026C8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659C-C0CA-4F7E-98B2-DDA31F86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C735-DFB1-4CE1-89F1-259D33AB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A79C-F2E8-4346-B287-9A8CDB8C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379A-A2D9-4830-AD84-DEE328FC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770B-101F-4619-B4C8-9DA6B791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B2F8-8954-4FC0-8B88-37E11D11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BBB9-F796-47D1-8FE4-854B36AB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7712-71C3-426E-9845-46D26037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33B5-FF28-41B1-84AD-98870059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90E5-9BC3-4514-A753-C9AA3F7F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E7A-506C-41C7-956D-598E4124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A472-E2E7-469E-B58C-6DC6246D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FE08-8DCC-47E1-BF82-F2BC1B35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111E-18F7-4833-AB47-198F43DB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00AC-7846-4BEF-8833-922EAF33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C649-062A-43A4-9014-A8880587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BA8F-4073-4B7B-9602-492A224D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E1CF-ABAC-4184-ACF8-51A70EB2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7D29-2477-4858-A63D-E507F880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2828-3947-49F0-8A04-C48E8334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83906-E691-477B-A474-1A829B4B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813-82B4-41CD-8BA1-320F2087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CCAC-6FEF-4899-B84E-B7B82201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7B61-8414-4055-9B7E-30BFB11B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2094-20FA-4AAB-806E-8D876077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E18A-5549-4A82-A7B8-C5E9AA4C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DE033-0757-49A2-8AC4-CAEB247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313A-0234-4A4B-8975-7372882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7FE59-C20B-4A3E-AE20-65C78767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1223-2F56-4F71-A7D0-12880D6F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1F6A-DCC2-445A-BA2D-D3BCE0F9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31651-CEB0-48FC-A778-A5CA331F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D47-38A6-4C2F-BF2D-8BB6A055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D78B-E8C0-4E54-A964-E71647DA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F8BB-A926-46D0-97B8-CFFD1101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1007-FF67-4D0F-8FC1-2237BBB3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130D-97B2-4937-912D-46DBC567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14E0-070C-4690-B7E3-C716A972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AB3EB-ACC3-4D89-A09C-1190066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0FAB-138D-4CB2-A6CF-59FE2D66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7AF3-FC5E-4C6E-AA37-C6A6898D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9A06-F1A7-4CA5-B248-1E363C31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D696-2EA2-4869-9E98-A6B4B754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9EF-1B87-4A46-B714-4028B46C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E8DE2-A759-4D4C-9CA5-F5B56FC8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674B6-2A0E-4CC9-ABE8-C65E7102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2712B-84DB-4652-B376-F0424735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14BA-A69C-404D-AC3B-CF44D6F2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0CE3-BDE5-4701-AF53-76AA8D51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A78DD-743F-4563-973F-B0FF06FD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C9CE4-CC80-489D-8EA6-E9F0C59A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F19B7-BA9C-4ADA-A39E-44FFA4BE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B5E4-AE94-4584-99AF-20AE1AD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101C4-F25A-42A9-A16A-F832F6A2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552-BB0E-4653-95A4-AF92D30D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824F2-4DEA-4B86-BA1E-35188EF9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4D04F-3D65-4E9A-99F3-E6740F71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DA5CB-A65F-489D-8C34-6A651CDF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90388-77A8-4061-A12C-9F2A9E10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ABB1-9CA7-4BB5-A823-0914F5DC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28475-6C1F-43CB-B1C5-156B867E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6B88C-A45A-4279-B12C-142E2F9A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FA3B9-55E0-44B3-9F06-B9F93BC5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8B437-968F-4D6D-B2D5-A40BB6FB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74438-3D64-4F08-B627-9A313905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CBB-03C4-4661-8446-5F0CD554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EC73D-37BD-435A-92C7-263C3D9B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EBEC2-6BCE-42F2-A1FE-7C9558C7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A17F6-6BC3-4611-8864-BE604D66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063C1-4BEF-4D68-92F8-717686CD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C91D2-0B17-499D-A7FD-E3B90A94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5956D-0CC0-4652-B4A0-02DFE9F9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9887-91C2-45A1-978F-070947D9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65475-2700-44CC-A98B-AEB19A18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C4F46-CF0E-45A7-AC45-09017747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EC446-DF88-40D7-B12B-B2837AF9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6C6-12B4-4070-828B-1D420B03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B2B64-9B94-43CA-B35D-469A6596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ABF39-5233-49DC-9979-806F2463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3C59B-147C-48BE-9D31-823794C3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14B19-1C6B-4495-BA49-0A6C67B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0CB30-433B-485A-9BE4-4BD88197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1B318-1053-4AA4-A495-E6CD26F7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34328-B256-4A7D-A78A-700CD0E7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8313A-C4D4-40F3-9739-A4EAA5BB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A8E86-127B-48DA-8B38-04398A58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1F5D3-9CBB-4684-AA7D-601C5A8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DD2A-AAAD-4857-8755-FC80B221F7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0267-092B-4B4C-BE34-9285C50A01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DE4E-64D4-4E47-94FB-1C00B476D5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ED1E-1270-4364-B28A-9F0DA5D0B4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82D1-1BA0-4CEB-B6D5-C8CF7727D6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C2FF-C153-4B83-9A3E-9DDB6D12D4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57B3-9F19-42ED-B66C-DE838D92231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3BB6-816A-40AF-A7CA-8C989B16CBA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38DA-5702-42BF-9A7D-D298A68EEF2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17680" y="639720"/>
            <a:ext cx="7949880" cy="1652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Климат и его элемент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(6 класс, урок №24,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Раздел «Атмосфера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Учитель географии МОУ «СОШ№9»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Буханова Лариса Владимировн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ЛИМАТ – МНОГОЛЕТНИЙ РЕЖИМ ПОГОДЫ, ХАРАКТЕРНЫЙ ДЛЯ КАКОЙ-ЛИБО ТЕРРИТОРИИ, КОТОРЫЙ С ТЕЧЕНИЕМ ВРЕМЕНИ НЕ ИЗМЕНЯЕТС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АЖНЕЙШИМ КЛИМАТООБРАЗУЮЩИМ  ФАКТОРОМ ЯВЛЯЕТСЯ ШИРОТНОЕ ПОЛОЖЕНИЕ МЕСТ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ТРОПИЧЕСКИХ ШИРОТАХ КЛИМАТ НАИБОЛЕЕ ЖАРКИЙ, В ПОЛЯРНЫХ – ХОЛОДНЫЙ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ФОРМИРОВАТЬ ПРЕДСТАВЛЕНИЕ О КЛИМАТЕ, ВЛИЯНИИ КЛИМАТА И ПОГОДЫ НА ПРИРОДУ И ЖИЗНЬ ЧЕЛОВЕКА, О ТИПАХ ПОГО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УЧИТЬ УЧАЩИХСЯ СОСТАВЛЯТЬ ОПИСАНИЕ КЛИМА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ИНОПТИЧЕСКИЕ КАРТЫ; КАРТИНКИ С ИЗОБРАЖЕНИЕМ ЖИЛИЩ И ОДЕЖДЫ ЖИТЕЛЕЙ СЕВЕРА, ПУСТЫНЬ, ЭКВАТОРИАЛЬНЫХ ЛЕСОВ, ТАЙГИ; ДИАГРАММЫ ТИПОВ ПОГОД; ЦВЕТНЫЕ КАРАНДАШИ; ПРЕЗЕНТАЦИЯ ПО ТЕМЕ УРО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ГОДА – ЭТО СОСТОЯНИЕ ТРОПОСФЕРЫ В ДАННОМ МЕСТЕ И В ДАННОЕ ВРЕМ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ИМАТ – ЭТО МНОГОЛЕТНИЙ РЕЖИМ ПОГОДЫ, ХАРАКТЕРНЫЙ ДЛЯ КАКОЙ-ЛИБО ТЕРРИТОР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23880" y="1397160"/>
          <a:ext cx="6096240" cy="367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ЭЛЕМЕНТЫ ПО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ЭЛЕМЕНТЫ КЛИМ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ЕМПЕРАТУРА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ЯЯ МНОГОЛЕТНЯ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ТМОСФЕРНОЕ 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ЕГОДОВОЕ КОЛИЧЕСТВО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ЛАЖНОСТЬ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ЖИМ ВЫПАДЕНИЯ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ДОЛЖИТЕЛЬНОСТЬ ВРЕМЁН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СА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ЕОБЛАДАЮЩИЕ В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ИЛА И НАПРАВЛЕНИЕ В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ОЗА ВЕТР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304920" y="1554120"/>
          <a:ext cx="8686800" cy="40226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2562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. 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) СРЕДНЕГОДОВОЕ КОЛИЧЕСТВО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)СРЕДНЕСУТОЧНАЯ  ТЕМП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)НАПРАВЛЕНИЕ  И СКОРОСТЬ В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Г)РОЗА В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Д)ВИД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Е)ОБЛ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2885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 ПО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Ж)СРЕДНЯЯ МНОГОЛЕТНЯЯ      ТЕМП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)ТЕМПЕРАТУРА САМОГО ХОЛОДНОГО И САМОГО ТЁПЛОГО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)ПРЕОБЛАДАЮЩИЕ В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)АТМОСФЕРНОЕ 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)ТИПЫ ПОГОДЫ ЗИМОЙ И Л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ЕОГРАФИЧЕСКАЯ ШИРО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СОТА НАД УРОВНЕМ МОРЯ, ХАРАКТЕР РЕЛЬЕФА, ТИП РАСТИТЕЛЬ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ЛИЯНИЕ ОКЕАНОВ  И ВЕТР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КЕАНИЧЕСКИЕ ТЕЧ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ОЖЕНИЕ МЕСТНОСТИ ОТНОСИТЕЛЬНО ГОРНЫХ ХРЕБТОВ И РАВНИН И Д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87040" cy="1060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ДАНИЕ №2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БОТА ПО ПЛАНУ-СХЕМ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ИМАТ - МАТЕРИАЛЫ – ЖИЛИЩ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ИМАТ – МАТЕРИАЛЫ – ОДЕЖ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ГРУППА – НАРОДЫ СЕВЕ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 ГРУППА – ЖИТЕЛИ ПУСТЫН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 ГРУППА – ЖИТЕЛИ ТАЙГ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ГРУППА – ЖИТЕЛИ СТЕП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976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ЯЯ МНОГОЛЕТНЯЯ ТЕМПЕРАТУРА ЯНВАРЯ И ИЮЛЯ; САМАЯ ВЫСОКАЯ И НИЗКАЯ ТЕМПЕРАТУРА В ТЕЧЕНИЕ Г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ЕГОДОВОЕ КОЛИЧЕСТВО ОСАДКОВ И РЕЖИМ ИХ ВЫПАД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ОДЛАДАЮЩИЕ ВЕТР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ДОЛЖИТЕЛЬНОСТЬ ВРЕМЁН Г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ИПЫ ПОГОДЫ ЗИМОЙ И ЛЕТО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22:22Z</dcterms:created>
  <dc:creator>PUTNIK OS</dc:creator>
  <dc:description/>
  <dc:language>en-US</dc:language>
  <cp:lastModifiedBy>PUTNIK OS</cp:lastModifiedBy>
  <dcterms:modified xsi:type="dcterms:W3CDTF">2010-03-28T14:29:06Z</dcterms:modified>
  <cp:revision>12</cp:revision>
  <dc:subject/>
  <dc:title>ТЕМА УРОКА:</dc:title>
</cp:coreProperties>
</file>