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8F3-349F-4260-9DCB-F13B24B0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8EE-07E2-4BE9-97C3-3DA44F30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B199B-49F2-4F65-8FB9-8715700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5FE7A-AB59-40E8-9A8F-FAD29166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E346A-054E-44FA-9A19-AE52672A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FFF35-01DB-45BC-A7FA-0A725B16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C5E47-2E5A-4B23-BD70-1CADD279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E73F1-5BCD-44CA-8FFE-4E1BBF1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639EF-205E-404F-806D-4B7A2B7E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D8612-6E0C-4A34-9DDC-8EDCE28B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B49FA-F84F-4235-887B-D4C47219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8E4-075F-44F2-8FE9-40E8C89F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163-FD6B-49BC-B547-14647D4A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C27A-CB59-4EBC-968B-9A07820D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7C42-A991-4A6B-93AF-DC526FAD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A40D-B941-474D-A39C-DEA5897E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B51A-F0B5-47A1-B048-22E9320A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639F-B753-4AF2-B7A4-7B10D0F3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F0E3-0C47-4AE3-AB2B-58746E51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EC79-338B-498C-A4B6-FBF8A30B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F79-95D8-4DF4-A60E-A9950E4D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8903-D44F-48F3-AD59-7B9A8956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8E61-7E7D-491E-9680-6B85B5C6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1B56-2257-4EDB-9A93-11BB24A7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45D2-3766-4213-9866-D24CD671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2A12-55F6-4E73-A065-6D8A7B39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2855-7BC7-4F9E-9891-1904560F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CC70-253A-49AD-8DE6-A3E88D0D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2AFF-FD6C-47C6-9F8E-A190442F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39B62-784F-48D0-BF9E-B6B47A6C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8A719-980E-4219-B498-2D994497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8B9-BF98-402A-B895-A38023D7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D55E5-88DE-486B-A264-5BC810B3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847E-03E8-4940-8601-F4EBF187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BE77-EB1C-4286-849C-DDA0C956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F046-79A7-4657-BEED-2D3CBE3D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D7290-8699-433B-8ED7-ADD4C9FF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3FA7-8778-4FB4-BC46-1BAEA77D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1D0B-1119-4D8E-AA09-60A08DF8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EFF15-A0DD-41D7-AFE3-4CDBF44D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3A5AD-9020-499F-9F4D-24C8F8A0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20C73-84F6-4ECE-85CC-4C597F4B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135-69F7-466F-BBAD-142519E3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8242-E931-4959-BBEE-4AA3A6A0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6141-F5B8-4CDF-96C1-15EC5BBA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4A276-2067-4565-947F-DD2F1783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1A098-6591-46B3-83E2-6E7CB641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7C848-377E-4500-A0A2-83A84B78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A01AD-23B2-46B3-B7D2-A522E09F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EBD30-F3BF-4D81-A0C0-E4DD721C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011C8-878D-4540-9BC9-35D1E13B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5291-028A-40BC-B0ED-C3A9C9E0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5B1C6-6FC8-424B-AAAC-EA29A825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22D-235A-452B-9916-E1A41A8B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D01E-731A-4688-9D87-1EF37875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84800-5C04-43AC-ACAC-94028828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EEB7D-89E0-4717-A131-BE5117F4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2491E-339A-4F11-8D13-0066BAF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D026B-6324-4F8F-9B71-8B4A26DD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1723F-B4D7-4217-8321-ADE0394D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2F0ED-1549-4622-A508-A094390B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8264-3F65-498A-AA13-E7287F0E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6DE78-8D29-4D74-89CF-41B9E86D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4EC31-94C9-4D9B-9A1D-E1999ACF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A8D-1C28-4114-818F-F9891ED7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E99BA-B174-43BC-9635-FED96ACB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FB3B4-2853-4BB3-91D7-A821A6B9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8680-B08F-4831-B7C4-ED6381B4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AAD29-DC5A-4ADC-BAAA-457E2609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7CC0E-27FA-49EC-AA62-F4842B7A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8B8F1-6509-4CA8-94D9-6996E2A1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51F7F-A48A-447F-9165-9CF39ADA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BB0A-F2F4-41F7-A9A3-8DEF59D0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A8AF6-10AA-41B9-A5BD-BBF0828E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87D75-08E1-4352-8A81-6CC481E5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DBF-6825-41C0-944E-0EAE141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D79A0-795E-4E9D-9F52-C11EF71B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F6320-D0F6-41C6-B579-BE8533CE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5E4F-E52C-4169-8E2B-5987A8B6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FEFB2-2D66-4F42-9600-93C92B8B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15D12-6AAE-4F59-9D22-95603A15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67D0D-7245-488E-88A9-46747081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73639-0877-454D-89C4-6D9BAFDC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68428-B5D8-4224-B314-9079AD35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6DFCE-E193-4DF7-B78B-8D17D265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CEDC-F614-4948-9651-6B0C46B4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AF4-1662-497B-B8C8-64947CB5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94690-1997-4E6D-80B8-E184C3E0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3FF6F-467F-4710-9E91-237C868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45B96-93B2-4309-B4E1-2646B846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3C416-FEB9-4111-9C28-089FD413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27D2D-BE6E-4C7D-B64E-F88ECEB6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27CC1-BA67-4603-9AEE-5166B119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24859-4BA7-47E6-8FFC-3AA5211B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BA1B3-254C-4AE7-87BF-5A3702F6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DC32A-31EB-4051-91D3-4E2CE1AC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80035-FE0F-4FE0-B251-307EDC1F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704-8006-4033-8B72-619D426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40967-6ED9-48A1-9A0E-D9216C2D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580A5-1057-4FCA-AF87-62262777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FE9B2-C384-402E-A1FC-FE671B2C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6F744-A939-4674-B7F9-DBA91067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663DD-5FF6-4BB4-A733-2522D9E0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EA918-68D7-4148-8937-6F16742A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90947-119B-4F9F-BAC5-E5D7B048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98B91-C855-4E1E-B4B0-1509398B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33658-0501-4276-823C-0F4968ED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400BA-2F2E-4DF3-B5B0-50D07917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7D62-4521-4F78-ABA8-43AA9B15107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22C0-5638-44AE-8AED-B812370747D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AEFD-2F0F-47A5-93BF-115F2A6EA4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18A7-436F-4E62-B858-FE465108AD7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4E5F-9D6E-466D-BFB2-2D1C3A8ACEC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89D5-C6F8-4BF9-8977-2E92F5BBB4D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D192-CDDE-4888-95EC-8C6F013522F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FB23-58D0-4F3D-BD49-C0F82BC0FE4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B8BA-741A-46E1-B81F-871861C9C20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17680" y="639720"/>
            <a:ext cx="7949880" cy="1652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Климат и его элемент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(6 класс, урок №24,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Раздел «Атмосфера»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Учитель географии МОУ «СОШ№9»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Буханова Лариса Владимировн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ЛИМАТ – МНОГОЛЕТНИЙ РЕЖИМ ПОГОДЫ, ХАРАКТЕРНЫЙ ДЛЯ КАКОЙ-ЛИБО ТЕРРИТОРИИ, КОТОРЫЙ С ТЕЧЕНИЕМ ВРЕМЕНИ НЕ ИЗМЕНЯЕТС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АЖНЕЙШИМ КЛИМАТООБРАЗУЮЩИМ  ФАКТОРОМ ЯВЛЯЕТСЯ ШИРОТНОЕ ПОЛОЖЕНИЕ МЕСТ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ТРОПИЧЕСКИХ ШИРОТАХ КЛИМАТ НАИБОЛЕЕ ЖАРКИЙ, В ПОЛЯРНЫХ – ХОЛОДНЫЙ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ФОРМИРОВАТЬ ПРЕДСТАВЛЕНИЕ О КЛИМАТЕ, ВЛИЯНИИ КЛИМАТА И ПОГОДЫ НА ПРИРОДУ И ЖИЗНЬ ЧЕЛОВЕКА, О ТИПАХ ПОГО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УЧИТЬ УЧАЩИХСЯ СОСТАВЛЯТЬ ОПИСАНИЕ КЛИМА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ИНОПТИЧЕСКИЕ КАРТЫ; КАРТИНКИ С ИЗОБРАЖЕНИЕМ ЖИЛИЩ И ОДЕЖДЫ ЖИТЕЛЕЙ СЕВЕРА, ПУСТЫНЬ, ЭКВАТОРИАЛЬНЫХ ЛЕСОВ, ТАЙГИ; ДИАГРАММЫ ТИПОВ ПОГОД; ЦВЕТНЫЕ КАРАНДАШИ; ПРЕЗЕНТАЦИЯ ПО ТЕМЕ УРО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ГОДА – ЭТО СОСТОЯНИЕ ТРОПОСФЕРЫ В ДАННОМ МЕСТЕ И В ДАННОЕ ВРЕМ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ИМАТ – ЭТО МНОГОЛЕТНИЙ РЕЖИМ ПОГОДЫ, ХАРАКТЕРНЫЙ ДЛЯ КАКОЙ-ЛИБО ТЕРРИТОР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523880" y="1397160"/>
          <a:ext cx="6096240" cy="367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ЭЛЕМЕНТЫ ПО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ЭЛЕМЕНТЫ КЛИМ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ЕМПЕРАТУРА ВОЗД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ЕДНЯЯ МНОГОЛЕТНЯ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ТМОСФЕРНОЕ 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РЕДНЕГОДОВОЕ КОЛИЧЕСТВО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ЛАЖНОСТЬ ВОЗД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ЖИМ ВЫПАДЕНИЯ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Л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ДОЛЖИТЕЛЬНОСТЬ ВРЕМЁН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СА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ЕОБЛАДАЮЩИЕ В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ИЛА И НАПРАВЛЕНИЕ В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ОЗА ВЕТРОВ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304920" y="1554120"/>
          <a:ext cx="8686800" cy="402264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25628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. КЛИ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) СРЕДНЕГОДОВОЕ КОЛИЧЕСТВО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)СРЕДНЕСУТОЧНАЯ  ТЕМП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)НАПРАВЛЕНИЕ  И СКОРОСТЬ В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Г)РОЗА В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Д)ВИД ОСА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Е)ОБЛ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2885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 ПО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Ж)СРЕДНЯЯ МНОГОЛЕТНЯЯ      ТЕМП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)ТЕМПЕРАТУРА САМОГО ХОЛОДНОГО И САМОГО ТЁПЛОГО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)ПРЕОБЛАДАЮЩИЕ В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)АТМОСФЕРНОЕ 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)ТИПЫ ПОГОДЫ ЗИМОЙ И Л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ЕОГРАФИЧЕСКАЯ ШИРО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СОТА НАД УРОВНЕМ МОРЯ, ХАРАКТЕР РЕЛЬЕФА, ТИП РАСТИТЕЛЬ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ЛИЯНИЕ ОКЕАНОВ  И ВЕТР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КЕАНИЧЕСКИЕ ТЕЧ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ЛОЖЕНИЕ МЕСТНОСТИ ОТНОСИТЕЛЬНО ГОРНЫХ ХРЕБТОВ И РАВНИН И Д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987040" cy="10605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ДАНИЕ №2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БОТА ПО ПЛАНУ-СХЕМЕ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ИМАТ - МАТЕРИАЛЫ – ЖИЛИЩ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ИМАТ – МАТЕРИАЛЫ – ОДЕЖ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ГРУППА – НАРОДЫ СЕВЕР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 ГРУППА – ЖИТЕЛИ ПУСТЫН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 ГРУППА – ЖИТЕЛИ ТАЙГ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ГРУППА – ЖИТЕЛИ СТЕП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976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НЯЯ МНОГОЛЕТНЯЯ ТЕМПЕРАТУРА ЯНВАРЯ И ИЮЛЯ; САМАЯ ВЫСОКАЯ И НИЗКАЯ ТЕМПЕРАТУРА В ТЕЧЕНИЕ ГО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НЕГОДОВОЕ КОЛИЧЕСТВО ОСАДКОВ И РЕЖИМ ИХ ВЫПАД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ОДЛАДАЮЩИЕ ВЕТР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ДОЛЖИТЕЛЬНОСТЬ ВРЕМЁН ГО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ИПЫ ПОГОДЫ ЗИМОЙ И ЛЕТО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22:22Z</dcterms:created>
  <dc:creator>PUTNIK OS</dc:creator>
  <dc:description/>
  <dc:language>en-US</dc:language>
  <cp:lastModifiedBy>PUTNIK OS</cp:lastModifiedBy>
  <dcterms:modified xsi:type="dcterms:W3CDTF">2010-03-28T14:29:06Z</dcterms:modified>
  <cp:revision>12</cp:revision>
  <dc:subject/>
  <dc:title>ТЕМА УРОКА:</dc:title>
</cp:coreProperties>
</file>