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E36-7477-4D9B-B985-88B1D9A1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0E1-F16A-4E5E-A8F5-CF8AE65F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C1841-EE5C-4B5E-91A1-F81D547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0511-F555-46B5-9977-884408D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85C8E-79B9-4E94-8335-9ED9395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7B4DA-905D-4E27-B6DD-962815D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E9B92-8110-4C22-9506-5CCB53F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5255D-3BB0-4053-A5C4-C93B3D1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9643-6265-48B2-9B83-ACA10CA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A4BE2-5B7F-4207-A364-C7240DD5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A9CE2-FAE6-40A5-AE26-6AD427E7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056-9339-4934-947D-7CA56CB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2A6-0A79-4A70-B21D-DAD8E272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960-DE13-46D3-87AF-B4933DE6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44A-5804-4562-AB84-B7B98EE9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904-FE98-4612-86AE-56453A1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B7F-CF6E-43EC-8B9C-2FD52D2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236B-F7B2-41CC-B16D-BCF1000F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3F3D-AFF8-479B-B0B1-33FB5A5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596A-D00F-4497-8320-B68A9E2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431-2F11-449F-9450-9428110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C8F-861E-4FE4-AB4C-6F5E62C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9F11-7856-40E0-961E-2FBE816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9CD1-2813-48CF-81A6-AA0097D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88E-B317-48BE-9D37-B23127C4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ECB6-86DF-4EFB-920E-39E45828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661F-A41E-414C-90FA-28C80D4D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AF02-9FE4-41C6-9B08-AF6C6D5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B713-E979-4846-9308-F9ACC3DE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1104-6F88-4A2E-9599-633D4442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509D-4496-4BE9-B53D-453E929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EB7-E47C-4144-A186-855F23E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41ED-A904-44F3-BD5F-4ED6EB81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40F9-98CD-49F1-A2A6-E58AE3B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2C28-D5C6-4ECE-8E5E-FE09D2F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973-26B9-4F63-8AFF-3BCA422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2EB4-B32D-4962-8B0C-B7394B7B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2E79-E96B-48E4-A2E3-C749941A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D0CF-069A-4798-81AB-9A8364FD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3B62-81DD-4F1B-879D-F48DA1A3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F75D-0450-4335-876F-B346240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AC1B-9142-4857-BFD7-FB1F0E6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2A3-D8C4-403B-91AE-0FC79DF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287A-FA79-4C48-BDD3-276B536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4266-77E5-4D33-8D16-EC60E776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CE07-9C4B-4B1B-A149-DDC609C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8116-861B-44AB-991F-A5062B5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E0A0-C8A6-4A6C-ADFE-40470A1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3428-0802-4CDA-8021-96DEABE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1322-02A5-48DD-A9BE-D399C96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26DC-B5A5-493A-A325-E14B3A85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2C9B-EE49-4E4F-A2F2-0D61C0E7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A4C6-AEBF-4F51-A970-9765EEB2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38F-F127-4290-8A19-440FC23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8072-4BA6-4C23-B55A-3354044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4208-C92E-4B37-9F84-39E158E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8A1A-4ED1-4F38-A6A2-1400461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E12F-FCD1-4D90-9377-CD578DB7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08AF-C593-4C27-9A8B-832F00C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4BA3-3D65-4549-B667-6CAAF76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0E7C-4672-41DA-9F92-EA9CB744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6B39-4F73-4D5C-8554-44174A9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159F-4ACE-487D-8BD8-6D3A83F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9D17-CA6F-44C6-8BC2-FDF3979E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83B-5001-45E3-BF00-1EC3941F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2297-78B2-44DC-A29A-6FB60156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989D-13DB-404A-AF19-C456537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82204-834A-47E5-B290-46DD7140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910B-5EEE-488E-8850-F5ACB883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FD57-229E-4A9D-BFDB-EBE76A7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3531-71FC-4215-BB3D-BF452B5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9512-6737-42B0-B432-4E51402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2AE4-1637-497D-852B-A0DFA70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F2E7-15F9-4446-9820-0256DA2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8A8A-C817-46F3-AF9D-58C3D9E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64F-67AE-4E6E-991D-5A1E439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9C41C-2E2D-4645-B864-F0364CEB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AC48-0B81-4496-9218-E846EEDE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378B-6783-4746-BF65-628FB54C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94A0-70EE-4FD4-AC62-2E03B11F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FC26-329D-4982-848C-09E917AB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E66E-E075-401A-A98D-3969693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5AE03-C1EC-4E2F-AF7F-F4040249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8312-D46E-473C-84E4-37AFD8D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D75E-554F-4077-8971-9A1669C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D3D9-97E9-48CB-B00F-B0FC74E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93B-35F4-48FE-A85A-8D17843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221A-F59A-48C0-840E-B8E1B48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57DF-8EEC-48C0-8E6E-B0772A0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490C9-DE2C-4B40-91DB-71C17ABF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8BEA5-3763-4D4B-B2DB-B694702C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CD8D-F0A2-4FED-BD37-F7E51A35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B20DC-EB13-4BE4-9572-ADC67FB0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168FB-CCE9-400F-A148-8F21C44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381D-77E6-4F40-898D-C8CE1AF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1DD4-EE7D-4B19-98ED-A7161B0B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016A0-3677-4511-9043-63548A5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9B3-D926-4280-AC15-AD05F07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250E-2D84-4A0B-9F46-ADF856F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2878A-E4C6-4230-9F74-8D318FD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D1D4-CA74-4C4C-ADC2-0CBEBDA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0B98-627E-4D76-B164-895ACB6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FBE1-D357-4AE3-8B40-867C263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4BCC5-27DC-44EE-B587-CB5E032C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2BD57-E037-47DA-9010-BC0CAEE2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5E44-E54F-4456-BE8A-434A2C01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94D0-42FA-4107-8BE9-B42C9E99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4CB7-C585-47DB-935A-E52993C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D67-6A21-4CBE-A25D-7F74EE9118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B127-0BA4-49D2-B5CA-EE8E342AC8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9E54-90C2-4D63-8D65-A323250F09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8C0-7622-412E-8D00-DEEBE94DB5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77BD-0AFB-4C2B-8BE7-6797DC8560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006-0FAB-4ACA-BAEC-B9A0546118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844-AA43-485B-8DF4-49339256E2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1D89-172F-49E4-BC44-526CF9342B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EBF8-9878-4EEF-AC80-2D579791B4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7680" y="639720"/>
            <a:ext cx="7949880" cy="1652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Климат и его элемент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(6 класс, урок №24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Раздел «Атмосфера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географии МОУ «СОШ№9»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Буханова Лариса Владимировн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ЛИМАТ – МНОГОЛЕТНИЙ РЕЖИМ ПОГОДЫ, ХАРАКТЕРНЫЙ ДЛЯ КАКОЙ-ЛИБО ТЕРРИТОРИИ, КОТОРЫЙ С ТЕЧЕНИЕМ ВРЕМЕНИ НЕ ИЗМЕНЯЕТС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АЖНЕЙШИМ КЛИМАТООБРАЗУЮЩИМ  ФАКТОРОМ ЯВЛЯЕТСЯ ШИРОТНОЕ ПОЛОЖЕНИЕ МЕС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ТРОПИЧЕСКИХ ШИРОТАХ КЛИМАТ НАИБОЛЕЕ ЖАРКИЙ, В ПОЛЯРНЫХ – ХОЛОДНЫ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ТЬ ПРЕДСТАВЛЕНИЕ О КЛИМАТЕ, ВЛИЯНИИ КЛИМАТА И ПОГОДЫ НА ПРИРОДУ И ЖИЗНЬ ЧЕЛОВЕКА, О ТИПАХ ПОГ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УЧИТЬ УЧАЩИХСЯ СОСТАВЛЯТЬ ОПИСАНИЕ КЛИМА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НОПТИЧЕСКИЕ КАРТЫ; КАРТИНКИ С ИЗОБРАЖЕНИЕМ ЖИЛИЩ И ОДЕЖДЫ ЖИТЕЛЕЙ СЕВЕРА, ПУСТЫНЬ, ЭКВАТОРИАЛЬНЫХ ЛЕСОВ, ТАЙГИ; ДИАГРАММЫ ТИПОВ ПОГОД; ЦВЕТНЫЕ КАРАНДАШИ; ПРЕЗЕНТАЦИЯ ПО ТЕМЕ УРО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ГОДА – ЭТО СОСТОЯНИЕ ТРОПОСФЕРЫ В ДАННОМ МЕСТЕ И В ДАННОЕ ВРЕМ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ЭТО МНОГОЛЕТНИЙ РЕЖИМ ПОГОДЫ, ХАРАКТЕРНЫЙ ДЛЯ КАКОЙ-ЛИБО ТЕРРИТОР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1397160"/>
          <a:ext cx="6096240" cy="367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ПО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КЛИ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МНОГОЛЕТНЯ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ЛАЖНОСТЬ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ЖИМ ВЫПАДЕНИЯ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ИТЕЛЬНОСТЬ ВРЕМЁН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ЛА И НАПРАВЛЕНИЕ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ЗА ВЕТР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304920" y="1554120"/>
          <a:ext cx="868680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2562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. 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) 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)СРЕДНЕСУТОЧНАЯ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)НАПРАВЛЕНИЕ  И СКОРОСТЬ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Г)РОЗА В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)ВИД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Е)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2885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ПО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)СРЕДНЯЯ МНОГОЛЕТНЯЯ    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)ТЕМПЕРАТУРА САМОГО ХОЛОДНОГО И САМОГО ТЁПЛОГО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)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)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)ТИПЫ ПОГОДЫ ЗИМОЙ И Л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ЕОГРАФИЧЕСКАЯ ШИР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ОТА НАД УРОВНЕМ МОРЯ, ХАРАКТЕР РЕЛЬЕФА, ТИП РАСТИ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ЛИЯНИЕ ОКЕАНОВ  И ВЕТР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КЕАНИЧЕСКИЕ ТЕЧ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ОЖЕНИЕ МЕСТНОСТИ ОТНОСИТЕЛЬНО ГОРНЫХ ХРЕБТОВ И РАВНИН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87040" cy="1060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НИЕ №2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БОТА ПО ПЛАНУ-СХЕ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- МАТЕРИАЛЫ – ЖИЛИЩ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МАТЕРИАЛЫ – ОДЕЖ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ГРУППА – НАРОДЫ СЕВ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ГРУППА – ЖИТЕЛИ ПУСТЫ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 ГРУППА – ЖИТЕЛИ ТАЙ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ГРУППА – ЖИТЕЛИ СТЕП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МНОГОЛЕТНЯЯ ТЕМПЕРАТУРА ЯНВАРЯ И ИЮЛЯ; САМАЯ ВЫСОКАЯ И НИЗКАЯ ТЕМПЕРАТУРА В ТЕЧЕНИЕ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ЕГОДОВОЕ КОЛИЧЕСТВО ОСАДКОВ И РЕЖИМ ИХ ВЫПАД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ОДЛАДАЮЩИЕ ВЕТ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ДОЛЖИТЕЛЬНОСТЬ ВРЕМЁН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ИПЫ ПОГОДЫ ЗИМОЙ И ЛЕТО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22:22Z</dcterms:created>
  <dc:creator>PUTNIK OS</dc:creator>
  <dc:description/>
  <dc:language>en-US</dc:language>
  <cp:lastModifiedBy>PUTNIK OS</cp:lastModifiedBy>
  <dcterms:modified xsi:type="dcterms:W3CDTF">2010-03-28T14:29:06Z</dcterms:modified>
  <cp:revision>12</cp:revision>
  <dc:subject/>
  <dc:title>ТЕМА УРОКА:</dc:title>
</cp:coreProperties>
</file>