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ppt1%20%D0%92%D0%BE%D1%81%D1%81%D1%82%D0%B0%D0%BD%D0%BE%D0%B2%D0%BB%D0%B5%D0%BD%D0%BD%D1%8B%D0%B9%20%D1%84%D0%B0%D0%B9258.wav" ContentType="audio/x-wav"/>
  <Override PartName="/ppt/media/image16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045-A541-4ED5-8436-BEE6462A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9CB-F9E0-43D8-A0E4-EDD70CC2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5A3-81E9-4623-B534-CDE60E09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2BF-83D4-418A-A831-1824DF04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3AF15-5EAC-4104-8FC9-8819BCC4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33666-0596-47E4-9735-828774C2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D2434-560C-4FA3-A768-898ABA12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49A89-93CF-4B1E-B770-6E12624E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14DFF-BFB2-4932-A3B9-944AF18F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9D066-FDD5-43AE-9ACD-6E791267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CF97-E3B4-476E-B58D-ED89822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050-DB79-4DC6-AD33-02695CA5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B0549-C981-4E0D-93B1-73678355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6DF79-7CC3-4F23-B7FA-DFD2C10B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862E0-894E-4935-979B-A1A45EE8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35333-4004-437E-AFDD-BAA4A777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07529-80E3-4673-A8CD-00EF9C97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0316E-9257-493A-BCF4-76444889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AFA87-2F1C-4F2E-B3CD-17D0B8A7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D9DC3-B67D-4078-AC87-B0A2B01C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2414D-884B-48C7-A2CD-213D5978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38CD9-9EDA-41C1-AA7C-35EA0D3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293-360B-4E59-84F4-DADC34B5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4217A-0848-4CEF-AF93-983339B3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23386-4714-4CFF-A475-50B70E3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0BA9C-3939-40F4-8477-1B4C489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AC4BE-D69F-4744-A734-4E59668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5F118-F463-4F5B-920E-0C88BEAF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A2293-D5A3-41F7-8A43-7193C5AF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08FB3-53B3-41C4-A591-C2694E35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4C2A1-C75E-4F9C-87E9-1FB7D618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95735-9DBA-470F-B72E-008511F1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8A21C-F17C-4637-8F05-02B0F218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808-BC85-44A7-B0AD-FA17B0C4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08B49-096A-42B0-9EED-C09AA242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EAC3A-0367-40E4-A720-F469D120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80BEA-438D-4A25-B895-A743058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9458F-44FA-4BA1-8F9B-3FA1A23E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A0EDB-5C30-4EC0-9E78-BCC2101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EF2F9-030D-43B8-A8D7-E9D2DC24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60629-38B1-4BC8-8015-7C25F9AC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CC53B-78B8-41FE-B702-08CB5AB0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C4230-F542-4D20-B4B1-51BEAF82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207DF-47F1-4006-8F86-7EFAA27E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7D2-AB61-4C51-B003-6485A18D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09AF9-5994-49FF-8C88-27CE3150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3DBC2-2806-4D7E-ADF1-E3AA06C4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087F4-FF15-4110-9E2F-12C87DF5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1FA3D-66B9-46C5-BD4D-22A25230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CFB50-897A-4315-9B38-6FFEC5F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832BC-60F7-4C45-A8B9-9F158CC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72C64-983B-450F-9AE9-56553F6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5CF51-A452-4C7B-B178-57B1530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190F7-804E-4961-919B-EFF89720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86FD7-03B7-4EFE-87B8-0F74B701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908-7EDD-4C2B-8C7C-6E9B7805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78B83-AF10-4053-A3FD-7308A531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D5D11-D967-4A4A-872D-3D3BBBA0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5A3D5-C505-4755-A720-451BDEA7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695D8-8521-42BA-94FB-4486B669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86623-A3AA-42C2-8CEF-23158579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57183-7EEE-4F4B-A74A-15A3ECE7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4E80E-A049-4407-8FAC-033CED4A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B86F9-E935-49FA-B886-E412026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DA3FE4-0CBB-41C0-B481-43513903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5BA40-C6F6-46F5-AA65-AD33E08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F31-F986-42A0-818E-23B54536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3EE5F-2A60-40F4-B9D5-1FD111AE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3E67B-13B3-42E9-B16A-12CA6A44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49524-7948-405A-8FB5-2A0393F9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94C-CF12-48A7-A3DB-65D2F93E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7D6-2656-4427-A287-8792F04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390-D254-475A-85D2-E4432BFA983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BD61-5489-492B-9625-11637A49087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DC4B-77C1-4F20-AC82-FE7A18058C8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F35D-B0CC-4FFA-9AC6-68B8435C23E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2541-7AF5-4132-B860-A173F83A676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5966-DFB8-40A6-8960-30FD4C421EE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pt1%20&#1042;&#1086;&#1089;&#1089;&#1090;&#1072;&#1085;&#1086;&#1074;&#1083;&#1077;&#1085;&#1085;&#1099;&#1081;%20&#1092;&#1072;&#1081;258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ppt1%20&#1042;&#1086;&#1089;&#1089;&#1090;&#1072;&#1085;&#1086;&#1074;&#1083;&#1077;&#1085;&#1085;&#1099;&#1081;%20&#1092;&#1072;&#1081;258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ppt1%20&#1042;&#1086;&#1089;&#1089;&#1090;&#1072;&#1085;&#1086;&#1074;&#1083;&#1077;&#1085;&#1085;&#1099;&#1081;%20&#1092;&#1072;&#1081;258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ppt1%20&#1042;&#1086;&#1089;&#1089;&#1090;&#1072;&#1085;&#1086;&#1074;&#1083;&#1077;&#1085;&#1085;&#1099;&#1081;%20&#1092;&#1072;&#1081;258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audio" Target="../media/ppt1%20&#1042;&#1086;&#1089;&#1089;&#1090;&#1072;&#1085;&#1086;&#1074;&#1083;&#1077;&#1085;&#1085;&#1099;&#1081;%20&#1092;&#1072;&#1081;258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ppt1%20&#1042;&#1086;&#1089;&#1089;&#1090;&#1072;&#1085;&#1086;&#1074;&#1083;&#1077;&#1085;&#1085;&#1099;&#1081;%20&#1092;&#1072;&#1081;258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ppt1%20&#1042;&#1086;&#1089;&#1089;&#1090;&#1072;&#1085;&#1086;&#1074;&#1083;&#1077;&#1085;&#1085;&#1099;&#1081;%20&#1092;&#1072;&#1081;258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5760" y="555480"/>
            <a:ext cx="7543800" cy="21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Координаты  вокруг нас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95280" y="3428640"/>
            <a:ext cx="617220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6" descr="сист координат"/>
          <p:cNvPicPr/>
          <p:nvPr/>
        </p:nvPicPr>
        <p:blipFill>
          <a:blip r:embed="rId1"/>
          <a:stretch/>
        </p:blipFill>
        <p:spPr>
          <a:xfrm>
            <a:off x="2195640" y="1844640"/>
            <a:ext cx="6192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ppt1%20%D0%92%D0%BE%D1%81%D1%81%D1%82%D0%B0%D0%BD%D0%BE%D0%B2%D0%BB%D0%B5%D0%BD%D0%BD%D1%8B%D0%B9%20%D1%84%D0%B0%D0%B925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16"/>
          <p:cNvSpPr txBox="1"/>
          <p:nvPr/>
        </p:nvSpPr>
        <p:spPr>
          <a:xfrm>
            <a:off x="250920" y="0"/>
            <a:ext cx="871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54c3"/>
                </a:solidFill>
                <a:latin typeface="Bookman Old Style"/>
              </a:rPr>
              <a:t>ИСПОЛЬЗОВАНИЕ КООРДИНАТ В НАШЕЙ ЖИЗН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454c3"/>
              </a:solidFill>
              <a:latin typeface="Bookman Old Style"/>
              <a:ea typeface="Bookman Old Style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0" y="76500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Bookman Old Style"/>
              </a:rPr>
              <a:t>Каждая точка плоскости задается двумя полярными координатами: углом и расстоянием.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Кто умеет играть в шашки и шахматы, знает, что вертикальные полосы обозначаются цифрами, а горизонтальные – буквами.</a:t>
            </a:r>
            <a:br>
              <a:rPr sz="1800"/>
            </a:br>
            <a:r>
              <a:rPr b="1" i="1" lang="ru-RU" sz="1800" spc="-1" strike="noStrike">
                <a:solidFill>
                  <a:srgbClr val="accbf9"/>
                </a:solidFill>
                <a:latin typeface="Bookman Old Style"/>
              </a:rPr>
              <a:t>Те, кто в детстве играл в морской бой, помнят, что каждая клеточка на игровом поле определялась двумя координатами: буквой и циф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0" descr="b761483fa5ea8cc0bc597a1b8c65efad"/>
          <p:cNvPicPr/>
          <p:nvPr/>
        </p:nvPicPr>
        <p:blipFill>
          <a:blip r:embed="rId1"/>
          <a:stretch/>
        </p:blipFill>
        <p:spPr>
          <a:xfrm>
            <a:off x="0" y="4143240"/>
            <a:ext cx="4176720" cy="2714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1" descr="pfk кинотеатра"/>
          <p:cNvPicPr/>
          <p:nvPr/>
        </p:nvPicPr>
        <p:blipFill>
          <a:blip r:embed="rId2"/>
          <a:stretch/>
        </p:blipFill>
        <p:spPr>
          <a:xfrm>
            <a:off x="2627280" y="3860640"/>
            <a:ext cx="3745080" cy="2757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2" descr="SeaBattle"/>
          <p:cNvPicPr/>
          <p:nvPr/>
        </p:nvPicPr>
        <p:blipFill>
          <a:blip r:embed="rId3"/>
          <a:stretch/>
        </p:blipFill>
        <p:spPr>
          <a:xfrm>
            <a:off x="5508720" y="3213000"/>
            <a:ext cx="3384360" cy="251784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wipe dir="r"/>
    <p:sndAc>
      <p:stSnd>
        <p:snd r:embed="rId4" name="ppt1%20%D0%92%D0%BE%D1%81%D1%81%D1%82%D0%B0%D0%BD%D0%BE%D0%B2%D0%BB%D0%B5%D0%BD%D0%BD%D1%8B%D0%B9%20%D1%84%D0%B0%D0%B925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5092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C помощью системы координат, астрономы определяют расстояние до звёзд, их месторасположение на карте звёздного неба, размеры галактики, скорость её вращения, траекторию движения планет и их размер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851076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Координаты в астрономи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4" descr="ekv_sk"/>
          <p:cNvPicPr/>
          <p:nvPr/>
        </p:nvPicPr>
        <p:blipFill>
          <a:blip r:embed="rId1"/>
          <a:stretch/>
        </p:blipFill>
        <p:spPr>
          <a:xfrm>
            <a:off x="179280" y="2708280"/>
            <a:ext cx="3483000" cy="3862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foto1439"/>
          <p:cNvPicPr/>
          <p:nvPr/>
        </p:nvPicPr>
        <p:blipFill>
          <a:blip r:embed="rId2"/>
          <a:stretch/>
        </p:blipFill>
        <p:spPr>
          <a:xfrm>
            <a:off x="179280" y="2492280"/>
            <a:ext cx="4052880" cy="405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foto1440"/>
          <p:cNvPicPr/>
          <p:nvPr/>
        </p:nvPicPr>
        <p:blipFill>
          <a:blip r:embed="rId3"/>
          <a:stretch/>
        </p:blipFill>
        <p:spPr>
          <a:xfrm>
            <a:off x="4643280" y="2492280"/>
            <a:ext cx="3999240" cy="3998880"/>
          </a:xfrm>
          <a:prstGeom prst="rect">
            <a:avLst/>
          </a:prstGeom>
          <a:ln w="0">
            <a:noFill/>
          </a:ln>
        </p:spPr>
      </p:pic>
      <p:sp>
        <p:nvSpPr>
          <p:cNvPr id="325" name="Line 9"/>
          <p:cNvSpPr/>
          <p:nvPr/>
        </p:nvSpPr>
        <p:spPr>
          <a:xfrm flipV="1">
            <a:off x="468360" y="263664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179280" y="5373720"/>
            <a:ext cx="396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 flipV="1">
            <a:off x="4932360" y="2637000"/>
            <a:ext cx="1440" cy="37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4716360" y="4797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r"/>
    <p:sndAc>
      <p:stSnd>
        <p:snd r:embed="rId4" name="ppt1%20%D0%92%D0%BE%D1%81%D1%81%D1%82%D0%B0%D0%BD%D0%BE%D0%B2%D0%BB%D0%B5%D0%BD%D0%BD%D1%8B%D0%B9%20%D1%84%D0%B0%D0%B9258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24000" y="836640"/>
            <a:ext cx="8540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97fd5"/>
                </a:solidFill>
                <a:latin typeface="Times New Roman"/>
              </a:rPr>
              <a:t>Архитекторы используют систему координат в своих расчётах по проектированию строительных объектов</a:t>
            </a: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-243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Координаты в архитектуре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Picture 4" descr="normal_geometry"/>
          <p:cNvPicPr/>
          <p:nvPr/>
        </p:nvPicPr>
        <p:blipFill>
          <a:blip r:embed="rId1"/>
          <a:stretch/>
        </p:blipFill>
        <p:spPr>
          <a:xfrm>
            <a:off x="5580000" y="2637000"/>
            <a:ext cx="3003480" cy="3952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plan4"/>
          <p:cNvPicPr/>
          <p:nvPr/>
        </p:nvPicPr>
        <p:blipFill>
          <a:blip r:embed="rId2"/>
          <a:stretch/>
        </p:blipFill>
        <p:spPr>
          <a:xfrm>
            <a:off x="755640" y="2975040"/>
            <a:ext cx="2814480" cy="3276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r"/>
    <p:sndAc>
      <p:stSnd>
        <p:snd r:embed="rId3" name="ppt1%20%D0%92%D0%BE%D1%81%D1%81%D1%82%D0%B0%D0%BD%D0%BE%D0%B2%D0%BB%D0%B5%D0%BD%D0%BD%D1%8B%D0%B9%20%D1%84%D0%B0%D0%B9258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COGO"/>
          <p:cNvPicPr/>
          <p:nvPr/>
        </p:nvPicPr>
        <p:blipFill>
          <a:blip r:embed="rId1"/>
          <a:stretch/>
        </p:blipFill>
        <p:spPr>
          <a:xfrm>
            <a:off x="468360" y="1378080"/>
            <a:ext cx="3448080" cy="2790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9600" y="-243000"/>
            <a:ext cx="85104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Координаты в геометри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4" descr="295011686"/>
          <p:cNvPicPr/>
          <p:nvPr/>
        </p:nvPicPr>
        <p:blipFill>
          <a:blip r:embed="rId2"/>
          <a:stretch/>
        </p:blipFill>
        <p:spPr>
          <a:xfrm>
            <a:off x="971640" y="4292640"/>
            <a:ext cx="2700360" cy="2455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250920" y="3141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7" descr="buddha-1"/>
          <p:cNvPicPr/>
          <p:nvPr/>
        </p:nvPicPr>
        <p:blipFill>
          <a:blip r:embed="rId3"/>
          <a:stretch/>
        </p:blipFill>
        <p:spPr>
          <a:xfrm>
            <a:off x="4716360" y="2773440"/>
            <a:ext cx="410364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  <p:sndAc>
      <p:stSnd>
        <p:snd r:embed="rId4" name="ppt1%20%D0%92%D0%BE%D1%81%D1%81%D1%82%D0%B0%D0%BD%D0%BE%D0%B2%D0%BB%D0%B5%D0%BD%D0%BD%D1%8B%D0%B9%20%D1%84%D0%B0%D0%B9258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51040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Координаты в географи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9" name="Picture 4" descr="48151360_image003"/>
          <p:cNvPicPr/>
          <p:nvPr/>
        </p:nvPicPr>
        <p:blipFill>
          <a:blip r:embed="rId1"/>
          <a:stretch/>
        </p:blipFill>
        <p:spPr>
          <a:xfrm>
            <a:off x="250920" y="2708280"/>
            <a:ext cx="3236760" cy="3770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World_fiz1"/>
          <p:cNvPicPr/>
          <p:nvPr/>
        </p:nvPicPr>
        <p:blipFill>
          <a:blip r:embed="rId2"/>
          <a:stretch/>
        </p:blipFill>
        <p:spPr>
          <a:xfrm>
            <a:off x="4284720" y="3933720"/>
            <a:ext cx="4392720" cy="2382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  <p:sndAc>
      <p:stSnd>
        <p:snd r:embed="rId3" name="ppt1%20%D0%92%D0%BE%D1%81%D1%81%D1%82%D0%B0%D0%BD%D0%BE%D0%B2%D0%BB%D0%B5%D0%BD%D0%BD%D1%8B%D0%B9%20%D1%84%D0%B0%D0%B9258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поминание о координатах можно увидеть в стихотворении К.Симонова «Сын артиллериста», где говорится о молодом воспитаннике пожилого майора – Леньке, который корректировал по радио огонь артиллерийской батареи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«Третий сигнал по радио: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Немцы вокруг меня,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Бейте четыре – десять,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Не жалейте огня!»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Майор побледнел, услышав,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Четыре – десять - как раз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То место, где его Ленька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Должен сидеть сейчас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 advTm="36000">
    <p:wipe dir="r"/>
    <p:sndAc>
      <p:stSnd>
        <p:snd r:embed="rId2" name="ppt1%20%D0%92%D0%BE%D1%81%D1%81%D1%82%D0%B0%D0%BD%D0%BE%D0%B2%D0%BB%D0%B5%D0%BD%D0%BD%D1%8B%D0%B9%20%D1%84%D0%B0%D0%B9258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05:14:27Z</dcterms:created>
  <dc:creator>Администратор</dc:creator>
  <dc:description/>
  <dc:language>en-US</dc:language>
  <cp:lastModifiedBy>User</cp:lastModifiedBy>
  <dcterms:modified xsi:type="dcterms:W3CDTF">2014-04-15T11:27:49Z</dcterms:modified>
  <cp:revision>36</cp:revision>
  <dc:subject/>
  <dc:title>Слайд 1</dc:title>
</cp:coreProperties>
</file>