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ppt1%20%D0%92%D0%BE%D1%81%D1%81%D1%82%D0%B0%D0%BD%D0%BE%D0%B2%D0%BB%D0%B5%D0%BD%D0%BD%D1%8B%D0%B9%20%D1%84%D0%B0%D0%B9258.wav" ContentType="audio/x-wav"/>
  <Override PartName="/ppt/media/image16.png" ContentType="image/png"/>
  <Override PartName="/ppt/media/image15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5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B6A8-60D4-4478-8EFE-9463E769F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6804-EC07-4F75-AA35-846AB177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0DB4-D2A4-4889-8F9E-836C7EA17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605A-84DD-44FF-9D90-73BF27C11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5DC36-AC11-4E3B-AF0C-FE531E58F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EC060-D4E2-4B5A-A977-F9EA14E0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556B1-1526-45A1-83A8-0843B759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0FF2A-03DC-4F10-B27A-B0CC5C35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2EFD5-5A05-462F-BA15-4B9DAB1D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02B4DC-B2A2-40CE-A22F-9D6B6944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38DDA-94DD-4E5F-8E7A-7F0258C0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033B-0E44-4F11-A73A-82B37D66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37C43-3528-4848-9D91-84C4B35B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54BB8-5663-4ED8-BC8F-D5A5893B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83C547-D975-4A79-BDA4-6C508008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F760A-ACE1-4DD5-9D3E-A906F408B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260B9-9818-414F-97B5-8DC184365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CD0DED-2882-4F9C-9632-AC6708876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133B30-CB04-44DB-8BCD-8D2A2289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1733CB-B7B4-4C94-AEE2-C5536E23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534B04-B96E-47A8-84E1-4B27278C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B214A7-C5C0-44F4-A3C6-D26B4275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4C60-7F95-4E92-BBA0-D84F4BF9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B2DC60-F6A8-4A3E-B7DA-F57EEC04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CE4C32-0CD2-4D9D-830F-76ABAD76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04A768-FE3E-4921-B59D-FD965BCB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534F6C-287F-46A3-8FC3-C2863688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E02EF0-F5FC-4B04-ADD7-9D286FAA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C7650F-551A-4F95-8B96-24F17D806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ECD22A-D0BD-42B8-A8FC-79CCC9583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09B887-D641-400C-A15D-02F470646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1C2853-C8A1-484C-B82F-1DFAF365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6C5024-46C3-4438-8AAA-0F6BF750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4632-AD6A-4517-AFC2-EA0A1F74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069398-E4F4-4855-9569-2A0FC67A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CC9620-C7CA-4CC1-9F64-DAB0CB67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AC195E-B3B9-4C89-ABC9-E8CD7FDD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BB349C-EC96-4EFA-999E-DF3A4097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ED117A-2799-4BAD-A9CC-233D9F88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AA5BA8-2BF7-48E2-9B9B-80449F26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438E42-2033-4E30-8C3A-1348EF52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C5F94E-A2AB-4A30-95C4-DD4223154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CDFD19-6AF7-47C1-958B-4B468FE38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6A6908-163F-4DF3-931E-0A0619433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8F3F-5D83-40F0-B098-1E79100B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15529A-037E-43FB-871E-C5641B1A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4357F1-ACD3-476E-9D2F-2F1C46A9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5C4ED6-F4AE-46F0-9C5B-6D5F6371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2AA23F-E507-4A4C-98FC-2F99DF41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70BEA1-A386-46AB-810C-C6D9917A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E2FEB3-CFE6-4D23-8471-E20FE5DB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CFCEB9-DC22-4A95-B94F-AD1FDDB7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D09D2E-9809-46BD-8312-3935A843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F414C9-B73F-48E4-A03B-1602A5F0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021AFC-AC2B-4144-99AE-852166619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0066-E402-40E2-9AF1-C6416E9D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274248-CFFE-4512-87E9-074D7156E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C2A71A-6592-43A1-ACBA-3EC141497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154219-D1C8-46CE-8E8D-1528D475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ED7853-5E89-4C9D-A2FD-2D362C3E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40DC3A-1E01-4788-B602-551C6EDF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F05474-0A2B-4036-8717-1CB581C2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F9430A-E1E1-4A11-998A-69C6724F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80C59E-948D-4E96-A55F-4E6FE789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216F29-A468-4A56-B9D8-0B39A098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A16C6C-A5FB-4326-A684-8E6A89C0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7689-5E29-4667-8AA0-363DB266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356651-F07B-4BEA-8942-B4EE505D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E8382B-81D9-4549-944B-B565D85E9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D6C3A3-8734-41B9-810E-6CADFE24D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B136-79FC-481C-9A91-56A88C21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0CA6-6610-427C-8BB9-0B9FAC4B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4822-A876-4E1A-864B-8C91090825B4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" name="TextBox 10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CB5A-380E-408E-81C3-D9FD71DA71C1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TextBox 10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0D26-49D1-4187-8ACA-028DAB0E8D6A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TextBox 10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6A62-0557-400B-8D3D-8C68474702F3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TextBox 10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2EE9-7A7C-4FED-8D17-AF8762E287EA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TextBox 10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E794-D836-48E6-BE76-7D08AD74D7EE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ppt1%20&#1042;&#1086;&#1089;&#1089;&#1090;&#1072;&#1085;&#1086;&#1074;&#1083;&#1077;&#1085;&#1085;&#1099;&#1081;%20&#1092;&#1072;&#1081;258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audio" Target="../media/ppt1%20&#1042;&#1086;&#1089;&#1089;&#1090;&#1072;&#1085;&#1086;&#1074;&#1083;&#1077;&#1085;&#1085;&#1099;&#1081;%20&#1092;&#1072;&#1081;258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audio" Target="../media/ppt1%20&#1042;&#1086;&#1089;&#1089;&#1090;&#1072;&#1085;&#1086;&#1074;&#1083;&#1077;&#1085;&#1085;&#1099;&#1081;%20&#1092;&#1072;&#1081;258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ppt1%20&#1042;&#1086;&#1089;&#1089;&#1090;&#1072;&#1085;&#1086;&#1074;&#1083;&#1077;&#1085;&#1085;&#1099;&#1081;%20&#1092;&#1072;&#1081;258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audio" Target="../media/ppt1%20&#1042;&#1086;&#1089;&#1089;&#1090;&#1072;&#1085;&#1086;&#1074;&#1083;&#1077;&#1085;&#1085;&#1099;&#1081;%20&#1092;&#1072;&#1081;258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audio" Target="../media/ppt1%20&#1042;&#1086;&#1089;&#1089;&#1090;&#1072;&#1085;&#1086;&#1074;&#1083;&#1077;&#1085;&#1085;&#1099;&#1081;%20&#1092;&#1072;&#1081;258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ppt1%20&#1042;&#1086;&#1089;&#1089;&#1090;&#1072;&#1085;&#1086;&#1074;&#1083;&#1077;&#1085;&#1085;&#1099;&#1081;%20&#1092;&#1072;&#1081;258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15760" y="555480"/>
            <a:ext cx="7543800" cy="215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Palatino Linotype"/>
              </a:rPr>
              <a:t>Координаты  вокруг нас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195280" y="3428640"/>
            <a:ext cx="6172200" cy="21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14" name="Picture 6" descr="сист координат"/>
          <p:cNvPicPr/>
          <p:nvPr/>
        </p:nvPicPr>
        <p:blipFill>
          <a:blip r:embed="rId1"/>
          <a:stretch/>
        </p:blipFill>
        <p:spPr>
          <a:xfrm>
            <a:off x="2195640" y="1844640"/>
            <a:ext cx="619272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2" name="ppt1%20%D0%92%D0%BE%D1%81%D1%81%D1%82%D0%B0%D0%BD%D0%BE%D0%B2%D0%BB%D0%B5%D0%BD%D0%BD%D1%8B%D0%B9%20%D1%84%D0%B0%D0%B9258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WordArt 16"/>
          <p:cNvSpPr txBox="1"/>
          <p:nvPr/>
        </p:nvSpPr>
        <p:spPr>
          <a:xfrm>
            <a:off x="250920" y="0"/>
            <a:ext cx="87138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454c3"/>
                </a:solidFill>
                <a:latin typeface="Bookman Old Style"/>
              </a:rPr>
              <a:t>ИСПОЛЬЗОВАНИЕ КООРДИНАТ В НАШЕЙ ЖИЗНИ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9454c3"/>
              </a:solidFill>
              <a:latin typeface="Bookman Old Style"/>
              <a:ea typeface="Bookman Old Style"/>
            </a:endParaRPr>
          </a:p>
        </p:txBody>
      </p:sp>
      <p:sp>
        <p:nvSpPr>
          <p:cNvPr id="316" name="Text Box 18"/>
          <p:cNvSpPr/>
          <p:nvPr/>
        </p:nvSpPr>
        <p:spPr>
          <a:xfrm>
            <a:off x="0" y="765000"/>
            <a:ext cx="91440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Bookman Old Style"/>
              </a:rPr>
              <a:t>Каждая точка плоскости задается двумя полярными координатами: углом и расстоянием.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ординат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зн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Bookman Old Style"/>
              </a:rPr>
              <a:t>Кто умеет играть в шашки и шахматы, знает, что вертикальные полосы обозначаются цифрами, а горизонтальные – буквами.</a:t>
            </a:r>
            <a:br>
              <a:rPr sz="1800"/>
            </a:br>
            <a:r>
              <a:rPr b="1" i="1" lang="ru-RU" sz="1800" spc="-1" strike="noStrike">
                <a:solidFill>
                  <a:srgbClr val="accbf9"/>
                </a:solidFill>
                <a:latin typeface="Bookman Old Style"/>
              </a:rPr>
              <a:t>Те, кто в детстве играл в морской бой, помнят, что каждая клеточка на игровом поле определялась двумя координатами: буквой и цифр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Picture 20" descr="b761483fa5ea8cc0bc597a1b8c65efad"/>
          <p:cNvPicPr/>
          <p:nvPr/>
        </p:nvPicPr>
        <p:blipFill>
          <a:blip r:embed="rId1"/>
          <a:stretch/>
        </p:blipFill>
        <p:spPr>
          <a:xfrm>
            <a:off x="0" y="4143240"/>
            <a:ext cx="4176720" cy="27147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1" descr="pfk кинотеатра"/>
          <p:cNvPicPr/>
          <p:nvPr/>
        </p:nvPicPr>
        <p:blipFill>
          <a:blip r:embed="rId2"/>
          <a:stretch/>
        </p:blipFill>
        <p:spPr>
          <a:xfrm>
            <a:off x="2627280" y="3860640"/>
            <a:ext cx="3745080" cy="27576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2" descr="SeaBattle"/>
          <p:cNvPicPr/>
          <p:nvPr/>
        </p:nvPicPr>
        <p:blipFill>
          <a:blip r:embed="rId3"/>
          <a:stretch/>
        </p:blipFill>
        <p:spPr>
          <a:xfrm>
            <a:off x="5508720" y="3213000"/>
            <a:ext cx="3384360" cy="2517840"/>
          </a:xfrm>
          <a:prstGeom prst="rect">
            <a:avLst/>
          </a:prstGeom>
          <a:ln w="0">
            <a:noFill/>
          </a:ln>
        </p:spPr>
      </p:pic>
    </p:spTree>
  </p:cSld>
  <p:transition spd="slow" advTm="32000">
    <p:wipe dir="r"/>
    <p:sndAc>
      <p:stSnd>
        <p:snd r:embed="rId4" name="ppt1%20%D0%92%D0%BE%D1%81%D1%81%D1%82%D0%B0%D0%BD%D0%BE%D0%B2%D0%BB%D0%B5%D0%BD%D0%BD%D1%8B%D0%B9%20%D1%84%D0%B0%D0%B9258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50920" y="1268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Bookman Old Style"/>
              </a:rPr>
              <a:t>C помощью системы координат, астрономы определяют расстояние до звёзд, их месторасположение на карте звёздного неба, размеры галактики, скорость её вращения, траекторию движения планет и их размер.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4920" y="-243360"/>
            <a:ext cx="8510760" cy="230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ffff"/>
                </a:solidFill>
                <a:latin typeface="Bookman Old Style"/>
              </a:rPr>
              <a:t>Координаты в астрономии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2" name="Picture 4" descr="ekv_sk"/>
          <p:cNvPicPr/>
          <p:nvPr/>
        </p:nvPicPr>
        <p:blipFill>
          <a:blip r:embed="rId1"/>
          <a:stretch/>
        </p:blipFill>
        <p:spPr>
          <a:xfrm>
            <a:off x="179280" y="2708280"/>
            <a:ext cx="3483000" cy="38624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6" descr="foto1439"/>
          <p:cNvPicPr/>
          <p:nvPr/>
        </p:nvPicPr>
        <p:blipFill>
          <a:blip r:embed="rId2"/>
          <a:stretch/>
        </p:blipFill>
        <p:spPr>
          <a:xfrm>
            <a:off x="179280" y="2492280"/>
            <a:ext cx="4052880" cy="40528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foto1440"/>
          <p:cNvPicPr/>
          <p:nvPr/>
        </p:nvPicPr>
        <p:blipFill>
          <a:blip r:embed="rId3"/>
          <a:stretch/>
        </p:blipFill>
        <p:spPr>
          <a:xfrm>
            <a:off x="4643280" y="2492280"/>
            <a:ext cx="3999240" cy="3998880"/>
          </a:xfrm>
          <a:prstGeom prst="rect">
            <a:avLst/>
          </a:prstGeom>
          <a:ln w="0">
            <a:noFill/>
          </a:ln>
        </p:spPr>
      </p:pic>
      <p:sp>
        <p:nvSpPr>
          <p:cNvPr id="325" name="Line 9"/>
          <p:cNvSpPr/>
          <p:nvPr/>
        </p:nvSpPr>
        <p:spPr>
          <a:xfrm flipV="1">
            <a:off x="468360" y="2636640"/>
            <a:ext cx="0" cy="381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Line 10"/>
          <p:cNvSpPr/>
          <p:nvPr/>
        </p:nvSpPr>
        <p:spPr>
          <a:xfrm>
            <a:off x="179280" y="5373720"/>
            <a:ext cx="3961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Line 11"/>
          <p:cNvSpPr/>
          <p:nvPr/>
        </p:nvSpPr>
        <p:spPr>
          <a:xfrm flipV="1">
            <a:off x="4932360" y="2637000"/>
            <a:ext cx="1440" cy="37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Line 12"/>
          <p:cNvSpPr/>
          <p:nvPr/>
        </p:nvSpPr>
        <p:spPr>
          <a:xfrm>
            <a:off x="4716360" y="4797360"/>
            <a:ext cx="381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4000">
    <p:wipe dir="r"/>
    <p:sndAc>
      <p:stSnd>
        <p:snd r:embed="rId4" name="ppt1%20%D0%92%D0%BE%D1%81%D1%81%D1%82%D0%B0%D0%BD%D0%BE%D0%B2%D0%BB%D0%B5%D0%BD%D0%BD%D1%8B%D0%B9%20%D1%84%D0%B0%D0%B9258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24000" y="836640"/>
            <a:ext cx="854064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297fd5"/>
                </a:solidFill>
                <a:latin typeface="Times New Roman"/>
              </a:rPr>
              <a:t>Архитекторы используют систему координат в своих расчётах по проектированию строительных объектов</a:t>
            </a: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94920" y="-2430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ookman Old Style"/>
              </a:rPr>
              <a:t>Координаты в архитектуре</a:t>
            </a:r>
            <a:endParaRPr b="0" lang="en-US" sz="4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1" name="Picture 4" descr="normal_geometry"/>
          <p:cNvPicPr/>
          <p:nvPr/>
        </p:nvPicPr>
        <p:blipFill>
          <a:blip r:embed="rId1"/>
          <a:stretch/>
        </p:blipFill>
        <p:spPr>
          <a:xfrm>
            <a:off x="5580000" y="2637000"/>
            <a:ext cx="3003480" cy="39528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plan4"/>
          <p:cNvPicPr/>
          <p:nvPr/>
        </p:nvPicPr>
        <p:blipFill>
          <a:blip r:embed="rId2"/>
          <a:stretch/>
        </p:blipFill>
        <p:spPr>
          <a:xfrm>
            <a:off x="755640" y="2975040"/>
            <a:ext cx="2814480" cy="32763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ipe dir="r"/>
    <p:sndAc>
      <p:stSnd>
        <p:snd r:embed="rId3" name="ppt1%20%D0%92%D0%BE%D1%81%D1%81%D1%82%D0%B0%D0%BD%D0%BE%D0%B2%D0%BB%D0%B5%D0%BD%D0%BD%D1%8B%D0%B9%20%D1%84%D0%B0%D0%B9258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5" descr="COGO"/>
          <p:cNvPicPr/>
          <p:nvPr/>
        </p:nvPicPr>
        <p:blipFill>
          <a:blip r:embed="rId1"/>
          <a:stretch/>
        </p:blipFill>
        <p:spPr>
          <a:xfrm>
            <a:off x="468360" y="1378080"/>
            <a:ext cx="3448080" cy="279072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9600" y="-243000"/>
            <a:ext cx="8510400" cy="17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ffff"/>
                </a:solidFill>
                <a:latin typeface="Bookman Old Style"/>
              </a:rPr>
              <a:t>Координаты в геометрии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5" name="Picture 4" descr="295011686"/>
          <p:cNvPicPr/>
          <p:nvPr/>
        </p:nvPicPr>
        <p:blipFill>
          <a:blip r:embed="rId2"/>
          <a:stretch/>
        </p:blipFill>
        <p:spPr>
          <a:xfrm>
            <a:off x="971640" y="4292640"/>
            <a:ext cx="2700360" cy="245592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6"/>
          <p:cNvSpPr/>
          <p:nvPr/>
        </p:nvSpPr>
        <p:spPr>
          <a:xfrm>
            <a:off x="250920" y="314172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Picture 7" descr="buddha-1"/>
          <p:cNvPicPr/>
          <p:nvPr/>
        </p:nvPicPr>
        <p:blipFill>
          <a:blip r:embed="rId3"/>
          <a:stretch/>
        </p:blipFill>
        <p:spPr>
          <a:xfrm>
            <a:off x="4716360" y="2773440"/>
            <a:ext cx="4103640" cy="36734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wipe dir="r"/>
    <p:sndAc>
      <p:stSnd>
        <p:snd r:embed="rId4" name="ppt1%20%D0%92%D0%BE%D1%81%D1%81%D1%82%D0%B0%D0%BD%D0%BE%D0%B2%D0%BB%D0%B5%D0%BD%D0%BD%D1%8B%D0%B9%20%D1%84%D0%B0%D0%B9258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24000" y="-243000"/>
            <a:ext cx="8510400" cy="27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ffff"/>
                </a:solidFill>
                <a:latin typeface="Bookman Old Style"/>
              </a:rPr>
              <a:t>Координаты в географии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9" name="Picture 4" descr="48151360_image003"/>
          <p:cNvPicPr/>
          <p:nvPr/>
        </p:nvPicPr>
        <p:blipFill>
          <a:blip r:embed="rId1"/>
          <a:stretch/>
        </p:blipFill>
        <p:spPr>
          <a:xfrm>
            <a:off x="250920" y="2708280"/>
            <a:ext cx="3236760" cy="37702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5" descr="World_fiz1"/>
          <p:cNvPicPr/>
          <p:nvPr/>
        </p:nvPicPr>
        <p:blipFill>
          <a:blip r:embed="rId2"/>
          <a:stretch/>
        </p:blipFill>
        <p:spPr>
          <a:xfrm>
            <a:off x="4284720" y="3933720"/>
            <a:ext cx="4392720" cy="23828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ipe dir="r"/>
    <p:sndAc>
      <p:stSnd>
        <p:snd r:embed="rId3" name="ppt1%20%D0%92%D0%BE%D1%81%D1%81%D1%82%D0%B0%D0%BD%D0%BE%D0%B2%D0%BB%D0%B5%D0%BD%D0%BD%D1%8B%D0%B9%20%D1%84%D0%B0%D0%B9258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9528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Упоминание о координатах можно увидеть в стихотворении К.Симонова «Сын артиллериста», где говорится о молодом воспитаннике пожилого майора – Леньке, который корректировал по радио огонь артиллерийской батареи.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454c3"/>
                </a:solidFill>
                <a:latin typeface="Bookman Old Style"/>
              </a:rPr>
              <a:t>«Третий сигнал по радио: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454c3"/>
                </a:solidFill>
                <a:latin typeface="Bookman Old Style"/>
              </a:rPr>
              <a:t>Немцы вокруг меня,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454c3"/>
                </a:solidFill>
                <a:latin typeface="Bookman Old Style"/>
              </a:rPr>
              <a:t>Бейте четыре – десять, 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454c3"/>
                </a:solidFill>
                <a:latin typeface="Bookman Old Style"/>
              </a:rPr>
              <a:t>Не жалейте огня!»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454c3"/>
                </a:solidFill>
                <a:latin typeface="Bookman Old Style"/>
              </a:rPr>
              <a:t>Майор побледнел, услышав,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454c3"/>
                </a:solidFill>
                <a:latin typeface="Bookman Old Style"/>
              </a:rPr>
              <a:t>Четыре – десять - как раз 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454c3"/>
                </a:solidFill>
                <a:latin typeface="Bookman Old Style"/>
              </a:rPr>
              <a:t>То место, где его Ленька 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454c3"/>
                </a:solidFill>
                <a:latin typeface="Bookman Old Style"/>
              </a:rPr>
              <a:t>Должен сидеть сейчас.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transition spd="slow" advTm="36000">
    <p:wipe dir="r"/>
    <p:sndAc>
      <p:stSnd>
        <p:snd r:embed="rId2" name="ppt1%20%D0%92%D0%BE%D1%81%D1%81%D1%82%D0%B0%D0%BD%D0%BE%D0%B2%D0%BB%D0%B5%D0%BD%D0%BD%D1%8B%D0%B9%20%D1%84%D0%B0%D0%B9258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1T05:14:27Z</dcterms:created>
  <dc:creator>Администратор</dc:creator>
  <dc:description/>
  <dc:language>en-US</dc:language>
  <cp:lastModifiedBy>User</cp:lastModifiedBy>
  <dcterms:modified xsi:type="dcterms:W3CDTF">2014-04-15T11:27:49Z</dcterms:modified>
  <cp:revision>36</cp:revision>
  <dc:subject/>
  <dc:title>Слайд 1</dc:title>
</cp:coreProperties>
</file>