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ppt1%20%D0%92%D0%BE%D1%81%D1%81%D1%82%D0%B0%D0%BD%D0%BE%D0%B2%D0%BB%D0%B5%D0%BD%D0%BD%D1%8B%D0%B9%20%D1%84%D0%B0%D0%B9258.wav" ContentType="audio/x-wav"/>
  <Override PartName="/ppt/media/image16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7FF-FBC9-4B7E-AD6B-0032522A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9DB-6788-4B62-AC1A-36A7665E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271-5232-4373-BB79-50A508F7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E28-55D4-4AF3-8112-13D63D69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026C7-A2EE-4AA7-9BB8-F155D56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03289-94D4-445F-B1CB-AABFFDA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2E699-50BA-46BD-8BD0-93C91D6C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AD4D-53E0-46A7-8D04-D86A39EC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B10B0-154A-4DEC-A61F-F9AE9796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04A3-291E-4555-99E3-D717356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54373-4206-442A-8715-339F3C8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73A-462E-4986-8A72-BED184F7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F22F-9D93-499A-9ABB-D06E96E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74312-6087-403C-9D68-2BAE916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F8B59-2F30-4F28-908D-B58E5878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FB662-C009-407A-A0D1-919B1728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F764-2D70-40EF-87AE-1D1228CC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056C1-AD3F-4DDD-8392-107AAA5D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3FA66-4590-449E-8486-E5D00ADB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95960-41BC-4978-9420-A6062E9E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BAC18-86E4-4DAE-9CF4-7A83B4D3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FCDF4-4AE5-4362-8B5F-7955340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BBB-3B65-4FE6-8B2E-76FB682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327C6-FD96-4D43-92C6-1AB4CB7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44F05-4322-42CB-951C-121BFDD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24AC2-F57B-4DC6-BFF1-1A0E2AD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14C9F-5575-4300-8C04-FB0B988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311B3-FABB-4FED-9A5B-FB3FA538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3D4B6-9993-464C-82B6-CFF6B8D1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AF1FC-04AA-4F00-A9B9-8EE7A015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E4F0A-6E33-484E-B0FD-CFCF950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0B4EE-82BF-4BB7-9F23-86612AC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06964-DEC5-451D-BE69-D1B14733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BA1-A973-4B5C-B696-5BD8DD9E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43592-937D-44F0-8446-17FF77EE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167C9-C1D1-4D17-8152-F419DFD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E9BAB-F825-469A-ACF5-1BEA9069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B4DFE-9B94-4DDE-84F7-961EC90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5960E-16B4-4519-92B5-6382072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0FD3B-62FA-46E6-94A6-A02511E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6A059-04B2-4278-82C9-35FE183E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A1674-65BD-4C14-B34F-23BB8FAD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E04A3-835B-47F3-8D9C-8CEB700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57B58-3BEF-4FE2-BFBE-E58A00A7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1F4-1429-49DC-B393-9FF64486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742F3-C07A-443A-AA1A-0613065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17E75-1782-4747-8842-117C22E2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30A2C-35AD-4B85-9C76-0867ED9C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8BFA1-BA6C-44FB-AEBF-E00943C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0CB27-BF8A-48AF-97E9-EBDE8DF8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E67F2-1AF7-4F9C-AB17-5866BE3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83E23-AF06-4601-AC3F-30CF6F2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F8362-558F-40A1-8B8C-50F61199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ADEED-ED65-4AE5-92F3-4ABDAF56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54E56-42AE-4562-9DE2-3D89DEFF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5C4-5E9A-4655-965C-E1432A9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19FD1-85A6-423B-AB81-8E7E5336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434AA-594D-45F5-9CF2-55BD9A7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728CE-1D27-46A6-802E-41107D8B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29DDC-3437-489A-8C04-196A38EC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53D57-71A3-4A1F-958E-6207A1A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D771D-EBC3-4160-8BA1-A49DA86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C5619-C4EF-49E3-9389-241D93A0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4CC34-E347-41FE-B977-55A1EC2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C937A-19FA-4A91-B37D-6BD8E75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A858B-6762-47D4-9688-0FD856D6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E26-904A-4C1F-8D4E-C928919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792DC-7976-4B07-9FEC-A9AF820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23D60-87CA-4A03-94D7-A813699D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372FE-44EE-4554-82B9-B6D0668A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F6B-20A8-4C7B-8553-F3C098FE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5D8-D4AE-4383-8B72-7C979F55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B3A0-824E-4127-91B7-9E8916AF245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CDB-A09E-4260-A4DF-67F1FF049B0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4CA-D551-46A8-80F7-A9DB8275742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CAB5-C30B-4468-918F-FC14E2DD9B3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107-2256-44F8-8B11-CA9C463950A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43D-40D7-4F8A-AD41-24E2A57BFE1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pt1%20&#1042;&#1086;&#1089;&#1089;&#1090;&#1072;&#1085;&#1086;&#1074;&#1083;&#1077;&#1085;&#1085;&#1099;&#1081;%20&#1092;&#1072;&#1081;258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ppt1%20&#1042;&#1086;&#1089;&#1089;&#1090;&#1072;&#1085;&#1086;&#1074;&#1083;&#1077;&#1085;&#1085;&#1099;&#1081;%20&#1092;&#1072;&#1081;258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ppt1%20&#1042;&#1086;&#1089;&#1089;&#1090;&#1072;&#1085;&#1086;&#1074;&#1083;&#1077;&#1085;&#1085;&#1099;&#1081;%20&#1092;&#1072;&#1081;258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ppt1%20&#1042;&#1086;&#1089;&#1089;&#1090;&#1072;&#1085;&#1086;&#1074;&#1083;&#1077;&#1085;&#1085;&#1099;&#1081;%20&#1092;&#1072;&#1081;258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5760" y="555480"/>
            <a:ext cx="7543800" cy="21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Координаты  вокруг нас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95280" y="3428640"/>
            <a:ext cx="617220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6" descr="сист координат"/>
          <p:cNvPicPr/>
          <p:nvPr/>
        </p:nvPicPr>
        <p:blipFill>
          <a:blip r:embed="rId1"/>
          <a:stretch/>
        </p:blipFill>
        <p:spPr>
          <a:xfrm>
            <a:off x="2195640" y="1844640"/>
            <a:ext cx="6192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ppt1%20%D0%92%D0%BE%D1%81%D1%81%D1%82%D0%B0%D0%BD%D0%BE%D0%B2%D0%BB%D0%B5%D0%BD%D0%BD%D1%8B%D0%B9%20%D1%84%D0%B0%D0%B925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16"/>
          <p:cNvSpPr txBox="1"/>
          <p:nvPr/>
        </p:nvSpPr>
        <p:spPr>
          <a:xfrm>
            <a:off x="250920" y="0"/>
            <a:ext cx="871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54c3"/>
                </a:solidFill>
                <a:latin typeface="Bookman Old Style"/>
              </a:rPr>
              <a:t>ИСПОЛЬЗОВАНИЕ КООРДИНАТ В НАШЕЙ ЖИЗ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454c3"/>
              </a:solidFill>
              <a:latin typeface="Bookman Old Style"/>
              <a:ea typeface="Bookman Old Style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0" y="76500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Bookman Old Style"/>
              </a:rPr>
              <a:t>Каждая точка плоскости задается двумя полярными координатами: углом и расстоянием.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Кто умеет играть в шашки и шахматы, знает, что вертикальные полосы обозначаются цифрами, а горизонтальные – буквами.</a:t>
            </a:r>
            <a:br>
              <a:rPr sz="1800"/>
            </a:br>
            <a:r>
              <a:rPr b="1" i="1" lang="ru-RU" sz="1800" spc="-1" strike="noStrike">
                <a:solidFill>
                  <a:srgbClr val="accbf9"/>
                </a:solidFill>
                <a:latin typeface="Bookman Old Style"/>
              </a:rPr>
              <a:t>Те, кто в детстве играл в морской бой, помнят, что каждая клеточка на игровом поле определялась двумя координатами: буквой и циф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0" descr="b761483fa5ea8cc0bc597a1b8c65efad"/>
          <p:cNvPicPr/>
          <p:nvPr/>
        </p:nvPicPr>
        <p:blipFill>
          <a:blip r:embed="rId1"/>
          <a:stretch/>
        </p:blipFill>
        <p:spPr>
          <a:xfrm>
            <a:off x="0" y="4143240"/>
            <a:ext cx="4176720" cy="2714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1" descr="pfk кинотеатра"/>
          <p:cNvPicPr/>
          <p:nvPr/>
        </p:nvPicPr>
        <p:blipFill>
          <a:blip r:embed="rId2"/>
          <a:stretch/>
        </p:blipFill>
        <p:spPr>
          <a:xfrm>
            <a:off x="2627280" y="3860640"/>
            <a:ext cx="3745080" cy="2757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SeaBattle"/>
          <p:cNvPicPr/>
          <p:nvPr/>
        </p:nvPicPr>
        <p:blipFill>
          <a:blip r:embed="rId3"/>
          <a:stretch/>
        </p:blipFill>
        <p:spPr>
          <a:xfrm>
            <a:off x="5508720" y="3213000"/>
            <a:ext cx="3384360" cy="251784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ipe dir="r"/>
    <p:sndAc>
      <p:stSnd>
        <p:snd r:embed="rId4" name="ppt1%20%D0%92%D0%BE%D1%81%D1%81%D1%82%D0%B0%D0%BD%D0%BE%D0%B2%D0%BB%D0%B5%D0%BD%D0%BD%D1%8B%D0%B9%20%D1%84%D0%B0%D0%B925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5092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C помощью системы координат, астрономы определяют расстояние до звёзд, их месторасположение на карте звёздного неба, размеры галактики, скорость её вращения, траекторию движения планет и их размер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51076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астроном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4" descr="ekv_sk"/>
          <p:cNvPicPr/>
          <p:nvPr/>
        </p:nvPicPr>
        <p:blipFill>
          <a:blip r:embed="rId1"/>
          <a:stretch/>
        </p:blipFill>
        <p:spPr>
          <a:xfrm>
            <a:off x="179280" y="2708280"/>
            <a:ext cx="3483000" cy="3862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foto1439"/>
          <p:cNvPicPr/>
          <p:nvPr/>
        </p:nvPicPr>
        <p:blipFill>
          <a:blip r:embed="rId2"/>
          <a:stretch/>
        </p:blipFill>
        <p:spPr>
          <a:xfrm>
            <a:off x="179280" y="2492280"/>
            <a:ext cx="4052880" cy="405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foto1440"/>
          <p:cNvPicPr/>
          <p:nvPr/>
        </p:nvPicPr>
        <p:blipFill>
          <a:blip r:embed="rId3"/>
          <a:stretch/>
        </p:blipFill>
        <p:spPr>
          <a:xfrm>
            <a:off x="4643280" y="2492280"/>
            <a:ext cx="3999240" cy="3998880"/>
          </a:xfrm>
          <a:prstGeom prst="rect">
            <a:avLst/>
          </a:prstGeom>
          <a:ln w="0">
            <a:noFill/>
          </a:ln>
        </p:spPr>
      </p:pic>
      <p:sp>
        <p:nvSpPr>
          <p:cNvPr id="325" name="Line 9"/>
          <p:cNvSpPr/>
          <p:nvPr/>
        </p:nvSpPr>
        <p:spPr>
          <a:xfrm flipV="1">
            <a:off x="468360" y="263664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179280" y="537372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 flipV="1">
            <a:off x="4932360" y="2637000"/>
            <a:ext cx="144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4716360" y="4797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r"/>
    <p:sndAc>
      <p:stSnd>
        <p:snd r:embed="rId4" name="ppt1%20%D0%92%D0%BE%D1%81%D1%81%D1%82%D0%B0%D0%BD%D0%BE%D0%B2%D0%BB%D0%B5%D0%BD%D0%BD%D1%8B%D0%B9%20%D1%84%D0%B0%D0%B9258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4000" y="836640"/>
            <a:ext cx="8540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97fd5"/>
                </a:solidFill>
                <a:latin typeface="Times New Roman"/>
              </a:rPr>
              <a:t>Архитекторы используют систему координат в своих расчётах по проектированию строительных объектов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-243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Координаты в архитектуре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Picture 4" descr="normal_geometry"/>
          <p:cNvPicPr/>
          <p:nvPr/>
        </p:nvPicPr>
        <p:blipFill>
          <a:blip r:embed="rId1"/>
          <a:stretch/>
        </p:blipFill>
        <p:spPr>
          <a:xfrm>
            <a:off x="5580000" y="2637000"/>
            <a:ext cx="3003480" cy="3952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plan4"/>
          <p:cNvPicPr/>
          <p:nvPr/>
        </p:nvPicPr>
        <p:blipFill>
          <a:blip r:embed="rId2"/>
          <a:stretch/>
        </p:blipFill>
        <p:spPr>
          <a:xfrm>
            <a:off x="755640" y="2975040"/>
            <a:ext cx="281448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  <p:sndAc>
      <p:stSnd>
        <p:snd r:embed="rId3" name="ppt1%20%D0%92%D0%BE%D1%81%D1%81%D1%82%D0%B0%D0%BD%D0%BE%D0%B2%D0%BB%D0%B5%D0%BD%D0%BD%D1%8B%D0%B9%20%D1%84%D0%B0%D0%B9258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COGO"/>
          <p:cNvPicPr/>
          <p:nvPr/>
        </p:nvPicPr>
        <p:blipFill>
          <a:blip r:embed="rId1"/>
          <a:stretch/>
        </p:blipFill>
        <p:spPr>
          <a:xfrm>
            <a:off x="468360" y="1378080"/>
            <a:ext cx="3448080" cy="2790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9600" y="-243000"/>
            <a:ext cx="8510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геометр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4" descr="295011686"/>
          <p:cNvPicPr/>
          <p:nvPr/>
        </p:nvPicPr>
        <p:blipFill>
          <a:blip r:embed="rId2"/>
          <a:stretch/>
        </p:blipFill>
        <p:spPr>
          <a:xfrm>
            <a:off x="971640" y="4292640"/>
            <a:ext cx="2700360" cy="2455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250920" y="3141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buddha-1"/>
          <p:cNvPicPr/>
          <p:nvPr/>
        </p:nvPicPr>
        <p:blipFill>
          <a:blip r:embed="rId3"/>
          <a:stretch/>
        </p:blipFill>
        <p:spPr>
          <a:xfrm>
            <a:off x="4716360" y="2773440"/>
            <a:ext cx="410364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  <p:sndAc>
      <p:stSnd>
        <p:snd r:embed="rId4" name="ppt1%20%D0%92%D0%BE%D1%81%D1%81%D1%82%D0%B0%D0%BD%D0%BE%D0%B2%D0%BB%D0%B5%D0%BD%D0%BD%D1%8B%D0%B9%20%D1%84%D0%B0%D0%B9258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0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географ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9" name="Picture 4" descr="48151360_image003"/>
          <p:cNvPicPr/>
          <p:nvPr/>
        </p:nvPicPr>
        <p:blipFill>
          <a:blip r:embed="rId1"/>
          <a:stretch/>
        </p:blipFill>
        <p:spPr>
          <a:xfrm>
            <a:off x="250920" y="2708280"/>
            <a:ext cx="3236760" cy="3770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World_fiz1"/>
          <p:cNvPicPr/>
          <p:nvPr/>
        </p:nvPicPr>
        <p:blipFill>
          <a:blip r:embed="rId2"/>
          <a:stretch/>
        </p:blipFill>
        <p:spPr>
          <a:xfrm>
            <a:off x="4284720" y="3933720"/>
            <a:ext cx="4392720" cy="2382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  <p:sndAc>
      <p:stSnd>
        <p:snd r:embed="rId3" name="ppt1%20%D0%92%D0%BE%D1%81%D1%81%D1%82%D0%B0%D0%BD%D0%BE%D0%B2%D0%BB%D0%B5%D0%BD%D0%BD%D1%8B%D0%B9%20%D1%84%D0%B0%D0%B9258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поминание о координатах можно увидеть в стихотворении К.Симонова «Сын артиллериста», где говорится о молодом воспитаннике пожилого майора – Леньке, который корректировал по радио огонь артиллерийской батаре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«Третий сигнал по радио: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Немцы вокруг меня,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Бейте четыре – десять,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Не жалейте огня!»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Майор побледнел, услышав,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Четыре – десять - как раз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То место, где его Ленька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Должен сидеть сейчас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 advTm="36000">
    <p:wipe dir="r"/>
    <p:sndAc>
      <p:stSnd>
        <p:snd r:embed="rId2" name="ppt1%20%D0%92%D0%BE%D1%81%D1%81%D1%82%D0%B0%D0%BD%D0%BE%D0%B2%D0%BB%D0%B5%D0%BD%D0%BD%D1%8B%D0%B9%20%D1%84%D0%B0%D0%B9258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05:14:27Z</dcterms:created>
  <dc:creator>Администратор</dc:creator>
  <dc:description/>
  <dc:language>en-US</dc:language>
  <cp:lastModifiedBy>User</cp:lastModifiedBy>
  <dcterms:modified xsi:type="dcterms:W3CDTF">2014-04-15T11:27:49Z</dcterms:modified>
  <cp:revision>36</cp:revision>
  <dc:subject/>
  <dc:title>Слайд 1</dc:title>
</cp:coreProperties>
</file>