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011A-2ADE-46D9-A1EA-1CA13CC8FB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8409-7621-44AD-BC59-38298C91869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DF2-18C8-48BB-94E2-964D2165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E5C-BD40-4203-B523-D5A9F76D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95282-F801-47C2-A23B-DE33C6DF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DAA00-EC9C-41A2-BD2A-74D5093F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FFC7B-BD2C-4E27-9E4F-0E0AEF73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C5FE5-F487-4DAA-8707-CE524F12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87087-2BF8-4347-BE60-F8AFDCE0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36925-9EDC-4FA5-B263-E2AFE2B4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80BF9-8C52-4D95-B8D4-24A43C82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13D3B-272E-420B-9D97-4E976E12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BF913-AF27-4566-B8DC-2269E92F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B1FDF-7D5F-4B19-BF4C-26B357B3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EA1-6EED-4DD0-A102-17E8BC18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CF2AF-1979-41DE-A3C3-2B766950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BA44F-F402-446F-B45D-43FF3B5A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94AA4-67FE-4586-911F-CBC00B61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A0F11-6F7C-441F-BE0C-54D5B7E6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CB30E-C0C0-4C58-8117-04A3DCC1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C8AB1-B1F0-4D4F-869A-C830122F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3893C-05F3-4CAC-9765-9CC108AC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67B67-1EE3-465B-A6AA-F667C628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3B932-378B-4495-91F2-0D5F9A61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1B523-D8F1-485F-B751-6CB66773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00D-315E-449C-B22D-0027F241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DC5FE-5CBC-4694-BE77-3750952B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0949E-6B8F-4D8E-9489-0A506D41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FCAA2-5DE4-4FE2-908D-2CDFDC98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93905-8F9F-4074-A3F2-D3CC62AF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1DF4B-64B1-496A-99AA-05F75732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08AD0-59D3-497C-A26B-1262D603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C8A78-D4C4-49AF-9EFA-A37DB502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E017D-0D74-4FF3-A67B-032758C4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099B8-763A-4901-92AC-669ECC22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AD509-9C45-4B66-AD35-91BE9B61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0CB91-144D-46A8-8309-1F0877EA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2D3FB-682D-4947-B3EA-88086063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DFE96-0002-401D-9953-E8F5A72B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513B4-23B4-4738-94D3-D9931E5E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33BC0-19CA-42C2-BCC9-F7AEB06E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F14B7-3134-4F9A-ACB7-F991F46E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927AF-F105-4894-9949-7F40CCDE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563BE-0CFA-4B80-8FB3-8CB3A9AE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6D075-571E-491E-8C9B-D9FCC97D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32A56-85F2-45F0-8919-FA95EB94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512D9-2E31-428E-AE6F-AE2C3704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12779-B258-49B9-BA6F-0B906E59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32611-24E4-4F88-94EA-9344BC5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334FB-D874-4414-8BE3-F0CFEB7C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5DBBB-5358-439D-A331-37436C8B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A0977-C4CC-4A26-9397-8FB9C1A1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A0701-3317-4EB5-A78A-BA8B2D27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9FB1A-3714-482C-8211-8479CA4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799FF-BBA3-447F-B1AF-BCFEA5FC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3FAD2-9C40-48BD-B563-D4FC536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CA724-3B92-4728-AFFD-8373650F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40F08-A6BF-48E6-B34B-6AC68F6D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429-B121-48C3-8FB8-BBA98A67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3E08E-EE6E-4F7A-A3A2-0FBA633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C6FA4-88A2-40C9-8EF7-276DB16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E0516-D040-4E2D-9807-9C1CE3F7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ACEAA-222C-44D0-92B6-2B138524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EBAC6-84E4-4128-BC2F-D466415B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9ADC-5729-47AA-B36B-5E0DE806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6F4A-7138-4BA9-9DA9-63C8CC74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5219-9CC7-4241-B784-107AC2C6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0648A-8437-49E2-8A12-7DFF2A0C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BD7C-A241-45F7-9A99-847DDEAA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2A6-47A3-4498-A1B4-512A1AE5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885A-1A5F-4633-9302-7360479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5BA8-29A3-46C5-B0CE-3DCFDF77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CFF4-7EBC-4709-99D4-8C72E059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837B-6B1A-4CF7-B472-C735D02A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FDEE-6192-4CFD-B855-3D65AB5E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18C97-5A8E-4771-ABB9-8629ED20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2E63-3780-45EC-9FB5-4C7DD32A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A5CD-D1E5-4085-94D0-74CFABEA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6152C-4F7C-4694-AE06-01F1BA0D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F2F0-5040-4DA2-A75C-EADB78E6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837-D18B-47B2-BD3A-1F46BD9E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FF374-9C5A-4FE9-AFCA-5BFD21ED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B561-560A-44E1-855C-A78BE54F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4EA9-E533-48A2-B021-C927F273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8E0F7-3D0D-42D6-892B-3214E96C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18B6-474A-49D1-BDC5-9FBBB002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9EF2-D5F1-42FB-ACE2-F7D82223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45A5-181C-485C-BEEB-DB6435A9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D169A-29A1-436F-86D0-5C24F871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E1E1-7833-43ED-8E83-FA685608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1D00E-1D12-4A3F-BBCC-33C0B29E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E83-A338-44E2-A47B-3AAEA9B3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6488A-AAF9-4497-A160-812D0397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2D543-EDC3-421F-8FA9-3EF104A2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E686B-ADCC-4F41-93E5-38CC821B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932C5-5226-470F-AA27-02E7C783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299EB-A2A4-4580-B0F6-CBBE61C1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41FCF-A8D2-4F7A-B45E-C7B98E7F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45CF-17D7-4F98-AE9B-7E1C722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7B0AA-2555-43C7-8A50-F89FD02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797A-C905-4C0D-AF6C-DD6AD6ED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826BD-FA04-4F20-A9FB-51DD46CB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185-DC05-41A3-AAEC-9AEEB8F8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5F2A-D36F-4297-BB3A-E25A111C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0C919-79D0-4151-927E-3CB48665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216CF-10E9-402B-909C-1C866670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D6197-507D-40D8-A086-96369534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DD7D7-23D3-45F7-984E-1EAF052B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EF8E1-B18F-4FD9-B0D1-7A9E8AB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F8861-6BCF-4179-807E-36233C40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0E59-2037-4EB9-AB1E-568C3D27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0B3BC-B9E5-4828-80F9-5DD81B0C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85884-8D88-4521-BF45-775FE3D2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333-79A0-48A9-840B-3397B286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867F0-99DE-486F-A501-42B09E2C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F0D44-B347-4ADA-968C-16E44CC2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2FFD-51CE-4EE5-A5B5-AD59F53C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0E416-233C-4D31-A0A4-D1348905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A35AB-BC9A-472C-AA1D-C178F228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60920-8517-48E1-9622-A8296968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D7376-E25A-4F06-890B-41802FD5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242B8-9829-4843-B3F9-8C8117E7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B2014-2568-4F78-8C03-BBD010F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383DA-14A7-4B4D-9C15-06D5EF3E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3C0-CECA-494F-9DFC-1F66B154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F6366-4150-41EE-B0C3-D50AF47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CEE5B-2E36-4959-B0A0-FA6C7C8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82782-DC1E-4B7F-A710-05C8EB4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37594-4E49-4737-9272-A4FAC7D3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DC23D-910E-4E20-AE83-9B414B95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41A4F-477B-46F5-9A6D-25631444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C4483-2DDF-4B70-BE92-4138D899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D4432-20D8-487D-A12B-30CADCC0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D4C32-5899-4C3A-9B07-9705CF14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48356-7A9F-4222-937F-C1F48AE5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41E-0F04-4681-B8A3-55930BA4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21645-2CF2-4900-BA9B-4EB7DC66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2852D-AA73-4F75-BCBC-E92EAF8C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8D8FE-9E2C-462C-ACEA-025293D6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09040-BB52-485C-8CA7-8D4605ED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B3428-7A5E-4E54-9D1D-B2FF6B33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D4FC-13DD-432F-875E-75CD5464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87C9B-0C61-4F99-B0C6-008168C5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116EE-B91F-4273-B1D0-70A02B88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B9D03-E716-44AF-B5B1-2C884484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6894A-8704-4A94-8036-11598497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D31F-0FA9-41DA-A216-B7ED68D94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CC18-4856-44A9-A9C5-80455EC1DC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F8FF-D9F9-4128-8FB8-C8DB9744C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E5C8-8E16-4BA2-A5CB-77C675FB26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AECE-0AE3-4D18-82AA-64DDB4C78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40E1-53B4-41F2-B7BC-08A3580E8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DD78-035A-471F-ACB0-080F16B25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E231-0481-47F4-8ECF-666C76CB6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6EBA-4824-4D41-982A-E1B8AE4EC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F72F-9F24-4087-A537-88A7E6715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694B-664A-4188-B0DA-B25D1FA82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FFD5-E3A0-4CFC-BBD2-ECF761285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1327320" y="1821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2500200" y="1857240"/>
            <a:ext cx="4000680" cy="25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1349640" y="3059640"/>
            <a:ext cx="35074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285840" y="420840"/>
            <a:ext cx="857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«СОШ» п. Подтыб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5195880" y="449892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4151160" y="4325760"/>
            <a:ext cx="45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no Pro Smbd Subhead"/>
              </a:rPr>
              <a:t>Школьный этап игры «Эрудит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no Pro Smbd Subhead"/>
              </a:rPr>
              <a:t>«Край родной, навек любимый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 какой части света мы находимся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5" name="Picture 2" descr="D:\Баваева Татьяна Александровна\эрудит\11112.jpeg"/>
          <p:cNvPicPr/>
          <p:nvPr/>
        </p:nvPicPr>
        <p:blipFill>
          <a:blip r:embed="rId1"/>
          <a:stretch/>
        </p:blipFill>
        <p:spPr>
          <a:xfrm>
            <a:off x="4427640" y="3284640"/>
            <a:ext cx="34797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колько нас проживает на территории Республики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7" name="Picture 2" descr="D:\Баваева Татьяна Александровна\фото.День учит. Что\100SSCAM\SDC14283.JPG"/>
          <p:cNvPicPr/>
          <p:nvPr/>
        </p:nvPicPr>
        <p:blipFill>
          <a:blip r:embed="rId1"/>
          <a:stretch/>
        </p:blipFill>
        <p:spPr>
          <a:xfrm>
            <a:off x="4884840" y="3141720"/>
            <a:ext cx="393516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еспублика н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…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.   параллеля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 скольких параллелях расположена наша республика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 ту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 Знакомые всем лица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питан выставляет коэффициент (1-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равильный ответ баллы увеличиваются во столько раз, во сколько вы оценили вопр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 № 2, оценили на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х 3=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ответ дан неправильно – выбывают участники команды (- 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D:\Баваева Татьяна Александровна\эрудит\22.jpeg"/>
          <p:cNvPicPr/>
          <p:nvPr/>
        </p:nvPicPr>
        <p:blipFill>
          <a:blip r:embed="rId1"/>
          <a:stretch/>
        </p:blipFill>
        <p:spPr>
          <a:xfrm>
            <a:off x="1692360" y="692280"/>
            <a:ext cx="3098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D:\Баваева Татьяна Александровна\эрудит\44.jpeg"/>
          <p:cNvPicPr/>
          <p:nvPr/>
        </p:nvPicPr>
        <p:blipFill>
          <a:blip r:embed="rId1"/>
          <a:stretch/>
        </p:blipFill>
        <p:spPr>
          <a:xfrm>
            <a:off x="2268360" y="1268280"/>
            <a:ext cx="4154760" cy="287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D:\Баваева Татьяна Александровна\эрудит\888.jpeg"/>
          <p:cNvPicPr/>
          <p:nvPr/>
        </p:nvPicPr>
        <p:blipFill>
          <a:blip r:embed="rId1"/>
          <a:stretch/>
        </p:blipFill>
        <p:spPr>
          <a:xfrm>
            <a:off x="1116000" y="404640"/>
            <a:ext cx="3044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D:\Баваева Татьяна Александровна\эрудит\44444.jpeg"/>
          <p:cNvPicPr/>
          <p:nvPr/>
        </p:nvPicPr>
        <p:blipFill>
          <a:blip r:embed="rId1"/>
          <a:stretch/>
        </p:blipFill>
        <p:spPr>
          <a:xfrm>
            <a:off x="3857760" y="981000"/>
            <a:ext cx="3886200" cy="3652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D:\Баваева Татьяна Александровна\эрудит\ff2e77f222b7.jpg"/>
          <p:cNvPicPr/>
          <p:nvPr/>
        </p:nvPicPr>
        <p:blipFill>
          <a:blip r:embed="rId1"/>
          <a:stretch/>
        </p:blipFill>
        <p:spPr>
          <a:xfrm>
            <a:off x="755640" y="404640"/>
            <a:ext cx="3384720" cy="5018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 тур  «Размин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вопро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каждого вопроса команда в течении 30 секунд даёт ответ письм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каждый правильный ответ 1 бал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D:\Баваева Татьяна Александровна\эрудит\55.jpeg"/>
          <p:cNvPicPr/>
          <p:nvPr/>
        </p:nvPicPr>
        <p:blipFill>
          <a:blip r:embed="rId1"/>
          <a:stretch/>
        </p:blipFill>
        <p:spPr>
          <a:xfrm>
            <a:off x="4067280" y="333360"/>
            <a:ext cx="388944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Баваева Татьяна Александровна\эрудит\Чисталев Вениамин Тимофеевич.jpg"/>
          <p:cNvPicPr/>
          <p:nvPr/>
        </p:nvPicPr>
        <p:blipFill>
          <a:blip r:embed="rId1"/>
          <a:stretch/>
        </p:blipFill>
        <p:spPr>
          <a:xfrm>
            <a:off x="826920" y="333360"/>
            <a:ext cx="4032360" cy="537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D:\Баваева Татьяна Александровна\эрудит\president_02.jpg"/>
          <p:cNvPicPr/>
          <p:nvPr/>
        </p:nvPicPr>
        <p:blipFill>
          <a:blip r:embed="rId1"/>
          <a:stretch/>
        </p:blipFill>
        <p:spPr>
          <a:xfrm>
            <a:off x="755640" y="404640"/>
            <a:ext cx="360684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D:\Баваева Татьяна Александровна\эрудит\foto-ctefan.jpg"/>
          <p:cNvPicPr/>
          <p:nvPr/>
        </p:nvPicPr>
        <p:blipFill>
          <a:blip r:embed="rId1"/>
          <a:stretch/>
        </p:blipFill>
        <p:spPr>
          <a:xfrm>
            <a:off x="611280" y="404640"/>
            <a:ext cx="4321080" cy="5856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D:\Баваева Татьяна Александровна\эрудит\file2557.jpg"/>
          <p:cNvPicPr/>
          <p:nvPr/>
        </p:nvPicPr>
        <p:blipFill>
          <a:blip r:embed="rId1"/>
          <a:stretch/>
        </p:blipFill>
        <p:spPr>
          <a:xfrm>
            <a:off x="1619280" y="981000"/>
            <a:ext cx="59659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3 тур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«Культура, традиции народа коми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то изображён в центре государственного герба Р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2" descr="D:\Баваева Татьяна Александровна\эрудит\6.jpeg"/>
          <p:cNvPicPr/>
          <p:nvPr/>
        </p:nvPicPr>
        <p:blipFill>
          <a:blip r:embed="rId1"/>
          <a:stretch/>
        </p:blipFill>
        <p:spPr>
          <a:xfrm>
            <a:off x="3924360" y="3141720"/>
            <a:ext cx="2485800" cy="2890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Женщина-литератор, перевод Гоголя, Островского на коми язык, писала пьесы для дете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7" name="Picture 2" descr="D:\Баваева Татьяна Александровна\эрудит\54257418_Suhanova_.jpg"/>
          <p:cNvPicPr/>
          <p:nvPr/>
        </p:nvPicPr>
        <p:blipFill>
          <a:blip r:embed="rId1"/>
          <a:stretch/>
        </p:blipFill>
        <p:spPr>
          <a:xfrm>
            <a:off x="5435640" y="213372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вый коми балет «Яг Морт»,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зовите авт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9" name="Picture 2" descr="D:\Баваева Татьяна Александровна\эрудит\img_theater.jpeg"/>
          <p:cNvPicPr/>
          <p:nvPr/>
        </p:nvPicPr>
        <p:blipFill>
          <a:blip r:embed="rId1"/>
          <a:stretch/>
        </p:blipFill>
        <p:spPr>
          <a:xfrm>
            <a:off x="5435640" y="2133720"/>
            <a:ext cx="290196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трумент , изготовлен из тростника или коры деревьев , на нём играют только женщ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1" name="Picture 2" descr="D:\Баваева Татьяна Александровна\эрудит\chipsan49.jpg"/>
          <p:cNvPicPr/>
          <p:nvPr/>
        </p:nvPicPr>
        <p:blipFill>
          <a:blip r:embed="rId1"/>
          <a:stretch/>
        </p:blipFill>
        <p:spPr>
          <a:xfrm>
            <a:off x="3059280" y="2448000"/>
            <a:ext cx="5233680" cy="336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олько лет отметила Республика Коми с момента своего образования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0" name="Picture 2" descr="D:\Баваева Татьяна Александровна\эрудит\0_31ecd_7ba7441_XL.jpeg"/>
          <p:cNvPicPr/>
          <p:nvPr/>
        </p:nvPicPr>
        <p:blipFill>
          <a:blip r:embed="rId1"/>
          <a:stretch/>
        </p:blipFill>
        <p:spPr>
          <a:xfrm>
            <a:off x="1763640" y="2637000"/>
            <a:ext cx="5249880" cy="3936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Своя пора на каждой широ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тот, кто в Коми был, тот зн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гда пурга бушует в Воркуте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Инте – весна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 в Летке – просто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е строчку стихотво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наменитый  танцевальный ансамбль, создан в 1939 году, известен своими зарубежными гастрол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4" name="Picture 2" descr="D:\Баваева Татьяна Александровна\эрудит\3255.jpg"/>
          <p:cNvPicPr/>
          <p:nvPr/>
        </p:nvPicPr>
        <p:blipFill>
          <a:blip r:embed="rId1"/>
          <a:stretch/>
        </p:blipFill>
        <p:spPr>
          <a:xfrm>
            <a:off x="4005360" y="2781360"/>
            <a:ext cx="4568760" cy="303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 называют пион в Республике Ко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2" descr="D:\Баваева Татьяна Александровна\эрудит\Paeoniaanomala.jpg"/>
          <p:cNvPicPr/>
          <p:nvPr/>
        </p:nvPicPr>
        <p:blipFill>
          <a:blip r:embed="rId1"/>
          <a:stretch/>
        </p:blipFill>
        <p:spPr>
          <a:xfrm>
            <a:off x="4140360" y="2421000"/>
            <a:ext cx="4535280" cy="323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уда эти стро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Север наш родимый край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Глубоки твои снега,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Холодны твои ветра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вый широкомасштабный кинотеатр в г.Сыктывкар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9" name="Picture 2" descr="D:\Баваева Татьяна Александровна\эрудит\666.jpeg"/>
          <p:cNvPicPr/>
          <p:nvPr/>
        </p:nvPicPr>
        <p:blipFill>
          <a:blip r:embed="rId1"/>
          <a:stretch/>
        </p:blipFill>
        <p:spPr>
          <a:xfrm>
            <a:off x="4140360" y="2133720"/>
            <a:ext cx="3738240" cy="3738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ой природный объект стал национальным достоянием республики и вошёл в число 7 чудес света Росс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1" name="Picture 2" descr="D:\Баваева Татьяна Александровна\эрудит\i.jpeg"/>
          <p:cNvPicPr/>
          <p:nvPr/>
        </p:nvPicPr>
        <p:blipFill>
          <a:blip r:embed="rId1"/>
          <a:stretch/>
        </p:blipFill>
        <p:spPr>
          <a:xfrm>
            <a:off x="4284720" y="3429000"/>
            <a:ext cx="397836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4 тур «Ты-мне, я – теб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дресуем вопрос команде-соперни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правильный ответ оценивается в 1 бал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каком царе коми край присоединился к Русскому государству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Picture 4" descr="D:\Баваева Татьяна Александровна\эрудит\5.jpeg"/>
          <p:cNvPicPr/>
          <p:nvPr/>
        </p:nvPicPr>
        <p:blipFill>
          <a:blip r:embed="rId1"/>
          <a:stretch/>
        </p:blipFill>
        <p:spPr>
          <a:xfrm>
            <a:off x="4284720" y="2205000"/>
            <a:ext cx="316224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аком месторождении добывается тяжёлая нефть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7" name="Picture 4" descr="D:\Баваева Татьяна Александровна\эрудит\10.jpeg"/>
          <p:cNvPicPr/>
          <p:nvPr/>
        </p:nvPicPr>
        <p:blipFill>
          <a:blip r:embed="rId1"/>
          <a:stretch/>
        </p:blipFill>
        <p:spPr>
          <a:xfrm>
            <a:off x="3924360" y="2133720"/>
            <a:ext cx="3944880" cy="291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раница между двумя частями света, Печорские Альпы. О чём идёт реч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9" name="Picture 4" descr="D:\Баваева Татьяна Александровна\эрудит\11.jpeg"/>
          <p:cNvPicPr/>
          <p:nvPr/>
        </p:nvPicPr>
        <p:blipFill>
          <a:blip r:embed="rId1"/>
          <a:stretch/>
        </p:blipFill>
        <p:spPr>
          <a:xfrm>
            <a:off x="4356000" y="2276640"/>
            <a:ext cx="3694320" cy="334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день рождения республики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 августа 1921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3" name="Picture 4" descr="D:\Баваева Татьяна Александровна\эрудит\3.jpeg"/>
          <p:cNvPicPr/>
          <p:nvPr/>
        </p:nvPicPr>
        <p:blipFill>
          <a:blip r:embed="rId1"/>
          <a:stretch/>
        </p:blipFill>
        <p:spPr>
          <a:xfrm>
            <a:off x="5867280" y="2781360"/>
            <a:ext cx="261936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зовите самую высокую точку Республики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1" name="Picture 4" descr="D:\Баваева Татьяна Александровна\эрудит\13.jpeg"/>
          <p:cNvPicPr/>
          <p:nvPr/>
        </p:nvPicPr>
        <p:blipFill>
          <a:blip r:embed="rId1"/>
          <a:stretch/>
        </p:blipFill>
        <p:spPr>
          <a:xfrm>
            <a:off x="5148360" y="2349360"/>
            <a:ext cx="3289320" cy="4251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2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9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жнее название «Слобода», был рабочим посёлком. 92 дня просуществовал как гор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каком населённом пункте идёт речь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3" name="Picture 2" descr="D:\Баваева Татьяна Александровна\эрудит\7.jpeg"/>
          <p:cNvPicPr/>
          <p:nvPr/>
        </p:nvPicPr>
        <p:blipFill>
          <a:blip r:embed="rId1"/>
          <a:stretch/>
        </p:blipFill>
        <p:spPr>
          <a:xfrm>
            <a:off x="4211640" y="3068640"/>
            <a:ext cx="366084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ой зверь изображён на гербе Сыктывкара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2" descr="D:\Баваева Татьяна Александровна\эрудит\1.jpeg"/>
          <p:cNvPicPr/>
          <p:nvPr/>
        </p:nvPicPr>
        <p:blipFill>
          <a:blip r:embed="rId1"/>
          <a:stretch/>
        </p:blipFill>
        <p:spPr>
          <a:xfrm>
            <a:off x="4500720" y="2060640"/>
            <a:ext cx="2501640" cy="367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зовите первый ВУЗ республики Коми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4" descr="D:\Баваева Татьяна Александровна\эрудит\SG1L2563.jpg"/>
          <p:cNvPicPr/>
          <p:nvPr/>
        </p:nvPicPr>
        <p:blipFill>
          <a:blip r:embed="rId1"/>
          <a:stretch/>
        </p:blipFill>
        <p:spPr>
          <a:xfrm>
            <a:off x="3564000" y="2349360"/>
            <a:ext cx="4656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8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служенный учитель Республики. Его имя носит интернат (дом-школа) в г.Сыктывкаре, в честь него проводятся педагогические чт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D:\Баваева Татьяна Александровна\эрудит\small129_4331_2HQxk_DSC02196.jpg"/>
          <p:cNvPicPr/>
          <p:nvPr/>
        </p:nvPicPr>
        <p:blipFill>
          <a:blip r:embed="rId1"/>
          <a:stretch/>
        </p:blipFill>
        <p:spPr>
          <a:xfrm>
            <a:off x="5364000" y="2637000"/>
            <a:ext cx="277524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зверёк живёт на территории  Печоро-Илычского заповедника, помесь лесной куницы и собо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4" descr="D:\Баваева Татьяна Александровна\эрудит\KyHuLLa.jpg"/>
          <p:cNvPicPr/>
          <p:nvPr/>
        </p:nvPicPr>
        <p:blipFill>
          <a:blip r:embed="rId1"/>
          <a:stretch/>
        </p:blipFill>
        <p:spPr>
          <a:xfrm>
            <a:off x="5796000" y="22050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 звали архангельского купца, котрый организовал добычу нефти на реке Ухта и получал 16 пудов керосина в год. Его имя было известно Петру Великому, именно от него поступили первые сведения о месторождении нефти на коми земл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кторина для зр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реку Корткеросского района, которая не замерзает даже зим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имя человека, который первым предложил идею создания суверенной Коми республ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 1920 года по 1959 население Коми возросло в 7 раз. Какой фактор сыграл в этом «демографическом взрыве» главную рол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Пайер, Тельпоз из, Сабля, Наро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Что вам перечислили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 первоначально назывался статус нашей республики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писан декрет «Об образовании  автономной области Коми (зырян)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исан  председателем ВЦИК М. Калини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Какая природная зона занимает 90 % нашей территории 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0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 всем участникам и болельщикам игр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2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айте старое название города Сыктывка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ь-Сысольс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6" name="Picture 3" descr="D:\Баваева Татьяна Александровна\эрудит\syktyvkar_pokrovska_ordzenikidze.jpg"/>
          <p:cNvPicPr/>
          <p:nvPr/>
        </p:nvPicPr>
        <p:blipFill>
          <a:blip r:embed="rId1"/>
          <a:stretch/>
        </p:blipFill>
        <p:spPr>
          <a:xfrm>
            <a:off x="3924360" y="2678040"/>
            <a:ext cx="4738680" cy="317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ая императрица присовила статус города Усть -Сысольску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8" name="Picture 2" descr="D:\Баваева Татьяна Александровна\эрудит\i.jpeg"/>
          <p:cNvPicPr/>
          <p:nvPr/>
        </p:nvPicPr>
        <p:blipFill>
          <a:blip r:embed="rId1"/>
          <a:stretch/>
        </p:blipFill>
        <p:spPr>
          <a:xfrm>
            <a:off x="1187280" y="3860640"/>
            <a:ext cx="1447920" cy="1905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а Втор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последовательность цветов на флаге Республики Ко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1" name="Picture 4" descr="D:\Баваева Татьяна Александровна\эрудит\222.jpeg"/>
          <p:cNvPicPr/>
          <p:nvPr/>
        </p:nvPicPr>
        <p:blipFill>
          <a:blip r:embed="rId1"/>
          <a:stretch/>
        </p:blipFill>
        <p:spPr>
          <a:xfrm>
            <a:off x="5562720" y="4508640"/>
            <a:ext cx="319716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хотя бы одну сопредельную территорию Р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Picture 4" descr="D:\Баваева Татьяна Александровна\эрудит\133.jpeg"/>
          <p:cNvPicPr/>
          <p:nvPr/>
        </p:nvPicPr>
        <p:blipFill>
          <a:blip r:embed="rId1"/>
          <a:stretch/>
        </p:blipFill>
        <p:spPr>
          <a:xfrm>
            <a:off x="4932360" y="3543480"/>
            <a:ext cx="3398760" cy="254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1:13:53Z</dcterms:created>
  <dc:creator>Александра</dc:creator>
  <dc:description/>
  <dc:language>en-US</dc:language>
  <cp:lastModifiedBy>МОУ "СОШ" п. Подтыбок</cp:lastModifiedBy>
  <dcterms:modified xsi:type="dcterms:W3CDTF">2011-10-28T05:20:17Z</dcterms:modified>
  <cp:revision>47</cp:revision>
  <dc:subject/>
  <dc:title>Слайд 1</dc:title>
</cp:coreProperties>
</file>