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31AA-E607-488A-B3D2-61A541127C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5132-30FA-49F2-88B6-F2E4EE70B4E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03D0-F0C3-45CA-B877-24D46A67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F61A-C8A8-4716-9BBE-B9299038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10D04E-6238-4C0E-A73E-B27315DD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522420-EF55-4CE0-93F2-A4573D6E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28FBAD-70DB-4B41-B272-CBFF0F77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F8003-FA13-4B6B-B72F-6ACD3CCB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371D8-5291-41C4-8A3E-866ED026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4394F7-79B6-4105-A8C4-9F594D92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0C89F-DF70-492C-96A8-D58ED2D7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68035-7DC5-4F7E-83AB-F939F8616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06830-9B96-48FF-893D-1267EBC52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152491-EE71-46CE-98FA-5E4ECA2BF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43F9-D391-444A-9F14-2E4796D62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FD9694-1931-42F3-BD86-BDE48A91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EC2D9B-9081-4D65-B92D-D4E60588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85CF1-3693-417C-AF52-CB84EA5D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E285A1-7886-4574-AFA2-5C4CBAA9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A0F6F-073F-4FD7-8219-AD0AF7EE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A5112B-0827-4E93-ABD9-C1A71074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B07FC-F661-410A-B50C-349DE9F7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055071-ADF9-479A-BB1B-75262284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5C862-7088-4571-B885-118C2766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8A62E0-A955-4922-BA22-B6A1F12E1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0550-63BA-45E4-9D97-AECB2FA1A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FEE5E8-E875-417A-8C86-7EF4B4C35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30162-32A3-435B-B711-FC29570C9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8C01D-1F1A-4262-908D-927D02D9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AF092-97F0-432D-BEA1-C810FC0D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C06BD-09FB-416D-A7D5-FD4021DA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83ABE-2D97-4D01-93BC-E91D6321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31CA0-DF7F-4F9C-93F2-BD3A3C16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FAEB6-18C0-455C-8B1E-95029F36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1DE6B-A3CF-4AA1-A43F-44F37F6D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487D7-080C-4D43-AED0-6C16A2CC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5ADD4-102B-4CE2-9909-0DC2AA0D5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65577-672D-4F2C-A54A-8FD5EA7E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FFF01-FABB-40ED-825B-06B456FA3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7984F-E5FF-4092-B9B6-705E66707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A12E1A-223E-46E9-A37C-AB485CA16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E43168-EE4F-4A34-A02E-B9D7E575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20DA3F-9340-4CB4-9071-22E870C6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09749F-8D3D-483E-9F38-07B198B0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4B5FC3-B979-42BE-916D-D0C6CE67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591570-D073-4402-81CD-F92688D2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21FF41-5B3D-4D49-A5EC-3022D46E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88C74-B5F3-4B4B-9C7F-4AF2EEEE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E84B05-DC7D-4A7A-9221-627C7547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DFBB87-6CA6-43DE-A865-C74096C8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B7D4D5-6827-451F-A7A5-9E07B2B1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B3125E-7319-45FF-ABFF-36F696B6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9D7AF9-D98E-4C40-9C3A-C65D562DD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3FBD1-4332-4CC6-95F4-9C695E2D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2B5F7-B5AF-4499-BE80-AE3155A8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C541B-A252-4B81-8D9E-83183FF8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552F6-8A34-4471-8688-2BF0CE59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9CF41-8D87-4349-B5D8-D7C7D9BB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B902-B3FF-4589-BF8A-ECEAFFC5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F42EB-7483-4AF8-B35A-243CEE20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525C2-2FBE-443F-B0B5-FB6FD03E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4E634-C08A-422E-B2D9-650A9B8B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3687C-83ED-484C-98A0-2D480C4CE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43D1A-2464-471C-A8C0-A0188A70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86D45-C6B0-4714-84C5-1A49C6D6D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60828-4116-4D96-BAC6-09C7C7C7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05B4E-CC9C-4187-A6A4-DB8A8C8A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82956-A6EB-41C5-B963-2DF95AE8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BD671-D29C-46EA-AEF0-69D7091D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D646-6704-4937-B704-0005EDDD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F2438-D1D2-40D8-8917-6680146B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195C0-07A0-4F29-AC8F-3B0B950A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3ED59-8C95-4B19-A71A-39CE97E3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597F6-1F2D-4EDC-9E75-B92BD8FE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5A48F-96BB-4BCB-9BC5-DE6E2571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7ED0C-D70E-4BCC-8196-98910F819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795F5-82F4-46DF-8EDE-AA4D49C3A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DD5DB-6449-45E0-A493-99DB3997B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3E000-1657-4ECA-90D0-509F3FF6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C72E2-4505-4C9A-A754-7B9B2C57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6ECF-7046-47A2-B460-EFAA85A5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E998F-CF31-4343-8BE3-CFA32332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937C7-C64E-4AF4-98E0-D9BE24FA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BA5F4-D1D1-43AC-A33A-E58E95D0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3F524-8606-4C5E-94BB-9BD4BDD9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E204A-E5DC-4F7E-8D1D-567CCC08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713D0-CC6E-40A1-9E41-F977500D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E6FDE-7891-4238-B263-C17DF0DC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440EB-8D1F-4159-9996-14D500ED9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49035-AE80-4462-8F91-BE533DCDA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A341C-69F0-412C-A9C9-90DD08D5E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1679-7527-43BF-A31F-35554530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D35C9-137C-4795-AA99-8A04B7E8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4E00D-0EB2-4814-BE7F-D946439B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426E4-84DA-4BA5-BC2C-8B11A7A4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670B7-6302-4888-9521-3BEA2844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CD4B2-9139-4ACA-90A6-12B23517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07588-607C-4BBF-9D50-53126C70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23186-7093-4C9F-8EDE-3C39052E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BF46E-B7A6-477A-859C-E486EEAB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91F31-422C-46AB-9B34-7BF76D2B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21082-43A4-4D35-8252-340D9A1D0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4507-F5CE-43BA-8629-C1CFFEC8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CAE6A-99F4-4A00-8BB8-B11CC565E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5734B-C6D4-4A7F-993E-29498EC4A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436E7-ECE2-48CF-8B2C-F5CE79DE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B3474-4989-4729-8869-85C8A42D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0F6D7-25FB-48E7-A32B-F12621E7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C6208-C229-4D58-B00B-BA655DEC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6130E-8990-410D-8537-EBA5F1C6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830C5-A150-4012-B940-7419F9D4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E081F-2DAE-47BA-B66D-C7C8DB1B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5B9E5-CC06-4960-BCC4-A9AA61C4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AB00-9646-4318-91E8-0D570355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3DEB0-2787-4D98-8068-EC092C7A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52803-8859-4F30-97E7-019C4EB16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7210A-6E04-4F93-9427-C547792A4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3CFA8-34C5-473F-A1DD-0C1FA95DE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3D405-D3A6-4E2E-BDCE-57CC3A41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A6904-BAAC-42A0-A964-0F3E32FF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98E75-EB41-4D5A-BA4B-70F079CB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3C545-2E48-4B21-AC57-16670109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FD8EE-7920-4055-A801-99C03796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0C7F9-39B6-4504-9BDE-61E50D22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E750-D484-4951-8109-057C3F08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024FC-7118-4CF9-BCCF-AC2BF556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F19F7-C41D-42E6-953B-7ACE2286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63285-C1A7-43FB-A218-FF1273F1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4159E-D210-4E68-BCF3-BF25FD2A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42E47-175A-450D-BB11-58724A4B6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CE144-63F2-4DAD-A5AF-55F32825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42D29-06E8-4CB8-9250-3C8A3184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376A6-F71B-41DF-9B71-489B3937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449A3-E84E-472A-89F0-B214E614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206A2-FD74-428F-8416-1F1E11D5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E796-9FCD-42AE-9A59-E7F07586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33BDA-4303-4BB9-9A91-A582C602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F3ACC-53CC-4C31-BC35-AFD8E0FA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C08D9-9F18-4FF4-9D0F-45294C06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32180-496E-4B9F-B559-1F4101B0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B2737-E648-46D7-B2EC-F42CC2F0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C7FA9-D94A-4407-8CB2-4CB8B4414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01531-CAB8-4C61-9F7F-3940CDDC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4EDC2-B916-44D7-991B-652B9E8A8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E4BFE1-426F-420E-8763-61028772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1713D-B5D2-4039-8C2B-C8D57A23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C92B-0179-4DED-B8F9-A2E406A4F6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3A7A-6251-4EBD-910F-79BC932E01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4E8A-3A92-40CF-AB4D-1AA4606961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387F-DC00-424A-AF0A-1EEB141F3DE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C64B-F368-4094-9289-F8964F5720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6BEA-CADA-4FC1-8BBC-75C748C27B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22F5-ACA5-4F7C-959B-16347F2421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33EC-AC5B-4AAD-B6E1-EA0B5866E2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D741-9AF1-40C2-8198-49805F5B38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1D78-BC38-4E32-8B55-C0BADE5AA1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000A-AEF8-4A76-954C-20184AC674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7949-F51B-4C64-B865-5CD16FA2D2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5"/>
          <p:cNvSpPr/>
          <p:nvPr/>
        </p:nvSpPr>
        <p:spPr>
          <a:xfrm>
            <a:off x="1327320" y="18216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WordArt 4"/>
          <p:cNvSpPr txBox="1"/>
          <p:nvPr/>
        </p:nvSpPr>
        <p:spPr>
          <a:xfrm>
            <a:off x="2500200" y="1857240"/>
            <a:ext cx="4000680" cy="25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2" name="Rectangle 6"/>
          <p:cNvSpPr/>
          <p:nvPr/>
        </p:nvSpPr>
        <p:spPr>
          <a:xfrm>
            <a:off x="1349640" y="3059640"/>
            <a:ext cx="35074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381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1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1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285840" y="420840"/>
            <a:ext cx="8572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У «СОШ» п. Подтыб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Rectangle 9"/>
          <p:cNvSpPr/>
          <p:nvPr/>
        </p:nvSpPr>
        <p:spPr>
          <a:xfrm>
            <a:off x="5195880" y="4498920"/>
            <a:ext cx="456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Rectangle 10"/>
          <p:cNvSpPr/>
          <p:nvPr/>
        </p:nvSpPr>
        <p:spPr>
          <a:xfrm>
            <a:off x="4151160" y="4325760"/>
            <a:ext cx="456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no Pro Smbd Subhead"/>
              </a:rPr>
              <a:t>Школьный этап игры «Эрудит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no Pro Smbd Subhead"/>
              </a:rPr>
              <a:t>«Край родной, навек любимый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В какой части света мы находимся 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5" name="Picture 2" descr="D:\Баваева Татьяна Александровна\эрудит\11112.jpeg"/>
          <p:cNvPicPr/>
          <p:nvPr/>
        </p:nvPicPr>
        <p:blipFill>
          <a:blip r:embed="rId1"/>
          <a:stretch/>
        </p:blipFill>
        <p:spPr>
          <a:xfrm>
            <a:off x="4427640" y="3284640"/>
            <a:ext cx="3479760" cy="2251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6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Сколько нас проживает на территории Республики 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7" name="Picture 2" descr="D:\Баваева Татьяна Александровна\фото.День учит. Что\100SSCAM\SDC14283.JPG"/>
          <p:cNvPicPr/>
          <p:nvPr/>
        </p:nvPicPr>
        <p:blipFill>
          <a:blip r:embed="rId1"/>
          <a:stretch/>
        </p:blipFill>
        <p:spPr>
          <a:xfrm>
            <a:off x="4884840" y="3141720"/>
            <a:ext cx="3935160" cy="2951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6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еспублика на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…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.   параллелях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На скольких параллелях расположена наша республика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2 ту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628640"/>
            <a:ext cx="82296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« Знакомые всем лица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питан выставляет коэффициент (1-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 правильный ответ баллы увеличиваются во столько раз, во сколько вы оценили вопро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пример: № 2, оценили на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 х 3= 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ответ дан неправильно – выбывают участники команды (- 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D:\Баваева Татьяна Александровна\эрудит\22.jpeg"/>
          <p:cNvPicPr/>
          <p:nvPr/>
        </p:nvPicPr>
        <p:blipFill>
          <a:blip r:embed="rId1"/>
          <a:stretch/>
        </p:blipFill>
        <p:spPr>
          <a:xfrm>
            <a:off x="1692360" y="692280"/>
            <a:ext cx="309888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D:\Баваева Татьяна Александровна\эрудит\44.jpeg"/>
          <p:cNvPicPr/>
          <p:nvPr/>
        </p:nvPicPr>
        <p:blipFill>
          <a:blip r:embed="rId1"/>
          <a:stretch/>
        </p:blipFill>
        <p:spPr>
          <a:xfrm>
            <a:off x="2268360" y="1268280"/>
            <a:ext cx="4154760" cy="2876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" descr="D:\Баваева Татьяна Александровна\эрудит\888.jpeg"/>
          <p:cNvPicPr/>
          <p:nvPr/>
        </p:nvPicPr>
        <p:blipFill>
          <a:blip r:embed="rId1"/>
          <a:stretch/>
        </p:blipFill>
        <p:spPr>
          <a:xfrm>
            <a:off x="1116000" y="404640"/>
            <a:ext cx="304488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2" descr="D:\Баваева Татьяна Александровна\эрудит\44444.jpeg"/>
          <p:cNvPicPr/>
          <p:nvPr/>
        </p:nvPicPr>
        <p:blipFill>
          <a:blip r:embed="rId1"/>
          <a:stretch/>
        </p:blipFill>
        <p:spPr>
          <a:xfrm>
            <a:off x="3857760" y="981000"/>
            <a:ext cx="3886200" cy="3652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D:\Баваева Татьяна Александровна\эрудит\ff2e77f222b7.jpg"/>
          <p:cNvPicPr/>
          <p:nvPr/>
        </p:nvPicPr>
        <p:blipFill>
          <a:blip r:embed="rId1"/>
          <a:stretch/>
        </p:blipFill>
        <p:spPr>
          <a:xfrm>
            <a:off x="755640" y="404640"/>
            <a:ext cx="3384720" cy="5018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1 тур  «Разминка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 вопро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ле каждого вопроса команда в течении 30 секунд даёт ответ письмен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 каждый правильный ответ 1 бал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D:\Баваева Татьяна Александровна\эрудит\55.jpeg"/>
          <p:cNvPicPr/>
          <p:nvPr/>
        </p:nvPicPr>
        <p:blipFill>
          <a:blip r:embed="rId1"/>
          <a:stretch/>
        </p:blipFill>
        <p:spPr>
          <a:xfrm>
            <a:off x="4067280" y="333360"/>
            <a:ext cx="3889440" cy="5554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1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D:\Баваева Татьяна Александровна\эрудит\Чисталев Вениамин Тимофеевич.jpg"/>
          <p:cNvPicPr/>
          <p:nvPr/>
        </p:nvPicPr>
        <p:blipFill>
          <a:blip r:embed="rId1"/>
          <a:stretch/>
        </p:blipFill>
        <p:spPr>
          <a:xfrm>
            <a:off x="826920" y="333360"/>
            <a:ext cx="4032360" cy="5375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3" descr="D:\Баваева Татьяна Александровна\эрудит\president_02.jpg"/>
          <p:cNvPicPr/>
          <p:nvPr/>
        </p:nvPicPr>
        <p:blipFill>
          <a:blip r:embed="rId1"/>
          <a:stretch/>
        </p:blipFill>
        <p:spPr>
          <a:xfrm>
            <a:off x="755640" y="404640"/>
            <a:ext cx="3606840" cy="4896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D:\Баваева Татьяна Александровна\эрудит\foto-ctefan.jpg"/>
          <p:cNvPicPr/>
          <p:nvPr/>
        </p:nvPicPr>
        <p:blipFill>
          <a:blip r:embed="rId1"/>
          <a:stretch/>
        </p:blipFill>
        <p:spPr>
          <a:xfrm>
            <a:off x="611280" y="404640"/>
            <a:ext cx="4321080" cy="5856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4" descr="D:\Баваева Татьяна Александровна\эрудит\file2557.jpg"/>
          <p:cNvPicPr/>
          <p:nvPr/>
        </p:nvPicPr>
        <p:blipFill>
          <a:blip r:embed="rId1"/>
          <a:stretch/>
        </p:blipFill>
        <p:spPr>
          <a:xfrm>
            <a:off x="1619280" y="981000"/>
            <a:ext cx="596592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3 тур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«Культура, традиции народа коми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то изображён в центре государственного герба Р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5" name="Picture 2" descr="D:\Баваева Татьяна Александровна\эрудит\6.jpeg"/>
          <p:cNvPicPr/>
          <p:nvPr/>
        </p:nvPicPr>
        <p:blipFill>
          <a:blip r:embed="rId1"/>
          <a:stretch/>
        </p:blipFill>
        <p:spPr>
          <a:xfrm>
            <a:off x="3924360" y="3141720"/>
            <a:ext cx="2485800" cy="2890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Женщина-литератор, перевод Гоголя, Островского на коми язык, писала пьесы для дете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7" name="Picture 2" descr="D:\Баваева Татьяна Александровна\эрудит\54257418_Suhanova_.jpg"/>
          <p:cNvPicPr/>
          <p:nvPr/>
        </p:nvPicPr>
        <p:blipFill>
          <a:blip r:embed="rId1"/>
          <a:stretch/>
        </p:blipFill>
        <p:spPr>
          <a:xfrm>
            <a:off x="5435640" y="2133720"/>
            <a:ext cx="278460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ервый коми балет «Яг Морт»,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азовите авто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9" name="Picture 2" descr="D:\Баваева Татьяна Александровна\эрудит\img_theater.jpeg"/>
          <p:cNvPicPr/>
          <p:nvPr/>
        </p:nvPicPr>
        <p:blipFill>
          <a:blip r:embed="rId1"/>
          <a:stretch/>
        </p:blipFill>
        <p:spPr>
          <a:xfrm>
            <a:off x="5435640" y="2133720"/>
            <a:ext cx="2901960" cy="3870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струмент , изготовлен из тростника или коры деревьев , на нём играют только женщи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1" name="Picture 2" descr="D:\Баваева Татьяна Александровна\эрудит\chipsan49.jpg"/>
          <p:cNvPicPr/>
          <p:nvPr/>
        </p:nvPicPr>
        <p:blipFill>
          <a:blip r:embed="rId1"/>
          <a:stretch/>
        </p:blipFill>
        <p:spPr>
          <a:xfrm>
            <a:off x="3059280" y="2448000"/>
            <a:ext cx="5233680" cy="3368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колько лет отметила Республика Коми с момента своего образования 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0" name="Picture 2" descr="D:\Баваева Татьяна Александровна\эрудит\0_31ecd_7ba7441_XL.jpeg"/>
          <p:cNvPicPr/>
          <p:nvPr/>
        </p:nvPicPr>
        <p:blipFill>
          <a:blip r:embed="rId1"/>
          <a:stretch/>
        </p:blipFill>
        <p:spPr>
          <a:xfrm>
            <a:off x="1763640" y="2637000"/>
            <a:ext cx="5249880" cy="3936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«Своя пора на каждой широт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 тот, кто в Коми был, тот знае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огда пурга бушует в Воркуте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 Инте – весна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 в Летке – просто…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должите строчку стихотвор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Знаменитый  танцевальный ансамбль, создан в 1939 году, известен своими зарубежными гастролям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4" name="Picture 2" descr="D:\Баваева Татьяна Александровна\эрудит\3255.jpg"/>
          <p:cNvPicPr/>
          <p:nvPr/>
        </p:nvPicPr>
        <p:blipFill>
          <a:blip r:embed="rId1"/>
          <a:stretch/>
        </p:blipFill>
        <p:spPr>
          <a:xfrm>
            <a:off x="4005360" y="2781360"/>
            <a:ext cx="4568760" cy="3033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Как называют пион в Республике Ком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6" name="Picture 2" descr="D:\Баваева Татьяна Александровна\эрудит\Paeoniaanomala.jpg"/>
          <p:cNvPicPr/>
          <p:nvPr/>
        </p:nvPicPr>
        <p:blipFill>
          <a:blip r:embed="rId1"/>
          <a:stretch/>
        </p:blipFill>
        <p:spPr>
          <a:xfrm>
            <a:off x="4140360" y="2421000"/>
            <a:ext cx="4535280" cy="3236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куда эти строк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Север наш родимый край,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Глубоки твои снега,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Холодны твои ветра…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ервый широкомасштабный кинотеатр в г.Сыктывкар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9" name="Picture 2" descr="D:\Баваева Татьяна Александровна\эрудит\666.jpeg"/>
          <p:cNvPicPr/>
          <p:nvPr/>
        </p:nvPicPr>
        <p:blipFill>
          <a:blip r:embed="rId1"/>
          <a:stretch/>
        </p:blipFill>
        <p:spPr>
          <a:xfrm>
            <a:off x="4140360" y="2133720"/>
            <a:ext cx="3738240" cy="3738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акой природный объект стал национальным достоянием республики и вошёл в число 7 чудес света Росс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1" name="Picture 2" descr="D:\Баваева Татьяна Александровна\эрудит\i.jpeg"/>
          <p:cNvPicPr/>
          <p:nvPr/>
        </p:nvPicPr>
        <p:blipFill>
          <a:blip r:embed="rId1"/>
          <a:stretch/>
        </p:blipFill>
        <p:spPr>
          <a:xfrm>
            <a:off x="4284720" y="3429000"/>
            <a:ext cx="3978360" cy="2652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6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4 тур «Ты-мне, я – тебе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дресуем вопрос команде-соперни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ждый правильный ответ оценивается в 1 бал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3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6" dur="5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каком царе коми край присоединился к Русскому государству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5" name="Picture 4" descr="D:\Баваева Татьяна Александровна\эрудит\5.jpeg"/>
          <p:cNvPicPr/>
          <p:nvPr/>
        </p:nvPicPr>
        <p:blipFill>
          <a:blip r:embed="rId1"/>
          <a:stretch/>
        </p:blipFill>
        <p:spPr>
          <a:xfrm>
            <a:off x="4284720" y="2205000"/>
            <a:ext cx="3162240" cy="3514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3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каком месторождении добывается тяжёлая нефть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7" name="Picture 4" descr="D:\Баваева Татьяна Александровна\эрудит\10.jpeg"/>
          <p:cNvPicPr/>
          <p:nvPr/>
        </p:nvPicPr>
        <p:blipFill>
          <a:blip r:embed="rId1"/>
          <a:stretch/>
        </p:blipFill>
        <p:spPr>
          <a:xfrm>
            <a:off x="3924360" y="2133720"/>
            <a:ext cx="3944880" cy="2916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7" dur="2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0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Граница между двумя частями света, Печорские Альпы. О чём идёт речь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9" name="Picture 4" descr="D:\Баваева Татьяна Александровна\эрудит\11.jpeg"/>
          <p:cNvPicPr/>
          <p:nvPr/>
        </p:nvPicPr>
        <p:blipFill>
          <a:blip r:embed="rId1"/>
          <a:stretch/>
        </p:blipFill>
        <p:spPr>
          <a:xfrm>
            <a:off x="4356000" y="2276640"/>
            <a:ext cx="3694320" cy="3349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Назовите день рождения республики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2 августа 1921 г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3" name="Picture 4" descr="D:\Баваева Татьяна Александровна\эрудит\3.jpeg"/>
          <p:cNvPicPr/>
          <p:nvPr/>
        </p:nvPicPr>
        <p:blipFill>
          <a:blip r:embed="rId1"/>
          <a:stretch/>
        </p:blipFill>
        <p:spPr>
          <a:xfrm>
            <a:off x="5867280" y="2781360"/>
            <a:ext cx="2619360" cy="1901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Назовите самую высокую точку Республики 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1" name="Picture 4" descr="D:\Баваева Татьяна Александровна\эрудит\13.jpeg"/>
          <p:cNvPicPr/>
          <p:nvPr/>
        </p:nvPicPr>
        <p:blipFill>
          <a:blip r:embed="rId1"/>
          <a:stretch/>
        </p:blipFill>
        <p:spPr>
          <a:xfrm>
            <a:off x="5148360" y="2349360"/>
            <a:ext cx="3289320" cy="4251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4" dur="20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9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жнее название «Слобода», был рабочим посёлком. 92 дня просуществовал как город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 каком населённом пункте идёт речь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3" name="Picture 2" descr="D:\Баваева Татьяна Александровна\эрудит\7.jpeg"/>
          <p:cNvPicPr/>
          <p:nvPr/>
        </p:nvPicPr>
        <p:blipFill>
          <a:blip r:embed="rId1"/>
          <a:stretch/>
        </p:blipFill>
        <p:spPr>
          <a:xfrm>
            <a:off x="4211640" y="3068640"/>
            <a:ext cx="3660840" cy="2441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6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457200" y="25992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акой зверь изображён на гербе Сыктывкара 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5" name="Picture 2" descr="D:\Баваева Татьяна Александровна\эрудит\1.jpeg"/>
          <p:cNvPicPr/>
          <p:nvPr/>
        </p:nvPicPr>
        <p:blipFill>
          <a:blip r:embed="rId1"/>
          <a:stretch/>
        </p:blipFill>
        <p:spPr>
          <a:xfrm>
            <a:off x="4500720" y="2060640"/>
            <a:ext cx="2501640" cy="3679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азовите первый ВУЗ республики Коми 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7" name="Picture 4" descr="D:\Баваева Татьяна Александровна\эрудит\SG1L2563.jpg"/>
          <p:cNvPicPr/>
          <p:nvPr/>
        </p:nvPicPr>
        <p:blipFill>
          <a:blip r:embed="rId1"/>
          <a:stretch/>
        </p:blipFill>
        <p:spPr>
          <a:xfrm>
            <a:off x="3564000" y="2349360"/>
            <a:ext cx="465624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8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служенный учитель Республики. Его имя носит интернат (дом-школа) в г.Сыктывкаре, в честь него проводятся педагогические чт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9" name="Picture 4" descr="D:\Баваева Татьяна Александровна\эрудит\small129_4331_2HQxk_DSC02196.jpg"/>
          <p:cNvPicPr/>
          <p:nvPr/>
        </p:nvPicPr>
        <p:blipFill>
          <a:blip r:embed="rId1"/>
          <a:stretch/>
        </p:blipFill>
        <p:spPr>
          <a:xfrm>
            <a:off x="5364000" y="2637000"/>
            <a:ext cx="2775240" cy="2774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й зверёк живёт на территории  Печоро-Илычского заповедника, помесь лесной куницы и собол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1" name="Picture 4" descr="D:\Баваева Татьяна Александровна\эрудит\KyHuLLa.jpg"/>
          <p:cNvPicPr/>
          <p:nvPr/>
        </p:nvPicPr>
        <p:blipFill>
          <a:blip r:embed="rId1"/>
          <a:stretch/>
        </p:blipFill>
        <p:spPr>
          <a:xfrm>
            <a:off x="5796000" y="220500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2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457200" y="54936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ак звали архангельского купца, котрый организовал добычу нефти на реке Ухта и получал 16 пудов керосина в год. Его имя было известно Петру Великому, именно от него поступили первые сведения о месторождении нефти на коми земл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6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икторина для зрителе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зовите реку Корткеросского района, которая не замерзает даже зим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зовите имя человека, который первым предложил идею создания суверенной Коми республик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С 1920 года по 1959 население Коми возросло в 7 раз. Какой фактор сыграл в этом «демографическом взрыве» главную рол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Пайер, Тельпоз из, Сабля, Народ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Что вам перечислили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0" dur="20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3" dur="20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57200" y="54936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Как первоначально назывался статус нашей республики 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писан декрет «Об образовании  автономной области Коми (зырян)…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писан  председателем ВЦИК М. Калинины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Какая природная зона занимает 90 % нашей территории 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0" dur="2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Спасибо всем участникам и болельщикам игры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7" dur="20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Дайте старое название города Сыктывкар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ть-Сысольск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6" name="Picture 3" descr="D:\Баваева Татьяна Александровна\эрудит\syktyvkar_pokrovska_ordzenikidze.jpg"/>
          <p:cNvPicPr/>
          <p:nvPr/>
        </p:nvPicPr>
        <p:blipFill>
          <a:blip r:embed="rId1"/>
          <a:stretch/>
        </p:blipFill>
        <p:spPr>
          <a:xfrm>
            <a:off x="3924360" y="2678040"/>
            <a:ext cx="4738680" cy="3170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Какая императрица присовила статус города Усть -Сысольску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8" name="Picture 2" descr="D:\Баваева Татьяна Александровна\эрудит\i.jpeg"/>
          <p:cNvPicPr/>
          <p:nvPr/>
        </p:nvPicPr>
        <p:blipFill>
          <a:blip r:embed="rId1"/>
          <a:stretch/>
        </p:blipFill>
        <p:spPr>
          <a:xfrm>
            <a:off x="1187280" y="3860640"/>
            <a:ext cx="1447920" cy="190512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катерина Втор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2" name="chimes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457200" y="54936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Назовите последовательность цветов на флаге Республики Ком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1" name="Picture 4" descr="D:\Баваева Татьяна Александровна\эрудит\222.jpeg"/>
          <p:cNvPicPr/>
          <p:nvPr/>
        </p:nvPicPr>
        <p:blipFill>
          <a:blip r:embed="rId1"/>
          <a:stretch/>
        </p:blipFill>
        <p:spPr>
          <a:xfrm>
            <a:off x="5562720" y="4508640"/>
            <a:ext cx="3197160" cy="1873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Назовите хотя бы одну сопредельную территорию РК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3" name="Picture 4" descr="D:\Баваева Татьяна Александровна\эрудит\133.jpeg"/>
          <p:cNvPicPr/>
          <p:nvPr/>
        </p:nvPicPr>
        <p:blipFill>
          <a:blip r:embed="rId1"/>
          <a:stretch/>
        </p:blipFill>
        <p:spPr>
          <a:xfrm>
            <a:off x="4932360" y="3543480"/>
            <a:ext cx="3398760" cy="2549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11:13:53Z</dcterms:created>
  <dc:creator>Александра</dc:creator>
  <dc:description/>
  <dc:language>en-US</dc:language>
  <cp:lastModifiedBy>МОУ "СОШ" п. Подтыбок</cp:lastModifiedBy>
  <dcterms:modified xsi:type="dcterms:W3CDTF">2011-10-28T05:20:17Z</dcterms:modified>
  <cp:revision>47</cp:revision>
  <dc:subject/>
  <dc:title>Слайд 1</dc:title>
</cp:coreProperties>
</file>