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115-5DED-4619-B2F4-A929EB3DD9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B14A-0069-4B10-940A-D8DD0154598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D11-8513-400E-A310-CD8E1E3C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D2D-B225-4564-B199-24B45BD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A2FE4-C1A1-4691-9F0D-B36F3510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F87EF-629E-4E4D-AE73-C301197A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62F57-B629-4ED3-9572-C281C34C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3B988-0C92-4986-AA2B-D72BDDB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3073E-9A5C-4678-A0CC-F25D7F8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CA984-5504-4A23-9731-3D55B8E8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91958-D0B9-4F81-9E3A-144D09D2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E4211-523A-496A-987B-76101994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CAD36-0F58-492E-B24C-3D679947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2CE29-DE68-4BED-82F0-79A462D6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7EC-7B94-4006-9968-F5B8B299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0064E-8E8B-4E6C-AC4C-2ED725C3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3BE6E-661E-4BD7-A9C5-25E72627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EB14A-E41E-4770-BFF1-B2921A60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73BBB-4827-45DC-8ADC-02F7C6CC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23DC1-3E86-49ED-A92C-82A64035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D44EB-DA64-4E4B-85BE-1BC345EF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4DCFD-F725-4DDA-861F-9FE21E76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06A97-5E4C-43CA-A6A5-A9BA839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866D3-C5F1-4FF9-B21D-0A1236A3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CCE4B-8C4A-41A6-99B5-30227F34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7A5-8541-42D4-BBE1-D28DB27C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5039D-E579-4EA4-BD74-C7CDDEA0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65C60-F91E-4D1E-A331-DF561B75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9AEBF-65CC-4DA6-8842-ADBB6E08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D7068-62BB-410E-A30E-2F11ADBE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2C779-743B-4C8F-82D2-F137EEF3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238ED-510A-40F2-83E9-37048A3F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4C494-6383-4702-B223-DBCCF297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C0E0B-2E8C-4EDF-8027-3C0C3518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A2633-486B-4F2B-9B7C-545616DD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7EB29-32E8-43B6-BF40-A7B79EA9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1F23A-86B3-4DE8-A13D-BC60BA8F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FEE60-88A8-47A6-BB0C-5FB6B493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8B0FE-DC91-4D9C-A470-847C0BD8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113F-4169-4366-BC33-1C4625D2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0317F-743B-49E3-B01B-B87B24B7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02B01-36AF-4CB5-B7F9-6AACC4FB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58B2A-75BC-4A42-9D5D-5857C9DB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65368-F5B7-482A-9951-931B68EB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73204-7006-4E4A-B8B5-0125E855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CDF33-2A0F-4108-9DF8-4FE1A329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42CC4-E1DC-4C2D-B22F-2D791BD9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ED5FC-8D18-4148-95D1-A6B994DB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CD4F7-DD2B-4C65-AF26-0DFA4B4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74386-BE98-4B23-AEA6-5202A67E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871D7-A04E-408D-AF07-551A184A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4F693-A90B-4EBA-8097-1E6459EB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C8630-7DB1-4727-8096-ACE555D0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58099-90DB-46FD-A335-7FBC6344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AC4E8-6C50-4AB8-A364-D9630274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EB685-A195-43BF-BD25-6FFE05A1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3E5F2-41BE-4E4B-AD43-D4FFA709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BDE54-1B70-4E26-9D08-850D0ECE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3FD-DD1F-4E68-9795-06BBC59F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8B7C7-DA8D-4300-BA79-8C8487C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88072-DF3F-4F34-AC16-DE00ED1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D5D2C-1BA7-4660-9CCC-74097F77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51888-D5D1-46CA-8F19-85A16BD7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62A65-6EBD-4BF0-9B0B-81B055E8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88BC-4AA0-47AF-B742-E6FB33A7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F494-E6C0-4FFB-A370-3E6E428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C0A3-59DF-4FEE-B676-4095A002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7463-6CC7-4C63-8B9D-6EDBF193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1AEA-8EB9-41F9-9579-DC619BE8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11A-9B3C-4E9D-B1DB-900ECE3B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0ABF7-FD0E-4864-A051-EC54FCD8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B710-86AF-440C-B0EA-02638F43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ACFB-D7FD-4552-AC08-9B29E165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2CE8-0383-4D2C-AF18-34BE11E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F77E-B38E-43BD-93EF-ABF71A9E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19DF-8A18-46C5-9813-FF3F02A0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9D5A3-BD9D-45D7-9E2A-97B34D28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7D76-AC6B-4B1C-8F47-9DA375E8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4CA1-197C-4790-A11A-3985EE88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6C5B-D88E-4502-9BAA-1E9EC5AB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D6B-845F-4F84-BAB5-DE53ABFC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401F5-FC6B-461E-9F4A-8A52954D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8A80-85B7-4C11-999A-1294DBA5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76D4-D498-4B15-88EF-52364D1A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21F0-F626-406A-B5A5-045B6177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7228-700F-4BE7-80CE-D6EBD98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25C63-3F0A-41EB-9413-2FB58021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3B2F-AED0-4A68-A9B2-2E162104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501D-2BC9-44E8-9024-5060BBCE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B4DA-4438-4E74-ADDB-9CFFA7DE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F979B-9516-42BB-9D67-A264071E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D52-F918-49F5-B234-9523B973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DD978-0057-4629-AAD1-79964276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20869-E858-4A95-91DA-8BBA04A3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2BFD-5BAB-4C87-9DAE-79F1347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8F63A-A21F-410D-B143-E9C17C1A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C4AC5-BF08-4028-829D-33E81B0C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9732-0780-4F7C-8D68-2F906DC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27F43-6938-41A7-B08B-83CB428F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B67E-E3EB-41B4-B864-7DE2347C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D87E-B664-4F07-8D6B-86CBC108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9FA7-A1BE-4296-A6B8-3052B4D7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EDD-9052-42E4-9F0A-A5CD4D7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CD87-312C-440B-A3A5-A9CABAC2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D3710-7048-4B4C-8CA1-572EDD2A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1E86B-4E5A-425B-A102-23A5365E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5F6A5-AD11-4D17-8AF9-FAA99B92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9B6CE-24AE-4804-871F-3F233E68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2315-DA97-4B0F-BAA1-EFDF72A4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F745C-EC58-426A-AA69-2A74C75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1F5D0-0399-48E7-93DA-8DA8F8F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F9A4-739E-4C58-96A8-ECF6D4D9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302D5-0751-40BE-B086-DB302F4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244-2841-4280-9A6E-9DD915E1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EDFB-E06C-4A61-A784-F76868FB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0771-C6D8-4E58-9E34-59B9EC86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4B4AA-0CF1-4093-A9A9-A08EE4A9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8A367-948F-45E5-AA3E-260BB720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79C78-3904-4E41-A8BA-068D06D9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D32D1-6FE7-4B48-971B-F22DFBB6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C2C8-6F59-435D-842F-51C2FF15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31E5C-26DA-49E9-853E-AA374378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EA52E-9342-4C4B-B430-37E97D64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C3801-BC77-41DE-A3F5-889253E6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69E-83E1-4825-AFF5-C6F624B4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1DA23-545A-42EA-A512-6C1DD4DE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10569-991B-406F-8227-9E2C9A56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BE2BD-71E2-4FDA-AF65-12EF23D9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C4CC0-0BD7-4A55-A86E-DD9FAD50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2EDA-B889-4415-831F-26C3C772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66574-3543-4D08-807D-B906677B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C3C5E-CB3A-48EC-BB76-C88B1DFF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D5254-A1AD-4DBA-A8DA-95BBA81D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8F6A-8E40-4793-92F2-8800804C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645B8-A8AE-42E9-ADCA-3856411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645-9294-47AB-8B79-BEAD6443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F0289-652B-4086-83CE-2F1613F6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4A0D-3175-4295-BE84-8FD9FAF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22A03-D817-45A1-BA50-2EF7CB07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33388-96A3-474C-9909-717704A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21F02-6B4A-40FE-B1BC-6CC015A3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A919B-A3C2-40AF-AB7A-D26684ED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5EEE-D4B6-44E1-BAE2-958AD86A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733CB-578D-4AE3-BF29-DC1E2834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B44E5-3B58-4685-8800-729157EC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11CC9-85AA-4D8B-A9D8-909A18C4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4458-33D0-4F19-8EEC-2FD0A9EEB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AAAE-9EEF-4502-A226-511377343A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68F3-AFAB-46DD-946A-3719E993A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DB43-6F06-4F5C-8670-511163D79B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68B0-5084-4E33-B7C1-5BADD41B2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65A-9E48-4742-A204-2C3D5E6E2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12F4-221D-4E5D-ACAF-A0A0D71AB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D3AC-7E60-4A4A-9A4F-6B03200EB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D6DD-8A25-4340-BACD-53EEA8777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C5DD-B6B2-4CC1-958D-0DC648D85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FD05-F746-4865-B6B0-4057B8DAA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99CD-3900-4579-AA9D-15D743B1E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1327320" y="1821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2500200" y="1857240"/>
            <a:ext cx="4000680" cy="25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1349640" y="3059640"/>
            <a:ext cx="35074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285840" y="420840"/>
            <a:ext cx="857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«СОШ» п. Подтыб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5195880" y="449892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4151160" y="4325760"/>
            <a:ext cx="45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no Pro Smbd Subhead"/>
              </a:rPr>
              <a:t>Школьный этап игры «Эрудит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no Pro Smbd Subhead"/>
              </a:rPr>
              <a:t>«Край родной, навек любимый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 какой части света мы находимся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5" name="Picture 2" descr="D:\Баваева Татьяна Александровна\эрудит\11112.jpeg"/>
          <p:cNvPicPr/>
          <p:nvPr/>
        </p:nvPicPr>
        <p:blipFill>
          <a:blip r:embed="rId1"/>
          <a:stretch/>
        </p:blipFill>
        <p:spPr>
          <a:xfrm>
            <a:off x="4427640" y="3284640"/>
            <a:ext cx="34797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колько нас проживает на территории Республики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7" name="Picture 2" descr="D:\Баваева Татьяна Александровна\фото.День учит. Что\100SSCAM\SDC14283.JPG"/>
          <p:cNvPicPr/>
          <p:nvPr/>
        </p:nvPicPr>
        <p:blipFill>
          <a:blip r:embed="rId1"/>
          <a:stretch/>
        </p:blipFill>
        <p:spPr>
          <a:xfrm>
            <a:off x="4884840" y="3141720"/>
            <a:ext cx="393516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еспублика 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…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.   параллеля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 скольких параллелях расположена наша республика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 ту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 Знакомые всем лиц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питан выставляет коэффициент (1-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равильный ответ баллы увеличиваются во столько раз, во сколько вы оценили вопр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 № 2, оценили на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х 3=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ответ дан неправильно – выбывают участники команды (-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D:\Баваева Татьяна Александровна\эрудит\22.jpeg"/>
          <p:cNvPicPr/>
          <p:nvPr/>
        </p:nvPicPr>
        <p:blipFill>
          <a:blip r:embed="rId1"/>
          <a:stretch/>
        </p:blipFill>
        <p:spPr>
          <a:xfrm>
            <a:off x="1692360" y="692280"/>
            <a:ext cx="3098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D:\Баваева Татьяна Александровна\эрудит\44.jpeg"/>
          <p:cNvPicPr/>
          <p:nvPr/>
        </p:nvPicPr>
        <p:blipFill>
          <a:blip r:embed="rId1"/>
          <a:stretch/>
        </p:blipFill>
        <p:spPr>
          <a:xfrm>
            <a:off x="2268360" y="1268280"/>
            <a:ext cx="4154760" cy="287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D:\Баваева Татьяна Александровна\эрудит\888.jpeg"/>
          <p:cNvPicPr/>
          <p:nvPr/>
        </p:nvPicPr>
        <p:blipFill>
          <a:blip r:embed="rId1"/>
          <a:stretch/>
        </p:blipFill>
        <p:spPr>
          <a:xfrm>
            <a:off x="1116000" y="404640"/>
            <a:ext cx="3044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D:\Баваева Татьяна Александровна\эрудит\44444.jpeg"/>
          <p:cNvPicPr/>
          <p:nvPr/>
        </p:nvPicPr>
        <p:blipFill>
          <a:blip r:embed="rId1"/>
          <a:stretch/>
        </p:blipFill>
        <p:spPr>
          <a:xfrm>
            <a:off x="3857760" y="981000"/>
            <a:ext cx="3886200" cy="3652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D:\Баваева Татьяна Александровна\эрудит\ff2e77f222b7.jpg"/>
          <p:cNvPicPr/>
          <p:nvPr/>
        </p:nvPicPr>
        <p:blipFill>
          <a:blip r:embed="rId1"/>
          <a:stretch/>
        </p:blipFill>
        <p:spPr>
          <a:xfrm>
            <a:off x="755640" y="404640"/>
            <a:ext cx="3384720" cy="5018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 тур  «Размин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вопро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каждого вопроса команда в течении 30 секунд даёт ответ пись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каждый правильный ответ 1 бал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D:\Баваева Татьяна Александровна\эрудит\55.jpeg"/>
          <p:cNvPicPr/>
          <p:nvPr/>
        </p:nvPicPr>
        <p:blipFill>
          <a:blip r:embed="rId1"/>
          <a:stretch/>
        </p:blipFill>
        <p:spPr>
          <a:xfrm>
            <a:off x="4067280" y="333360"/>
            <a:ext cx="388944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Баваева Татьяна Александровна\эрудит\Чисталев Вениамин Тимофеевич.jpg"/>
          <p:cNvPicPr/>
          <p:nvPr/>
        </p:nvPicPr>
        <p:blipFill>
          <a:blip r:embed="rId1"/>
          <a:stretch/>
        </p:blipFill>
        <p:spPr>
          <a:xfrm>
            <a:off x="826920" y="333360"/>
            <a:ext cx="4032360" cy="537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D:\Баваева Татьяна Александровна\эрудит\president_02.jpg"/>
          <p:cNvPicPr/>
          <p:nvPr/>
        </p:nvPicPr>
        <p:blipFill>
          <a:blip r:embed="rId1"/>
          <a:stretch/>
        </p:blipFill>
        <p:spPr>
          <a:xfrm>
            <a:off x="755640" y="404640"/>
            <a:ext cx="360684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D:\Баваева Татьяна Александровна\эрудит\foto-ctefan.jpg"/>
          <p:cNvPicPr/>
          <p:nvPr/>
        </p:nvPicPr>
        <p:blipFill>
          <a:blip r:embed="rId1"/>
          <a:stretch/>
        </p:blipFill>
        <p:spPr>
          <a:xfrm>
            <a:off x="611280" y="404640"/>
            <a:ext cx="4321080" cy="585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D:\Баваева Татьяна Александровна\эрудит\file2557.jpg"/>
          <p:cNvPicPr/>
          <p:nvPr/>
        </p:nvPicPr>
        <p:blipFill>
          <a:blip r:embed="rId1"/>
          <a:stretch/>
        </p:blipFill>
        <p:spPr>
          <a:xfrm>
            <a:off x="1619280" y="981000"/>
            <a:ext cx="59659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3 тур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Культура, традиции народа коми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то изображён в центре государственного герба Р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2" descr="D:\Баваева Татьяна Александровна\эрудит\6.jpeg"/>
          <p:cNvPicPr/>
          <p:nvPr/>
        </p:nvPicPr>
        <p:blipFill>
          <a:blip r:embed="rId1"/>
          <a:stretch/>
        </p:blipFill>
        <p:spPr>
          <a:xfrm>
            <a:off x="3924360" y="3141720"/>
            <a:ext cx="2485800" cy="2890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Женщина-литератор, перевод Гоголя, Островского на коми язык, писала пьесы для де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7" name="Picture 2" descr="D:\Баваева Татьяна Александровна\эрудит\54257418_Suhanova_.jpg"/>
          <p:cNvPicPr/>
          <p:nvPr/>
        </p:nvPicPr>
        <p:blipFill>
          <a:blip r:embed="rId1"/>
          <a:stretch/>
        </p:blipFill>
        <p:spPr>
          <a:xfrm>
            <a:off x="5435640" y="213372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вый коми балет «Яг Морт»,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зовите авт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9" name="Picture 2" descr="D:\Баваева Татьяна Александровна\эрудит\img_theater.jpeg"/>
          <p:cNvPicPr/>
          <p:nvPr/>
        </p:nvPicPr>
        <p:blipFill>
          <a:blip r:embed="rId1"/>
          <a:stretch/>
        </p:blipFill>
        <p:spPr>
          <a:xfrm>
            <a:off x="5435640" y="2133720"/>
            <a:ext cx="290196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румент , изготовлен из тростника или коры деревьев , на нём играют только женщ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1" name="Picture 2" descr="D:\Баваева Татьяна Александровна\эрудит\chipsan49.jpg"/>
          <p:cNvPicPr/>
          <p:nvPr/>
        </p:nvPicPr>
        <p:blipFill>
          <a:blip r:embed="rId1"/>
          <a:stretch/>
        </p:blipFill>
        <p:spPr>
          <a:xfrm>
            <a:off x="3059280" y="2448000"/>
            <a:ext cx="5233680" cy="336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олько лет отметила Республика Коми с момента своего образования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Picture 2" descr="D:\Баваева Татьяна Александровна\эрудит\0_31ecd_7ba7441_XL.jpeg"/>
          <p:cNvPicPr/>
          <p:nvPr/>
        </p:nvPicPr>
        <p:blipFill>
          <a:blip r:embed="rId1"/>
          <a:stretch/>
        </p:blipFill>
        <p:spPr>
          <a:xfrm>
            <a:off x="1763640" y="2637000"/>
            <a:ext cx="5249880" cy="3936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Своя пора на каждой широ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тот, кто в Коми был, тот зн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гда пурга бушует в Воркуте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Инте – весн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 в Летке – просто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е строчку стихотво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наменитый  танцевальный ансамбль, создан в 1939 году, известен своими зарубежными гастро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Picture 2" descr="D:\Баваева Татьяна Александровна\эрудит\3255.jpg"/>
          <p:cNvPicPr/>
          <p:nvPr/>
        </p:nvPicPr>
        <p:blipFill>
          <a:blip r:embed="rId1"/>
          <a:stretch/>
        </p:blipFill>
        <p:spPr>
          <a:xfrm>
            <a:off x="4005360" y="2781360"/>
            <a:ext cx="4568760" cy="303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 называют пион в Республике Ко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2" descr="D:\Баваева Татьяна Александровна\эрудит\Paeoniaanomala.jpg"/>
          <p:cNvPicPr/>
          <p:nvPr/>
        </p:nvPicPr>
        <p:blipFill>
          <a:blip r:embed="rId1"/>
          <a:stretch/>
        </p:blipFill>
        <p:spPr>
          <a:xfrm>
            <a:off x="4140360" y="2421000"/>
            <a:ext cx="4535280" cy="323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уда эти стро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евер наш родимый край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Глубоки твои снега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Холодны твои ветра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вый широкомасштабный кинотеатр в г.Сыктывкар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9" name="Picture 2" descr="D:\Баваева Татьяна Александровна\эрудит\666.jpeg"/>
          <p:cNvPicPr/>
          <p:nvPr/>
        </p:nvPicPr>
        <p:blipFill>
          <a:blip r:embed="rId1"/>
          <a:stretch/>
        </p:blipFill>
        <p:spPr>
          <a:xfrm>
            <a:off x="4140360" y="2133720"/>
            <a:ext cx="3738240" cy="373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ой природный объект стал национальным достоянием республики и вошёл в число 7 чудес света Ро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1" name="Picture 2" descr="D:\Баваева Татьяна Александровна\эрудит\i.jpeg"/>
          <p:cNvPicPr/>
          <p:nvPr/>
        </p:nvPicPr>
        <p:blipFill>
          <a:blip r:embed="rId1"/>
          <a:stretch/>
        </p:blipFill>
        <p:spPr>
          <a:xfrm>
            <a:off x="4284720" y="3429000"/>
            <a:ext cx="397836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4 тур «Ты-мне, я – теб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ресуем вопрос команде-соперни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правильный ответ оценивается в 1 бал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каком царе коми край присоединился к Русскому государству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Picture 4" descr="D:\Баваева Татьяна Александровна\эрудит\5.jpeg"/>
          <p:cNvPicPr/>
          <p:nvPr/>
        </p:nvPicPr>
        <p:blipFill>
          <a:blip r:embed="rId1"/>
          <a:stretch/>
        </p:blipFill>
        <p:spPr>
          <a:xfrm>
            <a:off x="4284720" y="2205000"/>
            <a:ext cx="316224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аком месторождении добывается тяжёлая нефть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7" name="Picture 4" descr="D:\Баваева Татьяна Александровна\эрудит\10.jpeg"/>
          <p:cNvPicPr/>
          <p:nvPr/>
        </p:nvPicPr>
        <p:blipFill>
          <a:blip r:embed="rId1"/>
          <a:stretch/>
        </p:blipFill>
        <p:spPr>
          <a:xfrm>
            <a:off x="3924360" y="2133720"/>
            <a:ext cx="3944880" cy="291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раница между двумя частями света, Печорские Альпы. О чём идёт реч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9" name="Picture 4" descr="D:\Баваева Татьяна Александровна\эрудит\11.jpeg"/>
          <p:cNvPicPr/>
          <p:nvPr/>
        </p:nvPicPr>
        <p:blipFill>
          <a:blip r:embed="rId1"/>
          <a:stretch/>
        </p:blipFill>
        <p:spPr>
          <a:xfrm>
            <a:off x="4356000" y="2276640"/>
            <a:ext cx="3694320" cy="334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день рождения республики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 августа 1921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3" name="Picture 4" descr="D:\Баваева Татьяна Александровна\эрудит\3.jpeg"/>
          <p:cNvPicPr/>
          <p:nvPr/>
        </p:nvPicPr>
        <p:blipFill>
          <a:blip r:embed="rId1"/>
          <a:stretch/>
        </p:blipFill>
        <p:spPr>
          <a:xfrm>
            <a:off x="5867280" y="2781360"/>
            <a:ext cx="261936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зовите самую высокую точку Республики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1" name="Picture 4" descr="D:\Баваева Татьяна Александровна\эрудит\13.jpeg"/>
          <p:cNvPicPr/>
          <p:nvPr/>
        </p:nvPicPr>
        <p:blipFill>
          <a:blip r:embed="rId1"/>
          <a:stretch/>
        </p:blipFill>
        <p:spPr>
          <a:xfrm>
            <a:off x="5148360" y="2349360"/>
            <a:ext cx="3289320" cy="4251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2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9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жнее название «Слобода», был рабочим посёлком. 92 дня просуществовал как гор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каком населённом пункте идёт речь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3" name="Picture 2" descr="D:\Баваева Татьяна Александровна\эрудит\7.jpeg"/>
          <p:cNvPicPr/>
          <p:nvPr/>
        </p:nvPicPr>
        <p:blipFill>
          <a:blip r:embed="rId1"/>
          <a:stretch/>
        </p:blipFill>
        <p:spPr>
          <a:xfrm>
            <a:off x="4211640" y="3068640"/>
            <a:ext cx="366084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ой зверь изображён на гербе Сыктывкара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2" descr="D:\Баваева Татьяна Александровна\эрудит\1.jpeg"/>
          <p:cNvPicPr/>
          <p:nvPr/>
        </p:nvPicPr>
        <p:blipFill>
          <a:blip r:embed="rId1"/>
          <a:stretch/>
        </p:blipFill>
        <p:spPr>
          <a:xfrm>
            <a:off x="4500720" y="2060640"/>
            <a:ext cx="2501640" cy="367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зовите первый ВУЗ республики Коми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4" descr="D:\Баваева Татьяна Александровна\эрудит\SG1L2563.jpg"/>
          <p:cNvPicPr/>
          <p:nvPr/>
        </p:nvPicPr>
        <p:blipFill>
          <a:blip r:embed="rId1"/>
          <a:stretch/>
        </p:blipFill>
        <p:spPr>
          <a:xfrm>
            <a:off x="3564000" y="2349360"/>
            <a:ext cx="4656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8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служенный учитель Республики. Его имя носит интернат (дом-школа) в г.Сыктывкаре, в честь него проводятся педагогические чт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D:\Баваева Татьяна Александровна\эрудит\small129_4331_2HQxk_DSC02196.jpg"/>
          <p:cNvPicPr/>
          <p:nvPr/>
        </p:nvPicPr>
        <p:blipFill>
          <a:blip r:embed="rId1"/>
          <a:stretch/>
        </p:blipFill>
        <p:spPr>
          <a:xfrm>
            <a:off x="5364000" y="2637000"/>
            <a:ext cx="277524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зверёк живёт на территории  Печоро-Илычского заповедника, помесь лесной куницы и соб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4" descr="D:\Баваева Татьяна Александровна\эрудит\KyHuLLa.jpg"/>
          <p:cNvPicPr/>
          <p:nvPr/>
        </p:nvPicPr>
        <p:blipFill>
          <a:blip r:embed="rId1"/>
          <a:stretch/>
        </p:blipFill>
        <p:spPr>
          <a:xfrm>
            <a:off x="5796000" y="22050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 звали архангельского купца, котрый организовал добычу нефти на реке Ухта и получал 16 пудов керосина в год. Его имя было известно Петру Великому, именно от него поступили первые сведения о месторождении нефти на коми земл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кторина для зр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реку Корткеросского района, которая не замерзает даже зим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имя человека, который первым предложил идею создания суверенной Коми республ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 1920 года по 1959 население Коми возросло в 7 раз. Какой фактор сыграл в этом «демографическом взрыве» главную рол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айер, Тельпоз из, Сабля, Наро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Что вам перечислили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 первоначально назывался статус нашей республики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исан декрет «Об образовании  автономной области Коми (зырян)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исан  председателем ВЦИК М. Калини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Какая природная зона занимает 90 % нашей территории 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0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 всем участникам и болельщикам игр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2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айте старое название города Сыктывк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ь-Сысольс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6" name="Picture 3" descr="D:\Баваева Татьяна Александровна\эрудит\syktyvkar_pokrovska_ordzenikidze.jpg"/>
          <p:cNvPicPr/>
          <p:nvPr/>
        </p:nvPicPr>
        <p:blipFill>
          <a:blip r:embed="rId1"/>
          <a:stretch/>
        </p:blipFill>
        <p:spPr>
          <a:xfrm>
            <a:off x="3924360" y="2678040"/>
            <a:ext cx="4738680" cy="317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ая императрица присовила статус города Усть -Сысольск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8" name="Picture 2" descr="D:\Баваева Татьяна Александровна\эрудит\i.jpeg"/>
          <p:cNvPicPr/>
          <p:nvPr/>
        </p:nvPicPr>
        <p:blipFill>
          <a:blip r:embed="rId1"/>
          <a:stretch/>
        </p:blipFill>
        <p:spPr>
          <a:xfrm>
            <a:off x="1187280" y="3860640"/>
            <a:ext cx="1447920" cy="1905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а Вто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последовательность цветов на флаге Республики Ко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1" name="Picture 4" descr="D:\Баваева Татьяна Александровна\эрудит\222.jpeg"/>
          <p:cNvPicPr/>
          <p:nvPr/>
        </p:nvPicPr>
        <p:blipFill>
          <a:blip r:embed="rId1"/>
          <a:stretch/>
        </p:blipFill>
        <p:spPr>
          <a:xfrm>
            <a:off x="5562720" y="4508640"/>
            <a:ext cx="319716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хотя бы одну сопредельную территорию Р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Picture 4" descr="D:\Баваева Татьяна Александровна\эрудит\133.jpeg"/>
          <p:cNvPicPr/>
          <p:nvPr/>
        </p:nvPicPr>
        <p:blipFill>
          <a:blip r:embed="rId1"/>
          <a:stretch/>
        </p:blipFill>
        <p:spPr>
          <a:xfrm>
            <a:off x="4932360" y="3543480"/>
            <a:ext cx="339876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1:13:53Z</dcterms:created>
  <dc:creator>Александра</dc:creator>
  <dc:description/>
  <dc:language>en-US</dc:language>
  <cp:lastModifiedBy>МОУ "СОШ" п. Подтыбок</cp:lastModifiedBy>
  <dcterms:modified xsi:type="dcterms:W3CDTF">2011-10-28T05:20:17Z</dcterms:modified>
  <cp:revision>47</cp:revision>
  <dc:subject/>
  <dc:title>Слайд 1</dc:title>
</cp:coreProperties>
</file>