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gif" ContentType="image/gif"/>
  <Override PartName="/ppt/media/image14.wmf" ContentType="image/x-wmf"/>
  <Override PartName="/ppt/media/image6.png" ContentType="image/png"/>
  <Override PartName="/ppt/media/image12.jpeg" ContentType="image/jpeg"/>
  <Override PartName="/ppt/media/image3.png" ContentType="image/png"/>
  <Override PartName="/ppt/media/image10.jpeg" ContentType="image/jpeg"/>
  <Override PartName="/ppt/media/image2.gif" ContentType="image/gif"/>
  <Override PartName="/ppt/media/image5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2960-887C-41EE-923E-DA9058CE2D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F06B-64AF-4A31-A969-A29E1EDCCF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94E0-AC6F-4ECB-9B0C-2F723CFA4A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5567-C0DC-4598-AD0C-520F816602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76DD-0524-4530-A707-1FF7EE34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9BDE-9E3F-4308-A0E8-3D4CBCF2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256-C0F6-4D1E-8BB1-3BC1927E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159-0465-4C85-83B8-EEBA4BEB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64E4-492D-49D5-AE94-7D37E631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07A2-2B98-4629-B73F-496F1779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21A9-A7FF-4E2B-A38B-6CCD105A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A2C7-6AA1-4C8B-92B2-E64A24DD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86D9-0A76-468F-A469-151799D3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A5F8-E094-4B47-A3FC-B6E47A16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7EE9-A3BF-485D-9381-A6F61ABE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5444-774D-489F-9367-331858E3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D4A5-89EF-41DB-8B49-438BD7C3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D045-65E2-4632-8B94-EDC5479B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E2B4-3335-4339-AE8F-E316030E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834B-9FDF-4519-9574-25B47133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6902-28AA-4015-8A82-166C827B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1C2-DD03-4300-A99C-8C45D11D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C43-6A1C-435B-8010-210154EC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30F-D3F8-4964-9093-4287AEC9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7BE-71F3-4BC9-9F8D-05F22AD0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979-1AEA-4C5F-A28A-EC9B38D6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6AC-D6D6-4963-96BA-83ABF906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4CF-3CA5-482B-AC6F-F36C9646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4257-1FF4-4888-99B7-FC099CDBED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A809-6ACB-4F9A-A6C7-AA2893BE6CC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рганизация п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оект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ной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деятельност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школьников по географи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58920" y="4581000"/>
            <a:ext cx="5905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БОУ «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нновская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Ш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удченко З.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2" descr="140"/>
          <p:cNvPicPr/>
          <p:nvPr/>
        </p:nvPicPr>
        <p:blipFill>
          <a:blip r:embed="rId1"/>
          <a:stretch/>
        </p:blipFill>
        <p:spPr>
          <a:xfrm>
            <a:off x="179280" y="4508640"/>
            <a:ext cx="31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Голенкова Валентина Сергеевна\блестяшки для сайта\земной шар\0005.GIF"/>
          <p:cNvPicPr/>
          <p:nvPr/>
        </p:nvPicPr>
        <p:blipFill>
          <a:blip r:embed="rId2"/>
          <a:stretch/>
        </p:blipFill>
        <p:spPr>
          <a:xfrm>
            <a:off x="7451640" y="5300640"/>
            <a:ext cx="1054080" cy="105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822960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Желаю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сем 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успехов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 проектной 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деятельности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5" descr="C:\Голенкова Валентина Сергеевна\блестяшки для сайта\земной шар\0021.GIF"/>
          <p:cNvPicPr/>
          <p:nvPr/>
        </p:nvPicPr>
        <p:blipFill>
          <a:blip r:embed="rId1"/>
          <a:stretch/>
        </p:blipFill>
        <p:spPr>
          <a:xfrm>
            <a:off x="6732720" y="3789360"/>
            <a:ext cx="1974600" cy="155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angle 2" descr=""/>
          <p:cNvPicPr/>
          <p:nvPr/>
        </p:nvPicPr>
        <p:blipFill>
          <a:blip r:embed="rId1"/>
          <a:stretch/>
        </p:blipFill>
        <p:spPr>
          <a:xfrm>
            <a:off x="469800" y="225360"/>
            <a:ext cx="7412040" cy="890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cecff"/>
                </a:solidFill>
                <a:latin typeface="Bookman Old Style"/>
              </a:rPr>
              <a:t>Проект -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4" descr="school10-01"/>
          <p:cNvPicPr/>
          <p:nvPr/>
        </p:nvPicPr>
        <p:blipFill>
          <a:blip r:embed="rId2"/>
          <a:stretch/>
        </p:blipFill>
        <p:spPr>
          <a:xfrm>
            <a:off x="179280" y="4005360"/>
            <a:ext cx="2664000" cy="26654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684360" y="2348640"/>
            <a:ext cx="84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от латинского - брошенный вперед) –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, замысел, прообраз какого-либо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ъекта или вида деятель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История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ник во второй половине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IX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. в США как метод проблем, авторы - Дж.Дьюи, В.Х.Килпатри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20-х 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ека получил распространение в советской школе. Широко стал применяться лишь 90-е годы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ека в связи с модернизацией географического образо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236000" y="12600"/>
            <a:ext cx="1866600" cy="2521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27000" y="-174600"/>
            <a:ext cx="2712960" cy="240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68360" y="1426320"/>
            <a:ext cx="820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роект может быть </a:t>
            </a:r>
            <a:r>
              <a:rPr b="1" i="1" lang="ru-RU" sz="4000" spc="-1" strike="noStrike" u="sng">
                <a:solidFill>
                  <a:srgbClr val="ffcc66"/>
                </a:solidFill>
                <a:uFillTx/>
                <a:latin typeface="Verdana"/>
              </a:rPr>
              <a:t>групповым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1" i="1" lang="ru-RU" sz="4000" spc="-1" strike="noStrike" u="sng">
                <a:solidFill>
                  <a:srgbClr val="ffcc66"/>
                </a:solidFill>
                <a:uFillTx/>
                <a:latin typeface="Verdana"/>
              </a:rPr>
              <a:t>персональным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. Каждый из них имеет свои неоспоримые достоинств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13" descr="image004"/>
          <p:cNvPicPr/>
          <p:nvPr/>
        </p:nvPicPr>
        <p:blipFill>
          <a:blip r:embed="rId1"/>
          <a:stretch/>
        </p:blipFill>
        <p:spPr>
          <a:xfrm>
            <a:off x="755640" y="4149720"/>
            <a:ext cx="2736720" cy="2468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1"/>
          <p:cNvPicPr/>
          <p:nvPr/>
        </p:nvPicPr>
        <p:blipFill>
          <a:blip r:embed="rId2"/>
          <a:stretch/>
        </p:blipFill>
        <p:spPr>
          <a:xfrm>
            <a:off x="5651640" y="3357720"/>
            <a:ext cx="2447640" cy="30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99640" y="1125360"/>
            <a:ext cx="7859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4788000" y="1557360"/>
            <a:ext cx="4140000" cy="719280"/>
          </a:xfrm>
          <a:prstGeom prst="wedgeRoundRectCallout">
            <a:avLst>
              <a:gd name="adj1" fmla="val -45513"/>
              <a:gd name="adj2" fmla="val 176930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следовательск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3059280" y="3357720"/>
            <a:ext cx="2808000" cy="89676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ЕК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6"/>
          <p:cNvSpPr/>
          <p:nvPr/>
        </p:nvSpPr>
        <p:spPr>
          <a:xfrm rot="10800000">
            <a:off x="395280" y="4652640"/>
            <a:ext cx="2016000" cy="1368360"/>
          </a:xfrm>
          <a:prstGeom prst="wedgeRoundRectCallout">
            <a:avLst>
              <a:gd name="adj1" fmla="val -78976"/>
              <a:gd name="adj2" fmla="val 100810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левые-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гров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6156360" y="4437000"/>
            <a:ext cx="2592360" cy="609840"/>
          </a:xfrm>
          <a:prstGeom prst="wedgeRoundRectCallout">
            <a:avLst>
              <a:gd name="adj1" fmla="val -54898"/>
              <a:gd name="adj2" fmla="val -142967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ворческ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2556000" y="5805360"/>
            <a:ext cx="3816360" cy="792360"/>
          </a:xfrm>
          <a:prstGeom prst="wedgeRoundRectCallout">
            <a:avLst>
              <a:gd name="adj1" fmla="val 166"/>
              <a:gd name="adj2" fmla="val -231763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179280" y="1700280"/>
            <a:ext cx="4464000" cy="1152360"/>
          </a:xfrm>
          <a:prstGeom prst="wedgeRoundRectCallout">
            <a:avLst>
              <a:gd name="adj1" fmla="val -1634"/>
              <a:gd name="adj2" fmla="val 91875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о-ориентирован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WordArt 11"/>
          <p:cNvSpPr txBox="1"/>
          <p:nvPr/>
        </p:nvSpPr>
        <p:spPr>
          <a:xfrm>
            <a:off x="539640" y="404640"/>
            <a:ext cx="784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ассификация учебных проек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классификация проек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о комплексност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роекты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ю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ffcc66"/>
                </a:solidFill>
                <a:latin typeface="Verdana"/>
              </a:rPr>
              <a:t>Монопроект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3200" spc="-1" strike="noStrike">
                <a:solidFill>
                  <a:srgbClr val="ffcc66"/>
                </a:solidFill>
                <a:latin typeface="Verdana"/>
              </a:rPr>
              <a:t>Межпредметны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о характеру контакто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роекты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ют  </a:t>
            </a:r>
            <a:r>
              <a:rPr b="0" i="1" lang="ru-RU" sz="3200" spc="-1" strike="noStrike">
                <a:solidFill>
                  <a:srgbClr val="ffcc66"/>
                </a:solidFill>
                <a:latin typeface="Verdana"/>
              </a:rPr>
              <a:t>внутриклассными, внутришкольными, региональными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и</a:t>
            </a:r>
            <a:r>
              <a:rPr b="0" i="1" lang="ru-RU" sz="3200" spc="-1" strike="noStrike">
                <a:solidFill>
                  <a:srgbClr val="ffcc66"/>
                </a:solidFill>
                <a:latin typeface="Verdana"/>
              </a:rPr>
              <a:t> международными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о продолжительност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различаю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    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минипроект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    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 краткосрочн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   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недельные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долгосрочны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24000" y="277920"/>
            <a:ext cx="6562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равила успешной проектной деятельности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(для учащихся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команде нет лидеров. Все члены команды равны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манды не соревнуютс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члены команды должны получать удовольствие от общения друг с другом, и от того, что они вместе выполняют проектное зад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ый должен получать удовольствие от чувства уверенности в себ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должны проявлять активность и вносить свой вклад в общее дело. Не должно быть так называемых “спящих” партнер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ветственность за конечный результат несут все члены команды, выполняющие проектное зад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ая группа, участвующая в проекте, получает “План действий учащихся в проекте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-181080" y="-603360"/>
            <a:ext cx="2713320" cy="240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Проект “Проблема выбора главного атрибута Новогоднего праздника – ель искусственная или ель настоящая”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13" descr="20130211152544(1)"/>
          <p:cNvPicPr/>
          <p:nvPr/>
        </p:nvPicPr>
        <p:blipFill>
          <a:blip r:embed="rId1"/>
          <a:stretch/>
        </p:blipFill>
        <p:spPr>
          <a:xfrm>
            <a:off x="4356000" y="2133720"/>
            <a:ext cx="3456000" cy="1942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IMG_5597"/>
          <p:cNvPicPr/>
          <p:nvPr/>
        </p:nvPicPr>
        <p:blipFill>
          <a:blip r:embed="rId2"/>
          <a:stretch/>
        </p:blipFill>
        <p:spPr>
          <a:xfrm>
            <a:off x="6227640" y="3357720"/>
            <a:ext cx="2089440" cy="15667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403884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Цель проект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Формирование у учащихся бережного отношения к символу Новогоднего празд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5" descr="IMG_5714"/>
          <p:cNvPicPr/>
          <p:nvPr/>
        </p:nvPicPr>
        <p:blipFill>
          <a:blip r:embed="rId3"/>
          <a:stretch/>
        </p:blipFill>
        <p:spPr>
          <a:xfrm>
            <a:off x="4140360" y="4653000"/>
            <a:ext cx="2376360" cy="153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IMG_5716"/>
          <p:cNvPicPr/>
          <p:nvPr/>
        </p:nvPicPr>
        <p:blipFill>
          <a:blip r:embed="rId4"/>
          <a:stretch/>
        </p:blipFill>
        <p:spPr>
          <a:xfrm>
            <a:off x="6659640" y="5157720"/>
            <a:ext cx="2009520" cy="154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4" descr="default"/>
          <p:cNvPicPr/>
          <p:nvPr/>
        </p:nvPicPr>
        <p:blipFill>
          <a:blip r:embed="rId5"/>
          <a:stretch/>
        </p:blipFill>
        <p:spPr>
          <a:xfrm>
            <a:off x="108000" y="549360"/>
            <a:ext cx="1324080" cy="13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202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лан действий учащихся в проект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бор темы проекта (исследования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авим цель. (Для чего я это делаю? Какого результата я хочу достичь? Записать ответы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сли это исследование, то затем нужно выдвинуть предположение – гипотезу. (Сделай свое предположение о том, какой будет результат и почему? Записать ответы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бираем метод. (Что нужно сделать, чтобы получить результат? (Записать план своих действий, время выполнения каждого шага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ираем данные (ставим эксперименты, собираем необходимую информацию, материал, оформляем его, сверяем свои действия по времени, которое определили для каждого шага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лучаем результаты. (Если что-то не удалось – это тоже результат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нализируем результаты. (Сравниваем полученные с данной гипотезой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елаем выводы. (Планируем дальнейшую деятельность). Даем оценку действиям в групп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щищаем результат в коллективе. Получаем общую оценку результат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4" descr="PE01616_"/>
          <p:cNvPicPr/>
          <p:nvPr/>
        </p:nvPicPr>
        <p:blipFill>
          <a:blip r:embed="rId1"/>
          <a:stretch/>
        </p:blipFill>
        <p:spPr>
          <a:xfrm>
            <a:off x="6372360" y="0"/>
            <a:ext cx="2050920" cy="192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7:53:57Z</dcterms:created>
  <dc:creator>wert</dc:creator>
  <dc:description/>
  <dc:language>en-US</dc:language>
  <cp:lastModifiedBy>123</cp:lastModifiedBy>
  <dcterms:modified xsi:type="dcterms:W3CDTF">2014-04-01T05:59:36Z</dcterms:modified>
  <cp:revision>35</cp:revision>
  <dc:subject/>
  <dc:title>Здоровье – категория педагогическая</dc:title>
</cp:coreProperties>
</file>