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gif" ContentType="image/gif"/>
  <Override PartName="/ppt/media/image14.wmf" ContentType="image/x-wmf"/>
  <Override PartName="/ppt/media/image6.png" ContentType="image/png"/>
  <Override PartName="/ppt/media/image12.jpeg" ContentType="image/jpeg"/>
  <Override PartName="/ppt/media/image3.png" ContentType="image/png"/>
  <Override PartName="/ppt/media/image10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9182-E17F-4B70-8E68-4C054E9E0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F77-CA5F-4B35-92BE-1BDB0C61FE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3D4-7D98-4F54-B067-6AA935FC28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B3C5-5C82-4921-AC52-8FDB5CE7BA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D31-D881-477D-8AD9-1256F407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80F-671F-4FF6-ACB3-CD5F7EC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3B7-B640-4D9D-880B-7862C6F9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84E-5F72-4180-BD8E-F3B10232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3360-7C5C-4F10-A495-01CD15EB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5C47-4ECE-4265-8C91-D87D84A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0946-4A69-44C0-919C-75F0F0CF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D347-7B82-4135-8883-6538108F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D7E5-5AE4-43FD-98F1-5B6E236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3281-58E5-4BDE-8A5D-9F0D9419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3B42-E6AD-4CC3-9E1A-29CF9D6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F0B-A1EE-491E-9470-EECA36B6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53A-9823-4AEE-9049-3D0B37D5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9A6A-CBCB-4B94-8146-9BA5DEA5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A86-683A-4FC4-B323-8DBBA13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3E01-8E28-42F1-BCB9-696BCBFB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ED0E-4ED5-4197-B119-4A40F751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B6E-6D56-4473-BE2E-60F5CE9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D21-841C-4E7A-BA83-FDA1231E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0B5-4E20-41FA-8A1F-BB12552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FE3-8012-47C0-BEF1-D63228A2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653-5FD3-4817-89DE-F9E67DEC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564-C988-4746-8B01-44588C9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6C8-7EDF-4522-932A-9A3E70D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8FE-E021-43E8-8FC4-71648627FE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359A-426E-4626-AD12-B37C3FFF0A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рганизация п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оек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ной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деятельност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школьников по географ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590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БОУ «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нновска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Ш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удченко З.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140"/>
          <p:cNvPicPr/>
          <p:nvPr/>
        </p:nvPicPr>
        <p:blipFill>
          <a:blip r:embed="rId1"/>
          <a:stretch/>
        </p:blipFill>
        <p:spPr>
          <a:xfrm>
            <a:off x="179280" y="4508640"/>
            <a:ext cx="31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Голенкова Валентина Сергеевна\блестяшки для сайта\земной шар\0005.GIF"/>
          <p:cNvPicPr/>
          <p:nvPr/>
        </p:nvPicPr>
        <p:blipFill>
          <a:blip r:embed="rId2"/>
          <a:stretch/>
        </p:blipFill>
        <p:spPr>
          <a:xfrm>
            <a:off x="7451640" y="530064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Желаю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сем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успехов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 проектной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деятельности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5" descr="C:\Голенкова Валентина Сергеевна\блестяшки для сайта\земной шар\0021.GIF"/>
          <p:cNvPicPr/>
          <p:nvPr/>
        </p:nvPicPr>
        <p:blipFill>
          <a:blip r:embed="rId1"/>
          <a:stretch/>
        </p:blipFill>
        <p:spPr>
          <a:xfrm>
            <a:off x="6732720" y="3789360"/>
            <a:ext cx="1974600" cy="15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469800" y="225360"/>
            <a:ext cx="7412040" cy="890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Bookman Old Style"/>
              </a:rPr>
              <a:t>Проект - 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school10-01"/>
          <p:cNvPicPr/>
          <p:nvPr/>
        </p:nvPicPr>
        <p:blipFill>
          <a:blip r:embed="rId2"/>
          <a:stretch/>
        </p:blipFill>
        <p:spPr>
          <a:xfrm>
            <a:off x="179280" y="4005360"/>
            <a:ext cx="2664000" cy="26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684360" y="234864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латинского - брошенный вперед)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, замысел, прообраз какого-либ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ъекта или вида дея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стория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ник во второй половин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. в США как метод проблем, авторы - Дж.Дьюи, В.Х.Килпатр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20-х 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а получил распространение в советской школе. Широко стал применяться лишь 90-е год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ека в связи с модернизацией географического образ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236000" y="12600"/>
            <a:ext cx="1866600" cy="252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27000" y="-174600"/>
            <a:ext cx="2712960" cy="24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142632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ект может быть </a:t>
            </a: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Verdana"/>
              </a:rPr>
              <a:t>групповым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Verdana"/>
              </a:rPr>
              <a:t>персональным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. Каждый из них имеет свои неоспоримые достоинств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3" descr="image004"/>
          <p:cNvPicPr/>
          <p:nvPr/>
        </p:nvPicPr>
        <p:blipFill>
          <a:blip r:embed="rId1"/>
          <a:stretch/>
        </p:blipFill>
        <p:spPr>
          <a:xfrm>
            <a:off x="755640" y="4149720"/>
            <a:ext cx="2736720" cy="2468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1"/>
          <p:cNvPicPr/>
          <p:nvPr/>
        </p:nvPicPr>
        <p:blipFill>
          <a:blip r:embed="rId2"/>
          <a:stretch/>
        </p:blipFill>
        <p:spPr>
          <a:xfrm>
            <a:off x="5651640" y="3357720"/>
            <a:ext cx="244764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99640" y="1125360"/>
            <a:ext cx="785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788000" y="1557360"/>
            <a:ext cx="4140000" cy="719280"/>
          </a:xfrm>
          <a:prstGeom prst="wedgeRoundRectCallout">
            <a:avLst>
              <a:gd name="adj1" fmla="val -45513"/>
              <a:gd name="adj2" fmla="val 17693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следователь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3059280" y="3357720"/>
            <a:ext cx="2808000" cy="89676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utoShape 6"/>
          <p:cNvSpPr/>
          <p:nvPr/>
        </p:nvSpPr>
        <p:spPr>
          <a:xfrm rot="10800000">
            <a:off x="395280" y="4652640"/>
            <a:ext cx="2016000" cy="1368360"/>
          </a:xfrm>
          <a:prstGeom prst="wedgeRoundRectCallout">
            <a:avLst>
              <a:gd name="adj1" fmla="val -78976"/>
              <a:gd name="adj2" fmla="val 100810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евые-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ов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6156360" y="4437000"/>
            <a:ext cx="2592360" cy="609840"/>
          </a:xfrm>
          <a:prstGeom prst="wedgeRoundRectCallout">
            <a:avLst>
              <a:gd name="adj1" fmla="val -54898"/>
              <a:gd name="adj2" fmla="val -142967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орческ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556000" y="5805360"/>
            <a:ext cx="3816360" cy="792360"/>
          </a:xfrm>
          <a:prstGeom prst="wedgeRoundRectCallout">
            <a:avLst>
              <a:gd name="adj1" fmla="val 166"/>
              <a:gd name="adj2" fmla="val -231763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179280" y="1700280"/>
            <a:ext cx="4464000" cy="1152360"/>
          </a:xfrm>
          <a:prstGeom prst="wedgeRoundRectCallout">
            <a:avLst>
              <a:gd name="adj1" fmla="val -1634"/>
              <a:gd name="adj2" fmla="val 91875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о-ориентирован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WordArt 11"/>
          <p:cNvSpPr txBox="1"/>
          <p:nvPr/>
        </p:nvSpPr>
        <p:spPr>
          <a:xfrm>
            <a:off x="539640" y="40464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фикация учебных проек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комплексно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оект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cc66"/>
                </a:solidFill>
                <a:latin typeface="Verdana"/>
              </a:rPr>
              <a:t>Монопроек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cc66"/>
                </a:solidFill>
                <a:latin typeface="Verdana"/>
              </a:rPr>
              <a:t>Межпредмет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характеру контакто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роект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ют  </a:t>
            </a: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внутриклассными, внутришкольными, региональными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и</a:t>
            </a:r>
            <a:r>
              <a:rPr b="0" i="1" lang="ru-RU" sz="3200" spc="-1" strike="noStrike">
                <a:solidFill>
                  <a:srgbClr val="ffcc66"/>
                </a:solidFill>
                <a:latin typeface="Verdana"/>
              </a:rPr>
              <a:t> международными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 продолжи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азличаю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 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инипроект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 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краткосрочн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   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едельные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долгосроч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24000" y="277920"/>
            <a:ext cx="65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авила успешной проектной деятельности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(для учащихся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команде нет лидеров. Все члены команды рав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анды не соревную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члены команды должны получать удовольствие от общения друг с другом, и от того, что они вместе выполняют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должен получать удовольствие от чувства уверенности в себ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должны проявлять активность и вносить свой вклад в общее дело. Не должно быть так называемых “спящих” партнер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ственность за конечный результат несут все члены команды, выполняющие проектное зад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ая группа, участвующая в проекте, получает “План действий учащихся в проекте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2713320" cy="24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оект “Проблема выбора главного атрибута Новогоднего праздника – ель искусственная или ель настоящая”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13" descr="20130211152544(1)"/>
          <p:cNvPicPr/>
          <p:nvPr/>
        </p:nvPicPr>
        <p:blipFill>
          <a:blip r:embed="rId1"/>
          <a:stretch/>
        </p:blipFill>
        <p:spPr>
          <a:xfrm>
            <a:off x="4356000" y="2133720"/>
            <a:ext cx="345600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IMG_5597"/>
          <p:cNvPicPr/>
          <p:nvPr/>
        </p:nvPicPr>
        <p:blipFill>
          <a:blip r:embed="rId2"/>
          <a:stretch/>
        </p:blipFill>
        <p:spPr>
          <a:xfrm>
            <a:off x="6227640" y="335772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8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ель проект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ормирование у учащихся бережного отношения к символу Новогоднего празд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IMG_5714"/>
          <p:cNvPicPr/>
          <p:nvPr/>
        </p:nvPicPr>
        <p:blipFill>
          <a:blip r:embed="rId3"/>
          <a:stretch/>
        </p:blipFill>
        <p:spPr>
          <a:xfrm>
            <a:off x="4140360" y="4653000"/>
            <a:ext cx="2376360" cy="153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IMG_5716"/>
          <p:cNvPicPr/>
          <p:nvPr/>
        </p:nvPicPr>
        <p:blipFill>
          <a:blip r:embed="rId4"/>
          <a:stretch/>
        </p:blipFill>
        <p:spPr>
          <a:xfrm>
            <a:off x="6659640" y="5157720"/>
            <a:ext cx="2009520" cy="15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default"/>
          <p:cNvPicPr/>
          <p:nvPr/>
        </p:nvPicPr>
        <p:blipFill>
          <a:blip r:embed="rId5"/>
          <a:stretch/>
        </p:blipFill>
        <p:spPr>
          <a:xfrm>
            <a:off x="108000" y="549360"/>
            <a:ext cx="1324080" cy="13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лан действий учащихся в проек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ор темы проекта (исследования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авим цель. (Для чего я это делаю? Какого результата я хочу достичь? Записать ответы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ли это исследование, то затем нужно выдвинуть предположение – гипотезу. (Сделай свое предположение о том, какой будет результат и почему? Записать ответы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бираем метод. (Что нужно сделать, чтобы получить результат? (Записать план своих действий, время выполнения каждого шаг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ираем данные (ставим эксперименты, собираем необходимую информацию, материал, оформляем его, сверяем свои действия по времени, которое определили для каждого шага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лучаем результаты. (Если что-то не удалось – это тоже результат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ализируем результаты. (Сравниваем полученные с данной гипотезой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елаем выводы. (Планируем дальнейшую деятельность). Даем оценку действиям в групп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щищаем результат в коллективе. Получаем общую оценку результа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4" descr="PE01616_"/>
          <p:cNvPicPr/>
          <p:nvPr/>
        </p:nvPicPr>
        <p:blipFill>
          <a:blip r:embed="rId1"/>
          <a:stretch/>
        </p:blipFill>
        <p:spPr>
          <a:xfrm>
            <a:off x="6372360" y="0"/>
            <a:ext cx="20509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53:57Z</dcterms:created>
  <dc:creator>wert</dc:creator>
  <dc:description/>
  <dc:language>en-US</dc:language>
  <cp:lastModifiedBy>123</cp:lastModifiedBy>
  <dcterms:modified xsi:type="dcterms:W3CDTF">2014-04-01T05:59:36Z</dcterms:modified>
  <cp:revision>35</cp:revision>
  <dc:subject/>
  <dc:title>Здоровье – категория педагогическая</dc:title>
</cp:coreProperties>
</file>