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11C-8252-4F22-843B-7BDA68BE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7D5-7B12-4CBC-A198-9498627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3C7-30BA-4415-AD99-9E85F373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388-BA8F-4F76-A81F-10C579B1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44D-C44C-40CF-86C7-7F705E9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C1E-F93E-497E-8946-2FC943E6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091-A7D0-4100-9D8F-8948187E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42E-586E-4042-900E-25AD42D1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E73-748A-4476-84B4-0D6CD61A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34C-C4D3-40AD-A80D-426D60F5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AE2-FA41-4B80-9895-7AF0DB4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B10-F437-41D5-8824-8F44DAD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FF44-37A7-490B-912E-EA47AC439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79640" y="1125360"/>
            <a:ext cx="554184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ы и вулканические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ржения.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050920" y="549360"/>
            <a:ext cx="46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МНОГО ИСТОРИИ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476360" y="1628640"/>
            <a:ext cx="6264360" cy="4537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>
                  <a:alpha val="0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692360" y="1911240"/>
            <a:ext cx="59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узница вулкана (окунемся в глубь веков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вержение вулкана Сантори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гипетские литературные памят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ф о борьбе Зевса с Тифон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тланти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2700360" y="260280"/>
            <a:ext cx="349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рминолог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2" name="AutoShape 3"/>
          <p:cNvGrpSpPr/>
          <p:nvPr/>
        </p:nvGrpSpPr>
        <p:grpSpPr>
          <a:xfrm>
            <a:off x="1676520" y="2023920"/>
            <a:ext cx="5876640" cy="3505320"/>
            <a:chOff x="1676520" y="2023920"/>
            <a:chExt cx="5876640" cy="3505320"/>
          </a:xfrm>
        </p:grpSpPr>
        <p:pic>
          <p:nvPicPr>
            <p:cNvPr id="73" name="AutoShape 3" descr=""/>
            <p:cNvPicPr/>
            <p:nvPr/>
          </p:nvPicPr>
          <p:blipFill>
            <a:blip r:embed="rId1"/>
            <a:stretch/>
          </p:blipFill>
          <p:spPr>
            <a:xfrm>
              <a:off x="1676520" y="2023920"/>
              <a:ext cx="587664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54360" y="2367000"/>
              <a:ext cx="536400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Вулканизм – это сложный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процесс,  при котором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магма поднимается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их недр земли, прорывае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земную кору и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изливается на поверхност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3132000" y="476280"/>
            <a:ext cx="2857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улканы и продукты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улканических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вержений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19840" y="2367000"/>
            <a:ext cx="31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дяной  пар – 9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ероводоро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глекислый га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4"/>
          <p:cNvGrpSpPr/>
          <p:nvPr/>
        </p:nvGrpSpPr>
        <p:grpSpPr>
          <a:xfrm>
            <a:off x="5132520" y="3127320"/>
            <a:ext cx="2468520" cy="1457280"/>
            <a:chOff x="5132520" y="3127320"/>
            <a:chExt cx="2468520" cy="1457280"/>
          </a:xfrm>
        </p:grpSpPr>
        <p:pic>
          <p:nvPicPr>
            <p:cNvPr id="78" name="AutoShape 4" descr=""/>
            <p:cNvPicPr/>
            <p:nvPr/>
          </p:nvPicPr>
          <p:blipFill>
            <a:blip r:embed="rId1"/>
            <a:stretch/>
          </p:blipFill>
          <p:spPr>
            <a:xfrm>
              <a:off x="5132520" y="3127320"/>
              <a:ext cx="2468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5974200" y="2956680"/>
              <a:ext cx="129204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5"/>
          <p:cNvSpPr/>
          <p:nvPr/>
        </p:nvSpPr>
        <p:spPr>
          <a:xfrm>
            <a:off x="5724360" y="3500280"/>
            <a:ext cx="182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-1000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471320" y="445608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ы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ический пеп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627280" y="47628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роение вулка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835280" y="1052640"/>
          <a:ext cx="57783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052640"/>
                    <a:ext cx="5778360" cy="56163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5" name="Group 24"/>
          <p:cNvGrpSpPr/>
          <p:nvPr/>
        </p:nvGrpSpPr>
        <p:grpSpPr>
          <a:xfrm>
            <a:off x="2051640" y="2349360"/>
            <a:ext cx="5489640" cy="4336560"/>
            <a:chOff x="2051640" y="2349360"/>
            <a:chExt cx="5489640" cy="4336560"/>
          </a:xfrm>
        </p:grpSpPr>
        <p:grpSp>
          <p:nvGrpSpPr>
            <p:cNvPr id="86" name="Group 21"/>
            <p:cNvGrpSpPr/>
            <p:nvPr/>
          </p:nvGrpSpPr>
          <p:grpSpPr>
            <a:xfrm>
              <a:off x="2051640" y="2349360"/>
              <a:ext cx="5489640" cy="4336560"/>
              <a:chOff x="2051640" y="2349360"/>
              <a:chExt cx="5489640" cy="4336560"/>
            </a:xfrm>
          </p:grpSpPr>
          <p:sp>
            <p:nvSpPr>
              <p:cNvPr id="87" name="Text Box 4"/>
              <p:cNvSpPr/>
              <p:nvPr/>
            </p:nvSpPr>
            <p:spPr>
              <a:xfrm>
                <a:off x="3828600" y="6165720"/>
                <a:ext cx="202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бласть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бразования магмы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6"/>
              <p:cNvSpPr/>
              <p:nvPr/>
            </p:nvSpPr>
            <p:spPr>
              <a:xfrm>
                <a:off x="5702400" y="5591160"/>
                <a:ext cx="159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агматический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чаг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 flipH="1">
                <a:off x="5146200" y="5735520"/>
                <a:ext cx="57636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8"/>
              <p:cNvSpPr/>
              <p:nvPr/>
            </p:nvSpPr>
            <p:spPr>
              <a:xfrm>
                <a:off x="3778200" y="50878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"/>
              <p:cNvSpPr/>
              <p:nvPr/>
            </p:nvSpPr>
            <p:spPr>
              <a:xfrm>
                <a:off x="3059280" y="494352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Жерло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2914560" y="37195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1"/>
              <p:cNvSpPr/>
              <p:nvPr/>
            </p:nvSpPr>
            <p:spPr>
              <a:xfrm>
                <a:off x="2051640" y="3503520"/>
                <a:ext cx="94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Боковой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рате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 flipH="1">
                <a:off x="5866920" y="3935160"/>
                <a:ext cx="64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3"/>
              <p:cNvSpPr/>
              <p:nvPr/>
            </p:nvSpPr>
            <p:spPr>
              <a:xfrm>
                <a:off x="6496560" y="3646440"/>
                <a:ext cx="104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Лавовый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оток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5"/>
              <p:cNvSpPr/>
              <p:nvPr/>
            </p:nvSpPr>
            <p:spPr>
              <a:xfrm>
                <a:off x="5433840" y="3216240"/>
                <a:ext cx="189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ершинный крате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 flipH="1">
                <a:off x="4065480" y="2855880"/>
                <a:ext cx="144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8"/>
              <p:cNvSpPr/>
              <p:nvPr/>
            </p:nvSpPr>
            <p:spPr>
              <a:xfrm>
                <a:off x="3613680" y="2349360"/>
                <a:ext cx="153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улканический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онус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23"/>
            <p:cNvSpPr/>
            <p:nvPr/>
          </p:nvSpPr>
          <p:spPr>
            <a:xfrm flipH="1">
              <a:off x="5003640" y="357336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826920" y="333360"/>
            <a:ext cx="70297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пы вулканических извержений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76360" y="1628640"/>
            <a:ext cx="67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авай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елей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езувиан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556000" y="404640"/>
            <a:ext cx="3706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вулканов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55640" y="1700280"/>
            <a:ext cx="6645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йствующ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нувш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тухш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 интересно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95480" y="1935000"/>
            <a:ext cx="7753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пнейшие вулкан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иво, хотя и опас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рывные волны трижды обогнули  земной ша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ва все сжигает на своем пу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ландия –страна вулк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ячее озеро -  Ки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ы и косм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3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3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3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3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7" name="AutoShape 5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08" name="AutoShape 5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ожный процесс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и котором магма поднимается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з недр земл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рывая земную кору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зливается на поверхнос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1" name="AutoShape 3"/>
          <p:cNvGrpSpPr/>
          <p:nvPr/>
        </p:nvGrpSpPr>
        <p:grpSpPr>
          <a:xfrm>
            <a:off x="1816200" y="2170080"/>
            <a:ext cx="5449680" cy="2712960"/>
            <a:chOff x="1816200" y="2170080"/>
            <a:chExt cx="5449680" cy="2712960"/>
          </a:xfrm>
        </p:grpSpPr>
        <p:pic>
          <p:nvPicPr>
            <p:cNvPr id="112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170080"/>
              <a:ext cx="5449680" cy="27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957320" y="247176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Что такое лава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5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16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то такое кратер вулкана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Вулк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9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20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то такое жерло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3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24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азовите продукт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улканических изверж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7" name="AutoShape 3"/>
          <p:cNvGrpSpPr/>
          <p:nvPr/>
        </p:nvGrpSpPr>
        <p:grpSpPr>
          <a:xfrm>
            <a:off x="1676520" y="2023920"/>
            <a:ext cx="5589360" cy="2713320"/>
            <a:chOff x="1676520" y="2023920"/>
            <a:chExt cx="5589360" cy="2713320"/>
          </a:xfrm>
        </p:grpSpPr>
        <p:pic>
          <p:nvPicPr>
            <p:cNvPr id="128" name="AutoShape 3" descr=""/>
            <p:cNvPicPr/>
            <p:nvPr/>
          </p:nvPicPr>
          <p:blipFill>
            <a:blip r:embed="rId1"/>
            <a:stretch/>
          </p:blipFill>
          <p:spPr>
            <a:xfrm>
              <a:off x="1676520" y="2023920"/>
              <a:ext cx="558936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814400" y="2327400"/>
              <a:ext cx="515484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еречислить тип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вулканических извержений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32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Виды вулканов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411280" y="2133720"/>
            <a:ext cx="3600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агодарю всех!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 новой встречи!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132000" y="549360"/>
            <a:ext cx="23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268360" y="2421000"/>
            <a:ext cx="4608720" cy="3095640"/>
          </a:xfrm>
          <a:prstGeom prst="roundRect">
            <a:avLst>
              <a:gd name="adj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340000" y="256536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формировать предст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вулканах и вулканически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вержения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419640" y="549360"/>
            <a:ext cx="23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1911240"/>
            <a:ext cx="828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ы и вулканические извержен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ного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рмины и понят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ение  вулка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вулканических изверж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вулк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Викторина «Вулканы и вулканические извержения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1628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алегают горные породы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16000" y="4221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АДОЧНЫЕ: горизонтально, наклон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ГМАТИЧЕСКИЕ: массивы, пласты и  жи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3120" y="169560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мы знаем виды движения земной кор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133000" y="3855960"/>
            <a:ext cx="51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изонтальное переме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дленные вертикальные колеб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етряс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23840" y="169560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такое землетрясение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58920" y="4292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ЗКОЕ СОТРЯСЕНИЕ ТОЛЩ  ГОРН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ОД ОТ ГЛУБИН ДО САМОЙ ПОВЕРХ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116000" y="1700280"/>
            <a:ext cx="70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можно назвать эпицентром землетрясения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332000" y="4214880"/>
            <a:ext cx="616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СТО  РАСПОЛОЖЕННОЕ НАД ОЧА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ЕТРЯСЕНИЯ, ГДЕ НАБЛЮДАЮ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ИБОЛЕЕ СИЛЬНЫЕ РАЗРУ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50760" y="1700280"/>
            <a:ext cx="67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де чаще всего бывают землетрясен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37600" y="4005360"/>
            <a:ext cx="538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областях молодых гор, на границ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тосферных плит. В Италии, Грец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урции, Иране, Афганистане, Инд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Японии, на Филиппинах, на запад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верной и Южной Амер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15:03Z</dcterms:created>
  <dc:creator>Elena</dc:creator>
  <dc:description/>
  <dc:language>en-US</dc:language>
  <cp:lastModifiedBy>Николай</cp:lastModifiedBy>
  <dcterms:modified xsi:type="dcterms:W3CDTF">2015-07-23T12:10:53Z</dcterms:modified>
  <cp:revision>10</cp:revision>
  <dc:subject/>
  <dc:title>Слайд 1</dc:title>
</cp:coreProperties>
</file>