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39C4-93BF-4F68-A897-040EE1BC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09EB-3696-4994-9DD2-949128EF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9674-042F-49F8-86D2-4EE2AAC53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9720-0DC6-4C5E-B695-989E98734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CBBC-279B-458F-BB5D-1D4544FF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3D0A-E99A-4DDC-BE10-54FA97B5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84D8-8324-4A8E-812C-3192D9E1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BB71-A5B8-45AE-A26A-22F88DBE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94B0-207C-4B02-8950-69484A7C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B2E2-A57D-4FA3-AB95-49DCA6A3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0F89-CE41-4427-83FC-D4CF77A4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4D64-034B-496D-91D7-839BDA52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7340-9A9A-4962-9EF3-DFE679CA84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979640" y="1125360"/>
            <a:ext cx="5541840" cy="402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 урока: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ы и вулканические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вержения.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2"/>
          <p:cNvSpPr txBox="1"/>
          <p:nvPr/>
        </p:nvSpPr>
        <p:spPr>
          <a:xfrm>
            <a:off x="2050920" y="549360"/>
            <a:ext cx="467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ЕМНОГО ИСТОРИИ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1476360" y="1628640"/>
            <a:ext cx="6264360" cy="4537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6e6e6">
                  <a:alpha val="0"/>
                </a:srgbClr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692360" y="1911240"/>
            <a:ext cx="590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узница вулкана (окунемся в глубь веков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звержение вулкана Санторин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Египетские литературные памятник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иф о борьбе Зевса с Тифоно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Атлантид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3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6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9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2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2"/>
          <p:cNvSpPr txBox="1"/>
          <p:nvPr/>
        </p:nvSpPr>
        <p:spPr>
          <a:xfrm>
            <a:off x="2700360" y="260280"/>
            <a:ext cx="34988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ерминология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72" name="AutoShape 3"/>
          <p:cNvGrpSpPr/>
          <p:nvPr/>
        </p:nvGrpSpPr>
        <p:grpSpPr>
          <a:xfrm>
            <a:off x="1676520" y="2023920"/>
            <a:ext cx="5876640" cy="3505320"/>
            <a:chOff x="1676520" y="2023920"/>
            <a:chExt cx="5876640" cy="3505320"/>
          </a:xfrm>
        </p:grpSpPr>
        <p:pic>
          <p:nvPicPr>
            <p:cNvPr id="73" name="AutoShape 3" descr=""/>
            <p:cNvPicPr/>
            <p:nvPr/>
          </p:nvPicPr>
          <p:blipFill>
            <a:blip r:embed="rId1"/>
            <a:stretch/>
          </p:blipFill>
          <p:spPr>
            <a:xfrm>
              <a:off x="1676520" y="2023920"/>
              <a:ext cx="587664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854360" y="2367000"/>
              <a:ext cx="5364000" cy="29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ff"/>
                  </a:solidFill>
                  <a:latin typeface="Arial"/>
                </a:rPr>
                <a:t>Вулканизм – это сложный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ff"/>
                  </a:solidFill>
                  <a:latin typeface="Arial"/>
                </a:rPr>
                <a:t>процесс,  при котором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ff"/>
                  </a:solidFill>
                  <a:latin typeface="Arial"/>
                </a:rPr>
                <a:t>магма поднимается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ff"/>
                  </a:solidFill>
                  <a:latin typeface="Arial"/>
                </a:rPr>
                <a:t>их недр земли, прорывает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i="1" lang="ru-RU" sz="2800" spc="-1" strike="noStrike">
                  <a:solidFill>
                    <a:srgbClr val="0000ff"/>
                  </a:solidFill>
                  <a:latin typeface="Arial"/>
                </a:rPr>
                <a:t>земную кору и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ff"/>
                  </a:solidFill>
                  <a:latin typeface="Arial"/>
                </a:rPr>
                <a:t>изливается на поверхность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2"/>
          <p:cNvSpPr txBox="1"/>
          <p:nvPr/>
        </p:nvSpPr>
        <p:spPr>
          <a:xfrm>
            <a:off x="3132000" y="476280"/>
            <a:ext cx="28576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улканы и продукты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улканических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звержений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319840" y="2367000"/>
            <a:ext cx="31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одяной  пар – 95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ероводород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Углекислый га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AutoShape 4"/>
          <p:cNvGrpSpPr/>
          <p:nvPr/>
        </p:nvGrpSpPr>
        <p:grpSpPr>
          <a:xfrm>
            <a:off x="5132520" y="3127320"/>
            <a:ext cx="2468520" cy="1457280"/>
            <a:chOff x="5132520" y="3127320"/>
            <a:chExt cx="2468520" cy="1457280"/>
          </a:xfrm>
        </p:grpSpPr>
        <p:pic>
          <p:nvPicPr>
            <p:cNvPr id="78" name="AutoShape 4" descr=""/>
            <p:cNvPicPr/>
            <p:nvPr/>
          </p:nvPicPr>
          <p:blipFill>
            <a:blip r:embed="rId1"/>
            <a:stretch/>
          </p:blipFill>
          <p:spPr>
            <a:xfrm>
              <a:off x="5132520" y="3127320"/>
              <a:ext cx="246852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 rot="5400000">
              <a:off x="5974200" y="2956680"/>
              <a:ext cx="1292040" cy="18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5"/>
          <p:cNvSpPr/>
          <p:nvPr/>
        </p:nvSpPr>
        <p:spPr>
          <a:xfrm>
            <a:off x="5724360" y="3500280"/>
            <a:ext cx="182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мператур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0-1000</a:t>
            </a:r>
            <a:r>
              <a:rPr b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471320" y="4456080"/>
            <a:ext cx="34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ы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улканический пепе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2627280" y="47628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троение вулкана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83" name="Object 3"/>
          <p:cNvGraphicFramePr/>
          <p:nvPr/>
        </p:nvGraphicFramePr>
        <p:xfrm>
          <a:off x="1835280" y="1052640"/>
          <a:ext cx="577836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052640"/>
                    <a:ext cx="5778360" cy="561636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85" name="Group 24"/>
          <p:cNvGrpSpPr/>
          <p:nvPr/>
        </p:nvGrpSpPr>
        <p:grpSpPr>
          <a:xfrm>
            <a:off x="2051640" y="2349360"/>
            <a:ext cx="5489640" cy="4336560"/>
            <a:chOff x="2051640" y="2349360"/>
            <a:chExt cx="5489640" cy="4336560"/>
          </a:xfrm>
        </p:grpSpPr>
        <p:grpSp>
          <p:nvGrpSpPr>
            <p:cNvPr id="86" name="Group 21"/>
            <p:cNvGrpSpPr/>
            <p:nvPr/>
          </p:nvGrpSpPr>
          <p:grpSpPr>
            <a:xfrm>
              <a:off x="2051640" y="2349360"/>
              <a:ext cx="5489640" cy="4336560"/>
              <a:chOff x="2051640" y="2349360"/>
              <a:chExt cx="5489640" cy="4336560"/>
            </a:xfrm>
          </p:grpSpPr>
          <p:sp>
            <p:nvSpPr>
              <p:cNvPr id="87" name="Text Box 4"/>
              <p:cNvSpPr/>
              <p:nvPr/>
            </p:nvSpPr>
            <p:spPr>
              <a:xfrm>
                <a:off x="3828600" y="6165720"/>
                <a:ext cx="2025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Область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образования магмы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Text Box 6"/>
              <p:cNvSpPr/>
              <p:nvPr/>
            </p:nvSpPr>
            <p:spPr>
              <a:xfrm>
                <a:off x="5702400" y="5591160"/>
                <a:ext cx="1591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Магматический 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очаг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7"/>
              <p:cNvSpPr/>
              <p:nvPr/>
            </p:nvSpPr>
            <p:spPr>
              <a:xfrm flipH="1">
                <a:off x="5146200" y="5735520"/>
                <a:ext cx="576360" cy="432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8"/>
              <p:cNvSpPr/>
              <p:nvPr/>
            </p:nvSpPr>
            <p:spPr>
              <a:xfrm>
                <a:off x="3778200" y="508788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Text Box 9"/>
              <p:cNvSpPr/>
              <p:nvPr/>
            </p:nvSpPr>
            <p:spPr>
              <a:xfrm>
                <a:off x="3059280" y="4943520"/>
                <a:ext cx="770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Жерло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0"/>
              <p:cNvSpPr/>
              <p:nvPr/>
            </p:nvSpPr>
            <p:spPr>
              <a:xfrm>
                <a:off x="2914560" y="371952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Text Box 11"/>
              <p:cNvSpPr/>
              <p:nvPr/>
            </p:nvSpPr>
            <p:spPr>
              <a:xfrm>
                <a:off x="2051640" y="3503520"/>
                <a:ext cx="942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Боковой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кратер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2"/>
              <p:cNvSpPr/>
              <p:nvPr/>
            </p:nvSpPr>
            <p:spPr>
              <a:xfrm flipH="1">
                <a:off x="5866920" y="3935160"/>
                <a:ext cx="64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 Box 13"/>
              <p:cNvSpPr/>
              <p:nvPr/>
            </p:nvSpPr>
            <p:spPr>
              <a:xfrm>
                <a:off x="6496560" y="3646440"/>
                <a:ext cx="1044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Лавовый 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поток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 Box 15"/>
              <p:cNvSpPr/>
              <p:nvPr/>
            </p:nvSpPr>
            <p:spPr>
              <a:xfrm>
                <a:off x="5433840" y="3216240"/>
                <a:ext cx="189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Вершинный кратер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7"/>
              <p:cNvSpPr/>
              <p:nvPr/>
            </p:nvSpPr>
            <p:spPr>
              <a:xfrm flipH="1">
                <a:off x="4065480" y="2855880"/>
                <a:ext cx="1440" cy="72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 Box 18"/>
              <p:cNvSpPr/>
              <p:nvPr/>
            </p:nvSpPr>
            <p:spPr>
              <a:xfrm>
                <a:off x="3613680" y="2349360"/>
                <a:ext cx="1538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Вулканический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конус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Line 23"/>
            <p:cNvSpPr/>
            <p:nvPr/>
          </p:nvSpPr>
          <p:spPr>
            <a:xfrm flipH="1">
              <a:off x="5003640" y="357336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826920" y="333360"/>
            <a:ext cx="702972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ипы вулканических извержений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476360" y="1628640"/>
            <a:ext cx="6767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Гавайский тип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Пелейский тип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Везувианский тип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2556000" y="404640"/>
            <a:ext cx="37065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иды вулканов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755640" y="1700280"/>
            <a:ext cx="66452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ействующие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снувшие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тухшие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2556000" y="476280"/>
            <a:ext cx="367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то интересно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95480" y="1935000"/>
            <a:ext cx="7753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упнейшие вулканы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асиво, хотя и опасн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зрывные волны трижды обогнули  земной ша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ава все сжигает на своем пу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ландия –страна вулкан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рячее озеро -  Кив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улканы и космо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0" dur="3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0"/>
                            </p:stCondLst>
                            <p:childTnLst>
                              <p:par>
                                <p:cTn id="2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3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8000"/>
                            </p:stCondLst>
                            <p:childTnLst>
                              <p:par>
                                <p:cTn id="2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8" dur="3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3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6" dur="3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7000"/>
                            </p:stCondLst>
                            <p:childTnLst>
                              <p:par>
                                <p:cTn id="2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0" dur="3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0"/>
                            </p:stCondLst>
                            <p:childTnLst>
                              <p:par>
                                <p:cTn id="30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3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2627280" y="620640"/>
            <a:ext cx="37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икторина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07" name="AutoShape 5"/>
          <p:cNvGrpSpPr/>
          <p:nvPr/>
        </p:nvGrpSpPr>
        <p:grpSpPr>
          <a:xfrm>
            <a:off x="1816200" y="2023920"/>
            <a:ext cx="5449680" cy="2713320"/>
            <a:chOff x="1816200" y="2023920"/>
            <a:chExt cx="5449680" cy="2713320"/>
          </a:xfrm>
        </p:grpSpPr>
        <p:pic>
          <p:nvPicPr>
            <p:cNvPr id="108" name="AutoShape 5" descr=""/>
            <p:cNvPicPr/>
            <p:nvPr/>
          </p:nvPicPr>
          <p:blipFill>
            <a:blip r:embed="rId1"/>
            <a:stretch/>
          </p:blipFill>
          <p:spPr>
            <a:xfrm>
              <a:off x="1816200" y="2023920"/>
              <a:ext cx="5449680" cy="271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957320" y="2327400"/>
              <a:ext cx="5011920" cy="22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Сложный процесс,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ри котором магма поднимается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Из недр земли,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рорывая земную кору,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изливается на поверхность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2627280" y="620640"/>
            <a:ext cx="37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икторина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11" name="AutoShape 3"/>
          <p:cNvGrpSpPr/>
          <p:nvPr/>
        </p:nvGrpSpPr>
        <p:grpSpPr>
          <a:xfrm>
            <a:off x="1816200" y="2170080"/>
            <a:ext cx="5449680" cy="2712960"/>
            <a:chOff x="1816200" y="2170080"/>
            <a:chExt cx="5449680" cy="2712960"/>
          </a:xfrm>
        </p:grpSpPr>
        <p:pic>
          <p:nvPicPr>
            <p:cNvPr id="112" name="AutoShape 3" descr=""/>
            <p:cNvPicPr/>
            <p:nvPr/>
          </p:nvPicPr>
          <p:blipFill>
            <a:blip r:embed="rId1"/>
            <a:stretch/>
          </p:blipFill>
          <p:spPr>
            <a:xfrm>
              <a:off x="1816200" y="2170080"/>
              <a:ext cx="5449680" cy="271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957320" y="2471760"/>
              <a:ext cx="5011920" cy="22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Что такое лава?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2627280" y="620640"/>
            <a:ext cx="37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икторина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15" name="AutoShape 3"/>
          <p:cNvGrpSpPr/>
          <p:nvPr/>
        </p:nvGrpSpPr>
        <p:grpSpPr>
          <a:xfrm>
            <a:off x="1816200" y="2023920"/>
            <a:ext cx="5449680" cy="2713320"/>
            <a:chOff x="1816200" y="2023920"/>
            <a:chExt cx="5449680" cy="2713320"/>
          </a:xfrm>
        </p:grpSpPr>
        <p:pic>
          <p:nvPicPr>
            <p:cNvPr id="116" name="AutoShape 3" descr=""/>
            <p:cNvPicPr/>
            <p:nvPr/>
          </p:nvPicPr>
          <p:blipFill>
            <a:blip r:embed="rId1"/>
            <a:stretch/>
          </p:blipFill>
          <p:spPr>
            <a:xfrm>
              <a:off x="1816200" y="2023920"/>
              <a:ext cx="5449680" cy="271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957320" y="2327400"/>
              <a:ext cx="5011920" cy="22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Что такое кратер вулкана?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Вулка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2627280" y="620640"/>
            <a:ext cx="37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икторина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19" name="AutoShape 3"/>
          <p:cNvGrpSpPr/>
          <p:nvPr/>
        </p:nvGrpSpPr>
        <p:grpSpPr>
          <a:xfrm>
            <a:off x="1816200" y="2023920"/>
            <a:ext cx="5449680" cy="2713320"/>
            <a:chOff x="1816200" y="2023920"/>
            <a:chExt cx="5449680" cy="2713320"/>
          </a:xfrm>
        </p:grpSpPr>
        <p:pic>
          <p:nvPicPr>
            <p:cNvPr id="120" name="AutoShape 3" descr=""/>
            <p:cNvPicPr/>
            <p:nvPr/>
          </p:nvPicPr>
          <p:blipFill>
            <a:blip r:embed="rId1"/>
            <a:stretch/>
          </p:blipFill>
          <p:spPr>
            <a:xfrm>
              <a:off x="1816200" y="2023920"/>
              <a:ext cx="5449680" cy="271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957320" y="2327400"/>
              <a:ext cx="5011920" cy="22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Что такое жерло?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2627280" y="620640"/>
            <a:ext cx="37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икторина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23" name="AutoShape 3"/>
          <p:cNvGrpSpPr/>
          <p:nvPr/>
        </p:nvGrpSpPr>
        <p:grpSpPr>
          <a:xfrm>
            <a:off x="1816200" y="2023920"/>
            <a:ext cx="5449680" cy="2713320"/>
            <a:chOff x="1816200" y="2023920"/>
            <a:chExt cx="5449680" cy="2713320"/>
          </a:xfrm>
        </p:grpSpPr>
        <p:pic>
          <p:nvPicPr>
            <p:cNvPr id="124" name="AutoShape 3" descr=""/>
            <p:cNvPicPr/>
            <p:nvPr/>
          </p:nvPicPr>
          <p:blipFill>
            <a:blip r:embed="rId1"/>
            <a:stretch/>
          </p:blipFill>
          <p:spPr>
            <a:xfrm>
              <a:off x="1816200" y="2023920"/>
              <a:ext cx="5449680" cy="271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957320" y="2327400"/>
              <a:ext cx="5011920" cy="22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Назовите продукты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вулканических извержений?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"/>
          <p:cNvSpPr txBox="1"/>
          <p:nvPr/>
        </p:nvSpPr>
        <p:spPr>
          <a:xfrm>
            <a:off x="2627280" y="620640"/>
            <a:ext cx="37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икторина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27" name="AutoShape 3"/>
          <p:cNvGrpSpPr/>
          <p:nvPr/>
        </p:nvGrpSpPr>
        <p:grpSpPr>
          <a:xfrm>
            <a:off x="1676520" y="2023920"/>
            <a:ext cx="5589360" cy="2713320"/>
            <a:chOff x="1676520" y="2023920"/>
            <a:chExt cx="5589360" cy="2713320"/>
          </a:xfrm>
        </p:grpSpPr>
        <p:pic>
          <p:nvPicPr>
            <p:cNvPr id="128" name="AutoShape 3" descr=""/>
            <p:cNvPicPr/>
            <p:nvPr/>
          </p:nvPicPr>
          <p:blipFill>
            <a:blip r:embed="rId1"/>
            <a:stretch/>
          </p:blipFill>
          <p:spPr>
            <a:xfrm>
              <a:off x="1676520" y="2023920"/>
              <a:ext cx="5589360" cy="271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814400" y="2327400"/>
              <a:ext cx="5154840" cy="22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Перечислить типы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вулканических извержений?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2"/>
          <p:cNvSpPr txBox="1"/>
          <p:nvPr/>
        </p:nvSpPr>
        <p:spPr>
          <a:xfrm>
            <a:off x="2627280" y="620640"/>
            <a:ext cx="37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икторина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31" name="AutoShape 3"/>
          <p:cNvGrpSpPr/>
          <p:nvPr/>
        </p:nvGrpSpPr>
        <p:grpSpPr>
          <a:xfrm>
            <a:off x="1816200" y="2023920"/>
            <a:ext cx="5449680" cy="2713320"/>
            <a:chOff x="1816200" y="2023920"/>
            <a:chExt cx="5449680" cy="2713320"/>
          </a:xfrm>
        </p:grpSpPr>
        <p:pic>
          <p:nvPicPr>
            <p:cNvPr id="132" name="AutoShape 3" descr=""/>
            <p:cNvPicPr/>
            <p:nvPr/>
          </p:nvPicPr>
          <p:blipFill>
            <a:blip r:embed="rId1"/>
            <a:stretch/>
          </p:blipFill>
          <p:spPr>
            <a:xfrm>
              <a:off x="1816200" y="2023920"/>
              <a:ext cx="5449680" cy="271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957320" y="2327400"/>
              <a:ext cx="5011920" cy="22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Виды вулканов?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2411280" y="2133720"/>
            <a:ext cx="360072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лагодарю всех!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о новой встречи!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newsflash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3132000" y="549360"/>
            <a:ext cx="2314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ь урока: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2268360" y="2421000"/>
            <a:ext cx="4608720" cy="3095640"/>
          </a:xfrm>
          <a:prstGeom prst="roundRect">
            <a:avLst>
              <a:gd name="adj" fmla="val 16667"/>
            </a:avLst>
          </a:prstGeom>
          <a:solidFill>
            <a:srgbClr val="ffff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2340000" y="2565360"/>
            <a:ext cx="439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формировать представл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 вулканах и вулканических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звержениях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3419640" y="549360"/>
            <a:ext cx="230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ан урока: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611280" y="1911240"/>
            <a:ext cx="8281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верка домашнего зада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улканы и вулканические извержения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много истор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термины и понят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роение  вулкан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ипы вулканических извержен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ды вулкан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интересн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I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Викторина «Вулканы и вулканические извержения»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403280" y="189000"/>
            <a:ext cx="6391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оверка домашнего задания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187280" y="162864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залегают горные породы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1258920" y="2637000"/>
            <a:ext cx="597708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76869">
                  <a:alpha val="0"/>
                </a:srgbClr>
              </a:gs>
              <a:gs pos="100000">
                <a:srgbClr val="bbe0e3">
                  <a:alpha val="0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 т в е 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116000" y="4221000"/>
            <a:ext cx="669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САДОЧНЫЕ: горизонтально, наклонн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АГМАТИЧЕСКИЕ: массивы, пласты и  жил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2"/>
          <p:cNvSpPr txBox="1"/>
          <p:nvPr/>
        </p:nvSpPr>
        <p:spPr>
          <a:xfrm>
            <a:off x="1403280" y="189000"/>
            <a:ext cx="6391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оверка домашнего задания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03120" y="1695600"/>
            <a:ext cx="77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ие мы знаем виды движения земной коры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1258920" y="2637000"/>
            <a:ext cx="597708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76869">
                  <a:alpha val="0"/>
                </a:srgbClr>
              </a:gs>
              <a:gs pos="100000">
                <a:srgbClr val="bbe0e3">
                  <a:alpha val="0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 т в е 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133000" y="3855960"/>
            <a:ext cx="515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оризонтальное перемеще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едленные вертикальные колеба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Землетрясе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5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5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5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2"/>
          <p:cNvSpPr txBox="1"/>
          <p:nvPr/>
        </p:nvSpPr>
        <p:spPr>
          <a:xfrm>
            <a:off x="1403280" y="189000"/>
            <a:ext cx="6391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оверка домашнего задания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023840" y="1695600"/>
            <a:ext cx="58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то такое землетрясение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1258920" y="2637000"/>
            <a:ext cx="597708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76869">
                  <a:alpha val="0"/>
                </a:srgbClr>
              </a:gs>
              <a:gs pos="100000">
                <a:srgbClr val="bbe0e3">
                  <a:alpha val="0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 т в е 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258920" y="4292640"/>
            <a:ext cx="61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РЕЗКОЕ СОТРЯСЕНИЕ ТОЛЩ  ГОРНЫ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РОД ОТ ГЛУБИН ДО САМОЙ ПОВЕРХН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2"/>
          <p:cNvSpPr txBox="1"/>
          <p:nvPr/>
        </p:nvSpPr>
        <p:spPr>
          <a:xfrm>
            <a:off x="1403280" y="189000"/>
            <a:ext cx="6391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оверка домашнего задания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116000" y="1700280"/>
            <a:ext cx="70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то можно назвать эпицентром землетрясения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1258920" y="2637000"/>
            <a:ext cx="597708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76869">
                  <a:alpha val="0"/>
                </a:srgbClr>
              </a:gs>
              <a:gs pos="100000">
                <a:srgbClr val="bbe0e3">
                  <a:alpha val="0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 т в е 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1332000" y="4214880"/>
            <a:ext cx="616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ЕСТО  РАСПОЛОЖЕННОЕ НАД ОЧАГО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ЗЕМЛЕТРЯСЕНИЯ, ГДЕ НАБЛЮДАЮТ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АИБОЛЕЕ СИЛЬНЫЕ РАЗРУШЕ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2"/>
          <p:cNvSpPr txBox="1"/>
          <p:nvPr/>
        </p:nvSpPr>
        <p:spPr>
          <a:xfrm>
            <a:off x="1403280" y="189000"/>
            <a:ext cx="6391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оверка домашнего задания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950760" y="1700280"/>
            <a:ext cx="67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де чаще всего бывают землетрясения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1258920" y="2637000"/>
            <a:ext cx="597708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76869">
                  <a:alpha val="0"/>
                </a:srgbClr>
              </a:gs>
              <a:gs pos="100000">
                <a:srgbClr val="bbe0e3">
                  <a:alpha val="0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 т в е 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037600" y="4005360"/>
            <a:ext cx="5388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областях молодых гор, на граница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итосферных плит. В Италии, Греции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Турции, Иране, Афганистане, Индии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Японии, на Филиппинах, на запад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еверной и Южной Америк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12:15:03Z</dcterms:created>
  <dc:creator>Elena</dc:creator>
  <dc:description/>
  <dc:language>en-US</dc:language>
  <cp:lastModifiedBy>Николай</cp:lastModifiedBy>
  <dcterms:modified xsi:type="dcterms:W3CDTF">2015-07-23T12:10:53Z</dcterms:modified>
  <cp:revision>10</cp:revision>
  <dc:subject/>
  <dc:title>Слайд 1</dc:title>
</cp:coreProperties>
</file>