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.jpeg" ContentType="image/jpeg"/>
  <Override PartName="/ppt/media/image35.jpeg" ContentType="image/jpeg"/>
  <Override PartName="/ppt/media/image54.gif" ContentType="image/gif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48.png" ContentType="image/png"/>
  <Override PartName="/ppt/media/image55.gif" ContentType="image/gif"/>
  <Override PartName="/ppt/media/image11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41.png" ContentType="image/png"/>
  <Override PartName="/ppt/media/image39.png" ContentType="image/png"/>
  <Override PartName="/ppt/media/image45.jpeg" ContentType="image/jpeg"/>
  <Override PartName="/ppt/media/image46.png" ContentType="image/png"/>
  <Override PartName="/ppt/media/image53.gif" ContentType="image/gif"/>
  <Override PartName="/ppt/media/image43.jpeg" ContentType="image/jpeg"/>
  <Override PartName="/ppt/media/image47.gif" ContentType="image/gif"/>
  <Override PartName="/ppt/media/image30.jpeg" ContentType="image/jpeg"/>
  <Override PartName="/ppt/media/image37.jpeg" ContentType="image/jpeg"/>
  <Override PartName="/ppt/media/image12.jpeg" ContentType="image/jpeg"/>
  <Override PartName="/ppt/media/image42.png" ContentType="image/png"/>
  <Override PartName="/ppt/media/image50.gif" ContentType="image/gif"/>
  <Override PartName="/ppt/media/image3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4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98A-BBF3-4080-92CF-9BF117B2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AFF-54AA-42AB-B944-5A091F3C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022-8801-4EB6-BB9B-CE089F5E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812-8F8D-452F-8379-D796D176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3C3AF-6756-40D6-8FE7-A6723978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F384A-E0D4-4615-A6A4-89D19239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3EDB5-73CC-49D3-BE1B-EB17F52D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A369B-CA31-43D4-8A27-40ED54EB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90480-291B-41EA-A56C-8CB983E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B559A-2593-4240-901E-34AF2191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DF2B7-5472-4D53-95E8-8394A8B5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3E0-A389-4ABA-AE86-562E9A4E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6C39C-EFE2-4A0F-8781-219619AC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43353-FDDC-40B7-BCE0-37F0237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F6B0C-04DA-4441-B254-E805E59E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D0EA3-D9F7-46D9-83CB-895659A8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5CC4E-F463-4754-96FD-19823C19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536-C1C5-4BDA-8CF6-58442C9C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446-67A5-48A9-AE37-6A5AC4A8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12E-8FB0-4F56-8F88-520654ED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643-C8E3-4519-AF06-6820794C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844-C265-4AB1-88CE-F89403A9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E58-37F3-401B-93BE-285FF148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8C7-AA99-4439-AFDF-52E68DFE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08D1-080B-4AC9-AD46-6AC8D0ACB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7BB2-687C-435C-A6A1-2156B4DBFF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elobarnaul.ru/photo/gallery/big/image_001053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mzv.by.ru/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image" Target="../media/image40.jpeg"/><Relationship Id="rId8" Type="http://schemas.openxmlformats.org/officeDocument/2006/relationships/image" Target="../media/image40.jpeg"/><Relationship Id="rId9" Type="http://schemas.openxmlformats.org/officeDocument/2006/relationships/image" Target="../media/image40.jpe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p=2&amp;p=3&amp;ed=1&amp;text=&#1088;&#1072;&#1079;&#1084;&#1077;&#1088;&#1099;%20&#1082;&#1072;&#1087;&#1077;&#1083;&#1100;&amp;spsite=gallery.saransk.ru&amp;img_url=gallery.saransk.ru%2Falbums%2Fuserpics%2F11076%2Fnormal_%25CA%25E0%25EF%25EB%25E8.jpg&amp;rpt=simage" TargetMode="External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Презентация урока по теме «Виды облаков и атмосферные осадк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84360" y="4869000"/>
            <a:ext cx="276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Выполнил учитель географ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РМОУ Сокурская СОШ : Сидорова Ю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http://meteocenter.net/clouds/Ch/pic/Ci_sp.jpg"/>
          <p:cNvPicPr/>
          <p:nvPr/>
        </p:nvPicPr>
        <p:blipFill>
          <a:blip r:embed="rId1"/>
          <a:stretch/>
        </p:blipFill>
        <p:spPr>
          <a:xfrm>
            <a:off x="3000240" y="3789360"/>
            <a:ext cx="3000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50920" y="189000"/>
            <a:ext cx="53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ткуда берется вод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ода появляется из ручей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 пути собирает рек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ека полноводно бежит на просторе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ка, наконец, не вливается в мо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оря пополняют запас океана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гущается влага над ним как сметана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на поднимается выше на неб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том превратиться в облако где-т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А облака, пролетая над нам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ем проливаются, сыплют снегами.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нега превратятся весной в ручейки,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Ручьи побегут до ближайшей реки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се это в народе и зовут:</a:t>
            </a:r>
            <a:br>
              <a:rPr sz="1800"/>
            </a:b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РУГОВОРОТОМ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859280" y="3933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2" descr="http://festival.1september.ru/articles/515942/img2.jpg"/>
          <p:cNvPicPr/>
          <p:nvPr/>
        </p:nvPicPr>
        <p:blipFill>
          <a:blip r:embed="rId1"/>
          <a:stretch/>
        </p:blipFill>
        <p:spPr>
          <a:xfrm>
            <a:off x="3924360" y="4021200"/>
            <a:ext cx="52196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ткуда взялась вода в атмосфере? (образовалась в результате испарения с поверхности земли и образует в воздухе водяной па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руговорот воды в природе начинается с испарения. Под воздействием солнечных лучей вода испаряется с поверхности земли, водоемов, растений. Пар поднимается вверх и, достигнув более холодных слоев атмосферы, на небе появляются обла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Конвективные осадки.mpg" descr=""/>
          <p:cNvPicPr/>
          <p:nvPr/>
        </p:nvPicPr>
        <p:blipFill>
          <a:blip r:embed="rId1"/>
          <a:stretch/>
        </p:blipFill>
        <p:spPr>
          <a:xfrm>
            <a:off x="4762440" y="2552760"/>
            <a:ext cx="381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3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79280" y="26028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лайд (туман) Что вы видите на слайд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овы причины образования тум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звешенные в воздухе мельчайшие капли воды, образовались в результате конденсации водяного пара при охлаждении воздуха или испарении над водоёмами и влажными участками суш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ttp://im0-tub.yandex.net/i?id=1823299&amp;tov=0"/>
          <p:cNvPicPr/>
          <p:nvPr/>
        </p:nvPicPr>
        <p:blipFill>
          <a:blip r:embed="rId1"/>
          <a:stretch/>
        </p:blipFill>
        <p:spPr>
          <a:xfrm>
            <a:off x="1476360" y="2639880"/>
            <a:ext cx="5651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68360" y="404640"/>
            <a:ext cx="86756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А если поднять туман выш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Что тогда произойдёт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Картинка 13 из 1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Сквозь несущиеся с бешенной скоростью облака, &#10;и порывы удушающих серных газов из фумарол, &#10;иногда удается увидеть подножье вулкана"/>
          <p:cNvPicPr/>
          <p:nvPr/>
        </p:nvPicPr>
        <p:blipFill>
          <a:blip r:embed="rId3"/>
          <a:stretch/>
        </p:blipFill>
        <p:spPr>
          <a:xfrm>
            <a:off x="3857760" y="171468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604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се вы видели облака, расскажите как они выглядят и чем отличаются друг от друга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спользуя учебник на стр.123-124 давайте начнё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заполнение таблицы( см. рабочий лист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Рисунок 1" descr="http://festival.1september.ru/articles/502828/img1.gif"/>
          <p:cNvPicPr/>
          <p:nvPr/>
        </p:nvPicPr>
        <p:blipFill>
          <a:blip r:embed="rId1"/>
          <a:stretch/>
        </p:blipFill>
        <p:spPr>
          <a:xfrm>
            <a:off x="1042920" y="1413000"/>
            <a:ext cx="7309080" cy="97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raduga777.ucoz.ru/Rainbow/oblaka.jpg"/>
          <p:cNvPicPr/>
          <p:nvPr/>
        </p:nvPicPr>
        <p:blipFill>
          <a:blip r:embed="rId2"/>
          <a:stretch/>
        </p:blipFill>
        <p:spPr>
          <a:xfrm>
            <a:off x="0" y="2428920"/>
            <a:ext cx="3143160" cy="1857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meteoweb.ru/img/phenom/phen034-2.jpg"/>
          <p:cNvPicPr/>
          <p:nvPr/>
        </p:nvPicPr>
        <p:blipFill>
          <a:blip r:embed="rId3"/>
          <a:stretch/>
        </p:blipFill>
        <p:spPr>
          <a:xfrm>
            <a:off x="3571920" y="250020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propogodu.ru/f/a0/ru/images/Clouds/Cirrus%20spissatus_400x300(1).jpg"/>
          <p:cNvPicPr/>
          <p:nvPr/>
        </p:nvPicPr>
        <p:blipFill>
          <a:blip r:embed="rId4"/>
          <a:stretch/>
        </p:blipFill>
        <p:spPr>
          <a:xfrm>
            <a:off x="6215040" y="2428920"/>
            <a:ext cx="2790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187280" y="549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учев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012000" y="609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Ливневы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ttp://ochevidec.net/content/story3/27/9.jpg"/>
          <p:cNvPicPr/>
          <p:nvPr/>
        </p:nvPicPr>
        <p:blipFill>
          <a:blip r:embed="rId1"/>
          <a:stretch/>
        </p:blipFill>
        <p:spPr>
          <a:xfrm>
            <a:off x="214200" y="1285920"/>
            <a:ext cx="2791080" cy="2095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www.meteo-nso.ru/img/files/groza.jpg"/>
          <p:cNvPicPr/>
          <p:nvPr/>
        </p:nvPicPr>
        <p:blipFill>
          <a:blip r:embed="rId2"/>
          <a:stretch/>
        </p:blipFill>
        <p:spPr>
          <a:xfrm>
            <a:off x="5143680" y="35712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site-for-you.moy.su/_nw/0/54533.jpg"/>
          <p:cNvPicPr/>
          <p:nvPr/>
        </p:nvPicPr>
        <p:blipFill>
          <a:blip r:embed="rId3"/>
          <a:stretch/>
        </p:blipFill>
        <p:spPr>
          <a:xfrm>
            <a:off x="0" y="3914640"/>
            <a:ext cx="41911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47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Слоистые обла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50872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Моросящие осад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9" descr="http://www.india.fotoputi.com/img/garhwal/kedarnath/IMG_6355.jpg"/>
          <p:cNvPicPr/>
          <p:nvPr/>
        </p:nvPicPr>
        <p:blipFill>
          <a:blip r:embed="rId1"/>
          <a:stretch/>
        </p:blipFill>
        <p:spPr>
          <a:xfrm>
            <a:off x="0" y="1125360"/>
            <a:ext cx="38210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468360" y="404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еристые обла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435640" y="6308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садков не выпада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http://meteoweb.ru/img/diary/2008q3/20080823-0-2.jpg"/>
          <p:cNvPicPr/>
          <p:nvPr/>
        </p:nvPicPr>
        <p:blipFill>
          <a:blip r:embed="rId1"/>
          <a:stretch/>
        </p:blipFill>
        <p:spPr>
          <a:xfrm>
            <a:off x="1116000" y="98100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91600"/>
            <a:ext cx="8964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Пример заполнения таблицы «Сравнительная характеристика облаков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25360"/>
          <a:ext cx="8507520" cy="4749840"/>
        </p:xfrm>
        <a:graphic>
          <a:graphicData uri="http://schemas.openxmlformats.org/drawingml/2006/table">
            <a:tbl>
              <a:tblPr/>
              <a:tblGrid>
                <a:gridCol w="1127160"/>
                <a:gridCol w="1191960"/>
                <a:gridCol w="1636920"/>
                <a:gridCol w="1716120"/>
                <a:gridCol w="1538280"/>
                <a:gridCol w="12970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бла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нешний ви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ысот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какой сезон года можно наблюд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чина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иды осад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Кучев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-10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 весны по 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подъёме тёпл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Сло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Менее 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179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ерист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-12 к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течении всего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В верхних частях тропосферы при контакте тёплого и холодного возд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68360" y="40464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скажите, из всех облаков выпадают осадки?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чему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возьмите перышко которое лежит на вашем столе, представьте, что перышко это капля дождя, повторяйте за м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Подуйте на пёрышко сниз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Пёрышко не падает. Почем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акой возникает отве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Снизу конвективные потоки поднимают каплю вверх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в каком случае капля – перо упадет на земную поверхность?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огда масса капли будет преодолевать поднимающиеся потоки воздух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Денежное перыш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000680"/>
            <a:ext cx="361944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data4.gallery.ru/albums/gallery/91121--10172001-m549x500.jpg"/>
          <p:cNvPicPr/>
          <p:nvPr/>
        </p:nvPicPr>
        <p:blipFill>
          <a:blip r:embed="rId3"/>
          <a:stretch/>
        </p:blipFill>
        <p:spPr>
          <a:xfrm>
            <a:off x="4638600" y="3643200"/>
            <a:ext cx="4505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Задач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1. рассмотреть виды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2.Рассмотреть основные виды обла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3.Научиться строить диаграмму годового количества оса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9" descr="мальчик"/>
          <p:cNvPicPr/>
          <p:nvPr/>
        </p:nvPicPr>
        <p:blipFill>
          <a:blip r:embed="rId1"/>
          <a:stretch/>
        </p:blipFill>
        <p:spPr>
          <a:xfrm>
            <a:off x="611280" y="3645000"/>
            <a:ext cx="225576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42920" y="836640"/>
            <a:ext cx="6913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А теперь давайте представим, что происходит внутри облака. Встаньте. Мы капельки воды в облаке. Что мы должны делать?  (</a:t>
            </a: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апли все время двигаются). (Они сталкиваются, сливаются,  постепенно становятся больше и тяжелее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http://meteoinfo.ru/media/through_the_eyes/clouds_n_prison.JPG"/>
          <p:cNvPicPr/>
          <p:nvPr/>
        </p:nvPicPr>
        <p:blipFill>
          <a:blip r:embed="rId1"/>
          <a:stretch/>
        </p:blipFill>
        <p:spPr>
          <a:xfrm>
            <a:off x="0" y="4000680"/>
            <a:ext cx="4095720" cy="27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 (699x464, 47Kb)"/>
          <p:cNvPicPr/>
          <p:nvPr/>
        </p:nvPicPr>
        <p:blipFill>
          <a:blip r:embed="rId2"/>
          <a:stretch/>
        </p:blipFill>
        <p:spPr>
          <a:xfrm>
            <a:off x="4408560" y="3714840"/>
            <a:ext cx="4735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755640" y="692280"/>
            <a:ext cx="8137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ассмотрите на странице 125, рисунок 80 и скажите, каких размеров должна быть капля, чтобы упас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0,01 мм- облачн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иаметр капли от 0,5 до 5 мм- дождевая кап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бята, перечислите какие виды осадков, вы знаете, одновременно будем заполнять схему на лист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3"/>
          <p:cNvSpPr/>
          <p:nvPr/>
        </p:nvSpPr>
        <p:spPr>
          <a:xfrm>
            <a:off x="716436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03280" y="1700280"/>
            <a:ext cx="863640" cy="3097080"/>
          </a:xfrm>
          <a:prstGeom prst="upDownArrow">
            <a:avLst>
              <a:gd name="adj1" fmla="val 50000"/>
              <a:gd name="adj2" fmla="val 7138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55640" y="3068640"/>
            <a:ext cx="237636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 сезонам 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539640" y="260280"/>
            <a:ext cx="2448000" cy="14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пл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611280" y="4797360"/>
            <a:ext cx="2160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ад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олод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и 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804000" y="2781360"/>
            <a:ext cx="216072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иды осадков п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ысоте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6588000" y="4797360"/>
            <a:ext cx="223200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лизко к зем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ерхности или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емл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659640" y="260280"/>
            <a:ext cx="2160360" cy="151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верхн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редних слоя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опосфе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Cloud"/>
          <p:cNvSpPr/>
          <p:nvPr/>
        </p:nvSpPr>
        <p:spPr>
          <a:xfrm>
            <a:off x="3564000" y="0"/>
            <a:ext cx="2311200" cy="12682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ы осад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4572000" y="2421000"/>
            <a:ext cx="1655640" cy="792000"/>
          </a:xfrm>
          <a:prstGeom prst="cloudCallout">
            <a:avLst>
              <a:gd name="adj1" fmla="val -43958"/>
              <a:gd name="adj2" fmla="val -20230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дожд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3564000" y="3284640"/>
            <a:ext cx="1655640" cy="792000"/>
          </a:xfrm>
          <a:prstGeom prst="cloudCallout">
            <a:avLst>
              <a:gd name="adj1" fmla="val 38111"/>
              <a:gd name="adj2" fmla="val -19789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гра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4932360" y="5734080"/>
            <a:ext cx="1655640" cy="792000"/>
          </a:xfrm>
          <a:prstGeom prst="cloudCallout">
            <a:avLst>
              <a:gd name="adj1" fmla="val -44537"/>
              <a:gd name="adj2" fmla="val -26162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348000" y="4292640"/>
            <a:ext cx="1655640" cy="792000"/>
          </a:xfrm>
          <a:prstGeom prst="cloudCallout">
            <a:avLst>
              <a:gd name="adj1" fmla="val 31208"/>
              <a:gd name="adj2" fmla="val -429958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и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4500720" y="4869000"/>
            <a:ext cx="2087280" cy="792000"/>
          </a:xfrm>
          <a:prstGeom prst="cloudCallout">
            <a:avLst>
              <a:gd name="adj1" fmla="val -24981"/>
              <a:gd name="adj2" fmla="val -397893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изморо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2916360" y="2060640"/>
            <a:ext cx="1655640" cy="792000"/>
          </a:xfrm>
          <a:prstGeom prst="cloudCallout">
            <a:avLst>
              <a:gd name="adj1" fmla="val 38972"/>
              <a:gd name="adj2" fmla="val -16663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о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2987640" y="5445000"/>
            <a:ext cx="2016000" cy="863640"/>
          </a:xfrm>
          <a:prstGeom prst="cloudCallout">
            <a:avLst>
              <a:gd name="adj1" fmla="val 34564"/>
              <a:gd name="adj2" fmla="val -53474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нежная кру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20"/>
          <p:cNvSpPr/>
          <p:nvPr/>
        </p:nvSpPr>
        <p:spPr>
          <a:xfrm>
            <a:off x="5003640" y="3860640"/>
            <a:ext cx="1656000" cy="792360"/>
          </a:xfrm>
          <a:prstGeom prst="cloudCallout">
            <a:avLst>
              <a:gd name="adj1" fmla="val -27467"/>
              <a:gd name="adj2" fmla="val -4015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морос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21"/>
          <p:cNvSpPr/>
          <p:nvPr/>
        </p:nvSpPr>
        <p:spPr>
          <a:xfrm rot="13215000">
            <a:off x="2538360" y="1452240"/>
            <a:ext cx="992160" cy="720720"/>
          </a:xfrm>
          <a:prstGeom prst="rightArrow">
            <a:avLst>
              <a:gd name="adj1" fmla="val 0"/>
              <a:gd name="adj2" fmla="val 85325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22"/>
          <p:cNvSpPr/>
          <p:nvPr/>
        </p:nvSpPr>
        <p:spPr>
          <a:xfrm rot="2035800">
            <a:off x="3634920" y="3428640"/>
            <a:ext cx="4176720" cy="576360"/>
          </a:xfrm>
          <a:prstGeom prst="rightArrow">
            <a:avLst>
              <a:gd name="adj1" fmla="val 0"/>
              <a:gd name="adj2" fmla="val 100817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684360" y="692280"/>
            <a:ext cx="86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интересно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: Один путешественник писал: “Мы двигались по открытой местности. Внезапно подул сильный ветер, и туча закрыла солнце. Мой спутник радостно закричал: “Наконец-то дождь !”, но проводник покачал головой. Вскоре мы услышали шум дождя. Он доносился сверху, но ни одна капля не упала на Землю. Все недоумев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де это могло произойти и почему?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(Такое наблюдается в пустыне. Земля сильно нагревается, а от Земли нагревается воздух, поэтому капли воды испаряются в расплавленном воздухе, не достигнув земл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Рисунок 1" descr="2230-1.jpg"/>
          <p:cNvPicPr/>
          <p:nvPr/>
        </p:nvPicPr>
        <p:blipFill>
          <a:blip r:embed="rId1"/>
          <a:stretch/>
        </p:blipFill>
        <p:spPr>
          <a:xfrm>
            <a:off x="0" y="3933720"/>
            <a:ext cx="18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826920" y="620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атласом Новосибирской об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184464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ие виды осадков преобладают в Новосибирской област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95280" y="472428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вномерно ли распределяются осадки по всей территори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6" descr="novosibirsk_obl_map"/>
          <p:cNvPicPr/>
          <p:nvPr/>
        </p:nvPicPr>
        <p:blipFill>
          <a:blip r:embed="rId1"/>
          <a:srcRect l="831" t="831" r="4667" b="4667"/>
          <a:stretch/>
        </p:blipFill>
        <p:spPr>
          <a:xfrm>
            <a:off x="3635280" y="2492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042920" y="90792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абота с климатической карто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Как обозначаются осадк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 чем измеряются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Где больше всего выпадает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002"/>
          <p:cNvPicPr/>
          <p:nvPr/>
        </p:nvPicPr>
        <p:blipFill>
          <a:blip r:embed="rId1"/>
          <a:stretch/>
        </p:blipFill>
        <p:spPr>
          <a:xfrm>
            <a:off x="755640" y="2781360"/>
            <a:ext cx="495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755640" y="47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Как вы думаете, как будет называться прибор, с помощью которого измеряют количество осадков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Рисунок 2" descr="http://festival.1september.ru/articles/502828/img2.gif"/>
          <p:cNvPicPr/>
          <p:nvPr/>
        </p:nvPicPr>
        <p:blipFill>
          <a:blip r:embed="rId1"/>
          <a:stretch/>
        </p:blipFill>
        <p:spPr>
          <a:xfrm>
            <a:off x="539640" y="1557360"/>
            <a:ext cx="8244000" cy="779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Водпа"/>
          <p:cNvPicPr/>
          <p:nvPr/>
        </p:nvPicPr>
        <p:blipFill>
          <a:blip r:embed="rId2"/>
          <a:stretch/>
        </p:blipFill>
        <p:spPr>
          <a:xfrm>
            <a:off x="3348000" y="2565360"/>
            <a:ext cx="2536920" cy="2536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12"/>
          <p:cNvPicPr/>
          <p:nvPr/>
        </p:nvPicPr>
        <p:blipFill>
          <a:blip r:embed="rId3"/>
          <a:stretch/>
        </p:blipFill>
        <p:spPr>
          <a:xfrm>
            <a:off x="324000" y="2924280"/>
            <a:ext cx="2087280" cy="160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31"/>
          <p:cNvPicPr/>
          <p:nvPr/>
        </p:nvPicPr>
        <p:blipFill>
          <a:blip r:embed="rId4"/>
          <a:stretch/>
        </p:blipFill>
        <p:spPr>
          <a:xfrm>
            <a:off x="6726240" y="2852640"/>
            <a:ext cx="1341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755640" y="40464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авила анализа диаграмм годового количества осадков Количество осадков за месяц равно сумме осадков, выпавших за все дни месяц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Скажите, как это вычисляют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 А как вычисляют количество осадков  за год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А сейчас мы научимся строить и  анализировать диаграммы годового количества осадков. Для, этого, откройте страницу учебника 126, рисунок 8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Что можно узнать по диаграмме годового количества осадков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411280" y="3933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250920" y="692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амостоятельное построение диаграммы годового количества осад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 А теперь научимся сами составлять  столбиковую диаграмму годового количества осадков, используя данные годового количества осадков в Мошковском районе за …год.. Работа в рабочем лист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Скажите, что будем откладывать по вертикальной оси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А по горизонтальной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-Откладываем в отрезке январь вверх такое расстояние, которое соответствовало бы количеству осадков за данный месяц. Черти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10199"/>
                </a:solidFill>
                <a:uFillTx/>
                <a:latin typeface="Tahoma"/>
              </a:rPr>
              <a:t>Читаем диаграмму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r"/>
          <p:cNvPicPr/>
          <p:nvPr/>
        </p:nvPicPr>
        <p:blipFill>
          <a:blip r:embed="rId1"/>
          <a:srcRect l="9142" t="0" r="0" b="0"/>
          <a:stretch/>
        </p:blipFill>
        <p:spPr>
          <a:xfrm>
            <a:off x="2050920" y="4149720"/>
            <a:ext cx="32022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468360" y="76500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ставление класте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«Что мы узнали об облаках и атмосферных осадках?»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6" descr="8"/>
          <p:cNvPicPr/>
          <p:nvPr/>
        </p:nvPicPr>
        <p:blipFill>
          <a:blip r:embed="rId1"/>
          <a:stretch/>
        </p:blipFill>
        <p:spPr>
          <a:xfrm>
            <a:off x="1042920" y="2852640"/>
            <a:ext cx="2060640" cy="1730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Снеговик и нос"/>
          <p:cNvPicPr/>
          <p:nvPr/>
        </p:nvPicPr>
        <p:blipFill>
          <a:blip r:embed="rId2"/>
          <a:stretch/>
        </p:blipFill>
        <p:spPr>
          <a:xfrm>
            <a:off x="6948360" y="3860640"/>
            <a:ext cx="162432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900000" y="62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Сейчас мы узнаем какую оболочку земли мы с вами будем изучать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03280" y="1413000"/>
            <a:ext cx="6480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 этом слове зашифровано название оболочки зем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АРЕФСОМ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31"/>
          <p:cNvPicPr/>
          <p:nvPr/>
        </p:nvPicPr>
        <p:blipFill>
          <a:blip r:embed="rId1"/>
          <a:stretch/>
        </p:blipFill>
        <p:spPr>
          <a:xfrm>
            <a:off x="395280" y="4076640"/>
            <a:ext cx="19940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12"/>
          <p:cNvPicPr/>
          <p:nvPr/>
        </p:nvPicPr>
        <p:blipFill>
          <a:blip r:embed="rId2"/>
          <a:stretch/>
        </p:blipFill>
        <p:spPr>
          <a:xfrm>
            <a:off x="6659640" y="1197000"/>
            <a:ext cx="2733480" cy="209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Осадки 2"/>
          <p:cNvPicPr/>
          <p:nvPr/>
        </p:nvPicPr>
        <p:blipFill>
          <a:blip r:embed="rId3"/>
          <a:stretch/>
        </p:blipFill>
        <p:spPr>
          <a:xfrm>
            <a:off x="7054920" y="3025800"/>
            <a:ext cx="2089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395280" y="47628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росто интересно!!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Так существует ли связь между видами облаков и осадкам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Наблюдали ли вы такое явл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Идет дождь – теплый, летний. Вы выбегаете на улицу и начинаете прыгать и громко кричать: “Дождик, дождик лей-лей, никого не жалей”, и он на самом деле становится сильне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Это происходит потому, что малейшие сотрясения воздуха вызывают образование из паров воды дождевых капел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http://im4-tub.yandex.net/i?id=54208355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91040"/>
            <a:ext cx="3708360" cy="2766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http://im2-tub.yandex.net/i?id=43764049&amp;tov=2"/>
          <p:cNvPicPr/>
          <p:nvPr/>
        </p:nvPicPr>
        <p:blipFill>
          <a:blip r:embed="rId3"/>
          <a:stretch/>
        </p:blipFill>
        <p:spPr>
          <a:xfrm>
            <a:off x="5627520" y="4108320"/>
            <a:ext cx="35164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116000" y="692280"/>
            <a:ext cx="6408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Домашнее зад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 у-нь: Параграф 4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 у-нь: нарисовать пейзаж с одним из видов облачности: безоблачно; незначительная облачность; средняя облачность; с просветами; сплошна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 у-нь: объяснить причины образования различной обла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4" descr="4"/>
          <p:cNvPicPr/>
          <p:nvPr/>
        </p:nvPicPr>
        <p:blipFill>
          <a:blip r:embed="rId1"/>
          <a:stretch/>
        </p:blipFill>
        <p:spPr>
          <a:xfrm>
            <a:off x="1258920" y="3357720"/>
            <a:ext cx="27064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1835280" y="836640"/>
            <a:ext cx="569268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Спасибо за урок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15" name="Picture 6" descr="7"/>
          <p:cNvPicPr/>
          <p:nvPr/>
        </p:nvPicPr>
        <p:blipFill>
          <a:blip r:embed="rId1"/>
          <a:stretch/>
        </p:blipFill>
        <p:spPr>
          <a:xfrm>
            <a:off x="6875640" y="3860640"/>
            <a:ext cx="1977840" cy="299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liparts191"/>
          <p:cNvPicPr/>
          <p:nvPr/>
        </p:nvPicPr>
        <p:blipFill>
          <a:blip r:embed="rId2"/>
          <a:stretch/>
        </p:blipFill>
        <p:spPr>
          <a:xfrm>
            <a:off x="2556000" y="1989000"/>
            <a:ext cx="37908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 каких состояниях находится вода в атмосфере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692280"/>
            <a:ext cx="777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Для того чтобы узнать какую оболочку Земли мы с вами сегодня будем изучат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ам необходимо отгадать загад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77240" y="414900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 жидком, твердом(атмосферные осадки) и газообразном(облака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340000" y="1700280"/>
            <a:ext cx="410364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Да, сегодня на уроке мы будем говорить об атмосферных осадках, их видах, о причинах,  влияющих на их количество, и как осадки измеряют. На уроке очень пригодятся  ваши воспоминания о лете, осени, весне. А также нам будет помогать пейзаж из окна.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Изображение 100"/>
          <p:cNvPicPr/>
          <p:nvPr/>
        </p:nvPicPr>
        <p:blipFill>
          <a:blip r:embed="rId1"/>
          <a:stretch/>
        </p:blipFill>
        <p:spPr>
          <a:xfrm>
            <a:off x="5724360" y="429264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P1750290.JPG"/>
          <p:cNvPicPr/>
          <p:nvPr/>
        </p:nvPicPr>
        <p:blipFill>
          <a:blip r:embed="rId2"/>
          <a:stretch/>
        </p:blipFill>
        <p:spPr>
          <a:xfrm>
            <a:off x="0" y="0"/>
            <a:ext cx="2484360" cy="1862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Изображение 072"/>
          <p:cNvPicPr/>
          <p:nvPr/>
        </p:nvPicPr>
        <p:blipFill>
          <a:blip r:embed="rId3"/>
          <a:stretch/>
        </p:blipFill>
        <p:spPr>
          <a:xfrm>
            <a:off x="0" y="42386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1750280"/>
          <p:cNvPicPr/>
          <p:nvPr/>
        </p:nvPicPr>
        <p:blipFill>
          <a:blip r:embed="rId4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авайте составим класте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Что вы уже знаете об облаках и атмосферных осадк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чащиеся делятся на 2 группы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ставляют класт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1 группа записывает всё что знает об обла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2 группа записывает всё что знает об осад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"/>
          <p:cNvSpPr/>
          <p:nvPr/>
        </p:nvSpPr>
        <p:spPr>
          <a:xfrm>
            <a:off x="3276720" y="256536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тмосферные осад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5"/>
          <p:cNvSpPr/>
          <p:nvPr/>
        </p:nvSpPr>
        <p:spPr>
          <a:xfrm rot="10800000">
            <a:off x="2050560" y="1414080"/>
            <a:ext cx="1203480" cy="75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967" y="18325"/>
                </a:moveTo>
                <a:lnTo>
                  <a:pt x="22967" y="18325"/>
                </a:lnTo>
                <a:lnTo>
                  <a:pt x="22967" y="4456"/>
                </a:lnTo>
                <a:lnTo>
                  <a:pt x="-4104" y="-9641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1620000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Дожд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7451640" y="4437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162893"/>
              <a:gd name="adj4" fmla="val -194893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330280" y="5300640"/>
            <a:ext cx="1398600" cy="720720"/>
          </a:xfrm>
          <a:prstGeom prst="borderCallout1">
            <a:avLst>
              <a:gd name="adj1" fmla="val 18750"/>
              <a:gd name="adj2" fmla="val -8333"/>
              <a:gd name="adj3" fmla="val -239648"/>
              <a:gd name="adj4" fmla="val 105449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ибель урож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1179360" y="443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213837"/>
              <a:gd name="adj4" fmla="val 146981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7093080" y="3068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5976"/>
              <a:gd name="adj4" fmla="val -79930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2"/>
          <p:cNvSpPr/>
          <p:nvPr/>
        </p:nvSpPr>
        <p:spPr>
          <a:xfrm>
            <a:off x="6227640" y="5877000"/>
            <a:ext cx="1368720" cy="504720"/>
          </a:xfrm>
          <a:prstGeom prst="borderCallout1">
            <a:avLst>
              <a:gd name="adj1" fmla="val 18750"/>
              <a:gd name="adj2" fmla="val -8333"/>
              <a:gd name="adj3" fmla="val -469495"/>
              <a:gd name="adj4" fmla="val -137935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4" descr="http://club.ncstu.ru/photo/nob/water/09.jpg"/>
          <p:cNvPicPr/>
          <p:nvPr/>
        </p:nvPicPr>
        <p:blipFill>
          <a:blip r:embed="rId1"/>
          <a:stretch/>
        </p:blipFill>
        <p:spPr>
          <a:xfrm>
            <a:off x="0" y="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http://img1.liveinternet.ru/images/attach/b/2/24/929/24929347_img017.jpg"/>
          <p:cNvPicPr/>
          <p:nvPr/>
        </p:nvPicPr>
        <p:blipFill>
          <a:blip r:embed="rId2"/>
          <a:stretch/>
        </p:blipFill>
        <p:spPr>
          <a:xfrm>
            <a:off x="0" y="54291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http://www.epochtimes.ru/images/stories/03/china/105_u91_binbao.jpg"/>
          <p:cNvPicPr/>
          <p:nvPr/>
        </p:nvPicPr>
        <p:blipFill>
          <a:blip r:embed="rId3"/>
          <a:stretch/>
        </p:blipFill>
        <p:spPr>
          <a:xfrm>
            <a:off x="4071960" y="142920"/>
            <a:ext cx="2222640" cy="142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http://image002.mylivepage.com/chunk2/852619/577/Божья%20роса.jpg"/>
          <p:cNvPicPr/>
          <p:nvPr/>
        </p:nvPicPr>
        <p:blipFill>
          <a:blip r:embed="rId4"/>
          <a:stretch/>
        </p:blipFill>
        <p:spPr>
          <a:xfrm>
            <a:off x="3786120" y="5456160"/>
            <a:ext cx="1911240" cy="1401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3286080" y="2500200"/>
            <a:ext cx="2736720" cy="1009800"/>
          </a:xfrm>
          <a:prstGeom prst="foldedCorner">
            <a:avLst>
              <a:gd name="adj" fmla="val 20476"/>
            </a:avLst>
          </a:prstGeom>
          <a:gradFill rotWithShape="0">
            <a:gsLst>
              <a:gs pos="0">
                <a:srgbClr val="33cccc"/>
              </a:gs>
              <a:gs pos="50000">
                <a:srgbClr val="baeeee"/>
              </a:gs>
              <a:gs pos="100000">
                <a:srgbClr val="33cccc"/>
              </a:gs>
            </a:gsLst>
            <a:lin ang="5400000"/>
          </a:gradFill>
          <a:ln w="0">
            <a:solidFill>
              <a:srgbClr val="000080"/>
            </a:solidFill>
            <a:prstDash val="dash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бла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7093080" y="907920"/>
            <a:ext cx="1368360" cy="505080"/>
          </a:xfrm>
          <a:prstGeom prst="borderCallout1">
            <a:avLst>
              <a:gd name="adj1" fmla="val 18750"/>
              <a:gd name="adj2" fmla="val -8333"/>
              <a:gd name="adj3" fmla="val 324842"/>
              <a:gd name="adj4" fmla="val -165546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учев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6877080" y="5013360"/>
            <a:ext cx="1655640" cy="720720"/>
          </a:xfrm>
          <a:prstGeom prst="borderCallout1">
            <a:avLst>
              <a:gd name="adj1" fmla="val 18750"/>
              <a:gd name="adj2" fmla="val -8333"/>
              <a:gd name="adj3" fmla="val -209472"/>
              <a:gd name="adj4" fmla="val -9597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асмурная пог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971720" y="486900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-276731"/>
              <a:gd name="adj4" fmla="val 164847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890640" y="184464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128930"/>
              <a:gd name="adj4" fmla="val 18944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775640" y="270828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76101"/>
              <a:gd name="adj4" fmla="val -128074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1971720" y="549360"/>
            <a:ext cx="1368360" cy="504720"/>
          </a:xfrm>
          <a:prstGeom prst="borderCallout1">
            <a:avLst>
              <a:gd name="adj1" fmla="val 18750"/>
              <a:gd name="adj2" fmla="val -8333"/>
              <a:gd name="adj3" fmla="val 373268"/>
              <a:gd name="adj4" fmla="val 149652"/>
            </a:avLst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3" descr="http://images.astronet.ru/pubd/2007/11/25/0001224798/iridescent_allen.jpg"/>
          <p:cNvPicPr/>
          <p:nvPr/>
        </p:nvPicPr>
        <p:blipFill>
          <a:blip r:embed="rId1"/>
          <a:stretch/>
        </p:blipFill>
        <p:spPr>
          <a:xfrm>
            <a:off x="0" y="27860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http://img0.liveinternet.ru/images/attach/b/3/26/298/26298696_733330.jpg"/>
          <p:cNvPicPr/>
          <p:nvPr/>
        </p:nvPicPr>
        <p:blipFill>
          <a:blip r:embed="rId2"/>
          <a:stretch/>
        </p:blipFill>
        <p:spPr>
          <a:xfrm>
            <a:off x="0" y="0"/>
            <a:ext cx="1865160" cy="140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http://www.asveti.ru/p/medium/g/10/i/background/medium/01_23_07__1_49_05__pm.jpg"/>
          <p:cNvPicPr/>
          <p:nvPr/>
        </p:nvPicPr>
        <p:blipFill>
          <a:blip r:embed="rId3"/>
          <a:stretch/>
        </p:blipFill>
        <p:spPr>
          <a:xfrm>
            <a:off x="4000680" y="0"/>
            <a:ext cx="2151000" cy="161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http://meteoweb.ru/img/diary/2008q3/20080826-0-1.jpg"/>
          <p:cNvPicPr/>
          <p:nvPr/>
        </p:nvPicPr>
        <p:blipFill>
          <a:blip r:embed="rId4"/>
          <a:stretch/>
        </p:blipFill>
        <p:spPr>
          <a:xfrm>
            <a:off x="3786120" y="4929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http://meteoweb.ru/img/clouds/cl004-3-1.jpg"/>
          <p:cNvPicPr/>
          <p:nvPr/>
        </p:nvPicPr>
        <p:blipFill>
          <a:blip r:embed="rId5"/>
          <a:stretch/>
        </p:blipFill>
        <p:spPr>
          <a:xfrm>
            <a:off x="6786720" y="3286080"/>
            <a:ext cx="2222280" cy="1459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http://borisfen.narod.ru/image007.jpg"/>
          <p:cNvPicPr/>
          <p:nvPr/>
        </p:nvPicPr>
        <p:blipFill>
          <a:blip r:embed="rId6"/>
          <a:stretch/>
        </p:blipFill>
        <p:spPr>
          <a:xfrm>
            <a:off x="0" y="5572080"/>
            <a:ext cx="190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Состав атмосферы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Атмосфера состоит из воздух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Каков состав воздух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http://img1.liveinternet.ru/images/attach/b/3/15/640/15640874_tuman.jpg"/>
          <p:cNvPicPr/>
          <p:nvPr/>
        </p:nvPicPr>
        <p:blipFill>
          <a:blip r:embed="rId1"/>
          <a:stretch/>
        </p:blipFill>
        <p:spPr>
          <a:xfrm>
            <a:off x="2484360" y="3987720"/>
            <a:ext cx="3587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37:47Z</dcterms:created>
  <dc:creator>владик</dc:creator>
  <dc:description/>
  <dc:language>en-US</dc:language>
  <cp:lastModifiedBy>Admin</cp:lastModifiedBy>
  <dcterms:modified xsi:type="dcterms:W3CDTF">2012-11-21T14:20:37Z</dcterms:modified>
  <cp:revision>17</cp:revision>
  <dc:subject/>
  <dc:title>Презентация урока по теме «Виды облаков и атмосферные осадки»</dc:title>
</cp:coreProperties>
</file>