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A41-08A4-4651-86C5-7D21E5BD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482-060D-418E-AA6F-40F38274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A46-102A-4DF5-8E8E-113291F2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AE9-CF9B-42F8-BE22-71AA7E84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152-CFDC-4780-91C7-FC467105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756-ECA6-40FA-BFC4-B8C1EBB2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4FF-4288-41AF-9E3F-BFCC50AC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495-A111-4EE1-9157-5FC255F6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F4F-7BD9-42CB-B004-3919226E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382-ED83-4626-86DA-D638DC7E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271-D14C-446F-A8DC-B361378C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4E1-3E27-49F8-87DB-6860B07B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9F4E-5DC3-47C1-BC73-F834A44FE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5/5f/Mastodonsaurus_DB.jpg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ru.wikipedia.org/wiki/&#1052;&#1072;&#1089;&#1090;&#1086;&#1076;&#1086;&#1085;&#1079;&#1072;&#1074;&#1088;" TargetMode="External"/><Relationship Id="rId5" Type="http://schemas.openxmlformats.org/officeDocument/2006/relationships/hyperlink" Target="http://ru.wikipedia.org/wiki/&#1060;&#1072;&#1081;&#1083;:Mastodonsaurus_DB.jpg" TargetMode="External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9.radikal.ru/i164/0809/36/f88d2166868a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047.radikal.ru/0809/9c/e0e860cc0eec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mirgeo.net/index.php?option=com_datsogallery&amp;Itemid=69&amp;func=wmark&amp;mid=1521" TargetMode="External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d/Ginkgo_biloba_SZ136.pn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upload.wikimedia.org/wikipedia/commons/e/e8/Ginkgo_biloba_%28Sch&#246;nbrunn%29_natural_monument_%28Four_Seasons%29.jpg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upload.wikimedia.org/wikipedia/commons/a/a3/Ginkgo_biloba0.jpg" TargetMode="External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Araucaria_columnaris1.jpg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upload.wikimedia.org/wikipedia/commons/5/52/Araucaria_Columnaris.Serres_d%27Auteuil_003.jpg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upload.wikimedia.org/wikipedia/commons/e/e2/Small_bunyapine.jpg" TargetMode="External"/><Relationship Id="rId7" Type="http://schemas.openxmlformats.org/officeDocument/2006/relationships/image" Target="../media/image36.jpeg"/><Relationship Id="rId8" Type="http://schemas.openxmlformats.org/officeDocument/2006/relationships/hyperlink" Target="http://upload.wikimedia.org/wikipedia/commons/4/45/Araucaria_araucana4.jpg" TargetMode="External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TXbaccata.jpg" TargetMode="External"/><Relationship Id="rId3" Type="http://schemas.openxmlformats.org/officeDocument/2006/relationships/image" Target="../media/image38.jpeg"/><Relationship Id="rId4" Type="http://schemas.openxmlformats.org/officeDocument/2006/relationships/hyperlink" Target="http://ru.wikipedia.org/wiki/&#1051;&#1072;&#1090;&#1080;&#1085;&#1089;&#1082;&#1080;&#1081;_&#1103;&#1079;&#1099;&#1082;" TargetMode="External"/><Relationship Id="rId5" Type="http://schemas.openxmlformats.org/officeDocument/2006/relationships/hyperlink" Target="http://www.yugzone.ru/login/trees/yew-a1a.jpg" TargetMode="External"/><Relationship Id="rId6" Type="http://schemas.openxmlformats.org/officeDocument/2006/relationships/image" Target="../media/image39.jpeg"/><Relationship Id="rId7" Type="http://schemas.openxmlformats.org/officeDocument/2006/relationships/hyperlink" Target="http://botany.cz/foto/tisy5.jpg" TargetMode="External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gent-vialet.narod.ru/SAGOVNIKI/3.jpg" TargetMode="External"/><Relationship Id="rId3" Type="http://schemas.openxmlformats.org/officeDocument/2006/relationships/image" Target="../media/image41.jpeg"/><Relationship Id="rId4" Type="http://schemas.openxmlformats.org/officeDocument/2006/relationships/hyperlink" Target="http://images.km.ru/images/irgis/sagovnik.jpg" TargetMode="External"/><Relationship Id="rId5" Type="http://schemas.openxmlformats.org/officeDocument/2006/relationships/image" Target="../media/image42.jpeg"/><Relationship Id="rId6" Type="http://schemas.openxmlformats.org/officeDocument/2006/relationships/hyperlink" Target="http://mirpalm.com/main/sagovnik/foto/6.jpg" TargetMode="External"/><Relationship Id="rId7" Type="http://schemas.openxmlformats.org/officeDocument/2006/relationships/image" Target="../media/image43.jpeg"/><Relationship Id="rId8" Type="http://schemas.openxmlformats.org/officeDocument/2006/relationships/hyperlink" Target="http://www.proflowers.ru/pic/small/400x400_573423d20e8b5e26e4b0a36efb8817e2.jpg" TargetMode="External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ybalka.com/userfiles/upload/3985/1240924178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ww.prehistoricsillustrated.com/images_pixs/ichthyosaurus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monit.ru/news/260ammonite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g-fotki.yandex.ru/get/3000/katya1.4/0_1bd8c_8594c30e_XL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selvolostj.narod.ru/MUZEI/POTL/pal1_2.JPG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hyperlink" Target="http://www.interesniy.kiev.ua/imglib/prikoly_goroda/urassic_period/ura11.jpg" TargetMode="External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1.radikal.ru/i132/0908/cf/6bdd4a4dc62f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mail.ru/mail/fly_leo/dino/972.html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paleoworld.ucoz.ru/_ph/8/565866413.jp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s43.radikal.ru/i102/0809/7c/568e847f8c27.jpg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hyperlink" Target="http://evolution.powernet.ru/history/Life_07/005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barnaul-altai.ru/rest/afisha/photo/giganti_07_3m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volution.powernet.ru/history/Life_07/002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paleoworld.ucoz.ru/_ph/8/2/559724702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8/Sclerothorax_DB2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ru.wikipedia.org/wiki/&#1060;&#1072;&#1081;&#1083;:Sclerothorax_DB2.jpg" TargetMode="External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496360" cy="538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3240" y="1890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перконтинент Панг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Файл:Mastodonsaurus D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709560"/>
            <a:ext cx="7619760" cy="543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042920" y="62143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астодонзав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— гигантский среднетриасовый лабиринтод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41760" y="-398628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Картинка 15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5473440" cy="2658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512320" y="192960"/>
            <a:ext cx="25750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дний триас (ЮАР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Картинка 2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2920" y="3141720"/>
            <a:ext cx="5076720" cy="3552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2" name="" descr="Картинка 7 из 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88000" y="2716200"/>
            <a:ext cx="4243320" cy="3875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Файл:Ginkgo biloba SZ136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15920"/>
            <a:ext cx="2639880" cy="352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065760" y="2637000"/>
            <a:ext cx="8694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нк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Файл:Ginkgo biloba (Schönbrunn) natural monument (Four Seasons)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3727440"/>
            <a:ext cx="8893080" cy="294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6" name="" descr="Файл:Ginkgo biloba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169920"/>
            <a:ext cx="4537080" cy="340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849760" y="189000"/>
            <a:ext cx="25077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иктовы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Араукар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322560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626120" y="119880"/>
            <a:ext cx="134352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аук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Файл:Araucaria Columnaris.Serres d'Auteuil 00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2643120"/>
            <a:ext cx="546552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59960" y="5228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Araucaria column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Файл:Small bunyapin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20000" y="189000"/>
            <a:ext cx="1917720" cy="249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7037280" y="2419920"/>
            <a:ext cx="2108520" cy="307080"/>
          </a:xfrm>
          <a:prstGeom prst="rect">
            <a:avLst/>
          </a:prstGeom>
          <a:solidFill>
            <a:srgbClr val="e1e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раукария Бидвил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Файл:Araucaria araucana4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635280" y="115920"/>
            <a:ext cx="3168720" cy="23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4213800" y="2424600"/>
            <a:ext cx="183564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Araucaria arau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Тис ягодны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3168360" cy="275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634120" y="115200"/>
            <a:ext cx="57600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с я́го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ла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áxus baccá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асное дере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 из 726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549360"/>
            <a:ext cx="28288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9" name="" descr="Картинка 2 из 7264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2781360"/>
            <a:ext cx="50770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2 из 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5920"/>
            <a:ext cx="4105440" cy="307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4291920" y="553320"/>
            <a:ext cx="16804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ГОВ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Картинка 4 из 3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189000"/>
            <a:ext cx="2685960" cy="3809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3" name="" descr="Картинка 5 из 30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3357720"/>
            <a:ext cx="4103640" cy="319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4" name="" descr="Картинка 3 из 30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32360" y="3716280"/>
            <a:ext cx="2262240" cy="2708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392720" cy="43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43280" y="984240"/>
            <a:ext cx="4415040" cy="436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850840" y="260280"/>
            <a:ext cx="320904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еаны триасов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30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141720"/>
            <a:ext cx="4762440" cy="3514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56680" y="6308640"/>
            <a:ext cx="1671120" cy="2764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ула Геликопр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6840" y="136440"/>
            <a:ext cx="21816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татели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3528720" cy="23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29400" y="2708280"/>
            <a:ext cx="2152800" cy="2764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ая лилия (криноиде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 из 3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260280"/>
            <a:ext cx="5076720" cy="3505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7597440" y="3429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хти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2 из 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3645000"/>
            <a:ext cx="2152440" cy="285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" descr="Картинка 4 из 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2852640"/>
            <a:ext cx="5067360" cy="3810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368320" y="6308640"/>
            <a:ext cx="130104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моноиде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1 из 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476280"/>
            <a:ext cx="5653080" cy="195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88640" y="115920"/>
            <a:ext cx="21816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татели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5040" y="2349360"/>
            <a:ext cx="266184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640" y="21337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лемни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 из 9"/>
          <p:cNvPicPr/>
          <p:nvPr/>
        </p:nvPicPr>
        <p:blipFill>
          <a:blip r:embed="rId8"/>
          <a:stretch/>
        </p:blipFill>
        <p:spPr>
          <a:xfrm>
            <a:off x="6227640" y="189000"/>
            <a:ext cx="1597320" cy="223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Картинка 7 из 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2133720"/>
            <a:ext cx="2266920" cy="169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907920"/>
            <a:ext cx="4626000" cy="525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741960" y="5753160"/>
            <a:ext cx="8085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897440" y="189000"/>
            <a:ext cx="4211640" cy="199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86480" y="2276640"/>
            <a:ext cx="13953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р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ртинка 6 из 13"/>
          <p:cNvPicPr/>
          <p:nvPr/>
        </p:nvPicPr>
        <p:blipFill>
          <a:blip r:embed="rId5"/>
          <a:stretch/>
        </p:blipFill>
        <p:spPr>
          <a:xfrm>
            <a:off x="4859280" y="2852640"/>
            <a:ext cx="415296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404640"/>
            <a:ext cx="4417920" cy="59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868280" y="115920"/>
            <a:ext cx="39952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ы триасового конти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5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645000"/>
            <a:ext cx="4284720" cy="29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0" name="" descr="Картинка 6 из 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957240"/>
            <a:ext cx="4573440" cy="241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Птерозавр."/>
          <p:cNvPicPr/>
          <p:nvPr/>
        </p:nvPicPr>
        <p:blipFill>
          <a:blip r:embed="rId2"/>
          <a:stretch/>
        </p:blipFill>
        <p:spPr>
          <a:xfrm>
            <a:off x="179280" y="260280"/>
            <a:ext cx="2163960" cy="252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10 из 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22280"/>
            <a:ext cx="5122800" cy="458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417040" y="0"/>
            <a:ext cx="16329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ний три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ртинка 25 из 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016080"/>
            <a:ext cx="3600720" cy="27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-2160" y="5880600"/>
            <a:ext cx="383688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тель поздней перми - раннего триа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5161680"/>
            <a:ext cx="4792680" cy="137160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щерицеобразная рептилия икарозавр обитала в раннем триасе на территории Северной Америки. У икарозавра были крылья, так сказать, с изменяемой геометрией. Их образовывали участки кожи, туго натянутые на длинные ребра. Когда икарозавр лазил по деревьям, он складывал крылья вдоль тела. А при полете его ребра моментально раздвигались и крылья расправлялись в обе сторо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7320" y="270720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морфодон (насекомоядны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520" y="5493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ар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Картинка 5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97000"/>
            <a:ext cx="5545080" cy="4832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0" name="" descr="Картинка 2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43520" y="260280"/>
            <a:ext cx="3970440" cy="453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630080" y="0"/>
            <a:ext cx="622332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 триасового континента северного полуш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Файл:Sclerothorax DB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761976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55640" y="2595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еротораксы — раннетриасовые лабиринтодо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41760" y="-247500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 из 1"/>
          <p:cNvPicPr/>
          <p:nvPr/>
        </p:nvPicPr>
        <p:blipFill>
          <a:blip r:embed="rId6"/>
          <a:stretch/>
        </p:blipFill>
        <p:spPr>
          <a:xfrm>
            <a:off x="2050920" y="3213000"/>
            <a:ext cx="6877080" cy="341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09:51Z</dcterms:created>
  <dc:creator>Леонова</dc:creator>
  <dc:description/>
  <dc:language>en-US</dc:language>
  <cp:lastModifiedBy>Леонова</cp:lastModifiedBy>
  <dcterms:modified xsi:type="dcterms:W3CDTF">2009-11-05T19:03:21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14000000000001024140</vt:lpwstr>
  </property>
</Properties>
</file>