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B19-8A95-48FC-AC2C-9E248752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538-B7C8-4CEC-8778-817DE675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250-9838-4DCD-BD4B-D7FD40F5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983-173A-4AEB-94D3-B5ED7FC1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A55C-7C85-448D-AC93-459A0D6B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4ECF-A3C8-43F7-A6F6-961245E2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D642-2251-45AD-9ADE-42E36F21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B5AD-A7C5-4438-B04D-20A14A0D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4254-61F0-44AD-B155-230B27F5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7084-0109-4680-85F0-79AC7A07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40EA-D162-41FF-94D5-7EB3D1E8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0006-D27B-47F2-9CBA-25D3211E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5596-0ABC-4A36-967F-D4992020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8809-A8E9-4454-B4D0-CDF3908A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BF88-EF76-4CED-A658-C1F76772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4549-C5CC-45C8-94A3-913C0D23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2B93-8D4C-4458-8472-39D4BFDD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C90D-A897-4907-811A-79A178A9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EDE-A45D-4FEB-BE81-2338BD5A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91D-B054-4550-97DB-78994C54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5D5-7A1A-4B2F-99BD-E56F6A58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2A45-6F1A-418B-8FBE-5BA3F3E6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6C2-442C-4821-8474-1989FCC9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057-C546-4535-A950-9277FF06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cc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3257-9956-49B1-905E-F396E7BC7E09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D6AD-B2F5-492E-9291-97129E570707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0" y="17524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66"/>
                </a:solidFill>
                <a:latin typeface="Arial Black"/>
              </a:rPr>
              <a:t>Стиль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66"/>
                </a:solidFill>
                <a:latin typeface="Arial Black"/>
              </a:rPr>
              <a:t>в одежд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Элегантны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илуэт и конструкция классического и делового стиля, но позволена большая свобода цвете, деталях и конструкци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Фольклорны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Это современный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стиль одежды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с использованием элементов национального костюма. Костюмы в этом стиле шьются из натуральных тканей естественных расцветок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Фольклорны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76" name="" descr="Фольклорный стиль"/>
          <p:cNvPicPr/>
          <p:nvPr/>
        </p:nvPicPr>
        <p:blipFill>
          <a:blip r:embed="rId1"/>
          <a:stretch/>
        </p:blipFill>
        <p:spPr>
          <a:xfrm>
            <a:off x="2438280" y="1523880"/>
            <a:ext cx="37180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Кантри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В основе стиля лежат образы европейских переселенцев, появившихся на американском Западе в конце XIX - начале XX века. Как правило, это были в прошлом жители деревень или городских окраин. Многие из них были ирландцами либо выходцами из других частей Старой Англии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Кантри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80" name="" descr="Стиль Кантри"/>
          <p:cNvPicPr/>
          <p:nvPr/>
        </p:nvPicPr>
        <p:blipFill>
          <a:blip r:embed="rId1"/>
          <a:stretch/>
        </p:blipFill>
        <p:spPr>
          <a:xfrm>
            <a:off x="1828800" y="1371600"/>
            <a:ext cx="518148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66"/>
                </a:solidFill>
                <a:latin typeface="Arial Black"/>
              </a:rPr>
              <a:t>Рустикальны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Это микростиль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фольклорного стиля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тиля кантри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. Одежда шьется в деревенском или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ародном стиле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, довольно простая. Например, толстая шерстяная юбка, поверх нее просторная, навыпуск фланелевая рубаха, а сверху кофта подчеркнуто грубой вязки, толстые шерстяные чул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кани в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рустикальном стиле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имеют шероховатую поверхность, видны переплетения нитей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505320" y="533160"/>
            <a:ext cx="73152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Arial Black"/>
              </a:rPr>
              <a:t>    </a:t>
            </a:r>
            <a:r>
              <a:rPr b="0" lang="ru-RU" sz="4000" spc="-1" strike="noStrike">
                <a:solidFill>
                  <a:srgbClr val="993366"/>
                </a:solidFill>
                <a:latin typeface="Arial Black"/>
              </a:rPr>
              <a:t>Рустикальный </a:t>
            </a:r>
            <a:br>
              <a:rPr sz="4000"/>
            </a:br>
            <a:r>
              <a:rPr b="0" lang="ru-RU" sz="4000" spc="-1" strike="noStrike">
                <a:solidFill>
                  <a:srgbClr val="993366"/>
                </a:solidFill>
                <a:latin typeface="Arial Black"/>
              </a:rPr>
              <a:t>    стиль</a:t>
            </a:r>
            <a:br>
              <a:rPr sz="4000"/>
            </a:br>
            <a:endParaRPr b="0" lang="en-US" sz="40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84" name="" descr="Рустикальный стиль"/>
          <p:cNvPicPr/>
          <p:nvPr/>
        </p:nvPicPr>
        <p:blipFill>
          <a:blip r:embed="rId1"/>
          <a:stretch/>
        </p:blipFill>
        <p:spPr>
          <a:xfrm>
            <a:off x="533520" y="152280"/>
            <a:ext cx="295416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Спортивны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Одежда в спортивном стиле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достаточно яркая, динамичная по своему характеру с минимумом отделок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Для этого стиля характерны свободный силуэт, множество карманов и застежек-молний. Используются ткани типа эластика и смесового трикотажа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Спортивны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88" name="" descr="Спортивный стиль"/>
          <p:cNvPicPr/>
          <p:nvPr/>
        </p:nvPicPr>
        <p:blipFill>
          <a:blip r:embed="rId1"/>
          <a:stretch/>
        </p:blipFill>
        <p:spPr>
          <a:xfrm>
            <a:off x="2743200" y="1523880"/>
            <a:ext cx="3633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Стиль лесоруба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Одежда в духе американских лесорубов, пионеров Дикого Запада: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джинсовая рубашка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с отделкой из клетчатой ткани - на клетчатой кокетке, с отворотами рукавов, клапанами на карманах, воротником, также отделанными клетчатой тканью. 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Мужская куртка длинная, с глухой застежкой, обычно из грубого клетчатого шерстяного материала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66"/>
                </a:solidFill>
                <a:latin typeface="Arial Black"/>
              </a:rPr>
              <a:t>Классический стиль одежды</a:t>
            </a: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Классический стиль одежды является фундаментом моды, отправной точкой всех модных тенденций, именно поэтому он всегда популярен у тех, кто хочет одеваться и удобно, и элегантно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дежда классического стиля подчеркивает достоинства фигуры и является единственным дополнением каждой женщины и зеркальным отражением ее характера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Стиль лесоруба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92" name="" descr="Стиль лесоруба"/>
          <p:cNvPicPr/>
          <p:nvPr/>
        </p:nvPicPr>
        <p:blipFill>
          <a:blip r:embed="rId1"/>
          <a:stretch/>
        </p:blipFill>
        <p:spPr>
          <a:xfrm>
            <a:off x="2819520" y="1447920"/>
            <a:ext cx="3403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Спасибо за внимание</a:t>
            </a:r>
            <a:endParaRPr b="0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Классически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илуэт –прямой, полуприлегающи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укав – втачн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тали – воротник пиджачного типа, прорезные карман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тделка – пуговицы и отстрочка в цвет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тепень открытости – шея, кисти рук и ноги ниже колен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Цвет – теплые, постельные, полоска, елочка не контрастна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увь – лодоч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крашение – сережки, кольцо, часы, цепочка с кулоном или крестико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57" name="" descr="Ткани и тип фигуры"/>
          <p:cNvPicPr/>
          <p:nvPr/>
        </p:nvPicPr>
        <p:blipFill>
          <a:blip r:embed="rId1"/>
          <a:stretch/>
        </p:blipFill>
        <p:spPr>
          <a:xfrm>
            <a:off x="4648320" y="18288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Делово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еловой стиль создан специально для деловых людей это одежда для работы и важных встреч. Костюмы отличаются объемностью, то есть не сковывают движений, но в то же время повторяют строгость классического стиля и удобство спортивного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Делово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илуэт – прямой, полуприлегающий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укав – втачной, реглан, цельнокроеный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тделка – пуговицы и отстрочка в цвет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Детали застежки – спортивно-классического стиля, карманы- прорезные и накладны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тепень открытости – шея, кисти рук и ног ниже колен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Цвет – темные, светлые постельные, полоска, клетка,елочка не контрастная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бувь- комфортная, элегантная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крашение – сережки, кольцо, часы, цепочка с кулоном или крестиком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Делово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64" name="" descr="Деловой костюм"/>
          <p:cNvPicPr/>
          <p:nvPr/>
        </p:nvPicPr>
        <p:blipFill>
          <a:blip r:embed="rId1"/>
          <a:stretch/>
        </p:blipFill>
        <p:spPr>
          <a:xfrm>
            <a:off x="685800" y="1981080"/>
            <a:ext cx="3038400" cy="4077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Деловой костюм"/>
          <p:cNvPicPr/>
          <p:nvPr/>
        </p:nvPicPr>
        <p:blipFill>
          <a:blip r:embed="rId2"/>
          <a:stretch/>
        </p:blipFill>
        <p:spPr>
          <a:xfrm>
            <a:off x="533412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Романтический стиль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Романтическая одежда - одежда для влюбленных, мечтателей, людей творческих и тех, кто, несмотря на возраст, всегда остается ребенком в душе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Истоки романтического стиля - в женственном. Романтические наряды, очень женственные, служат для того, чтобы подчеркнуть красоту фигуры, все ее изгибы, тонкую талию, грудь, плечи.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Отличительной особенностью стиля является многообразие декоративных элементов, вышивки, рюшей, сборок, воланов, кружева, драпировок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Ткани легкие, мягкие, струящиеся, драпирующиеся: шелк, жоржет, лен с добавками, атлас, тонкая шерсть, тафта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Романтические цвета светлые, нежные, теплые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Аксессуары: броши, заколки, банты, бусы, шляпы, искусственные цветы. Обувь на каблуке, шпильки, туфли-лодочки, украшенные стразами, бантами, пряжками, камнями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69" name="" descr="Романтическое платье"/>
          <p:cNvPicPr/>
          <p:nvPr/>
        </p:nvPicPr>
        <p:blipFill>
          <a:blip r:embed="rId1"/>
          <a:stretch/>
        </p:blipFill>
        <p:spPr>
          <a:xfrm>
            <a:off x="5410080" y="17524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Романтическое платье"/>
          <p:cNvPicPr/>
          <p:nvPr/>
        </p:nvPicPr>
        <p:blipFill>
          <a:blip r:embed="rId2"/>
          <a:stretch/>
        </p:blipFill>
        <p:spPr>
          <a:xfrm>
            <a:off x="685800" y="175248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rshiikovaNI</cp:lastModifiedBy>
  <dcterms:modified xsi:type="dcterms:W3CDTF">2010-11-15T06:29:3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