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09C-0889-4F95-B949-1A6D0C2F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199C-D656-408A-8C10-93AA9BBA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DCF-3EC9-4381-A862-C8BA7A7B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6C1-B056-4F4F-B817-C89340D8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BAAD-B83B-4376-8EC8-C2D86048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70E4-2409-4433-80C4-7F5CD3E3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668D-4B2D-4AB1-B9B3-CA84971D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CF4D-FFC3-4467-98AB-0826B54C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49E9-10BF-4006-8C16-AF553B0F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18D3-0BD4-4892-80D8-5B05AD7F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B645-BFE0-46A9-A530-DD3ED92F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05DA-9986-4A11-848B-281310AA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4E10-5516-4645-B3AA-48160B61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61D5-4B90-4247-B80C-FB10990F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E035-CCA6-4EFB-95D7-4B756341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DF9E-ABF6-4332-8844-86BC9689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ADE0-1A9B-4769-BAA2-CB39DBB4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89A-4BD2-40AB-B20D-BE9FB8B6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E2C-8CFD-41CF-BE44-CDD02CC6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4155-2408-4856-ABD0-A5302F6C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078-2E42-402E-A1AC-EC74F7B7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FEB-25BE-49FA-8FB4-CA4B1E81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B47-98DE-422D-9B2F-52129669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27EA-7643-4164-B8AE-8A354F5A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cc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cc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F2A4-E2F1-4FB9-A9B6-0989D9704A21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cc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1EFA-555B-4E70-A797-E71796EFC53F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0" y="175248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66"/>
                </a:solidFill>
                <a:latin typeface="Arial Black"/>
              </a:rPr>
              <a:t>Стиль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66"/>
                </a:solidFill>
                <a:latin typeface="Arial Black"/>
              </a:rPr>
              <a:t>в одежд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Элегантны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Силуэт и конструкция классического и делового стиля, но позволена большая свобода цвете, деталях и конструкци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Фольклорны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Это современный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стиль одежды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с использованием элементов национального костюма. Костюмы в этом стиле шьются из натуральных тканей естественных расцветок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Фольклорны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76" name="" descr="Фольклорный стиль"/>
          <p:cNvPicPr/>
          <p:nvPr/>
        </p:nvPicPr>
        <p:blipFill>
          <a:blip r:embed="rId1"/>
          <a:stretch/>
        </p:blipFill>
        <p:spPr>
          <a:xfrm>
            <a:off x="2438280" y="1523880"/>
            <a:ext cx="37180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Кантри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В основе стиля лежат образы европейских переселенцев, появившихся на американском Западе в конце XIX - начале XX века. Как правило, это были в прошлом жители деревень или городских окраин. Многие из них были ирландцами либо выходцами из других частей Старой Англии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Кантри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80" name="" descr="Стиль Кантри"/>
          <p:cNvPicPr/>
          <p:nvPr/>
        </p:nvPicPr>
        <p:blipFill>
          <a:blip r:embed="rId1"/>
          <a:stretch/>
        </p:blipFill>
        <p:spPr>
          <a:xfrm>
            <a:off x="1828800" y="1371600"/>
            <a:ext cx="518148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66"/>
                </a:solidFill>
                <a:latin typeface="Arial Black"/>
              </a:rPr>
              <a:t>Рустикальны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Это микростиль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фольклорного стиля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тиля кантри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. Одежда шьется в деревенском или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народном стиле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, довольно простая. Например, толстая шерстяная юбка, поверх нее просторная, навыпуск фланелевая рубаха, а сверху кофта подчеркнуто грубой вязки, толстые шерстяные чулк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кани в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рустикальном стиле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имеют шероховатую поверхность, видны переплетения нитей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505320" y="533160"/>
            <a:ext cx="73152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Arial Black"/>
              </a:rPr>
              <a:t>    </a:t>
            </a:r>
            <a:r>
              <a:rPr b="0" lang="ru-RU" sz="4000" spc="-1" strike="noStrike">
                <a:solidFill>
                  <a:srgbClr val="993366"/>
                </a:solidFill>
                <a:latin typeface="Arial Black"/>
              </a:rPr>
              <a:t>Рустикальный </a:t>
            </a:r>
            <a:br>
              <a:rPr sz="4000"/>
            </a:br>
            <a:r>
              <a:rPr b="0" lang="ru-RU" sz="4000" spc="-1" strike="noStrike">
                <a:solidFill>
                  <a:srgbClr val="993366"/>
                </a:solidFill>
                <a:latin typeface="Arial Black"/>
              </a:rPr>
              <a:t>    стиль</a:t>
            </a:r>
            <a:br>
              <a:rPr sz="4000"/>
            </a:br>
            <a:endParaRPr b="0" lang="en-US" sz="40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84" name="" descr="Рустикальный стиль"/>
          <p:cNvPicPr/>
          <p:nvPr/>
        </p:nvPicPr>
        <p:blipFill>
          <a:blip r:embed="rId1"/>
          <a:stretch/>
        </p:blipFill>
        <p:spPr>
          <a:xfrm>
            <a:off x="533520" y="152280"/>
            <a:ext cx="295416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Спортивны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Одежда в спортивном стиле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достаточно яркая, динамичная по своему характеру с минимумом отделок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Для этого стиля характерны свободный силуэт, множество карманов и застежек-молний. Используются ткани типа эластика и смесового трикотажа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Спортивны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88" name="" descr="Спортивный стиль"/>
          <p:cNvPicPr/>
          <p:nvPr/>
        </p:nvPicPr>
        <p:blipFill>
          <a:blip r:embed="rId1"/>
          <a:stretch/>
        </p:blipFill>
        <p:spPr>
          <a:xfrm>
            <a:off x="2743200" y="1523880"/>
            <a:ext cx="3633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Стиль лесоруба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Одежда в духе американских лесорубов, пионеров Дикого Запада: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джинсовая рубашка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с отделкой из клетчатой ткани - на клетчатой кокетке, с отворотами рукавов, клапанами на карманах, воротником, также отделанными клетчатой тканью. 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Мужская куртка длинная, с глухой застежкой, обычно из грубого клетчатого шерстяного материала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Классический стиль одежды</a:t>
            </a: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Классический стиль одежды является фундаментом моды, отправной точкой всех модных тенденций, именно поэтому он всегда популярен у тех, кто хочет одеваться и удобно, и элегантно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Одежда классического стиля подчеркивает достоинства фигуры и является единственным дополнением каждой женщины и зеркальным отражением ее характера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Стиль лесоруба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92" name="" descr="Стиль лесоруба"/>
          <p:cNvPicPr/>
          <p:nvPr/>
        </p:nvPicPr>
        <p:blipFill>
          <a:blip r:embed="rId1"/>
          <a:stretch/>
        </p:blipFill>
        <p:spPr>
          <a:xfrm>
            <a:off x="2819520" y="1447920"/>
            <a:ext cx="3403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4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Спасибо за внимание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Классически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илуэт –прямой, полуприлегающи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укав – втачн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етали – воротник пиджачного типа, прорезные карман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тделка – пуговицы и отстрочка в цвет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тепень открытости – шея, кисти рук и ноги ниже колен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Цвет – теплые, постельные, полоска, елочка не контрастна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увь – лодоч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крашение – сережки, кольцо, часы, цепочка с кулоном или крестико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57" name="" descr="Ткани и тип фигуры"/>
          <p:cNvPicPr/>
          <p:nvPr/>
        </p:nvPicPr>
        <p:blipFill>
          <a:blip r:embed="rId1"/>
          <a:stretch/>
        </p:blipFill>
        <p:spPr>
          <a:xfrm>
            <a:off x="4648320" y="18288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Делово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Деловой стиль создан специально для деловых людей это одежда для работы и важных встреч. Костюмы отличаются объемностью, то есть не сковывают движений, но в то же время повторяют строгость классического стиля и удобство спортивного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Делово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илуэт – прямой, полуприлегающий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укав – втачной, реглан, цельнокроеный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тделка – пуговицы и отстрочка в цвет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Детали застежки – спортивно-классического стиля, карманы- прорезные и накладные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тепень открытости – шея, кисти рук и ног ниже колен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Цвет – темные, светлые постельные, полоска, клетка,елочка не контрастная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бувь- комфортная, элегантная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Украшение – сережки, кольцо, часы, цепочка с кулоном или крестиком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Делово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64" name="" descr="Деловой костюм"/>
          <p:cNvPicPr/>
          <p:nvPr/>
        </p:nvPicPr>
        <p:blipFill>
          <a:blip r:embed="rId1"/>
          <a:stretch/>
        </p:blipFill>
        <p:spPr>
          <a:xfrm>
            <a:off x="685800" y="1981080"/>
            <a:ext cx="3038400" cy="4077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Деловой костюм"/>
          <p:cNvPicPr/>
          <p:nvPr/>
        </p:nvPicPr>
        <p:blipFill>
          <a:blip r:embed="rId2"/>
          <a:stretch/>
        </p:blipFill>
        <p:spPr>
          <a:xfrm>
            <a:off x="533412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Романтически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Романтическая одежда - одежда для влюбленных, мечтателей, людей творческих и тех, кто, несмотря на возраст, всегда остается ребенком в душе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Истоки романтического стиля - в женственном. Романтические наряды, очень женственные, служат для того, чтобы подчеркнуть красоту фигуры, все ее изгибы, тонкую талию, грудь, плечи.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Отличительной особенностью стиля является многообразие декоративных элементов, вышивки, рюшей, сборок, воланов, кружева, драпировок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Ткани легкие, мягкие, струящиеся, драпирующиеся: шелк, жоржет, лен с добавками, атлас, тонкая шерсть, тафта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Романтические цвета светлые, нежные, теплые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Аксессуары: броши, заколки, банты, бусы, шляпы, искусственные цветы. Обувь на каблуке, шпильки, туфли-лодочки, украшенные стразами, бантами, пряжками, камнями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69" name="" descr="Романтическое платье"/>
          <p:cNvPicPr/>
          <p:nvPr/>
        </p:nvPicPr>
        <p:blipFill>
          <a:blip r:embed="rId1"/>
          <a:stretch/>
        </p:blipFill>
        <p:spPr>
          <a:xfrm>
            <a:off x="5410080" y="17524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Романтическое платье"/>
          <p:cNvPicPr/>
          <p:nvPr/>
        </p:nvPicPr>
        <p:blipFill>
          <a:blip r:embed="rId2"/>
          <a:stretch/>
        </p:blipFill>
        <p:spPr>
          <a:xfrm>
            <a:off x="685800" y="175248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rshiikovaNI</cp:lastModifiedBy>
  <dcterms:modified xsi:type="dcterms:W3CDTF">2010-11-15T06:29:3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