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0C720-6642-4A30-A91C-510A1701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9E4E-ED1B-4570-9418-28804041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8851-30D3-41DD-9AF0-89C35297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AA605-1845-4E56-A4D0-DC17AEBC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955D-1C4D-4947-A334-D406E33E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8BFE-8F81-4E81-9E29-67B3E361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D104-70B7-417D-843F-485A6456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F9C2-663C-4683-BE4A-63FC74A5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A961-EF7F-4047-BB36-3FA784B2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A8FF-50A5-4062-AC20-4C32E38E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A072-E39F-47E1-9A0F-7D789AF0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DFE3-F4F0-4296-8302-31ED2BEF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37C4-8AB3-41DD-A4C7-3ABB323B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B477-4268-4063-9323-B788F01B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E45A-FA67-468D-86DE-1837077F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8E26-B5AC-40E0-8C38-6C46647A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1C5B-7F86-41D3-96E6-29BE7E2F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27C13-6D53-4A87-8750-E09FDE54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15A21-3B76-4D39-9F2F-B5B21719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05F8B-67E8-4ED5-A678-62ED0C0B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9E923-8AF0-493D-BFAB-D5CE3F06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A5ADA-024C-4908-86FD-70408770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2E425-5D19-4112-AF10-8A03D2EF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AC3F9-CA53-4B60-9B85-B19D0F71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31DC-0E60-4807-9E9E-94FD0A8EA6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4776-39EB-4457-9608-7884FB971A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http://newzz.in.ua/uploads/posts/2011-05/1304753465_g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90792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Презентация на тему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933720"/>
            <a:ext cx="8497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«Российская газовая промышленность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газорегуляторная установк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ГРУ на раме) – используются в системах газоснабжения жилых зданий , объектов промышленного и сельскохозяйственного назнач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05672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оссийская газовая промышленность – первые полвека развития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1996 г. газовой промышленности России исполнилось 50 лег. Конечно, среди других крупных отраслей ТЭК - угольной, нефтяной, электроэнергетики, имеющих более чем столетнюю историю, она представляется довольно юным организмом. Но даже сейчас, в условиях кризиса, отрасль демонстрирует гибкость и умение находить зоны стабильности и ниши роста. Какие же факторы сделали возможным такое положение, какова роль газовой промышленности в экономике страны и шире - в мировом хозяйстве сегодня и в перспективе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азовая промышленность не является чисто монопродуктовой отраслью. Наряду с поставками по магистральным трубопроводам природного газа (метан с небольшими добавками высших углеводородов) производятся нефть, конденсат, сера, сжиженные газы, машиностроительная и сельскохозяйственная продукция и т.п. Однако основу отрасли, обеспечивающую ее конкурентные преимущества, составляет Единая система газоснабжения (ЕСГ), которая объединяет добычу и транспорт природного газа в единую технологическую, техническую и экономическую систему в рамках России, связанную с газоснабжающими системами центральноазиатских и закавказских республик СНГ и имеющую свое продолжение в системах поставки российского газа в три европейские страны СНГ и двадцать других государств Европ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остояние и перспективы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оссийский топливно-энергетический комплекс играет заметную роль в обеспечении мирового экономического развития, а также в создании условий для восстановления экономик в посткризисный период. Газовый сектор нашей страны является одним из ведущих по объемам энергии, поставляемой потребителям, и наиболее полно отвечает требованиям к энергетике будущего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обыча газа в 2010 году в России относительно аналогичного показателя 2009 года увеличилась на 11,6% и достигла 650 млрд. куб. м. Экспорт российского газа в 2010 году составил около 185 млрд. куб. м газа и почти 3 млн. т сжиженного углеводородного газа. Практически достигнут докризисный уровень добыч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сновные объемы добычи газа приходятся ныне на уникальные по своим масштабам месторождения Западной Сибири, инвестиции в которые были осуществлены ранее. Но сейчас уже возникает, а в ближайшие годы значительно увеличится потребность во вводе новых мощностей как для компенсации падения добычи газа на этих месторождениях, так и для обеспечения прироста добычи под новые контракты. Здесь возможны варианты: либо ускоренный ввод в разработку новых месторождений (Ямал и Штокман), либо более интенсивное использование имеющихся и перспективных ресурсов в На-дым-Пур-Тазовском и прилегающих к нему районах. По-видимому, конкретные решения будут зависеть от многих факторов, в том числе от темпа нарастания потребности в освоении новых ресурсов, от возможностей привлечения инвестиций для такого освоения, от масштабов и результатов геологоразведочных работ в традиционных и новых районах, от местных и экологических факторов и т.п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Газодобывающие компани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сновными компаниями, которые добывают газ на территории России являются «Газпром» и «Сургутнефтегаз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АО «Газпром»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—российская газодобывающая и                газораспределительная компания, крупнейшая компания в России крупнейшая газовая компания мира, владеет самой протяжённой газотранспортной системой (более 160 000 км). Является мировым лидером данной отрасли. Занимается добычей, транспортировкой и переработкой газа и нефт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 2010 году «Газпром» добыл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— 508,6 млрд. куб. м газ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— 11,3 млн. т газового конденсат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— 32 млн. т нефт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 своей стратегии ОАО «Газпром» придерживается принципа добычи такого объема газа, который обеспечен спросом. При наличии платежеспособного спроса российских потребителей и благоприятных условий на внешних рынках к 2020 г. добыча «Газпрома» может составить до 660 млрд. куб. м.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Gazprom-Logo-rus.svg"/>
          <p:cNvPicPr/>
          <p:nvPr/>
        </p:nvPicPr>
        <p:blipFill>
          <a:blip r:embed="rId1"/>
          <a:stretch/>
        </p:blipFill>
        <p:spPr>
          <a:xfrm>
            <a:off x="4572000" y="3357720"/>
            <a:ext cx="3313080" cy="1569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http://mkp.emokykla.lt/gamta5-6/uploads/img/catalog/1/images_1223_d9998207c47c020129cb4515b5bd1f02.png"/>
          <p:cNvPicPr/>
          <p:nvPr/>
        </p:nvPicPr>
        <p:blipFill>
          <a:blip r:embed="rId2"/>
          <a:stretch/>
        </p:blipFill>
        <p:spPr>
          <a:xfrm>
            <a:off x="7451640" y="1413000"/>
            <a:ext cx="1476360" cy="107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«Сургутнефтегаз»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одна из крупнейших нефтяных компаний России, активно развивающая секторы разведки и добычи нефти и газа, переработку газа и производство электроэнергии, производство и маркетинг нефтепродуктов, продуктов нефте - и газохими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компании созданы два предприятия, специализирующиеся в сфере использования газа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правление по внутрипромысловому сбору и использованию нефтяного газа (УВСИНГ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правление по переработке газа (УПГ)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омпания осуществляет и развивает следующие виды деятельности в газовом секторе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внутрипромысловый сбор, магистральный транспорт и поставку газа потребителям, что реализуется посредством 5 газораспределительных станций и сети промысловых и магистральных газопроводов суммарной протяженностью более 3 000 км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компримирование, которое выполняется 8 транспортными компрессорными станциями и 1 компрессорной станцией для закачки газа в пласт. С целью экономии электроэнергии на всех станциях используются газотурбинные приводы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утилизацию газа низкого давления на 17 компрессорных станциях концевых ступеней сепарации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переработку газа на 3 установках переработки газа суммарной мощностью более 7 млрд. куб. м. в год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производство электроэнергии силами 19 газотурбинных электростанций (ГТЭС), а также 7 газопоршневых электростанций (ГПЭС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оизводство газового оборудования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8692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оизводством газового оборудования занимаются такие лидеры отрасли, как ОАО «Газаппарат» (Саратов), ООО «Радон и К» (Энгельс), ОАО «ГИПРОНИИГАЗ» (Саратов), ООО «ЭЛЬСТЕР Газэлектроника» (Арзамас), ООО «Метэко Премагаз» (Москва), ООО «КИП и Автоматика» (Ростов-на-Дону), ФГУП «НПП „Алмаз“» (Саратов), ООО «Центр Инновационных Технологий» (Саратов), ПКФ «ЭКС-ФОРМА» (Саратов), ООО «Армгаз-НТ» (Москва), ООО Фирма «Газприборавтоматика» (Москва), ООО «ТД Строммаш» (Ульяновск), ОАО НПФ «Логика» (Санкт-Петербург), ЗАО «Теплоком» (Санкт-Петербург), ОАО «Теплоприбор» (Рязань), ООО НПП «Ирвис» (Казань), ЗАО НПО «Амакс» (Москва), ЗАО «Спецавтоматика» (Новосибирск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2033640" cy="2060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215120" y="4000680"/>
            <a:ext cx="1928880" cy="2857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419640" y="4759200"/>
            <a:ext cx="2687400" cy="2098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476280"/>
            <a:ext cx="1908000" cy="1197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7524720" y="189000"/>
            <a:ext cx="1619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497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АО «Газаппарат»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уже более 60 лет известен на рынке газового оборудования. Достоинством оборудования ОАО «Газаппарат являются долговечность и безопасность. На заводе производятся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регуляторы давления газ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РДБК-1, РДБК-1П, РДНК-50, РДНК-50П, РДГБ-50, РДГБ-100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348000" y="1700280"/>
            <a:ext cx="251928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00720" y="1700280"/>
            <a:ext cx="2471760" cy="1584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11280" y="350028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предохранительные клапаны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ерии КПЗ (КПЗ-50-Н, КПЗ-100-Н, КПЗ-50-С, КПЗ-100-С, КПЗ-50-В1, КПЗ-100-В1), предохранительно-запорные электромагнитные газовые КПЭГ-50/50П, КПЭГ-100/100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859280" y="4183200"/>
            <a:ext cx="3648240" cy="2485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26920" y="4365720"/>
            <a:ext cx="290520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259920"/>
            <a:ext cx="3745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клапаны предохранительные пружинные сбросные ПСК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ПСК-50Н/5, ПСК-50С/20, ПСК-50С/125, ПСК-50С/300, ПСК-50В/700) с разными пределами регулирования давления газ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газорегуляторные пункты блочны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Голубое пламя (ПГБ-50СГ, ПГБ-100СГ, ПГБ-150, ПГБ-100/50, ПГБ-150СГ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19640" y="115920"/>
            <a:ext cx="3048120" cy="2381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572000" y="2997360"/>
            <a:ext cx="439272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000" y="259920"/>
            <a:ext cx="7940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газорегуляторные пункты шкафны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с узлом расчёта газ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'ГСГО-50-СГ‘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ерии ГСГО, ГСГО-100, ГСГО-М, ГСГО-М/25, ГРПШН, ГРПШ-32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3166920" cy="2735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03640" y="3860640"/>
            <a:ext cx="2873160" cy="299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156360" y="981000"/>
            <a:ext cx="2879640" cy="2752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276720" y="1052640"/>
            <a:ext cx="2808000" cy="2509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79280" y="4005360"/>
            <a:ext cx="2857680" cy="2695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6286680" y="3933720"/>
            <a:ext cx="285732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2T10:58:09Z</dcterms:created>
  <dc:creator>Admin</dc:creator>
  <dc:description/>
  <dc:language>en-US</dc:language>
  <cp:lastModifiedBy>Admin</cp:lastModifiedBy>
  <dcterms:modified xsi:type="dcterms:W3CDTF">2012-06-03T17:20:12Z</dcterms:modified>
  <cp:revision>5</cp:revision>
  <dc:subject/>
  <dc:title>Слайд 1</dc:title>
</cp:coreProperties>
</file>