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.png" ContentType="image/png"/>
  <Override PartName="/ppt/media/image3.jpeg" ContentType="image/jpeg"/>
  <Override PartName="/ppt/media/image1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488DA6-4DDF-48DA-BABA-845F9766D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CDA8D0-EF65-4098-BB98-CAC41F42C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78071F-3871-408A-A6AC-684A30767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8E5465-E194-4DA2-B87A-FD3F40C82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ACB21-B438-4A1B-9E90-E99E60B1C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77FFA-ED43-4417-9AAB-A4AE7F729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A3F6B-C0BD-447D-A103-5CD0A3691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27F48-DC7E-4D86-8A6A-988E2CB3D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7A75B-AD72-48B9-99CC-BA40E5942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050A8-0CDB-4AE9-8B30-81CE194F2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A1192-2B05-4DDE-9F33-DC1998536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E2B20A-C7A0-4049-87B4-82D3C9524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97AF9-33C1-4AC2-BDD8-7F6AFE142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9081D-5759-4B12-B9AA-B60CF935E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F451F-FC3A-470E-A346-C2A479D92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A58FC-DDF3-457C-8F9C-516AAECA3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9F8CB-9A6B-4998-89BC-03292C362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5E5C3E-37DE-4EEE-9F0C-2780ED9C4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EA4D17-F053-453C-BE79-9579DE2C6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AD4FCC-80F4-4598-A5E6-66DBE5037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5ECE54-DF92-43ED-B889-C8287ACB1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5D0D59-31A9-4275-88E7-3B1740842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291286-96CE-43A8-B73F-FA83637ED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B65A51-6687-4F5C-9BE8-89B52CE21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2406A-9480-4451-AA6F-143F43F5F3B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FB7CE-7121-40D7-A7ED-CD1CAF2DDEF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2" name="" descr="http://newzz.in.ua/uploads/posts/2011-05/1304753465_gaz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684360" y="907920"/>
            <a:ext cx="799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Презентация на тему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95280" y="3933720"/>
            <a:ext cx="8497800" cy="26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«Российская газовая промышленность»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68360" y="26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газорегуляторная установка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(ГРУ на раме) – используются в системах газоснабжения жилых зданий , объектов промышленного и сельскохозяйственного назначения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900000" y="1268280"/>
            <a:ext cx="7056720" cy="520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Российская газовая промышленность – первые полвека развития</a:t>
            </a: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В 1996 г. газовой промышленности России исполнилось 50 лег. Конечно, среди других крупных отраслей ТЭК - угольной, нефтяной, электроэнергетики, имеющих более чем столетнюю историю, она представляется довольно юным организмом. Но даже сейчас, в условиях кризиса, отрасль демонстрирует гибкость и умение находить зоны стабильности и ниши роста. Какие же факторы сделали возможным такое положение, какова роль газовой промышленности в экономике страны и шире - в мировом хозяйстве сегодня и в перспективе?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Газовая промышленность не является чисто монопродуктовой отраслью. Наряду с поставками по магистральным трубопроводам природного газа (метан с небольшими добавками высших углеводородов) производятся нефть, конденсат, сера, сжиженные газы, машиностроительная и сельскохозяйственная продукция и т.п. Однако основу отрасли, обеспечивающую ее конкурентные преимущества, составляет Единая система газоснабжения (ЕСГ), которая объединяет добычу и транспорт природного газа в единую технологическую, техническую и экономическую систему в рамках России, связанную с газоснабжающими системами центральноазиатских и закавказских республик СНГ и имеющую свое продолжение в системах поставки российского газа в три европейские страны СНГ и двадцать других государств Европы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4800"/>
            <a:ext cx="822960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Состояние и перспективы</a:t>
            </a: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8229600" cy="47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Российский топливно-энергетический комплекс играет заметную роль в обеспечении мирового экономического развития, а также в создании условий для восстановления экономик в посткризисный период. Газовый сектор нашей страны является одним из ведущих по объемам энергии, поставляемой потребителям, и наиболее полно отвечает требованиям к энергетике будущего.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Добыча газа в 2010 году в России относительно аналогичного показателя 2009 года увеличилась на 11,6% и достигла 650 млрд. куб. м. Экспорт российского газа в 2010 году составил около 185 млрд. куб. м газа и почти 3 млн. т сжиженного углеводородного газа. Практически достигнут докризисный уровень добычи.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Основные объемы добычи газа приходятся ныне на уникальные по своим масштабам месторождения Западной Сибири, инвестиции в которые были осуществлены ранее. Но сейчас уже возникает, а в ближайшие годы значительно увеличится потребность во вводе новых мощностей как для компенсации падения добычи газа на этих месторождениях, так и для обеспечения прироста добычи под новые контракты. Здесь возможны варианты: либо ускоренный ввод в разработку новых месторождений (Ямал и Штокман), либо более интенсивное использование имеющихся и перспективных ресурсов в На-дым-Пур-Тазовском и прилегающих к нему районах. По-видимому, конкретные решения будут зависеть от многих факторов, в том числе от темпа нарастания потребности в освоении новых ресурсов, от возможностей привлечения инвестиций для такого освоения, от масштабов и результатов геологоразведочных работ в традиционных и новых районах, от местных и экологических факторов и т.п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2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Газодобывающие компании</a:t>
            </a: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Основными компаниями, которые добывают газ на территории России являются «Газпром» и «Сургутнефтегаз»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ОАО «Газпром»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 —российская газодобывающая и                газораспределительная компания, крупнейшая компания в России крупнейшая газовая компания мира, владеет самой протяжённой газотранспортной системой (более 160 000 км). Является мировым лидером данной отрасли. Занимается добычей, транспортировкой и переработкой газа и нефти.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В 2010 году «Газпром» добыл: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— 508,6 млрд. куб. м газа;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— 11,3 млн. т газового конденсата;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— 32 млн. т нефти.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В своей стратегии ОАО «Газпром» придерживается принципа добычи такого объема газа, который обеспечен спросом. При наличии платежеспособного спроса российских потребителей и благоприятных условий на внешних рынках к 2020 г. добыча «Газпрома» может составить до 660 млрд. куб. м.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1" name="" descr="Gazprom-Logo-rus.svg"/>
          <p:cNvPicPr/>
          <p:nvPr/>
        </p:nvPicPr>
        <p:blipFill>
          <a:blip r:embed="rId1"/>
          <a:stretch/>
        </p:blipFill>
        <p:spPr>
          <a:xfrm>
            <a:off x="4572000" y="3357720"/>
            <a:ext cx="3313080" cy="15699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http://mkp.emokykla.lt/gamta5-6/uploads/img/catalog/1/images_1223_d9998207c47c020129cb4515b5bd1f02.png"/>
          <p:cNvPicPr/>
          <p:nvPr/>
        </p:nvPicPr>
        <p:blipFill>
          <a:blip r:embed="rId2"/>
          <a:stretch/>
        </p:blipFill>
        <p:spPr>
          <a:xfrm>
            <a:off x="7451640" y="1413000"/>
            <a:ext cx="1476360" cy="1074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5720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«Сургутнефтегаз»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– одна из крупнейших нефтяных компаний России, активно развивающая секторы разведки и добычи нефти и газа, переработку газа и производство электроэнергии, производство и маркетинг нефтепродуктов, продуктов нефте - и газохимии.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В компании созданы два предприятия, специализирующиеся в сфере использования газа: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Управление по внутрипромысловому сбору и использованию нефтяного газа (УВСИНГ);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Управление по переработке газа (УПГ).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Компания осуществляет и развивает следующие виды деятельности в газовом секторе: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- внутрипромысловый сбор, магистральный транспорт и поставку газа потребителям, что реализуется посредством 5 газораспределительных станций и сети промысловых и магистральных газопроводов суммарной протяженностью более 3 000 км;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- компримирование, которое выполняется 8 транспортными компрессорными станциями и 1 компрессорной станцией для закачки газа в пласт. С целью экономии электроэнергии на всех станциях используются газотурбинные приводы;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- утилизацию газа низкого давления на 17 компрессорных станциях концевых ступеней сепарации;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- переработку газа на 3 установках переработки газа суммарной мощностью более 7 млрд. куб. м. в год;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- производство электроэнергии силами 19 газотурбинных электростанций (ГТЭС), а также 7 газопоршневых электростанций (ГПЭС).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Производство газового оборудования</a:t>
            </a: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23640" y="1628280"/>
            <a:ext cx="7869240" cy="32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Производством газового оборудования занимаются такие лидеры отрасли, как ОАО «Газаппарат» (Саратов), ООО «Радон и К» (Энгельс), ОАО «ГИПРОНИИГАЗ» (Саратов), ООО «ЭЛЬСТЕР Газэлектроника» (Арзамас), ООО «Метэко Премагаз» (Москва), ООО «КИП и Автоматика» (Ростов-на-Дону), ФГУП «НПП „Алмаз“» (Саратов), ООО «Центр Инновационных Технологий» (Саратов), ПКФ «ЭКС-ФОРМА» (Саратов), ООО «Армгаз-НТ» (Москва), ООО Фирма «Газприборавтоматика» (Москва), ООО «ТД Строммаш» (Ульяновск), ОАО НПФ «Логика» (Санкт-Петербург), ЗАО «Теплоком» (Санкт-Петербург), ОАО «Теплоприбор» (Рязань), ООО НПП «Ирвис» (Казань), ЗАО НПО «Амакс» (Москва), ЗАО «Спецавтоматика» (Новосибирск)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4797360"/>
            <a:ext cx="2033640" cy="206064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7215120" y="4000680"/>
            <a:ext cx="1928880" cy="28573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3419640" y="4759200"/>
            <a:ext cx="2687400" cy="20988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0" y="476280"/>
            <a:ext cx="1908000" cy="11970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7524720" y="189000"/>
            <a:ext cx="161928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250560" y="115560"/>
            <a:ext cx="849780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ОАО «Газаппарат»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уже более 60 лет известен на рынке газового оборудования. Достоинством оборудования ОАО «Газаппарат являются долговечность и безопасность. На заводе производятся: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регуляторы давления газа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РДБК-1, РДБК-1П, РДНК-50, РДНК-50П, РДГБ-50, РДГБ-100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84360" y="1700280"/>
            <a:ext cx="2232000" cy="15843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3348000" y="1700280"/>
            <a:ext cx="2519280" cy="15843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6300720" y="1700280"/>
            <a:ext cx="2471760" cy="15843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611280" y="3500280"/>
            <a:ext cx="828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предохранительные клапаны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серии КПЗ (КПЗ-50-Н, КПЗ-100-Н, КПЗ-50-С, КПЗ-100-С, КПЗ-50-В1, КПЗ-100-В1), предохранительно-запорные электромагнитные газовые КПЭГ-50/50П, КПЭГ-100/100П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4859280" y="4183200"/>
            <a:ext cx="3648240" cy="24858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26920" y="4365720"/>
            <a:ext cx="2905200" cy="22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539280" y="259920"/>
            <a:ext cx="374508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клапаны предохранительные пружинные сбросные ПСК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(ПСК-50Н/5, ПСК-50С/20, ПСК-50С/125, ПСК-50С/300, ПСК-50В/700) с разными пределами регулирования давления газа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газорегуляторные пункты блочные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Голубое пламя (ПГБ-50СГ, ПГБ-100СГ, ПГБ-150, ПГБ-100/50, ПГБ-150СГ)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5219640" y="115920"/>
            <a:ext cx="3048120" cy="238104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971640" y="4149720"/>
            <a:ext cx="3240000" cy="259236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4572000" y="2997360"/>
            <a:ext cx="4392720" cy="369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684000" y="259920"/>
            <a:ext cx="7940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газорегуляторные пункты шкафные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с узлом расчёта газа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'ГСГО-50-СГ‘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серии ГСГО, ГСГО-100, ГСГО-М, ГСГО-М/25, ГРПШН, ГРПШ-32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981000"/>
            <a:ext cx="3166920" cy="273528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3203640" y="3860640"/>
            <a:ext cx="2873160" cy="299736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6156360" y="981000"/>
            <a:ext cx="2879640" cy="27529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4"/>
          <a:stretch/>
        </p:blipFill>
        <p:spPr>
          <a:xfrm>
            <a:off x="3276720" y="1052640"/>
            <a:ext cx="2808000" cy="2509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5"/>
          <a:stretch/>
        </p:blipFill>
        <p:spPr>
          <a:xfrm>
            <a:off x="179280" y="4005360"/>
            <a:ext cx="2857680" cy="26953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6"/>
          <a:stretch/>
        </p:blipFill>
        <p:spPr>
          <a:xfrm>
            <a:off x="6286680" y="3933720"/>
            <a:ext cx="2857320" cy="25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2T10:58:09Z</dcterms:created>
  <dc:creator>Admin</dc:creator>
  <dc:description/>
  <dc:language>en-US</dc:language>
  <cp:lastModifiedBy>Admin</cp:lastModifiedBy>
  <dcterms:modified xsi:type="dcterms:W3CDTF">2012-06-03T17:20:12Z</dcterms:modified>
  <cp:revision>5</cp:revision>
  <dc:subject/>
  <dc:title>Слайд 1</dc:title>
</cp:coreProperties>
</file>