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6561-9CB3-4D99-A4C9-7E0EAD58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1B24-5CDB-4FDE-92F0-252B512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507E-80EA-4479-9268-449A5EB3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6B10-7764-4F74-8027-8B560384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5076-2C41-45EB-BF5E-DFBCDD0F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1633-5DF7-4BEA-B9BC-182087FB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2468-B802-48B4-AB1B-E4F97FB0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D681-ADEC-4130-816F-E929F221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F04-EA42-4FC4-90E4-97AE9154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A4E-9964-4537-AD11-C43F5737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BFAA-A3F2-48F0-B351-D4DAED7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36B9-81C1-4A7B-B4D4-FE947416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0875-A0F8-499F-A0DD-773A04D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FDAF-81C0-4835-9472-A183795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4D4C-D403-40A2-886D-BE0C1B69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766-1ABC-4FD1-8F9D-1F5E888D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CC66-C8ED-4D76-BF49-77FB5715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97D4-D8CC-46E4-A5EC-325E896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6B18-3FD0-49AD-BE80-76FE4ACB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EF08-091C-47E2-9772-C41385F3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84F5-79CD-4A75-8F39-D0D48C3C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D65F-A944-4FCC-A390-0D4A3A97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23B1-1298-411A-B91D-893634E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B183-8156-4AD1-AEA3-612BC2C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965-35F4-45F9-B781-07F39312C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87A9-9943-4E98-856B-E48C56A7D3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http://newzz.in.ua/uploads/posts/2011-05/1304753465_g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90792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Презентация на тем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933720"/>
            <a:ext cx="8497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«Российская газовая промышленность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ая установк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ГРУ на раме) – используются в системах газоснабжения жилых зданий , объектов промышленного и сельскохозяйственного назнач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0567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оссийская газовая промышленность – первые полвека развит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1996 г. газовой промышленности России исполнилось 50 лег. Конечно, среди других крупных отраслей ТЭК - угольной, нефтяной, электроэнергетики, имеющих более чем столетнюю историю, она представляется довольно юным организмом. Но даже сейчас, в условиях кризиса, отрасль демонстрирует гибкость и умение находить зоны стабильности и ниши роста. Какие же факторы сделали возможным такое положение, какова роль газовой промышленности в экономике страны и шире - в мировом хозяйстве сегодня и в перспективе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азовая промышленность не является чисто монопродуктовой отраслью. Наряду с поставками по магистральным трубопроводам природного газа (метан с небольшими добавками высших углеводородов) производятся нефть, конденсат, сера, сжиженные газы, машиностроительная и сельскохозяйственная продукция и т.п. Однако основу отрасли, обеспечивающую ее конкурентные преимущества, составляет Единая система газоснабжения (ЕСГ), которая объединяет добычу и транспорт природного газа в единую технологическую, техническую и экономическую систему в рамках России, связанную с газоснабжающими системами центральноазиатских и закавказских республик СНГ и имеющую свое продолжение в системах поставки российского газа в три европейские страны СНГ и двадцать других государств Евро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остояние и перспективы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оссийский топливно-энергетический комплекс играет заметную роль в обеспечении мирового экономического развития, а также в создании условий для восстановления экономик в посткризисный период. Газовый сектор нашей страны является одним из ведущих по объемам энергии, поставляемой потребителям, и наиболее полно отвечает требованиям к энергетике будущего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обыча газа в 2010 году в России относительно аналогичного показателя 2009 года увеличилась на 11,6% и достигла 650 млрд. куб. м. Экспорт российского газа в 2010 году составил около 185 млрд. куб. м газа и почти 3 млн. т сжиженного углеводородного газа. Практически достигнут докризисный уровень добыч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новные объемы добычи газа приходятся ныне на уникальные по своим масштабам месторождения Западной Сибири, инвестиции в которые были осуществлены ранее. Но сейчас уже возникает, а в ближайшие годы значительно увеличится потребность во вводе новых мощностей как для компенсации падения добычи газа на этих месторождениях, так и для обеспечения прироста добычи под новые контракты. Здесь возможны варианты: либо ускоренный ввод в разработку новых месторождений (Ямал и Штокман), либо более интенсивное использование имеющихся и перспективных ресурсов в На-дым-Пур-Тазовском и прилегающих к нему районах. По-видимому, конкретные решения будут зависеть от многих факторов, в том числе от темпа нарастания потребности в освоении новых ресурсов, от возможностей привлечения инвестиций для такого освоения, от масштабов и результатов геологоразведочных работ в традиционных и новых районах, от местных и экологических факторов и т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азодобывающие компани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новными компаниями, которые добывают газ на территории России являются «Газпром» и «Сургутнефтегаз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АО «Газпром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—российская газодобывающая и                газораспределительная компания, крупнейшая компания в России крупнейшая газовая компания мира, владеет самой протяжённой газотранспортной системой (более 160 000 км). Является мировым лидером данной отрасли. Занимается добычей, транспортировкой и переработкой газа и неф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 2010 году «Газпром» добыл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508,6 млрд. куб. м газ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11,3 млн. т газового конденсат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32 млн. т неф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 своей стратегии ОАО «Газпром» придерживается принципа добычи такого объема газа, который обеспечен спросом. При наличии платежеспособного спроса российских потребителей и благоприятных условий на внешних рынках к 2020 г. добыча «Газпрома» может составить до 660 млрд. куб. м.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Gazprom-Logo-rus.svg"/>
          <p:cNvPicPr/>
          <p:nvPr/>
        </p:nvPicPr>
        <p:blipFill>
          <a:blip r:embed="rId1"/>
          <a:stretch/>
        </p:blipFill>
        <p:spPr>
          <a:xfrm>
            <a:off x="4572000" y="3357720"/>
            <a:ext cx="3313080" cy="156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http://mkp.emokykla.lt/gamta5-6/uploads/img/catalog/1/images_1223_d9998207c47c020129cb4515b5bd1f02.png"/>
          <p:cNvPicPr/>
          <p:nvPr/>
        </p:nvPicPr>
        <p:blipFill>
          <a:blip r:embed="rId2"/>
          <a:stretch/>
        </p:blipFill>
        <p:spPr>
          <a:xfrm>
            <a:off x="7451640" y="1413000"/>
            <a:ext cx="147636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«Сургутнефтегаз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одна из крупнейших нефтяных компаний России, активно развивающая секторы разведки и добычи нефти и газа, переработку газа и производство электроэнергии, производство и маркетинг нефтепродуктов, продуктов нефте - и газохими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компании созданы два предприятия, специализирующиеся в сфере использования газа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вление по внутрипромысловому сбору и использованию нефтяного газа (УВСИНГ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вление по переработке газа (УПГ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мпания осуществляет и развивает следующие виды деятельности в газовом сектор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внутрипромысловый сбор, магистральный транспорт и поставку газа потребителям, что реализуется посредством 5 газораспределительных станций и сети промысловых и магистральных газопроводов суммарной протяженностью более 3 000 к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компримирование, которое выполняется 8 транспортными компрессорными станциями и 1 компрессорной станцией для закачки газа в пласт. С целью экономии электроэнергии на всех станциях используются газотурбинные приводы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утилизацию газа низкого давления на 17 компрессорных станциях концевых ступеней сепарации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переработку газа на 3 установках переработки газа суммарной мощностью более 7 млрд. куб. м. в год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производство электроэнергии силами 19 газотурбинных электростанций (ГТЭС), а также 7 газопоршневых электростанций (ГПЭС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изводство газового оборудован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8692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изводством газового оборудования занимаются такие лидеры отрасли, как ОАО «Газаппарат» (Саратов), ООО «Радон и К» (Энгельс), ОАО «ГИПРОНИИГАЗ» (Саратов), ООО «ЭЛЬСТЕР Газэлектроника» (Арзамас), ООО «Метэко Премагаз» (Москва), ООО «КИП и Автоматика» (Ростов-на-Дону), ФГУП «НПП „Алмаз“» (Саратов), ООО «Центр Инновационных Технологий» (Саратов), ПКФ «ЭКС-ФОРМА» (Саратов), ООО «Армгаз-НТ» (Москва), ООО Фирма «Газприборавтоматика» (Москва), ООО «ТД Строммаш» (Ульяновск), ОАО НПФ «Логика» (Санкт-Петербург), ЗАО «Теплоком» (Санкт-Петербург), ОАО «Теплоприбор» (Рязань), ООО НПП «Ирвис» (Казань), ЗАО НПО «Амакс» (Москва), ЗАО «Спецавтоматика» (Новосибирск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033640" cy="2060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15120" y="4000680"/>
            <a:ext cx="192888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19640" y="4759200"/>
            <a:ext cx="2687400" cy="2098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190800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524720" y="189000"/>
            <a:ext cx="1619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97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АО «Газаппарат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уже более 60 лет известен на рынке газового оборудования. Достоинством оборудования ОАО «Газаппарат являются долговечность и безопасность. На заводе производятс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егуляторы давления газ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РДБК-1, РДБК-1П, РДНК-50, РДНК-50П, РДГБ-50, РДГБ-10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247176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350028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предохранительные клапан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ии КПЗ (КПЗ-50-Н, КПЗ-100-Н, КПЗ-50-С, КПЗ-100-С, КПЗ-50-В1, КПЗ-100-В1), предохранительно-запорные электромагнитные газовые КПЭГ-50/50П, КПЭГ-100/100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59280" y="4183200"/>
            <a:ext cx="3648240" cy="248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29052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3745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клапаны предохранительные пружинные сбросные ПСК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ПСК-50Н/5, ПСК-50С/20, ПСК-50С/125, ПСК-50С/300, ПСК-50В/700) с разными пределами регулирования давления газ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ые пункты блочны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Голубое пламя (ПГБ-50СГ, ПГБ-100СГ, ПГБ-150, ПГБ-100/50, ПГБ-150С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115920"/>
            <a:ext cx="3048120" cy="238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0" y="2997360"/>
            <a:ext cx="439272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940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ые пункты шкафны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 узлом расчёта газ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'ГСГО-50-СГ‘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ии ГСГО, ГСГО-100, ГСГО-М, ГСГО-М/25, ГРПШН, ГРПШ-3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166920" cy="273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287316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2879640" cy="2752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276720" y="1052640"/>
            <a:ext cx="2808000" cy="2509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2857680" cy="269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286680" y="3933720"/>
            <a:ext cx="28573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0:58:09Z</dcterms:created>
  <dc:creator>Admin</dc:creator>
  <dc:description/>
  <dc:language>en-US</dc:language>
  <cp:lastModifiedBy>Admin</cp:lastModifiedBy>
  <dcterms:modified xsi:type="dcterms:W3CDTF">2012-06-03T17:20:12Z</dcterms:modified>
  <cp:revision>5</cp:revision>
  <dc:subject/>
  <dc:title>Слайд 1</dc:title>
</cp:coreProperties>
</file>