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443-3194-4E38-92B3-37CF2FDD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883-7F1A-4DD5-961D-DA62A6BE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B2F-1BA0-427C-8B15-F666426E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7E7-E830-4424-B966-B05792EA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D66B-9FFC-448A-8ADC-74A75D19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FC2-15AC-48C8-B8D6-BB73F9AA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1D4-8134-4299-8F4D-156DB84B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E210-E64E-484C-AA28-30D9FFF6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D98F-7235-448F-8A05-6ADACB2A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029D-5D4E-49F7-9A00-C9DD5074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29C-78AA-44DC-91BE-ED24429B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F8B8-279A-4530-9290-1DCDAE78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0F44-6475-4248-A45D-391E8FFF99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Рисунок 8" descr=""/>
          <p:cNvPicPr/>
          <p:nvPr/>
        </p:nvPicPr>
        <p:blipFill>
          <a:blip r:embed="rId1"/>
          <a:stretch/>
        </p:blipFill>
        <p:spPr>
          <a:xfrm>
            <a:off x="1187280" y="1962000"/>
            <a:ext cx="3311640" cy="4813560"/>
          </a:xfrm>
          <a:prstGeom prst="rect">
            <a:avLst/>
          </a:prstGeom>
          <a:ln w="0">
            <a:noFill/>
          </a:ln>
        </p:spPr>
      </p:pic>
      <p:pic>
        <p:nvPicPr>
          <p:cNvPr id="40" name="Рисунок 10" descr=""/>
          <p:cNvPicPr/>
          <p:nvPr/>
        </p:nvPicPr>
        <p:blipFill>
          <a:blip r:embed="rId2"/>
          <a:stretch/>
        </p:blipFill>
        <p:spPr>
          <a:xfrm>
            <a:off x="3851280" y="4546440"/>
            <a:ext cx="1789200" cy="2314800"/>
          </a:xfrm>
          <a:prstGeom prst="rect">
            <a:avLst/>
          </a:prstGeom>
          <a:ln w="0">
            <a:noFill/>
          </a:ln>
        </p:spPr>
      </p:pic>
      <p:pic>
        <p:nvPicPr>
          <p:cNvPr id="41" name="TextBox 1" descr=""/>
          <p:cNvPicPr/>
          <p:nvPr/>
        </p:nvPicPr>
        <p:blipFill>
          <a:blip r:embed="rId3"/>
          <a:stretch/>
        </p:blipFill>
        <p:spPr>
          <a:xfrm>
            <a:off x="895320" y="-176040"/>
            <a:ext cx="7450200" cy="1719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"/>
          <p:cNvPicPr/>
          <p:nvPr/>
        </p:nvPicPr>
        <p:blipFill>
          <a:blip r:embed="rId4"/>
          <a:stretch/>
        </p:blipFill>
        <p:spPr>
          <a:xfrm>
            <a:off x="4211640" y="1341360"/>
            <a:ext cx="423720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 rot="2670000">
            <a:off x="2798640" y="2341080"/>
            <a:ext cx="57484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9" name="Рисунок 3" descr=""/>
          <p:cNvPicPr/>
          <p:nvPr/>
        </p:nvPicPr>
        <p:blipFill>
          <a:blip r:embed="rId1"/>
          <a:stretch/>
        </p:blipFill>
        <p:spPr>
          <a:xfrm>
            <a:off x="2054160" y="0"/>
            <a:ext cx="5297400" cy="6834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1981080" y="23760"/>
            <a:ext cx="537048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6" presetSubtype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1908000" y="73080"/>
            <a:ext cx="512604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108000" y="189000"/>
            <a:ext cx="6514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Только мимо нас проплы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Поиграли и уплы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Среди волн мелькают спин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Дети, кто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6" descr=""/>
          <p:cNvPicPr/>
          <p:nvPr/>
        </p:nvPicPr>
        <p:blipFill>
          <a:blip r:embed="rId1"/>
          <a:stretch/>
        </p:blipFill>
        <p:spPr>
          <a:xfrm>
            <a:off x="4356000" y="2205000"/>
            <a:ext cx="3962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108000" y="692280"/>
            <a:ext cx="8064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Безобидны, словно де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Мы за них, друзья, в отве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Вглубь ныряют, вверх взлетают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Добрым нравом облада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Тело гладкое имею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"Разговаривать" уме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Их язык понять стремим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Дружбой с ними мы гордим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Подставляют в море сп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Людям тонущим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"/>
          <p:cNvPicPr/>
          <p:nvPr/>
        </p:nvPicPr>
        <p:blipFill>
          <a:blip r:embed="rId1"/>
          <a:stretch/>
        </p:blipFill>
        <p:spPr>
          <a:xfrm>
            <a:off x="4159080" y="333360"/>
            <a:ext cx="5594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" nodeType="after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4"/>
          <p:cNvSpPr/>
          <p:nvPr/>
        </p:nvSpPr>
        <p:spPr>
          <a:xfrm>
            <a:off x="154080" y="92160"/>
            <a:ext cx="55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Вновь играя и ша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Перед носом кораб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Над водой мелькают спин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Мчатся шустрые дельфин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6" descr=""/>
          <p:cNvPicPr/>
          <p:nvPr/>
        </p:nvPicPr>
        <p:blipFill>
          <a:blip r:embed="rId1"/>
          <a:stretch/>
        </p:blipFill>
        <p:spPr>
          <a:xfrm>
            <a:off x="1042920" y="3357720"/>
            <a:ext cx="2157480" cy="2085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 rot="21420000">
            <a:off x="1490760" y="2406240"/>
            <a:ext cx="2259000" cy="21844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"/>
          <p:cNvPicPr/>
          <p:nvPr/>
        </p:nvPicPr>
        <p:blipFill>
          <a:blip r:embed="rId3"/>
          <a:stretch/>
        </p:blipFill>
        <p:spPr>
          <a:xfrm flipH="1" rot="256800">
            <a:off x="3998520" y="1306440"/>
            <a:ext cx="51246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0" y="147600"/>
            <a:ext cx="83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0" y="517680"/>
            <a:ext cx="10333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7" descr=""/>
          <p:cNvPicPr/>
          <p:nvPr/>
        </p:nvPicPr>
        <p:blipFill>
          <a:blip r:embed="rId1"/>
          <a:stretch/>
        </p:blipFill>
        <p:spPr>
          <a:xfrm>
            <a:off x="-82440" y="0"/>
            <a:ext cx="92646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"/>
          <p:cNvPicPr/>
          <p:nvPr/>
        </p:nvPicPr>
        <p:blipFill>
          <a:blip r:embed="rId2"/>
          <a:stretch/>
        </p:blipFill>
        <p:spPr>
          <a:xfrm>
            <a:off x="2050920" y="789120"/>
            <a:ext cx="5905800" cy="57085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127080" y="4873680"/>
            <a:ext cx="8980560" cy="17697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Дельфины – очень добрые и дружелюбные.</a:t>
            </a:r>
            <a:r>
              <a:rPr b="1" i="1" lang="en-US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Дельфины – не рыбы, а млекопитающие. Но они могут находиться</a:t>
            </a:r>
            <a:r>
              <a:rPr b="1" i="1" lang="en-US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под водой очень долго. Чтобы вдохнуть, дельфины поднимаются на поверхность. Они дышат через специальное отверстие на голове. Дельфины плавают, двигая вверх-вниз своим плоским хвост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3"/>
                                      </p:cond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684360" y="476280"/>
            <a:ext cx="7848360" cy="568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1879560" y="476280"/>
            <a:ext cx="6540480" cy="259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395280" y="3392640"/>
            <a:ext cx="6697800" cy="194436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1" descr=""/>
          <p:cNvPicPr/>
          <p:nvPr/>
        </p:nvPicPr>
        <p:blipFill>
          <a:blip r:embed="rId3"/>
          <a:stretch/>
        </p:blipFill>
        <p:spPr>
          <a:xfrm>
            <a:off x="781200" y="596880"/>
            <a:ext cx="919080" cy="75096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2" descr=""/>
          <p:cNvPicPr/>
          <p:nvPr/>
        </p:nvPicPr>
        <p:blipFill>
          <a:blip r:embed="rId4"/>
          <a:stretch/>
        </p:blipFill>
        <p:spPr>
          <a:xfrm>
            <a:off x="781200" y="3456000"/>
            <a:ext cx="80964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611280" y="549360"/>
            <a:ext cx="7993080" cy="568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371600" y="803160"/>
            <a:ext cx="7377120" cy="252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-181080" y="3213000"/>
            <a:ext cx="7745400" cy="240372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1" descr=""/>
          <p:cNvPicPr/>
          <p:nvPr/>
        </p:nvPicPr>
        <p:blipFill>
          <a:blip r:embed="rId3"/>
          <a:stretch/>
        </p:blipFill>
        <p:spPr>
          <a:xfrm>
            <a:off x="974880" y="706320"/>
            <a:ext cx="793440" cy="75096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2" descr=""/>
          <p:cNvPicPr/>
          <p:nvPr/>
        </p:nvPicPr>
        <p:blipFill>
          <a:blip r:embed="rId4"/>
          <a:stretch/>
        </p:blipFill>
        <p:spPr>
          <a:xfrm>
            <a:off x="974880" y="3121200"/>
            <a:ext cx="7934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684360" y="549360"/>
            <a:ext cx="7775280" cy="583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8864280" cy="320040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1" descr=""/>
          <p:cNvPicPr/>
          <p:nvPr/>
        </p:nvPicPr>
        <p:blipFill>
          <a:blip r:embed="rId2"/>
          <a:stretch/>
        </p:blipFill>
        <p:spPr>
          <a:xfrm>
            <a:off x="871560" y="743040"/>
            <a:ext cx="79200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 rot="1186800">
            <a:off x="1107720" y="2098800"/>
            <a:ext cx="886464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8T12:26:29Z</dcterms:created>
  <dc:creator>asusf8ws</dc:creator>
  <dc:description/>
  <dc:language>en-US</dc:language>
  <cp:lastModifiedBy>Николай</cp:lastModifiedBy>
  <dcterms:modified xsi:type="dcterms:W3CDTF">2012-10-29T08:14:03Z</dcterms:modified>
  <cp:revision>40</cp:revision>
  <dc:subject/>
  <dc:title>Презентация PowerPoint</dc:title>
</cp:coreProperties>
</file>