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839-7101-4F96-B45C-9D2995C8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513-AA85-443B-9DEE-A4B0118F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A0C-2B13-4FFA-A470-4C147458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834-7ED9-417F-B2F4-E64519C6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A3B-7671-47E2-8C13-6A09106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501-F2A4-4005-BD95-E0DF2FFA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870-6C07-4651-A79D-0B9CFF6D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77E-D53C-401A-BD15-AF470D9C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738-7FB9-4F67-8E75-ACCE190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290-687E-4664-9D80-1CD7826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3B1-A9B6-474A-A56D-A4ED058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325-5D87-4E52-9145-DF0D2CE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B60-E002-452D-AD32-D1528F8AE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8" descr=""/>
          <p:cNvPicPr/>
          <p:nvPr/>
        </p:nvPicPr>
        <p:blipFill>
          <a:blip r:embed="rId1"/>
          <a:stretch/>
        </p:blipFill>
        <p:spPr>
          <a:xfrm>
            <a:off x="1187280" y="1962000"/>
            <a:ext cx="3311640" cy="4813560"/>
          </a:xfrm>
          <a:prstGeom prst="rect">
            <a:avLst/>
          </a:prstGeom>
          <a:ln w="0">
            <a:noFill/>
          </a:ln>
        </p:spPr>
      </p:pic>
      <p:pic>
        <p:nvPicPr>
          <p:cNvPr id="40" name="Рисунок 10" descr=""/>
          <p:cNvPicPr/>
          <p:nvPr/>
        </p:nvPicPr>
        <p:blipFill>
          <a:blip r:embed="rId2"/>
          <a:stretch/>
        </p:blipFill>
        <p:spPr>
          <a:xfrm>
            <a:off x="3851280" y="4546440"/>
            <a:ext cx="1789200" cy="2314800"/>
          </a:xfrm>
          <a:prstGeom prst="rect">
            <a:avLst/>
          </a:prstGeom>
          <a:ln w="0">
            <a:noFill/>
          </a:ln>
        </p:spPr>
      </p:pic>
      <p:pic>
        <p:nvPicPr>
          <p:cNvPr id="41" name="TextBox 1" descr=""/>
          <p:cNvPicPr/>
          <p:nvPr/>
        </p:nvPicPr>
        <p:blipFill>
          <a:blip r:embed="rId3"/>
          <a:stretch/>
        </p:blipFill>
        <p:spPr>
          <a:xfrm>
            <a:off x="895320" y="-176040"/>
            <a:ext cx="7450200" cy="1719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4"/>
          <a:stretch/>
        </p:blipFill>
        <p:spPr>
          <a:xfrm>
            <a:off x="4211640" y="1341360"/>
            <a:ext cx="4237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 rot="2670000">
            <a:off x="2798640" y="2341080"/>
            <a:ext cx="57484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2054160" y="0"/>
            <a:ext cx="5297400" cy="683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981080" y="23760"/>
            <a:ext cx="53704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908000" y="73080"/>
            <a:ext cx="512604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108000" y="189000"/>
            <a:ext cx="65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Только мимо нас проплы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оиграли и уплы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Среди волн мелькают сп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ети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6" descr=""/>
          <p:cNvPicPr/>
          <p:nvPr/>
        </p:nvPicPr>
        <p:blipFill>
          <a:blip r:embed="rId1"/>
          <a:stretch/>
        </p:blipFill>
        <p:spPr>
          <a:xfrm>
            <a:off x="4356000" y="2205000"/>
            <a:ext cx="396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08000" y="69228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Безобидны, словно де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Мы за них, друзья, в от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Вглубь ныряют, вверх взлетаю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обрым нравом облад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Тело гладкое име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"Разговаривать" уме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Их язык понять стремим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ружбой с ними мы гордим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одставляют в море сп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Людям тонущим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4159080" y="333360"/>
            <a:ext cx="5594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154080" y="9216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Вновь играя и ш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еред носом кораб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Над водой мелькают сп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Мчатся шустрые дельфин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215748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 rot="21420000">
            <a:off x="1490760" y="2406240"/>
            <a:ext cx="2259000" cy="2184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 flipH="1" rot="256800">
            <a:off x="3998520" y="1306440"/>
            <a:ext cx="51246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0" y="1476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0" y="517680"/>
            <a:ext cx="1033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7" descr=""/>
          <p:cNvPicPr/>
          <p:nvPr/>
        </p:nvPicPr>
        <p:blipFill>
          <a:blip r:embed="rId1"/>
          <a:stretch/>
        </p:blipFill>
        <p:spPr>
          <a:xfrm>
            <a:off x="-82440" y="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"/>
          <p:cNvPicPr/>
          <p:nvPr/>
        </p:nvPicPr>
        <p:blipFill>
          <a:blip r:embed="rId2"/>
          <a:stretch/>
        </p:blipFill>
        <p:spPr>
          <a:xfrm>
            <a:off x="2050920" y="789120"/>
            <a:ext cx="5905800" cy="57085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27080" y="4873680"/>
            <a:ext cx="8980560" cy="1769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очень добрые и дружелюбные.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не рыбы, а млекопитающие. Но они могут находиться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од водой очень долго. Чтобы вдохнуть, дельфины поднимаются на поверхность. Они дышат через специальное отверстие на голове. Дельфины плавают, двигая вверх-вниз своим плоским хвост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684360" y="476280"/>
            <a:ext cx="7848360" cy="568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879560" y="476280"/>
            <a:ext cx="654048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95280" y="3392640"/>
            <a:ext cx="6697800" cy="194436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" descr=""/>
          <p:cNvPicPr/>
          <p:nvPr/>
        </p:nvPicPr>
        <p:blipFill>
          <a:blip r:embed="rId3"/>
          <a:stretch/>
        </p:blipFill>
        <p:spPr>
          <a:xfrm>
            <a:off x="781200" y="596880"/>
            <a:ext cx="919080" cy="75096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2" descr=""/>
          <p:cNvPicPr/>
          <p:nvPr/>
        </p:nvPicPr>
        <p:blipFill>
          <a:blip r:embed="rId4"/>
          <a:stretch/>
        </p:blipFill>
        <p:spPr>
          <a:xfrm>
            <a:off x="781200" y="3456000"/>
            <a:ext cx="809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611280" y="549360"/>
            <a:ext cx="7993080" cy="568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803160"/>
            <a:ext cx="73771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81080" y="3213000"/>
            <a:ext cx="7745400" cy="24037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" descr=""/>
          <p:cNvPicPr/>
          <p:nvPr/>
        </p:nvPicPr>
        <p:blipFill>
          <a:blip r:embed="rId3"/>
          <a:stretch/>
        </p:blipFill>
        <p:spPr>
          <a:xfrm>
            <a:off x="974880" y="706320"/>
            <a:ext cx="793440" cy="7509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" descr=""/>
          <p:cNvPicPr/>
          <p:nvPr/>
        </p:nvPicPr>
        <p:blipFill>
          <a:blip r:embed="rId4"/>
          <a:stretch/>
        </p:blipFill>
        <p:spPr>
          <a:xfrm>
            <a:off x="974880" y="3121200"/>
            <a:ext cx="793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4360" y="549360"/>
            <a:ext cx="7775280" cy="583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8642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" descr=""/>
          <p:cNvPicPr/>
          <p:nvPr/>
        </p:nvPicPr>
        <p:blipFill>
          <a:blip r:embed="rId2"/>
          <a:stretch/>
        </p:blipFill>
        <p:spPr>
          <a:xfrm>
            <a:off x="871560" y="743040"/>
            <a:ext cx="7920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 rot="1186800">
            <a:off x="1107720" y="2098800"/>
            <a:ext cx="886464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2:26:29Z</dcterms:created>
  <dc:creator>asusf8ws</dc:creator>
  <dc:description/>
  <dc:language>en-US</dc:language>
  <cp:lastModifiedBy>Николай</cp:lastModifiedBy>
  <dcterms:modified xsi:type="dcterms:W3CDTF">2012-10-29T08:14:03Z</dcterms:modified>
  <cp:revision>40</cp:revision>
  <dc:subject/>
  <dc:title>Презентация PowerPoint</dc:title>
</cp:coreProperties>
</file>