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CB2-0564-44E7-A54D-B6BB13B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DF6-A003-4582-8218-6B63D59B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6A4-CA13-47EF-A9A4-5E1B0300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1E6-A33C-4BB6-BFF0-F9F30851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9BB-E381-4186-BCEA-05C85A74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A9C-6471-4ED1-BB7F-E39E9AB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330B-B059-4B66-BAEB-E95AB53B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A2FE-8341-462C-922F-3EC3027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92BE-1F91-4297-AA90-E6DD9B3E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A6F-2225-441A-995B-D097771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F27-7BBC-476F-AC3C-4C8C44D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65F-E6FC-4E8A-A433-712036E0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A031-C5C5-4B67-AD3F-467EC2B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6F4-6FE3-4CD2-AA2C-5691573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17D2-130F-4A82-A39E-1C27E12E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2D2C-C1C2-4E8A-9602-0B270160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AC5-A12F-4ECA-978D-F604C6F8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A7C-F0CA-4DE4-9B3E-27EC0EC4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B73-282E-42DC-9447-7C605A74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730-260A-49C5-B858-5A56830E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20D-246E-41C4-A777-49D77BB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8C8-7F8B-4D4E-BA02-AFF7A37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3F6-8580-4656-A486-796D92D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5B1-5331-4869-A55F-84DE92B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CE6-316F-4517-B531-42E9CAA905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3DB-C6F3-4528-B6A1-B4CE5CF3382F}" type="slidenum">
              <a:rPr b="0" lang="ru-RU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7273800" cy="158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90b2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37d95"/>
                </a:solidFill>
                <a:latin typeface="Cambria"/>
              </a:rPr>
              <a:t>Архитектор: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7280" y="3644640"/>
            <a:ext cx="7632720" cy="1003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390b2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ambria"/>
              </a:rPr>
              <a:t>кто он и зачем необходим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ff916f"/>
          </a:solidFill>
          <a:ln w="381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7800" cy="6048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0b20"/>
                </a:solidFill>
                <a:latin typeface="Cambria"/>
              </a:rPr>
              <a:t>Нельзя создать произведение архитектуры без знания основ искусства, понятий композиции, гармонии цветовых и пропорциональных отношений пространств, объемов, форм и плоскостей, ритмического построения деталей и множества других аспектов. Архитектурная деятельность входит в перечень творческих профессий, в отличие от инженерной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0b20"/>
                </a:solidFill>
                <a:latin typeface="Cambria"/>
              </a:rPr>
              <a:t>Вместе с тем, проектировать и строить без знаний инженерных дисциплин тоже нельзя. И не только инженерных. Архитектор обязан знать диалектику природы и общества, но это не значит, что он должен быть философом или природоведом. Обязан знать историю и теорию архитектуры, но не значит, что он должен быть искусствоведом. Знать инженерно-топографические, геологические, гидрогеологические и другие особенности грунтов и участков, на которых возводятся здания и сооружения, но это не обязывает его быть геомом, топографом или гидрогеологом. Знать статистические и демографические методы прогнозирования численности населения, но не обязан быть статистом и демографом. Знать законодательные и нормативные акты России, но не обязан быть юристом, адвокатом или правозащитником. Уметь рисовать, но не значит быть художником-графиком. Знать инженерные дисциплины, но не обязан быть инженером. Этот перечень можно продолжать достаточно долго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4392720" cy="6480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Сравнительно недавно в обиход нашей жизни вошла профессия "дизайнер", что в переводе означает "проектировщик". Чаще всего его воспринимают как художника по конструированию автомобилей, машин, механизмов и оборудования, полиграфической продукции и рекламы, одежды, интерьеров, окружающей среды (а это уже эле­мент архитектуры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Но важнее всего - другое. Какой деятельностью будет заниматься "архитектор-зодчий" и какими знаниями и на­выками он должен в связи с этим обладать? Основные качества архитек­турного произведения: польза, прочность, красота остаются незыблемым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ostins"/>
          <p:cNvPicPr/>
          <p:nvPr/>
        </p:nvPicPr>
        <p:blipFill>
          <a:blip r:embed="rId1"/>
          <a:stretch/>
        </p:blipFill>
        <p:spPr>
          <a:xfrm>
            <a:off x="4678200" y="3500280"/>
            <a:ext cx="4465800" cy="272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"/>
          <p:cNvPicPr/>
          <p:nvPr/>
        </p:nvPicPr>
        <p:blipFill>
          <a:blip r:embed="rId2"/>
          <a:stretch/>
        </p:blipFill>
        <p:spPr>
          <a:xfrm>
            <a:off x="6156360" y="260280"/>
            <a:ext cx="2724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8000" y="189000"/>
            <a:ext cx="4176720" cy="6480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А чтобы творение архитектуры ненароком не обрушилось, автор должен обеспечить его устойчивость и надежность, что достигается знаниями инженерных дисциплин и соблюдением действующих норм и стандартов, разработанных на основе многовекового опыта в строительной деятельности, с учетом дотошного анализа причин обрушений, аварий и гибели при этом человеческих жизней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Основы тех и других зна­ний и умений архитектор-зодчий получает не только в ВУЗе, но и в детском саду, в средней и специализированной школе,подготовительных курсах, в художественном училище или техникуме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6" descr="calatrava1"/>
          <p:cNvPicPr/>
          <p:nvPr/>
        </p:nvPicPr>
        <p:blipFill>
          <a:blip r:embed="rId1"/>
          <a:stretch/>
        </p:blipFill>
        <p:spPr>
          <a:xfrm>
            <a:off x="4500720" y="476280"/>
            <a:ext cx="43401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08000" y="189000"/>
            <a:ext cx="8640720" cy="2448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Возможно, что сегодня нет необходимости архитектору доводить до совершенства навыки рисования обнаженной фигуры человека. Но умение рисовать интерьеры и экстерьеры   (окружающую среду) с человеком в них -это навыки воспитания и станов­ления вкусовых качеств, вос­приятия, масштабных челове­ку пропорций пространств. Я не уверен, что компьютер мо­жет развить такие качества, он не воспитатель, не учи­тель. Он всего лишь инструмент, ускоряющий выполнять поиск и изображение задуманной иде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6" descr="girlsroom"/>
          <p:cNvPicPr/>
          <p:nvPr/>
        </p:nvPicPr>
        <p:blipFill>
          <a:blip r:embed="rId1"/>
          <a:stretch/>
        </p:blipFill>
        <p:spPr>
          <a:xfrm>
            <a:off x="4572000" y="2637000"/>
            <a:ext cx="4425840" cy="33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8"/>
          <p:cNvPicPr/>
          <p:nvPr/>
        </p:nvPicPr>
        <p:blipFill>
          <a:blip r:embed="rId2"/>
          <a:stretch/>
        </p:blipFill>
        <p:spPr>
          <a:xfrm>
            <a:off x="250920" y="2492280"/>
            <a:ext cx="5064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35880" cy="49975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0b20"/>
                </a:solidFill>
                <a:latin typeface="Cambria"/>
              </a:rPr>
              <a:t>Таким образом, деятельность архитектора многоликая и многоаспектная, требующая всестороннего эстетического воспитания и развития, приобретения навыков и умений изобразительного искусства, а также обширных и глубоких знаний природно-климатических, историко-культурных, социально-экономических, инженерно-технических, физико-математических, организационно-технических, административно-хозяйственных, нормативно-правовых и т.п. на любой занимаемой должности в меру закрепленных обязанностей и понимания профессиональной и гражданской ответ­твенности, порядочности и этики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0b20"/>
                </a:solidFill>
                <a:latin typeface="Cambria"/>
              </a:rPr>
              <a:t>Архитектор - это личность. Творческая, многогранная, в постоянном поиске. Важно найти себя, свое место в океане творческих течений и вдохновенных образов прекрасного, облагораживающих и совершенствующих наш беспардонный мир. А еще, чтобы была в нем удовлетворенность результатами своего труда, за оплату которого он мог жить безбедно. Мог достойно отказаться от работы, которая явно противоречит высоким требованиям произвед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32:32Z</dcterms:created>
  <dc:creator>Meri</dc:creator>
  <dc:description/>
  <dc:language>en-US</dc:language>
  <cp:lastModifiedBy>Admin</cp:lastModifiedBy>
  <dcterms:modified xsi:type="dcterms:W3CDTF">2012-06-07T08:00:58Z</dcterms:modified>
  <cp:revision>7</cp:revision>
  <dc:subject/>
  <dc:title>Слайд 1</dc:title>
</cp:coreProperties>
</file>