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D66-DB67-4F2C-8A1A-EEBBF649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C4C-7367-44D7-8D29-625848B8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D49-F8FF-4379-8FE9-ED663055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13A-9631-42BC-82AE-4D17F816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535B-C1B4-4F6E-A483-764B7357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E6DC-52AA-4B40-8F09-BA75F5E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6B04-E9D2-4743-AF3A-F774ACC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3F10-D54C-420A-BC70-2EF44C59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2F76-B186-43EC-814E-307AC75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FABE-A41A-4A59-ABE1-615A9A4E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338-ECB8-463F-B603-B148781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E9D-A01F-4FB7-8CF3-9578F736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E440-B7CA-405B-AF44-E373BB5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F0CE-E1FA-483A-9E89-58CEB9D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6732-799E-467C-BFC8-672D7BDF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2C6-E454-4C46-A476-C2A8EFD2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E0A7-76BC-41EC-AEBA-27DC59AA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5A3-08BE-4D93-B420-EB7A2E3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646-54B4-4266-8C58-543C83B6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7EB-B696-4B91-AA77-40F3A2C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C8C-AFC7-42A2-BE96-498F575E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1A6-817D-4D51-AFE5-D540B4D4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790-4534-460F-87D2-71A8816E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61-0954-4421-9DF3-447CBEC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F75E-341C-4483-863E-0D554099B7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9EA-F21F-4EC0-A152-4FFFD080677B}" type="slidenum">
              <a:rPr b="0" lang="ru-RU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7273800" cy="158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90b2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37d95"/>
                </a:solidFill>
                <a:latin typeface="Cambria"/>
              </a:rPr>
              <a:t>Архитектор: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7280" y="3644640"/>
            <a:ext cx="7632720" cy="1003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390b2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ambria"/>
              </a:rPr>
              <a:t>кто он и зачем необходим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ff916f"/>
          </a:solidFill>
          <a:ln w="381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7800" cy="6048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0b20"/>
                </a:solidFill>
                <a:latin typeface="Cambria"/>
              </a:rPr>
              <a:t>Нельзя создать произведение архитектуры без знания основ искусства, понятий композиции, гармонии цветовых и пропорциональных отношений пространств, объемов, форм и плоскостей, ритмического построения деталей и множества других аспектов. Архитектурная деятельность входит в перечень творческих профессий, в отличие от инженерной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0b20"/>
                </a:solidFill>
                <a:latin typeface="Cambria"/>
              </a:rPr>
              <a:t>Вместе с тем, проектировать и строить без знаний инженерных дисциплин тоже нельзя. И не только инженерных. Архитектор обязан знать диалектику природы и общества, но это не значит, что он должен быть философом или природоведом. Обязан знать историю и теорию архитектуры, но не значит, что он должен быть искусствоведом. Знать инженерно-топографические, геологические, гидрогеологические и другие особенности грунтов и участков, на которых возводятся здания и сооружения, но это не обязывает его быть геомом, топографом или гидрогеологом. Знать статистические и демографические методы прогнозирования численности населения, но не обязан быть статистом и демографом. Знать законодательные и нормативные акты России, но не обязан быть юристом, адвокатом или правозащитником. Уметь рисовать, но не значит быть художником-графиком. Знать инженерные дисциплины, но не обязан быть инженером. Этот перечень можно продолжать достаточно долго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4392720" cy="6480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Сравнительно недавно в обиход нашей жизни вошла профессия "дизайнер", что в переводе означает "проектировщик". Чаще всего его воспринимают как художника по конструированию автомобилей, машин, механизмов и оборудования, полиграфической продукции и рекламы, одежды, интерьеров, окружающей среды (а это уже эле­мент архитектуры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Но важнее всего - другое. Какой деятельностью будет заниматься "архитектор-зодчий" и какими знаниями и на­выками он должен в связи с этим обладать? Основные качества архитек­турного произведения: польза, прочность, красота остаются незыблемым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5" descr="ostins"/>
          <p:cNvPicPr/>
          <p:nvPr/>
        </p:nvPicPr>
        <p:blipFill>
          <a:blip r:embed="rId1"/>
          <a:stretch/>
        </p:blipFill>
        <p:spPr>
          <a:xfrm>
            <a:off x="4678200" y="3500280"/>
            <a:ext cx="4465800" cy="272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"/>
          <p:cNvPicPr/>
          <p:nvPr/>
        </p:nvPicPr>
        <p:blipFill>
          <a:blip r:embed="rId2"/>
          <a:stretch/>
        </p:blipFill>
        <p:spPr>
          <a:xfrm>
            <a:off x="6156360" y="260280"/>
            <a:ext cx="2724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8000" y="189000"/>
            <a:ext cx="4176720" cy="6480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А чтобы творение архитектуры ненароком не обрушилось, автор должен обеспечить его устойчивость и надежность, что достигается знаниями инженерных дисциплин и соблюдением действующих норм и стандартов, разработанных на основе многовекового опыта в строительной деятельности, с учетом дотошного анализа причин обрушений, аварий и гибели при этом человеческих жизней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Основы тех и других зна­ний и умений архитектор-зодчий получает не только в ВУЗе, но и в детском саду, в средней и специализированной школе,подготовительных курсах, в художественном училище или техникуме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6" descr="calatrava1"/>
          <p:cNvPicPr/>
          <p:nvPr/>
        </p:nvPicPr>
        <p:blipFill>
          <a:blip r:embed="rId1"/>
          <a:stretch/>
        </p:blipFill>
        <p:spPr>
          <a:xfrm>
            <a:off x="4500720" y="476280"/>
            <a:ext cx="43401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08000" y="189000"/>
            <a:ext cx="8640720" cy="2448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Возможно, что сегодня нет необходимости архитектору доводить до совершенства навыки рисования обнаженной фигуры человека. Но умение рисовать интерьеры и экстерьеры   (окружающую среду) с человеком в них -это навыки воспитания и станов­ления вкусовых качеств, вос­приятия, масштабных челове­ку пропорций пространств. Я не уверен, что компьютер мо­жет развить такие качества, он не воспитатель, не учи­тель. Он всего лишь инструмент, ускоряющий выполнять поиск и изображение задуманной иде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6" descr="girlsroom"/>
          <p:cNvPicPr/>
          <p:nvPr/>
        </p:nvPicPr>
        <p:blipFill>
          <a:blip r:embed="rId1"/>
          <a:stretch/>
        </p:blipFill>
        <p:spPr>
          <a:xfrm>
            <a:off x="4572000" y="2637000"/>
            <a:ext cx="4425840" cy="33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8"/>
          <p:cNvPicPr/>
          <p:nvPr/>
        </p:nvPicPr>
        <p:blipFill>
          <a:blip r:embed="rId2"/>
          <a:stretch/>
        </p:blipFill>
        <p:spPr>
          <a:xfrm>
            <a:off x="250920" y="2492280"/>
            <a:ext cx="50641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35880" cy="49975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0b20"/>
                </a:solidFill>
                <a:latin typeface="Cambria"/>
              </a:rPr>
              <a:t>Таким образом, деятельность архитектора многоликая и многоаспектная, требующая всестороннего эстетического воспитания и развития, приобретения навыков и умений изобразительного искусства, а также обширных и глубоких знаний природно-климатических, историко-культурных, социально-экономических, инженерно-технических, физико-математических, организационно-технических, административно-хозяйственных, нормативно-правовых и т.п. на любой занимаемой должности в меру закрепленных обязанностей и понимания профессиональной и гражданской ответ­твенности, порядочности и этики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0b20"/>
                </a:solidFill>
                <a:latin typeface="Cambria"/>
              </a:rPr>
              <a:t>Архитектор - это личность. Творческая, многогранная, в постоянном поиске. Важно найти себя, свое место в океане творческих течений и вдохновенных образов прекрасного, облагораживающих и совершенствующих наш беспардонный мир. А еще, чтобы была в нем удовлетворенность результатами своего труда, за оплату которого он мог жить безбедно. Мог достойно отказаться от работы, которая явно противоречит высоким требованиям произвед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32:32Z</dcterms:created>
  <dc:creator>Meri</dc:creator>
  <dc:description/>
  <dc:language>en-US</dc:language>
  <cp:lastModifiedBy>Admin</cp:lastModifiedBy>
  <dcterms:modified xsi:type="dcterms:W3CDTF">2012-06-07T08:00:58Z</dcterms:modified>
  <cp:revision>7</cp:revision>
  <dc:subject/>
  <dc:title>Слайд 1</dc:title>
</cp:coreProperties>
</file>