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F44-45D3-4621-B185-EF965A78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52F-D00A-444D-B0A4-B542EF9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21B-4B2B-4AC1-888B-002B82D8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07B-52A7-4776-828D-5F3A04B0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10D-6041-48FD-A4AC-BE42CDCD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EB54-CBFA-4D2A-BB1B-834B4EC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D1EC-F288-44CD-ADFD-742037CB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57BC-C633-4584-BD77-160B23BC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BFA1-CFD2-4948-9F2E-2A6ADA2A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59B-ED79-4B3A-BD3B-BEA5E66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EDCB-8177-43B0-B6AA-9435D6A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77F-F052-4B22-A9ED-EE67A3D2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4B6B-B097-4FBE-9437-64355B2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D6FC-910D-4083-A827-527CE6E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D07-B065-4C7F-AFBE-62FF2DC8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37A1-0A1F-4631-86D0-05286E1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D1AF-AD24-4C8B-8B85-51CB6635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5EE-C307-498D-A6DF-ECA1808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FDE-3341-4A52-AD3D-F8C0C188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CCD-4CC3-4D1C-8A42-9AB9336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1BE-F0F4-4513-904A-2B20591D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2C3-EFD5-42DB-9E3C-CE86B79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453-1812-4EF4-BD95-A88775D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BCC-5643-4B9D-B4FF-4FCE0AD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7CA0-C181-41DD-A82C-B589626F04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3057-5C36-4F3B-9B02-A1BC501A13CC}" type="slidenum">
              <a:rPr b="0" lang="ru-RU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7273800" cy="1582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90b2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37d95"/>
                </a:solidFill>
                <a:latin typeface="Cambria"/>
              </a:rPr>
              <a:t>Архитектор: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7280" y="3644640"/>
            <a:ext cx="7632720" cy="1003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390b2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ambria"/>
              </a:rPr>
              <a:t>кто он и зачем необходим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ff916f"/>
          </a:solidFill>
          <a:ln w="381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7800" cy="6048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0b20"/>
                </a:solidFill>
                <a:latin typeface="Cambria"/>
              </a:rPr>
              <a:t>Нельзя создать произведение архитектуры без знания основ искусства, понятий композиции, гармонии цветовых и пропорциональных отношений пространств, объемов, форм и плоскостей, ритмического построения деталей и множества других аспектов. Архитектурная деятельность входит в перечень творческих профессий, в отличие от инженерной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0b20"/>
                </a:solidFill>
                <a:latin typeface="Cambria"/>
              </a:rPr>
              <a:t>Вместе с тем, проектировать и строить без знаний инженерных дисциплин тоже нельзя. И не только инженерных. Архитектор обязан знать диалектику природы и общества, но это не значит, что он должен быть философом или природоведом. Обязан знать историю и теорию архитектуры, но не значит, что он должен быть искусствоведом. Знать инженерно-топографические, геологические, гидрогеологические и другие особенности грунтов и участков, на которых возводятся здания и сооружения, но это не обязывает его быть геомом, топографом или гидрогеологом. Знать статистические и демографические методы прогнозирования численности населения, но не обязан быть статистом и демографом. Знать законодательные и нормативные акты России, но не обязан быть юристом, адвокатом или правозащитником. Уметь рисовать, но не значит быть художником-графиком. Знать инженерные дисциплины, но не обязан быть инженером. Этот перечень можно продолжать достаточно долго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4392720" cy="6480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Сравнительно недавно в обиход нашей жизни вошла профессия "дизайнер", что в переводе означает "проектировщик". Чаще всего его воспринимают как художника по конструированию автомобилей, машин, механизмов и оборудования, полиграфической продукции и рекламы, одежды, интерьеров, окружающей среды (а это уже эле­мент архитектуры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Но важнее всего - другое. Какой деятельностью будет заниматься "архитектор-зодчий" и какими знаниями и на­выками он должен в связи с этим обладать? Основные качества архитек­турного произведения: польза, прочность, красота остаются незыблемым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ostins"/>
          <p:cNvPicPr/>
          <p:nvPr/>
        </p:nvPicPr>
        <p:blipFill>
          <a:blip r:embed="rId1"/>
          <a:stretch/>
        </p:blipFill>
        <p:spPr>
          <a:xfrm>
            <a:off x="4678200" y="3500280"/>
            <a:ext cx="4465800" cy="272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"/>
          <p:cNvPicPr/>
          <p:nvPr/>
        </p:nvPicPr>
        <p:blipFill>
          <a:blip r:embed="rId2"/>
          <a:stretch/>
        </p:blipFill>
        <p:spPr>
          <a:xfrm>
            <a:off x="6156360" y="260280"/>
            <a:ext cx="2724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08000" y="189000"/>
            <a:ext cx="4176720" cy="6480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А чтобы творение архитектуры ненароком не обрушилось, автор должен обеспечить его устойчивость и надежность, что достигается знаниями инженерных дисциплин и соблюдением действующих норм и стандартов, разработанных на основе многовекового опыта в строительной деятельности, с учетом дотошного анализа причин обрушений, аварий и гибели при этом человеческих жизней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Основы тех и других зна­ний и умений архитектор-зодчий получает не только в ВУЗе, но и в детском саду, в средней и специализированной школе,подготовительных курсах, в художественном училище или техникуме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6" descr="calatrava1"/>
          <p:cNvPicPr/>
          <p:nvPr/>
        </p:nvPicPr>
        <p:blipFill>
          <a:blip r:embed="rId1"/>
          <a:stretch/>
        </p:blipFill>
        <p:spPr>
          <a:xfrm>
            <a:off x="4500720" y="476280"/>
            <a:ext cx="43401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08000" y="189000"/>
            <a:ext cx="8640720" cy="24480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0b20"/>
                </a:solidFill>
                <a:latin typeface="Cambria"/>
              </a:rPr>
              <a:t>Возможно, что сегодня нет необходимости архитектору доводить до совершенства навыки рисования обнаженной фигуры человека. Но умение рисовать интерьеры и экстерьеры   (окружающую среду) с человеком в них -это навыки воспитания и станов­ления вкусовых качеств, вос­приятия, масштабных челове­ку пропорций пространств. Я не уверен, что компьютер мо­жет развить такие качества, он не воспитатель, не учи­тель. Он всего лишь инструмент, ускоряющий выполнять поиск и изображение задуманной идеи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6" descr="girlsroom"/>
          <p:cNvPicPr/>
          <p:nvPr/>
        </p:nvPicPr>
        <p:blipFill>
          <a:blip r:embed="rId1"/>
          <a:stretch/>
        </p:blipFill>
        <p:spPr>
          <a:xfrm>
            <a:off x="4572000" y="2637000"/>
            <a:ext cx="4425840" cy="33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8"/>
          <p:cNvPicPr/>
          <p:nvPr/>
        </p:nvPicPr>
        <p:blipFill>
          <a:blip r:embed="rId2"/>
          <a:stretch/>
        </p:blipFill>
        <p:spPr>
          <a:xfrm>
            <a:off x="250920" y="2492280"/>
            <a:ext cx="50641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35880" cy="49975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0b20"/>
                </a:solidFill>
                <a:latin typeface="Cambria"/>
              </a:rPr>
              <a:t>Таким образом, деятельность архитектора многоликая и многоаспектная, требующая всестороннего эстетического воспитания и развития, приобретения навыков и умений изобразительного искусства, а также обширных и глубоких знаний природно-климатических, историко-культурных, социально-экономических, инженерно-технических, физико-математических, организационно-технических, административно-хозяйственных, нормативно-правовых и т.п. на любой занимаемой должности в меру закрепленных обязанностей и понимания профессиональной и гражданской ответ­твенности, порядочности и этики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1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0b20"/>
                </a:solidFill>
                <a:latin typeface="Cambria"/>
              </a:rPr>
              <a:t>Архитектор - это личность. Творческая, многогранная, в постоянном поиске. Важно найти себя, свое место в океане творческих течений и вдохновенных образов прекрасного, облагораживающих и совершенствующих наш беспардонный мир. А еще, чтобы была в нем удовлетворенность результатами своего труда, за оплату которого он мог жить безбедно. Мог достойно отказаться от работы, которая явно противоречит высоким требованиям произвед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32:32Z</dcterms:created>
  <dc:creator>Meri</dc:creator>
  <dc:description/>
  <dc:language>en-US</dc:language>
  <cp:lastModifiedBy>Admin</cp:lastModifiedBy>
  <dcterms:modified xsi:type="dcterms:W3CDTF">2012-06-07T08:00:58Z</dcterms:modified>
  <cp:revision>7</cp:revision>
  <dc:subject/>
  <dc:title>Слайд 1</dc:title>
</cp:coreProperties>
</file>