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59A-6EDA-4086-99D1-78533223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8EF-5CD3-435E-AB86-9FEC5EDF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B52-92FA-40CE-92F2-B6D70731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DF2-A77B-4CB0-B1AA-61D7C3FE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09E-668A-40FC-8561-CC3A565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14C-C7D2-4C36-AE77-A2183BF3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4B9-0779-4BE6-A10B-533F81E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51D-A07A-4661-B939-574758D6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765-AC0D-4F3B-A681-AE406DD7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7B5-6A3B-4513-B4A4-14DE6ACA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0BE-50B0-4338-A948-5BD5913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FF5-475C-4AD0-BD55-20BAE11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F616-3C8E-4418-886A-1E64E4D5F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468360" y="5445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62560" y="928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332000" y="260280"/>
            <a:ext cx="6985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Calibri"/>
              </a:rPr>
              <a:t>Творческий про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Calibri"/>
              </a:rPr>
              <a:t>«Пакетница  ВОРО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427640" y="3500280"/>
            <a:ext cx="43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ект разработал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Шевченко Анастасия,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-А класса, МОУ СОШ №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зержинского р-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лимонов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лгоград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Calibri"/>
              </a:rPr>
              <a:t>Экономическое обоснование проект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 flipV="1" rot="10800000">
            <a:off x="322200" y="97812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Стоимость матер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000" y="1268280"/>
          <a:ext cx="8928000" cy="2560680"/>
        </p:xfrm>
        <a:graphic>
          <a:graphicData uri="http://schemas.openxmlformats.org/drawingml/2006/table">
            <a:tbl>
              <a:tblPr/>
              <a:tblGrid>
                <a:gridCol w="503280"/>
                <a:gridCol w="2396880"/>
                <a:gridCol w="1486080"/>
                <a:gridCol w="1838160"/>
                <a:gridCol w="1428840"/>
                <a:gridCol w="12747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спользуемых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за единицу измере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на изделие в ед.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 (мерный лоску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те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ло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ки швей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у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78"/>
          <p:cNvSpPr/>
          <p:nvPr/>
        </p:nvSpPr>
        <p:spPr>
          <a:xfrm>
            <a:off x="250920" y="393264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Затраты на электроэнерг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4365720"/>
          <a:ext cx="8928000" cy="1795320"/>
        </p:xfrm>
        <a:graphic>
          <a:graphicData uri="http://schemas.openxmlformats.org/drawingml/2006/table">
            <a:tbl>
              <a:tblPr/>
              <a:tblGrid>
                <a:gridCol w="503280"/>
                <a:gridCol w="2520720"/>
                <a:gridCol w="1800360"/>
                <a:gridCol w="1295280"/>
                <a:gridCol w="1224000"/>
                <a:gridCol w="1584360"/>
              </a:tblGrid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т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я, кВ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1 кВт/час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эл.энергии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 швейной маш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 (эл. лампоч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утюг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462"/>
          <p:cNvSpPr/>
          <p:nvPr/>
        </p:nvSpPr>
        <p:spPr>
          <a:xfrm>
            <a:off x="0" y="481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8"/>
          <p:cNvSpPr/>
          <p:nvPr/>
        </p:nvSpPr>
        <p:spPr>
          <a:xfrm>
            <a:off x="685800" y="6263280"/>
            <a:ext cx="69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ат. + Сэл. + Работа = 153,80 + 7,47 + 100,00 =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261,2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187280" y="332280"/>
            <a:ext cx="74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Calibri"/>
              </a:rPr>
              <a:t>Рекл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50920" y="1965240"/>
            <a:ext cx="6121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Ай! Ай! Какая незадач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Разбросаны пакеты тут и 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Но это не беда, поможем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Моя Ворона лишь крылом взмахне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Пакеты сразу в кучу собе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тесняйтесь, обращайтесь, всегда рады вам помочь по адресу:  г. Волгоград, п.  Гумр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. Строителей, д. 4-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70-18-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IMG_1223"/>
          <p:cNvPicPr/>
          <p:nvPr/>
        </p:nvPicPr>
        <p:blipFill>
          <a:blip r:embed="rId1"/>
          <a:stretch/>
        </p:blipFill>
        <p:spPr>
          <a:xfrm>
            <a:off x="6443640" y="1268280"/>
            <a:ext cx="240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1116000" y="1109160"/>
            <a:ext cx="763272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Максимова М.В., Кузьмина М.А. Лоскутики / ЗАО Издательство «Эксмо – Пресс», 1998. – 11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Максимова М.В., Кузьмина М.А., Кузьмина Н.Ю. Новый взгляд на привычный сад. 150 идей находчивых садоводов. – М.: Эксмо, 2009. – 160с.: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180440" y="366840"/>
            <a:ext cx="63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Использ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92600" y="3573360"/>
            <a:ext cx="46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Интернет ресур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116000" y="450864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home-sweet.ru/archives/6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www.liveinternet.ru/showjou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stranamasterov.ru/node/17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blog.kp.ua/users/4113774/post15607995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Calibri"/>
              </a:rPr>
              <a:t>Благодарю за внимание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7416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т и всё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деюсь, что вам понравился мой прое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539640" y="3573360"/>
            <a:ext cx="766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ься планировать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йти способ хранения упаковочных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Установить,  какие материалы можно использовать при их изгото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ыполнить работу своими рука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вести экономический расч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79480" y="366840"/>
            <a:ext cx="33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55640" y="1052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рганизация самостоятельной   творческо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ценить свои возможности в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755640" y="2852640"/>
            <a:ext cx="43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395280" y="191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сть найти способ хранения упаковочных пакетов в оригинальн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95280" y="38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здать полезное и красивое украшение для интерьера кухни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95280" y="52254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высить уровень своего масте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5040" y="277920"/>
            <a:ext cx="709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Обоснование и актуаль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темы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544680" y="314172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 процесс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80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Calibri"/>
              </a:rPr>
              <a:t>Звездочка обдумыв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Diagram 5"/>
          <p:cNvGrpSpPr/>
          <p:nvPr/>
        </p:nvGrpSpPr>
        <p:grpSpPr>
          <a:xfrm>
            <a:off x="2740320" y="1346400"/>
            <a:ext cx="5210640" cy="5212440"/>
            <a:chOff x="2740320" y="1346400"/>
            <a:chExt cx="5210640" cy="5212440"/>
          </a:xfrm>
        </p:grpSpPr>
        <p:sp>
          <p:nvSpPr>
            <p:cNvPr id="56" name="_s1028"/>
            <p:cNvSpPr/>
            <p:nvPr/>
          </p:nvSpPr>
          <p:spPr>
            <a:xfrm flipH="1" flipV="1">
              <a:off x="4425840" y="3031560"/>
              <a:ext cx="458640" cy="45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29"/>
            <p:cNvSpPr/>
            <p:nvPr/>
          </p:nvSpPr>
          <p:spPr>
            <a:xfrm>
              <a:off x="3312360" y="1918440"/>
              <a:ext cx="1302480" cy="130320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роблема потреб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0"/>
            <p:cNvSpPr/>
            <p:nvPr/>
          </p:nvSpPr>
          <p:spPr>
            <a:xfrm flipH="1">
              <a:off x="4044960" y="3952440"/>
              <a:ext cx="6494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1"/>
            <p:cNvSpPr/>
            <p:nvPr/>
          </p:nvSpPr>
          <p:spPr>
            <a:xfrm>
              <a:off x="2740320" y="330120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Себесто-им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 flipH="1">
              <a:off x="4425840" y="4413600"/>
              <a:ext cx="459360" cy="45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3"/>
            <p:cNvSpPr/>
            <p:nvPr/>
          </p:nvSpPr>
          <p:spPr>
            <a:xfrm>
              <a:off x="3313080" y="468360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Охрана труда и техника безопас-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5346000" y="4604040"/>
              <a:ext cx="360" cy="65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695120" y="525564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Технология изготовле-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5806800" y="4412880"/>
              <a:ext cx="4593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7"/>
            <p:cNvSpPr/>
            <p:nvPr/>
          </p:nvSpPr>
          <p:spPr>
            <a:xfrm>
              <a:off x="6076800" y="468288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Конструиро-вание и модел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8"/>
            <p:cNvSpPr/>
            <p:nvPr/>
          </p:nvSpPr>
          <p:spPr>
            <a:xfrm>
              <a:off x="5997240" y="3952440"/>
              <a:ext cx="65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9"/>
            <p:cNvSpPr/>
            <p:nvPr/>
          </p:nvSpPr>
          <p:spPr>
            <a:xfrm>
              <a:off x="6648480" y="330084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Выбор материалов и инстру-ментов для рабо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40"/>
            <p:cNvSpPr/>
            <p:nvPr/>
          </p:nvSpPr>
          <p:spPr>
            <a:xfrm flipV="1">
              <a:off x="5806440" y="3030840"/>
              <a:ext cx="46008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1"/>
            <p:cNvSpPr/>
            <p:nvPr/>
          </p:nvSpPr>
          <p:spPr>
            <a:xfrm>
              <a:off x="6076080" y="191844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Разработка дизай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2"/>
            <p:cNvSpPr/>
            <p:nvPr/>
          </p:nvSpPr>
          <p:spPr>
            <a:xfrm flipV="1">
              <a:off x="5346000" y="2649600"/>
              <a:ext cx="0" cy="65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3"/>
            <p:cNvSpPr/>
            <p:nvPr/>
          </p:nvSpPr>
          <p:spPr>
            <a:xfrm>
              <a:off x="4694400" y="134640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Изучение имеющихся аналог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4694400" y="3301200"/>
              <a:ext cx="1302480" cy="1303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00"/>
                  </a:solidFill>
                  <a:latin typeface="Tahoma"/>
                </a:rPr>
                <a:t>Пакетниц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24" descr="022"/>
          <p:cNvPicPr/>
          <p:nvPr/>
        </p:nvPicPr>
        <p:blipFill>
          <a:blip r:embed="rId1"/>
          <a:stretch/>
        </p:blipFill>
        <p:spPr>
          <a:xfrm>
            <a:off x="179280" y="333360"/>
            <a:ext cx="2229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Банк идей и предлож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201536083329475498"/>
          <p:cNvPicPr/>
          <p:nvPr/>
        </p:nvPicPr>
        <p:blipFill>
          <a:blip r:embed="rId1"/>
          <a:stretch/>
        </p:blipFill>
        <p:spPr>
          <a:xfrm>
            <a:off x="324000" y="1197000"/>
            <a:ext cx="2323800" cy="229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82062981_large_PAKETNICA1"/>
          <p:cNvPicPr/>
          <p:nvPr/>
        </p:nvPicPr>
        <p:blipFill>
          <a:blip r:embed="rId2"/>
          <a:stretch/>
        </p:blipFill>
        <p:spPr>
          <a:xfrm>
            <a:off x="324000" y="4149720"/>
            <a:ext cx="2124000" cy="244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-325"/>
          <p:cNvPicPr/>
          <p:nvPr/>
        </p:nvPicPr>
        <p:blipFill>
          <a:blip r:embed="rId3"/>
          <a:stretch/>
        </p:blipFill>
        <p:spPr>
          <a:xfrm>
            <a:off x="3635280" y="1197000"/>
            <a:ext cx="2105280" cy="25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aketg01"/>
          <p:cNvPicPr/>
          <p:nvPr/>
        </p:nvPicPr>
        <p:blipFill>
          <a:blip r:embed="rId4"/>
          <a:stretch/>
        </p:blipFill>
        <p:spPr>
          <a:xfrm>
            <a:off x="6804000" y="1197000"/>
            <a:ext cx="1666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64041017_1284541076_81"/>
          <p:cNvPicPr/>
          <p:nvPr/>
        </p:nvPicPr>
        <p:blipFill>
          <a:blip r:embed="rId5"/>
          <a:stretch/>
        </p:blipFill>
        <p:spPr>
          <a:xfrm>
            <a:off x="4356000" y="4292640"/>
            <a:ext cx="2990880" cy="2000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5173560" y="630864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861240" y="364428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4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2628360" y="51570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3949560" y="378864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971640" y="357264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1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Основные требования к издел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24000" y="22032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стет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акетница должна быть оригинальной, красивой и яркой, соответствовать интерьеру кухни и украшать 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324000" y="13399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Технолог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операции по изготовлению изделия должны быть рациональны, безопасны, доступ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324000" y="3355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коном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зделие должно быть изготовлено из доступных и недорогих материалов, иметь невысокую себе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285840" y="5642280"/>
            <a:ext cx="86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колог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зделие должно быть выполнено из экологически  чисты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324000" y="4506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ксплуатацион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акетница должна иметь удобную для эксплуатации конструкцию и соответствовать назнач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Подбор материалов, инструментов и приспособлени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7" descr="Изображение 157"/>
          <p:cNvPicPr/>
          <p:nvPr/>
        </p:nvPicPr>
        <p:blipFill>
          <a:blip r:embed="rId1"/>
          <a:stretch/>
        </p:blipFill>
        <p:spPr>
          <a:xfrm>
            <a:off x="179280" y="1989000"/>
            <a:ext cx="3857760" cy="2376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8"/>
          <p:cNvSpPr/>
          <p:nvPr/>
        </p:nvSpPr>
        <p:spPr>
          <a:xfrm>
            <a:off x="539640" y="4475520"/>
            <a:ext cx="72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, инструменты и приспособ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ниверсальная швейная маш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тюжильная доска, утю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учная игла, булавки, ножницы, наперс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итки хлопчатобумажные №4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мел, линейка, сантиметровая л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4284720" y="1905480"/>
            <a:ext cx="441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лотная шелковая ткань для голов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реп для туловищ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итец для фарту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есьма для отд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77409309"/>
          <p:cNvPicPr/>
          <p:nvPr/>
        </p:nvPicPr>
        <p:blipFill>
          <a:blip r:embed="rId2"/>
          <a:stretch/>
        </p:blipFill>
        <p:spPr>
          <a:xfrm>
            <a:off x="7596360" y="260280"/>
            <a:ext cx="1247760" cy="111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66711258"/>
          <p:cNvPicPr/>
          <p:nvPr/>
        </p:nvPicPr>
        <p:blipFill>
          <a:blip r:embed="rId3"/>
          <a:stretch/>
        </p:blipFill>
        <p:spPr>
          <a:xfrm>
            <a:off x="250920" y="189000"/>
            <a:ext cx="146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Calibri"/>
              </a:rPr>
              <a:t>Организация рабочего места и техника безопасности</a:t>
            </a: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53280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боте над пакетницей и в целях сохранения жизни и здоровья я выполняла и соблюдала все необходимые правила техники безопасности и охраны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000001727572"/>
          <p:cNvPicPr/>
          <p:nvPr/>
        </p:nvPicPr>
        <p:blipFill>
          <a:blip r:embed="rId1"/>
          <a:stretch/>
        </p:blipFill>
        <p:spPr>
          <a:xfrm>
            <a:off x="7012080" y="4437000"/>
            <a:ext cx="213192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Thumbs Up"/>
          <p:cNvPicPr/>
          <p:nvPr/>
        </p:nvPicPr>
        <p:blipFill>
          <a:blip r:embed="rId2"/>
          <a:stretch/>
        </p:blipFill>
        <p:spPr>
          <a:xfrm>
            <a:off x="611280" y="69228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Последовательность изготовления пакет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1403280" y="467352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Разработка чертежа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Изготовление выкроек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аскрой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ошив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8" descr="Изображение 159"/>
          <p:cNvPicPr/>
          <p:nvPr/>
        </p:nvPicPr>
        <p:blipFill>
          <a:blip r:embed="rId1"/>
          <a:stretch/>
        </p:blipFill>
        <p:spPr>
          <a:xfrm>
            <a:off x="1403280" y="1844640"/>
            <a:ext cx="4915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9:19:30Z</dcterms:created>
  <dc:creator>Ирина</dc:creator>
  <dc:description/>
  <dc:language>en-US</dc:language>
  <cp:lastModifiedBy>Олег</cp:lastModifiedBy>
  <dcterms:modified xsi:type="dcterms:W3CDTF">2012-06-03T17:52:35Z</dcterms:modified>
  <cp:revision>51</cp:revision>
  <dc:subject/>
  <dc:title>Технология обработки юбки</dc:title>
</cp:coreProperties>
</file>