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1922-B655-4C61-87E8-33BBAFA73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6A92-060A-4975-BCAA-DE81BD27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802B-8C42-4428-A440-B6C9E8DD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DD6D-341A-48DD-A39C-9CA9DA0B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A198-865A-462A-867E-4A3C4499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62A3-08DA-442F-9BA0-4547F605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507B-9F84-4E10-A007-DD9A2205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1EBE-1B4A-4082-84F7-40CA316A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EDDB-4AE6-4E33-A92F-5FC1179E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6DA4-AA2C-4273-8118-46E92937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CD66-D3B9-4ACC-AD5D-E7990472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421C-86E1-4A1D-B8E5-58CD7C88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A766-9C78-4150-B8C3-F538863816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Monotype Corsiva"/>
              </a:rPr>
              <a:t>Цель урока: обобщить и систематизировать знания о природных регионах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826920" y="765000"/>
            <a:ext cx="7561440" cy="251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ирода регионов Ро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Кавка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ri-kav"/>
          <p:cNvPicPr/>
          <p:nvPr/>
        </p:nvPicPr>
        <p:blipFill>
          <a:blip r:embed="rId1"/>
          <a:stretch/>
        </p:blipFill>
        <p:spPr>
          <a:xfrm>
            <a:off x="1116000" y="1125360"/>
            <a:ext cx="727236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Ура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урал"/>
          <p:cNvPicPr/>
          <p:nvPr/>
        </p:nvPicPr>
        <p:blipFill>
          <a:blip r:embed="rId1"/>
          <a:stretch/>
        </p:blipFill>
        <p:spPr>
          <a:xfrm>
            <a:off x="324000" y="1341360"/>
            <a:ext cx="8820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Машук и Бешта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172"/>
          <p:cNvPicPr/>
          <p:nvPr/>
        </p:nvPicPr>
        <p:blipFill>
          <a:blip r:embed="rId1"/>
          <a:stretch/>
        </p:blipFill>
        <p:spPr>
          <a:xfrm>
            <a:off x="324000" y="1484280"/>
            <a:ext cx="4825800" cy="3211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b_8222"/>
          <p:cNvPicPr/>
          <p:nvPr/>
        </p:nvPicPr>
        <p:blipFill>
          <a:blip r:embed="rId2"/>
          <a:stretch/>
        </p:blipFill>
        <p:spPr>
          <a:xfrm>
            <a:off x="4572000" y="3357720"/>
            <a:ext cx="41403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Monotype Corsiva"/>
              </a:rPr>
              <a:t>В 1841 году на склоне горы Машук, близ Пятигорска был убит М.Ю.Лермо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lermontov"/>
          <p:cNvPicPr/>
          <p:nvPr/>
        </p:nvPicPr>
        <p:blipFill>
          <a:blip r:embed="rId1"/>
          <a:srcRect l="0" t="0" r="-56" b="270"/>
          <a:stretch/>
        </p:blipFill>
        <p:spPr>
          <a:xfrm>
            <a:off x="611280" y="2060640"/>
            <a:ext cx="2808360" cy="3744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picture_07_w250"/>
          <p:cNvPicPr/>
          <p:nvPr/>
        </p:nvPicPr>
        <p:blipFill>
          <a:blip r:embed="rId2"/>
          <a:stretch/>
        </p:blipFill>
        <p:spPr>
          <a:xfrm>
            <a:off x="4211640" y="2133720"/>
            <a:ext cx="425448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Александр Твардов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ма: « За далью да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tvardovsky"/>
          <p:cNvPicPr/>
          <p:nvPr/>
        </p:nvPicPr>
        <p:blipFill>
          <a:blip r:embed="rId1"/>
          <a:stretch/>
        </p:blipFill>
        <p:spPr>
          <a:xfrm>
            <a:off x="2987640" y="2133720"/>
            <a:ext cx="352116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Василий Андреевич Жуков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autor_img"/>
          <p:cNvPicPr/>
          <p:nvPr/>
        </p:nvPicPr>
        <p:blipFill>
          <a:blip r:embed="rId1"/>
          <a:stretch/>
        </p:blipFill>
        <p:spPr>
          <a:xfrm>
            <a:off x="2298600" y="1700280"/>
            <a:ext cx="38894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Степан Щипаче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schipachev"/>
          <p:cNvPicPr/>
          <p:nvPr/>
        </p:nvPicPr>
        <p:blipFill>
          <a:blip r:embed="rId1"/>
          <a:srcRect l="0" t="0" r="0" b="260"/>
          <a:stretch/>
        </p:blipFill>
        <p:spPr>
          <a:xfrm>
            <a:off x="2627280" y="1413000"/>
            <a:ext cx="3851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Фрол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фролов"/>
          <p:cNvPicPr/>
          <p:nvPr/>
        </p:nvPicPr>
        <p:blipFill>
          <a:blip r:embed="rId1"/>
          <a:stretch/>
        </p:blipFill>
        <p:spPr>
          <a:xfrm>
            <a:off x="1187280" y="1628640"/>
            <a:ext cx="5113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Марк Сергее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Sergeev1"/>
          <p:cNvPicPr/>
          <p:nvPr/>
        </p:nvPicPr>
        <p:blipFill>
          <a:blip r:embed="rId1"/>
          <a:stretch/>
        </p:blipFill>
        <p:spPr>
          <a:xfrm>
            <a:off x="2700360" y="1628640"/>
            <a:ext cx="33368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Андрей Вознесен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voznesenskiy_andrey_1"/>
          <p:cNvPicPr/>
          <p:nvPr/>
        </p:nvPicPr>
        <p:blipFill>
          <a:blip r:embed="rId1"/>
          <a:stretch/>
        </p:blipFill>
        <p:spPr>
          <a:xfrm>
            <a:off x="2340000" y="1125360"/>
            <a:ext cx="34732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Задач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пределять уровень знаний основных физико-географических показателей крупных природных комплексов Ро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развивать умение работы с разными источниками географической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оспитывать бережное отношение к прир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Иркутская ГЭ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untitled"/>
          <p:cNvPicPr/>
          <p:nvPr/>
        </p:nvPicPr>
        <p:blipFill>
          <a:blip r:embed="rId1"/>
          <a:stretch/>
        </p:blipFill>
        <p:spPr>
          <a:xfrm>
            <a:off x="1187280" y="1268280"/>
            <a:ext cx="673452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ЦБК на Байкал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150708417"/>
          <p:cNvPicPr/>
          <p:nvPr/>
        </p:nvPicPr>
        <p:blipFill>
          <a:blip r:embed="rId1"/>
          <a:stretch/>
        </p:blipFill>
        <p:spPr>
          <a:xfrm>
            <a:off x="250920" y="1413000"/>
            <a:ext cx="5111640" cy="3027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Vb5k9ID3jxniVykB89cS6A"/>
          <p:cNvPicPr/>
          <p:nvPr/>
        </p:nvPicPr>
        <p:blipFill>
          <a:blip r:embed="rId2"/>
          <a:srcRect l="0" t="0" r="0" b="-94"/>
          <a:stretch/>
        </p:blipFill>
        <p:spPr>
          <a:xfrm>
            <a:off x="3995640" y="3573360"/>
            <a:ext cx="499104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Сплав леса по река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les9"/>
          <p:cNvPicPr/>
          <p:nvPr/>
        </p:nvPicPr>
        <p:blipFill>
          <a:blip r:embed="rId1"/>
          <a:stretch/>
        </p:blipFill>
        <p:spPr>
          <a:xfrm>
            <a:off x="2050920" y="1628640"/>
            <a:ext cx="5257800" cy="42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Моря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Незамерзающее море на севере Ро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Море, омывающее с юго-востока Чукотский полуост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Море в Калининградской обла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Море на востоке Ро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Море, названное в честь двух братьев-исследова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Моря России ( ответы)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ренцево мор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ингово мор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лтийское мор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отское мор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ре Лаптев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Monotype Corsiva"/>
              </a:rPr>
              <a:t>Реклама 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жду опять дождя гриб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по лесам бродить привы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жду опять, когда пробьется сн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ва приметный боров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0003-007-Belyj-grib-borovik"/>
          <p:cNvPicPr/>
          <p:nvPr/>
        </p:nvPicPr>
        <p:blipFill>
          <a:blip r:embed="rId1"/>
          <a:stretch/>
        </p:blipFill>
        <p:spPr>
          <a:xfrm>
            <a:off x="5329080" y="1341360"/>
            <a:ext cx="3422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227628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ехи кедра. Покупайте орехи! Орехи – это до 36% жирного масла, крахмал, клетчатка, витамины. В скорлупе орехов 12% дубильного вещества. Ядра орехов содержат 0,65 мг витамина В, до 10 мг витамина Е. Скорлупу орехов применяют в виде настоя от глухоты. Масло орехов используют в парфюмерии и  консервировании. Орехи по питательным качествам превосходят такие продукты, как молоко, мяс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poleznye-svoistva-kedrovyh-orehov"/>
          <p:cNvPicPr/>
          <p:nvPr/>
        </p:nvPicPr>
        <p:blipFill>
          <a:blip r:embed="rId1"/>
          <a:stretch/>
        </p:blipFill>
        <p:spPr>
          <a:xfrm>
            <a:off x="395280" y="115920"/>
            <a:ext cx="3565440" cy="2146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omsk_b_4049"/>
          <p:cNvPicPr/>
          <p:nvPr/>
        </p:nvPicPr>
        <p:blipFill>
          <a:blip r:embed="rId2"/>
          <a:stretch/>
        </p:blipFill>
        <p:spPr>
          <a:xfrm>
            <a:off x="4572000" y="115920"/>
            <a:ext cx="295272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2924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усника. Это не только вкусно, но и полезно. Даже листья брусники лечат! Чего только нет в листьях брусники! А ягоды! Чай с брусничным вареньем. Какое наслажде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ква. Покупайте клюкву! Она может храниться очень долго благодаря бензойной кислоте. Ягоды вкусные, полезные. В них есть витамин С, каротин, железо, разные кислоты, которые необходимы челове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brustnik"/>
          <p:cNvPicPr/>
          <p:nvPr/>
        </p:nvPicPr>
        <p:blipFill>
          <a:blip r:embed="rId1"/>
          <a:stretch/>
        </p:blipFill>
        <p:spPr>
          <a:xfrm>
            <a:off x="4356000" y="189000"/>
            <a:ext cx="4386240" cy="2741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Klyukva1-616x640"/>
          <p:cNvPicPr/>
          <p:nvPr/>
        </p:nvPicPr>
        <p:blipFill>
          <a:blip r:embed="rId2"/>
          <a:stretch/>
        </p:blipFill>
        <p:spPr>
          <a:xfrm>
            <a:off x="1260360" y="115920"/>
            <a:ext cx="27734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Monotype Corsiva"/>
              </a:rPr>
              <a:t>Реклама №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упайте лекарственные травы! Они полезны всем: ромашка - содержит все необходимые вещества для человека. Крапива –содержит  муравьиную кислоту, витамины С, К и В 2.Крапива широко используется в пищу – для борщей и супов. Ее хлорофилл используется в кондитерском деле, как красите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есь, в зарослях лесных, где все для     сердца ми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чистым воздухом так сладостно дыш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в травах и цветах целительная с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сех умеющих их тайну разгад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5511050"/>
          <p:cNvPicPr/>
          <p:nvPr/>
        </p:nvPicPr>
        <p:blipFill>
          <a:blip r:embed="rId1"/>
          <a:stretch/>
        </p:blipFill>
        <p:spPr>
          <a:xfrm>
            <a:off x="179280" y="404640"/>
            <a:ext cx="4795920" cy="360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15_551"/>
          <p:cNvPicPr/>
          <p:nvPr/>
        </p:nvPicPr>
        <p:blipFill>
          <a:blip r:embed="rId2"/>
          <a:stretch/>
        </p:blipFill>
        <p:spPr>
          <a:xfrm>
            <a:off x="4356000" y="3213000"/>
            <a:ext cx="44578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" descr="1302370801_2"/>
          <p:cNvPicPr/>
          <p:nvPr/>
        </p:nvPicPr>
        <p:blipFill>
          <a:blip r:embed="rId1"/>
          <a:stretch/>
        </p:blipFill>
        <p:spPr>
          <a:xfrm rot="20721000">
            <a:off x="4211640" y="3068640"/>
            <a:ext cx="4314960" cy="3236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Природа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0018-018-Reka-enisej-rossija"/>
          <p:cNvPicPr/>
          <p:nvPr/>
        </p:nvPicPr>
        <p:blipFill>
          <a:blip r:embed="rId2"/>
          <a:stretch/>
        </p:blipFill>
        <p:spPr>
          <a:xfrm rot="20627400">
            <a:off x="394920" y="1773000"/>
            <a:ext cx="4897440" cy="3033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13538"/>
          <p:cNvPicPr/>
          <p:nvPr/>
        </p:nvPicPr>
        <p:blipFill>
          <a:blip r:embed="rId3"/>
          <a:stretch/>
        </p:blipFill>
        <p:spPr>
          <a:xfrm>
            <a:off x="7093080" y="189000"/>
            <a:ext cx="18428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Hleb_darnitsky_formovoy_b"/>
          <p:cNvPicPr/>
          <p:nvPr/>
        </p:nvPicPr>
        <p:blipFill>
          <a:blip r:embed="rId1"/>
          <a:stretch/>
        </p:blipFill>
        <p:spPr>
          <a:xfrm>
            <a:off x="755640" y="0"/>
            <a:ext cx="3025800" cy="22701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это край – кормил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одная мудрость глас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мля – матушка, а хлеб – батюш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народа есть слова: хлеб – всей жизни го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хлеба ни куска, то и в тереме то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леб в закромах – счастье в домах, каравай хлеба не свалится с не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он, хлебушек душистый, с хрустной корочкой ви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он – теплый, золотистый, словно солнцем нали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ждый дом, на каждый стол он пожаловал – приш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pic02"/>
          <p:cNvPicPr/>
          <p:nvPr/>
        </p:nvPicPr>
        <p:blipFill>
          <a:blip r:embed="rId2"/>
          <a:stretch/>
        </p:blipFill>
        <p:spPr>
          <a:xfrm>
            <a:off x="6948360" y="115920"/>
            <a:ext cx="2014560" cy="2944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89"/>
          <p:cNvPicPr/>
          <p:nvPr/>
        </p:nvPicPr>
        <p:blipFill>
          <a:blip r:embed="rId3"/>
          <a:srcRect l="0" t="0" r="0" b="-83"/>
          <a:stretch/>
        </p:blipFill>
        <p:spPr>
          <a:xfrm>
            <a:off x="4427640" y="189000"/>
            <a:ext cx="208908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Monotype Corsiva"/>
              </a:rPr>
              <a:t>Реклама №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олнечник – чрезвычайно важная сельскохозяйственная культу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дает около 90% растительного жира, употребляемого в промышл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езное применение находят все растения. Мякина превращается в эластичную массу – фактис – заменитель каучука. Из подсолнуха изготавливают силос, жмыхи, ткани, резину. А также продукты – масло, халву, маргарин. Подсолнечник – младший сын в семье культурных растений в бескрайней русской степ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хар. Покупайте, покупайте сахар! Сахар – это сахароза! ЕЕ получают из сахарной свеклы. Очищенную сахарную свеклу в свеклорезках превращают в тонкую стружку и помещают в специальные сосуды, где пропускают горячую воду. Потом все это обрабатывают, упаривают и вот готовый сладкий сахар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Monotype Corsiva"/>
              </a:rPr>
              <a:t>Подсолнечник. Сахарная свекл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_1_~1"/>
          <p:cNvPicPr/>
          <p:nvPr/>
        </p:nvPicPr>
        <p:blipFill>
          <a:blip r:embed="rId1"/>
          <a:srcRect l="0" t="0" r="25" b="0"/>
          <a:stretch/>
        </p:blipFill>
        <p:spPr>
          <a:xfrm>
            <a:off x="0" y="3187800"/>
            <a:ext cx="4021200" cy="3670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3674284"/>
          <p:cNvPicPr/>
          <p:nvPr/>
        </p:nvPicPr>
        <p:blipFill>
          <a:blip r:embed="rId2"/>
          <a:stretch/>
        </p:blipFill>
        <p:spPr>
          <a:xfrm>
            <a:off x="3995640" y="1341360"/>
            <a:ext cx="525636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Monotype Corsiva"/>
              </a:rPr>
              <a:t>Черная бе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866"/>
          <p:cNvPicPr/>
          <p:nvPr/>
        </p:nvPicPr>
        <p:blipFill>
          <a:blip r:embed="rId1"/>
          <a:stretch/>
        </p:blipFill>
        <p:spPr>
          <a:xfrm>
            <a:off x="1476360" y="1557360"/>
            <a:ext cx="6197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640" y="259920"/>
            <a:ext cx="75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Monotype Corsiva"/>
              </a:rPr>
              <a:t>Корейские лианы на Дальнем Восто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Rose-Garden-Bonanza"/>
          <p:cNvPicPr/>
          <p:nvPr/>
        </p:nvPicPr>
        <p:blipFill>
          <a:blip r:embed="rId1"/>
          <a:stretch/>
        </p:blipFill>
        <p:spPr>
          <a:xfrm>
            <a:off x="5076720" y="836640"/>
            <a:ext cx="3891240" cy="5835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053057052124051050053049057055056054053"/>
          <p:cNvPicPr/>
          <p:nvPr/>
        </p:nvPicPr>
        <p:blipFill>
          <a:blip r:embed="rId2"/>
          <a:stretch/>
        </p:blipFill>
        <p:spPr>
          <a:xfrm>
            <a:off x="468360" y="1989000"/>
            <a:ext cx="42480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6"/>
          <p:cNvSpPr txBox="1"/>
          <p:nvPr/>
        </p:nvSpPr>
        <p:spPr>
          <a:xfrm>
            <a:off x="684360" y="1052640"/>
            <a:ext cx="7777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Спасибо за внима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132" name="WordArt 8"/>
          <p:cNvSpPr txBox="1"/>
          <p:nvPr/>
        </p:nvSpPr>
        <p:spPr>
          <a:xfrm>
            <a:off x="2700360" y="3860640"/>
            <a:ext cx="3952800" cy="14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Урок окончен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Станции уро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шнее в цепоч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турная странич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ря Ро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родные зо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обо всем ( географический дикта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Крупные регионы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3388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точно-Европей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Русская) равн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018"/>
          <p:cNvPicPr/>
          <p:nvPr/>
        </p:nvPicPr>
        <p:blipFill>
          <a:blip r:embed="rId1"/>
          <a:stretch/>
        </p:blipFill>
        <p:spPr>
          <a:xfrm>
            <a:off x="468360" y="3284640"/>
            <a:ext cx="4681440" cy="2979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4884_49b124ff"/>
          <p:cNvPicPr/>
          <p:nvPr/>
        </p:nvPicPr>
        <p:blipFill>
          <a:blip r:embed="rId2"/>
          <a:stretch/>
        </p:blipFill>
        <p:spPr>
          <a:xfrm>
            <a:off x="5292720" y="1413000"/>
            <a:ext cx="369576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Западно-сибирская равн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43588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адно-сибирская равнина- самая низкая равнина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7-"/>
          <p:cNvPicPr/>
          <p:nvPr/>
        </p:nvPicPr>
        <p:blipFill>
          <a:blip r:embed="rId1"/>
          <a:stretch/>
        </p:blipFill>
        <p:spPr>
          <a:xfrm>
            <a:off x="2050920" y="2637000"/>
            <a:ext cx="58327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Monotype Corsiva"/>
              </a:rPr>
              <a:t>Восточная Сибирь или Среднесибирское плоскогор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Rassvet_v_gorah_gallery"/>
          <p:cNvPicPr/>
          <p:nvPr/>
        </p:nvPicPr>
        <p:blipFill>
          <a:blip r:embed="rId1"/>
          <a:stretch/>
        </p:blipFill>
        <p:spPr>
          <a:xfrm>
            <a:off x="468360" y="1628640"/>
            <a:ext cx="4678200" cy="3302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Siberia"/>
          <p:cNvPicPr/>
          <p:nvPr/>
        </p:nvPicPr>
        <p:blipFill>
          <a:blip r:embed="rId2"/>
          <a:stretch/>
        </p:blipFill>
        <p:spPr>
          <a:xfrm>
            <a:off x="4859280" y="3560760"/>
            <a:ext cx="408636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Дальний вост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image003"/>
          <p:cNvPicPr/>
          <p:nvPr/>
        </p:nvPicPr>
        <p:blipFill>
          <a:blip r:embed="rId1"/>
          <a:stretch/>
        </p:blipFill>
        <p:spPr>
          <a:xfrm>
            <a:off x="0" y="3670200"/>
            <a:ext cx="4249800" cy="3187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30"/>
          <p:cNvPicPr/>
          <p:nvPr/>
        </p:nvPicPr>
        <p:blipFill>
          <a:blip r:embed="rId2"/>
          <a:srcRect l="0" t="0" r="0" b="-20"/>
          <a:stretch/>
        </p:blipFill>
        <p:spPr>
          <a:xfrm>
            <a:off x="4284720" y="1052640"/>
            <a:ext cx="4753080" cy="3338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Dalniy-Vostok-Rossii1"/>
          <p:cNvPicPr/>
          <p:nvPr/>
        </p:nvPicPr>
        <p:blipFill>
          <a:blip r:embed="rId3"/>
          <a:stretch/>
        </p:blipFill>
        <p:spPr>
          <a:xfrm>
            <a:off x="395280" y="1052640"/>
            <a:ext cx="3313080" cy="2487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magadan2_big"/>
          <p:cNvPicPr/>
          <p:nvPr/>
        </p:nvPicPr>
        <p:blipFill>
          <a:blip r:embed="rId4"/>
          <a:stretch/>
        </p:blipFill>
        <p:spPr>
          <a:xfrm>
            <a:off x="5508720" y="4478400"/>
            <a:ext cx="316692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Горы южной Сибир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zrclip-014p6f01084b"/>
          <p:cNvPicPr/>
          <p:nvPr/>
        </p:nvPicPr>
        <p:blipFill>
          <a:blip r:embed="rId1"/>
          <a:stretch/>
        </p:blipFill>
        <p:spPr>
          <a:xfrm>
            <a:off x="900000" y="1341360"/>
            <a:ext cx="753588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5:40:37Z</dcterms:created>
  <dc:creator>Admin</dc:creator>
  <dc:description/>
  <dc:language>en-US</dc:language>
  <cp:lastModifiedBy>Николай</cp:lastModifiedBy>
  <dcterms:modified xsi:type="dcterms:W3CDTF">2013-09-10T08:09:19Z</dcterms:modified>
  <cp:revision>11</cp:revision>
  <dc:subject/>
  <dc:title>Природа регионов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8150000000000010250300207f7000400038000</vt:lpwstr>
  </property>
</Properties>
</file>