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515-62E6-4E1A-A341-5935612C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6A3-FA2E-4803-B098-8DB5BC6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30E-312D-4EFD-9EA2-60536B1D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8C9-E3E3-420D-97DA-ECB45200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F44-9C0C-4140-8313-B30E852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ADE-411D-446F-B3E2-244EE68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31-8B9F-41EB-9C5D-CCC139F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78C-AF6D-4EA3-97CD-0105A500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E06-5D5C-4C41-8548-7E95731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3BE-444C-4A9E-9185-C74E148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5A5-8EEA-45CB-8A25-6D841DA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61E-413A-4FF9-8972-B6CAC58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4B7-DB4C-45FB-BFF8-E25801326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ri-kav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урал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72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b_8222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rmontov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icture_07_w250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vardovsky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utor_img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chipachev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фролов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ergeev1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voznesenskiy_andrey_1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untitled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150708417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Vb5k9ID3jxniVykB89cS6A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les9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0003-007-Belyj-grib-borovik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oleznye-svoistva-kedrovyh-orehov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omsk_b_4049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brustnik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lyukva1-616x640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5511050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5_551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1302370801_2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018-018-Reka-enisej-rossija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13538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Hleb_darnitsky_formovoy_b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ic02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89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_1_~1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674284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866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ose-Garden-Bonanza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053057052124051050053049057055056054053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6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8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884_49b124ff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-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assvet_v_gorah_gallery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iberia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age003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0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alniy-Vostok-Rossii1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agadan2_big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zrclip-014p6f01084b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Николай</cp:lastModifiedBy>
  <dcterms:modified xsi:type="dcterms:W3CDTF">2013-09-10T08:09:19Z</dcterms:modified>
  <cp:revision>11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