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7F1-48AF-4A09-9B63-53EA078F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D6A-48D2-4A39-BD2C-F22081E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543-010B-4B43-9D43-FC402153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E2A-C087-4D4B-98FB-B4EDE842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1B6-CF9A-4A3B-84C1-78E7F946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190B-62A0-4002-9B35-E8B0266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12A-4FA0-4E7A-853E-B9338EE8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1EF3-414B-47AE-93FE-390220C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66D-A0A8-471E-8C5C-8B0F74B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362-9EE4-48DE-BC1C-1CF6E678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B7D4-02D0-4DD1-AB5A-5CFA4FD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A90-E47D-49ED-B769-F2579D9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EF02-BCCE-4F14-A2E0-7F1ECC0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D3E-8387-49E4-8984-CF5FD75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2C3-F5B0-4465-8FDE-BFDC1528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99E8-38B5-45A9-B5C0-EB3120C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B3BC-C4B3-4290-8A5E-374EF8CC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EAE-FDE4-431A-9EB5-EC0BA77F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6E9-0095-4995-B674-6BB82765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A5D-FB5B-4980-85F0-6E487AF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E9E-E6D4-4981-ADCA-53A6009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B2-D3E4-4219-9A98-8190E40A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E63-5D77-49E6-BE79-DD167C1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89E-60CF-4D67-99B3-5008337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48C-B2D0-4777-98CF-28BCF147D3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FB7-2763-4DF9-9434-05913C533B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вежливого об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нова Валерия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g001"/>
          <p:cNvPicPr/>
          <p:nvPr/>
        </p:nvPicPr>
        <p:blipFill>
          <a:blip r:embed="rId1"/>
          <a:stretch/>
        </p:blipFill>
        <p:spPr>
          <a:xfrm>
            <a:off x="1258920" y="4724280"/>
            <a:ext cx="662616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ebeff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a642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ихотворение Агнии Барто «Любочка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думаете, ребята, о чем мы с вами будем сегодня говорить?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1476360" y="2781360"/>
            <a:ext cx="5400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а по содержанию стихотворе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418608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имя героини стихот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авилась вам Люб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огда автор называет ее так ласково «Любочкой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5003640" y="3016080"/>
            <a:ext cx="3889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906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давайте поможем Любочке исправить свои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ТИЗАЦИЯ ОТРЫВКА СТИХОТВОРЕНИЯ (ситуации в автобусе и в доме девочки, скорректированные в положительную сторон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5148360" y="278136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Е ЧТЕНИЕ СТИХОТВОРЕНИЯ  С ПЕРЕДАЧЕЙ АВТОРСКОЙ И ЛИЧНОЙ ПОЗИЦИИ К ОПИСЫВАЕМЫМ СОБЫТ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1187280" y="3716280"/>
            <a:ext cx="5759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назвать умение Любочки красиво танцевать всем на загляденье, радовать други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назвать эти качества главны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жизни человека не главное - умения красиво петь и танцевать, а умение жить, не оскорбляя окружающих своим пове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"/>
          <p:cNvPicPr/>
          <p:nvPr/>
        </p:nvPicPr>
        <p:blipFill>
          <a:blip r:embed="rId1"/>
          <a:stretch/>
        </p:blipFill>
        <p:spPr>
          <a:xfrm>
            <a:off x="6084720" y="4221000"/>
            <a:ext cx="2730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00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волшебными слов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"/>
          <p:cNvPicPr/>
          <p:nvPr/>
        </p:nvPicPr>
        <p:blipFill>
          <a:blip r:embed="rId1"/>
          <a:stretch/>
        </p:blipFill>
        <p:spPr>
          <a:xfrm>
            <a:off x="4500720" y="3213000"/>
            <a:ext cx="431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лазова О.Т.Окружающий мир:Учебник для 3 класса. -С.:Ассоциация 21 век,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 Программы четырехлетней начальной школы. -М.:Вентана - Граф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стова Т.В.Птицы:Справочник школьника. -С.-П., 200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илева Г.Н., Клепинина З.А.:Методика преподавания естествознания в начальной школе.-М.:Владос,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Окружающий мир:Методика преподавания. -М.:Вентана- Граф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6:59Z</dcterms:created>
  <dc:creator>Учитель</dc:creator>
  <dc:description/>
  <dc:language>en-US</dc:language>
  <cp:lastModifiedBy>Admin</cp:lastModifiedBy>
  <dcterms:modified xsi:type="dcterms:W3CDTF">2012-08-14T09:02:15Z</dcterms:modified>
  <cp:revision>10</cp:revision>
  <dc:subject/>
  <dc:title>Правила вежливого обращения </dc:title>
</cp:coreProperties>
</file>