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1BA-5E50-4201-BEBF-3C94D154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B84-DD16-405E-AC34-8C27E8CA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9FE-5B7B-4556-9064-8D10FA30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DFA-E2AB-4653-BFF2-0B1DC52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CC86-AA87-454D-9C89-DA63851E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C1C-F5A9-470D-AA11-EC2E76DA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B831-5BB6-4E6A-902E-43CE3DA6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FF7C-6E49-4C23-824B-40891BC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1013-02F7-4F88-B821-DA13F78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716-DB12-4FD5-9526-873973E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853-104D-402F-B5E9-CF727E0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E1A-E5D2-4D5C-B18E-2D21E40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E91-40E3-4AAA-A1E6-F45858E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A384-C5E8-4BB6-A37F-66B473D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91AE-CB6A-40A1-BBF2-2F847A8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2F4-C3B1-49D6-BA4E-B0AEA072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8C9-297E-4611-BE52-15C93D4E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A94-7092-48BD-B0F1-63B546C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9BA-02DC-4DA0-90AC-1CD8390F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BAD-0785-4802-B694-AA08D55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C29-15F8-46ED-BF49-249F3E8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B00-6B58-476D-98C5-A276882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FE3-9FC2-4421-BE89-D639FC1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25C-B28C-4D91-B323-2667DB3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007-58C1-4191-B8B6-FBF53525B3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8670-E7D0-4B91-976C-2D14E0BEDF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а вежливого об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нова Валерия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mg001"/>
          <p:cNvPicPr/>
          <p:nvPr/>
        </p:nvPicPr>
        <p:blipFill>
          <a:blip r:embed="rId1"/>
          <a:stretch/>
        </p:blipFill>
        <p:spPr>
          <a:xfrm>
            <a:off x="1258920" y="4724280"/>
            <a:ext cx="662616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ebeff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a642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ихотворение Агнии Барто «Любочка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думаете, ребята, о чем мы с вами будем сегодня говорить?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1476360" y="2781360"/>
            <a:ext cx="5400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а по содержанию стихотворени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418608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имя героини стихотвор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авилась вам Люб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огда автор называет ее так ласково «Любочкой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4"/>
          <p:cNvPicPr/>
          <p:nvPr/>
        </p:nvPicPr>
        <p:blipFill>
          <a:blip r:embed="rId1"/>
          <a:stretch/>
        </p:blipFill>
        <p:spPr>
          <a:xfrm>
            <a:off x="5003640" y="3016080"/>
            <a:ext cx="38894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4906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давайте поможем Любочке исправить свои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ТИЗАЦИЯ ОТРЫВКА СТИХОТВОРЕНИЯ (ситуации в автобусе и в доме девочки, скорректированные в положительную сторон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5"/>
          <p:cNvPicPr/>
          <p:nvPr/>
        </p:nvPicPr>
        <p:blipFill>
          <a:blip r:embed="rId1"/>
          <a:stretch/>
        </p:blipFill>
        <p:spPr>
          <a:xfrm>
            <a:off x="5148360" y="278136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Е ЧТЕНИЕ СТИХОТВОРЕНИЯ  С ПЕРЕДАЧЕЙ АВТОРСКОЙ И ЛИЧНОЙ ПОЗИЦИИ К ОПИСЫВАЕМЫМ СОБЫТ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7"/>
          <p:cNvPicPr/>
          <p:nvPr/>
        </p:nvPicPr>
        <p:blipFill>
          <a:blip r:embed="rId1"/>
          <a:stretch/>
        </p:blipFill>
        <p:spPr>
          <a:xfrm>
            <a:off x="1187280" y="3716280"/>
            <a:ext cx="5759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назвать умение Любочки красиво танцевать всем на загляденье, радовать други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назвать эти качества главны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жизни человека не главное - умения красиво петь и танцевать, а умение жить, не оскорбляя окружающих своим повед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"/>
          <p:cNvPicPr/>
          <p:nvPr/>
        </p:nvPicPr>
        <p:blipFill>
          <a:blip r:embed="rId1"/>
          <a:stretch/>
        </p:blipFill>
        <p:spPr>
          <a:xfrm>
            <a:off x="6084720" y="4221000"/>
            <a:ext cx="27306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00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с волшебными слов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сви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доб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ьте любез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"/>
          <p:cNvPicPr/>
          <p:nvPr/>
        </p:nvPicPr>
        <p:blipFill>
          <a:blip r:embed="rId1"/>
          <a:stretch/>
        </p:blipFill>
        <p:spPr>
          <a:xfrm>
            <a:off x="4500720" y="3213000"/>
            <a:ext cx="431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0,-32,-47)"/>
                                          </p:val>
                                        </p:tav>
                                        <p:tav tm="50000">
                                          <p:val>
                                            <p:strVal val="rgb(66,-90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глазова О.Т.Окружающий мир:Учебник для 3 класса. -С.:Ассоциация 21 век,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 Программы четырехлетней начальной школы. -М.:Вентана - Граф, 200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стова Т.В.Птицы:Справочник школьника. -С.-П., 200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илева Г.Н., Клепинина З.А.:Методика преподавания естествознания в начальной школе.-М.:Владос,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оградова Н.Ф.Окружающий мир:Методика преподавания. -М.:Вентана- Граф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6:59Z</dcterms:created>
  <dc:creator>Учитель</dc:creator>
  <dc:description/>
  <dc:language>en-US</dc:language>
  <cp:lastModifiedBy>Admin</cp:lastModifiedBy>
  <dcterms:modified xsi:type="dcterms:W3CDTF">2012-08-14T09:02:15Z</dcterms:modified>
  <cp:revision>10</cp:revision>
  <dc:subject/>
  <dc:title>Правила вежливого обращения </dc:title>
</cp:coreProperties>
</file>