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BE5-0583-42DA-AD2A-8E1FFC2B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0F9E-F68F-448F-B44C-7E61D7DC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2ECB-0F03-4DB2-B3E2-F08FA452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F4F-8FB0-4215-92B3-F5FA0C6A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28CA-4456-4677-9FB8-8297748E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A584-C359-4C2F-8F65-AE9A7CFC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2966-7484-4BBE-959E-3CDD1610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AEA4-56F5-45F5-8A28-80017084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BE0C-FDA2-44A4-9663-BDBBC79B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308B-949F-42C1-BC0A-77F28D0C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1EB4-F800-4CC7-84C6-7C84BB29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AAA-D967-4D74-9FDC-9117F57F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D11C-F029-4E1E-96EC-2B8A9102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FF51-1715-4B72-BCF4-09CBE56F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F644-4539-461F-BC72-342EE688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F57C-59FB-4660-9AE3-DA40BB4E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AAAB-9D86-48C4-9D41-AB1D6643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EA4-5DF0-43C9-A7F3-081D0050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152-2723-4201-ACC6-4187F93C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5B8-F197-4A3A-831E-92FF2790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CC6-B2C2-4B7D-9886-7FD415CA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324-E2F0-452C-BBE1-759F04B5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FA4-3ACA-4F3D-92E3-F583D84C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B6B-C99A-422B-A816-8C9C2BBF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FB1F-097B-4561-ABF9-1EB8122765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878A-F710-4C53-BD5B-F0023D62E6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ила вежливого обращ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нова Валерия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mg001"/>
          <p:cNvPicPr/>
          <p:nvPr/>
        </p:nvPicPr>
        <p:blipFill>
          <a:blip r:embed="rId1"/>
          <a:stretch/>
        </p:blipFill>
        <p:spPr>
          <a:xfrm>
            <a:off x="1258920" y="4724280"/>
            <a:ext cx="6626160" cy="19526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ebeff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ea642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162828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тихотворение Агнии Барто «Любочка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 думаете, ребята, о чем мы с вами будем сегодня говорить?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"/>
          <p:cNvPicPr/>
          <p:nvPr/>
        </p:nvPicPr>
        <p:blipFill>
          <a:blip r:embed="rId1"/>
          <a:stretch/>
        </p:blipFill>
        <p:spPr>
          <a:xfrm>
            <a:off x="1476360" y="2781360"/>
            <a:ext cx="54007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бота по содержанию стихотворени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418608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имя героини стихотвор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равилась вам Любоч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тогда автор называет ее так ласково «Любочкой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4"/>
          <p:cNvPicPr/>
          <p:nvPr/>
        </p:nvPicPr>
        <p:blipFill>
          <a:blip r:embed="rId1"/>
          <a:stretch/>
        </p:blipFill>
        <p:spPr>
          <a:xfrm>
            <a:off x="5003640" y="3016080"/>
            <a:ext cx="38894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4906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, давайте поможем Любочке исправить свои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МАТИЗАЦИЯ ОТРЫВКА СТИХОТВОРЕНИЯ (ситуации в автобусе и в доме девочки, скорректированные в положительную сторон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5"/>
          <p:cNvPicPr/>
          <p:nvPr/>
        </p:nvPicPr>
        <p:blipFill>
          <a:blip r:embed="rId1"/>
          <a:stretch/>
        </p:blipFill>
        <p:spPr>
          <a:xfrm>
            <a:off x="5148360" y="278136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ЗИТЕЛЬНОЕ ЧТЕНИЕ СТИХОТВОРЕНИЯ  С ПЕРЕДАЧЕЙ АВТОРСКОЙ И ЛИЧНОЙ ПОЗИЦИИ К ОПИСЫВАЕМЫМ СОБЫТ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7"/>
          <p:cNvPicPr/>
          <p:nvPr/>
        </p:nvPicPr>
        <p:blipFill>
          <a:blip r:embed="rId1"/>
          <a:stretch/>
        </p:blipFill>
        <p:spPr>
          <a:xfrm>
            <a:off x="1187280" y="3716280"/>
            <a:ext cx="5759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562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ли назвать умение Любочки красиво танцевать всем на загляденье, радовать других люд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назвать эти качества главны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жизни человека не главное - умения красиво петь и танцевать, а умение жить, не оскорбляя окружающих своим повед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3"/>
          <p:cNvPicPr/>
          <p:nvPr/>
        </p:nvPicPr>
        <p:blipFill>
          <a:blip r:embed="rId1"/>
          <a:stretch/>
        </p:blipFill>
        <p:spPr>
          <a:xfrm>
            <a:off x="6084720" y="4221000"/>
            <a:ext cx="27306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002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с волшебными словам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алуй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сви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те доб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те любез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2"/>
          <p:cNvPicPr/>
          <p:nvPr/>
        </p:nvPicPr>
        <p:blipFill>
          <a:blip r:embed="rId1"/>
          <a:stretch/>
        </p:blipFill>
        <p:spPr>
          <a:xfrm>
            <a:off x="4500720" y="3213000"/>
            <a:ext cx="4319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2,-47)"/>
                                          </p:val>
                                        </p:tav>
                                        <p:tav tm="50000">
                                          <p:val>
                                            <p:strVal val="rgb(66,-90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2,-47)"/>
                                          </p:val>
                                        </p:tav>
                                        <p:tav tm="50000">
                                          <p:val>
                                            <p:strVal val="rgb(66,-90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глазова О.Т.Окружающий мир:Учебник для 3 класса. -С.:Ассоциация 21 век,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ноградова Н.Ф. Программы четырехлетней начальной школы. -М.:Вентана - Граф, 200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стова Т.В.Птицы:Справочник школьника. -С.-П., 200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вилева Г.Н., Клепинина З.А.:Методика преподавания естествознания в начальной школе.-М.:Владос,200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ноградова Н.Ф.Окружающий мир:Методика преподавания. -М.:Вентана- Граф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6:36:59Z</dcterms:created>
  <dc:creator>Учитель</dc:creator>
  <dc:description/>
  <dc:language>en-US</dc:language>
  <cp:lastModifiedBy>Admin</cp:lastModifiedBy>
  <dcterms:modified xsi:type="dcterms:W3CDTF">2012-08-14T09:02:15Z</dcterms:modified>
  <cp:revision>10</cp:revision>
  <dc:subject/>
  <dc:title>Правила вежливого обращения </dc:title>
</cp:coreProperties>
</file>