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BFD-EB52-4215-9B96-AA02A78F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F73-5D82-4C1F-87B2-D24F9D8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236-0C33-4CB0-99A3-D372CAD0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EC0-837C-4F17-BCD0-68596A19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F99-5FE1-4FB7-BD4A-8057FA4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DCC-04CC-4173-B156-28C713D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BD8-A206-4A72-B775-7C58541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854-067B-4D56-8EF2-EB5088B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1D1-438A-46A1-84BC-BCA4A962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6C4-3338-482C-8A9D-97EFB9E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18A-3221-4D70-A6D4-B4E4491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2DE-907F-47B3-B338-7E26AE8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B8A5-9A1E-47D1-9D55-A71902A41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ОЛОГИЯ  РАЗРАБОТКИ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ПРАВИЛ ИСПОЛЬЗОВАНИЯ ВОДНЫХ РЕСУРСОВ ВОДОХРАНИЛИЩ»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материалам методических указан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АССОЦИАЦИИ ГИДРОПРОЕКТ»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действующих методических указаний </a:t>
            </a:r>
            <a:br>
              <a:rPr sz="22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ственные исполнители разработки «правил»: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.т.н., проф. Асарин А.Е., к.т.н. Бестужева К.Н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92760" y="5638680"/>
            <a:ext cx="593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. кафедрой комплексного использования ФГОУ В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ГУприродообустройства Раткович Л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использования водохранилищ для противопаводк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 определения противопаводковой роли проектируемых и существующих водохранилищ РФ и необходимость ее специального рассмотрения при разработке или пересмотре «Правил» связа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щербами от навод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ем от проектного режима отдельных гидроузлов и их каск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ижних бьефах ряда крупных гидроузлов проводилось интенсивное освоение и застройка пойменных земель, которые в естественных условиях затоплялись каждые 3-5 лет. Для предотвращения затопления этих территорий  в относительно невысокие половодья приходится резко снижать сбросные расходы воды путем форсировки  уровня водохранилищ сверх НПУ, что согласно проектам гидроузлов 1-го и 2-го классов и правилам использования водных ресурсов их водохранилищ допускается лишь в экстремальные половодья (повторяемостью один раз в 1000 и 10000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ВРЕМЕННОГО ЗАТОП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я затопления регламентированы. При наличии ценных земель продолжительность затопления 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187280" y="3321000"/>
            <a:ext cx="1656000" cy="16448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332000" y="382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32000" y="3537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258920" y="3463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58920" y="317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771640" y="3392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19520" y="311004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ритория застро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4932360" y="3537000"/>
            <a:ext cx="1655640" cy="16444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44480"/>
              <a:gd name="textAreaBottom" fmla="*/ 1644840 h 164448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076720" y="404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076720" y="375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003640" y="3679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003640" y="3392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6516720" y="36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588000" y="3176640"/>
            <a:ext cx="151308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/х и лесные угод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86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т в «Правилах» требований участников ВХ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наб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вая и атомная 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бн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ый транспорт и лесоспл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ре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ХОДНЫЕ ДАННЫЕ ПО РУСЛУ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ИНЕ 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тический план реки и береговой полосы на участке ожидаемого воздействия гидроузла на водный р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ьный профиль реки на том же участке с отметками дна и водной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водозаборов с указанием расстояния до створа плотины, допустимыми максимальным и минимальным уровнями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кривых связи расходов и уровней воды с указанием отметок выхода воды на пой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еречные профили русла и поймы реки в опорных ство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застройки и хозяйственного использования прибрежной полосы, последствий их зато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ВЫЕ И НОРМАТИВНЫЕ АКТЫ, КОТОРЫЕ НЕОБХОДИМО УЧИТЫВАТЬ ПРИ СОСТАВЛЕН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Р, ВЭР И  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 кодекс  Российской Федерац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безопасности гидротехнических  сооружен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хране окружающей среды» от 10.01.200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собо охраняемых природных территория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 порядке эксплуатации водохранилищ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утверждении Положения об осуществлении государственного контроля за использованием и охраной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 утверждении Положения о ведении государственного мониторинга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иП 2.06.15-85 «Инженерная защита территорий от затопления и подто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СНиП, СанП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идротехнические соору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«Правилах» должны быть приведены общие сведения о гидроузле  (компоновка, состав и параметры подпорных сооружений и т.п.) и  характеристика фактической пропускной способности всех водопропускных сооружений гидроузла (в графическом виде и в виде интерполяционных табли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бросной фронт индивидуален для каждого г/у и представлен : поверхностными и донными водосбросами; шлюзами; рыбопропускными соору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ВОПРОСУ ПРАВИЛ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гидроузла  с ГЭ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притока воды, обеспечивающее получение максимальной энергоотдачи при заданной надежности электроснабжения по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 комплексного гидроуз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водного ресурса водохранилища вместе с притоком, обеспечивающее получение максимальной водоотдачи с учетом установленной системы приоритетов и критериев покрытия требований к воде всех участников ВХК, включая санитарно-экологическую составляющ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ейшим требованием к функционирова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го гидроузла является обеспечение его безопасности и безопасности населения и хозяйства в верхнем и нижнем бьеф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е графики и правила определя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ое содержание “Правил использования водных ресурсов водохранилищ гидроузлов электростанций”. Основными элементами диспетчерских графиков являются отметки уровней воды в водохранилище у плотины в конце межени и половод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й график должен быть постро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ким образом, чтобы обеспеч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ативную надежность гарантированной энерго и водоотда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симально возможную среднюю многолетнюю выработку электроэнергии ГЭ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епенное уменьшение энерго и водоотдачи по мере сокращения запаса воды в водохранилище для предотвращения глубоких перебоев в крайне маловодны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СЛ ИСПОЛЬЗОВАНИЯ 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етчерские правила регулирования стока позволяют в условиях неопределенности исходной гидрологической информации, т.е. при недостаточной заблаговременности и точности долгосрочных гидрологических прогнозов, осуществлять оптимальное управление функционированием каскадов и их объединений в энергосистем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использования диспетчерских графи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ле диспетчерского графика наноси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на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пределяется зона, в которой будет работать гидроузел в этот интервал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ются средние за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 в соответствии с диспетчерской зоной, в которой окажется вышеуказанная отметка воды в водохранилище (у плоти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ся, в какой зоне диспетчерского графика оказывается вычисленна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если зона графика по сравнению с первоначальной не изменяется, то расчет для данного интервала заканчивается, если изменяется, то уточняется первоначальное знач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яется расчет д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а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, соответствующих зоне, куда попадае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если и при этом конечная отметка воды в водохранилище вновь попадает в первоначальную зону графика, т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анном интервале назначается равным отметке на границе зон и вычисляется промежуточное значение средних за расчетный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гидравлические расче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расчетов обусловлена необходимостью уточнения, по сравнению с проектными данными, гидравлических характеристик русла реки в верхнем и нижнем бьефах (поперечных сечений, уклонов дна, коэффициентов шероховат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м требований к предельным уровням воды во всей зоне водохранилища и диапазону колебаний уровней воды в нижнем бьефе гидроуз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четы пропуска высоких половодий через гидроузел или каскад гидроузлов, кривых свободной поверхности (кривых подпора) водохранилищ и уровней воды в верхнем и нижнем бьефах гидроузла при суточном и недельном регулировании мощности ГЭС, при котором имеет место неустановившееся движение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  И   ЗАДАЧИ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ЧЕСКИХ У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регулирования стока и использования водных ресурсов крупных водохранилищ РФ определен несколько десятилетий назад, постоянно уточняется и совершенствуется, является предметом пристального внимания ученых и специалистов в области водохозяйственного и энергетического строитель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тодические указания» регламентируют структуру и содержание документа «Правила использования водных ресурсов водохранилищ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ют порядок его разрабо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ют состав необходимых исходных данных, включая требования водопользователей к режиму бьефов гидроузла, методику основных расчетов, а также порядок согласования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заказчиков и разработчиков документа «Правила использования водных ресурсов» изолированных водохранилищ и каскадов водохранили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ере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тремальные и непредвиденные обстоя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технические сооружения, естественные водные ресурсы,           требования  водопользователей, нормативные уровни и расходы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одным реж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метеорологическое обесп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ок согласования и утверждения «Правил использования водных ресурсов» водохранилищ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СОГЛАСОВАНИЯ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ые, научно-исследовательские, эксплуатирующие или какие-либо другие организации (разработчики) составляют проект первой редакции «Правил использования водных ресурсов» водохранилищ и Пояснительной записки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Проект первой редакции Правил и Пояснительной записки перед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зчику, финансирующем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водресурсы МП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ции субъектов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бобщение данных и экспертиза в РОСВОДРЕС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 ЗАДАЧИ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оответствии с Водным кодексом Российской Федерации использование и охрана водных ресурсов водохранилищ осуществляется в соответствии с требованиями, согласованными с заинтересованными органами исполнительной власти субъектов Российской Федерации, со специально уполномоченными государственными органами  в области охраны окружающей природной среды, государственным органом санитарно-эпидемиологического надзора, государственным органом управления использованием и охраной рыбных ресурсов и другими заинтересованными органами управл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авила регламентируют режим наполнения и сработки водохранилищ, порядок пропуска половодий и паводков, размеры попусков в нижний бьеф гидроуз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Правила» подлежат пересмотру по мере накопления опыта эксплуатации, изменения водохозяйственной обстановки, экологических требований к режиму использования стока, но не реже, чем один раз в 10-12 лет. Как разработка, так и пересмотр «Правил» требуют выполнения значительного объема специальных расче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настоящее время основным документом, регламентирующим принципы и методы управления стоком рек с максимально возможным учетом интересов водопользователей и безопасности подпорных сооружений гидроузла, населения и хозяйства в его нижнем бьефе, в настоящее время являются «Основные правила или Основные положения правил использования водных ресурсов» водохранилищ. Вновь составляемые или пересматриваемые документы именуются «Правила использования водных ресурсо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 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азработки и применения «Правил» насчитывает около четырех десятилетий. В конце 1950-х гг. было разработано, а в 1961 г. – утверждено «Положение о порядке использования водных ресурсов водохранилищ РСФСР (Госводхоз РСФСР. РВ-1-61). В нем указывалось, что «руководящим документом по использованию водных ресурсов водохранилищ в нормальных эксплуатационных условиях должны быть «Основные положения правил использования водных ресурсов» конкретного водохранилища. В 1960-е гг. были разработаны «Основные положения правил» десятков водохранилищ, в том числе крупнейших: Волжско-Камского и Ангаро-Енисейского каскадов гидроузлов, Цимлянского гидроузла на р.Дон и других. Из последних документов основным являются методические указания по разработке «Правил использования водных ресурсов водохранилищ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учет в «Правил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безопасных условий проживания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наземных экосистем (растительность и животный 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водных экосистем (качество воды, гидробионты, ихтиофау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хран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ий бьеф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и их учет 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авилах использования водных ресурсов водохранилищ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водохранилищ гидроузлов на окружающую среду в процессе эксплуатации в значительной степени определяется режимом использования водны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поддержания санитарного состояния воды в реке может противоречить оптимальному использованию водных ресурсов в интересах других компонентов. Например, принятый в проекте режим использования водных ресурсов Камского водохранилища на р. Каме и Куйбышевского водохранилища на р.Волге в межень является оптимальным для гидроэнергетики. В настоящее время он изменен с целью обеспечения постоянных в течение суток санитарных попусков в нижние бьефы гидроузлов, предотвращающих вызываемые ветром противотечения. При отсутствии этих попусков в водозаборные сооружения попадали сточные воды нижележащих населенных мест и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ях предотвращения истощения водных ресурсов и деградации водных экосистем предельно допустимый объем ежегодного безвозвратного изъятия воды из водохранилища (в сумме с потерями воды на дополнительное испарение) не должен превышать (10 – 20) % от среднемноголетнего годового стока реки в створе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негативных явлений, обусловленных зимней сработкой водохранилища, следует ограничить для верхних слоев водохранилища (до 5 м) скорость сработки до 0,3 м/сутки. Более глубокие слои должны срабатываться со скоростью не более 1 м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экологические требования по нижнему бьефу гидроузла сводятся к обеспечению расходов воды, гарантирующих бесперебойную работу питьевых водозаборов, благоприятные условия для культурно-бытового водопользования населения и сохранность биоцено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ы санитарных попусков регламентируются рядом документов различных ведомств, требования которых не всегда совпадают. Одни документы требуют, чтобы минимальный санитарный попуск был не менее минимального среднесуточного расхода воды в реке при бытовом гидрологическом режиме летней и зимней межени года 95% обеспеченности, другие – чтобы минимальный расход воды зарегулированных рек соответствовал установленному гарантированному расходу воды в нижнем бьефе гидроузла с обеспечением кратности разбавления сточных вод в контрольном створе водопользования до нормативов, установленных для данного водного объ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омственный документ МПР России «Временные методические рекомендации по установлению минимально допустимых расходов воды в реках для оценки возможных изъятий водных ресурсов», выдвигает аналогичные требования к минимально допустимым расходам воды в реках. Кроме того, указанный документ требует, чтобы для обеспечения промывки и обводнения поймы в весенний период в нижний бьеф гидроузла поступало не менее 20% объема стока половодья года 75-9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В НИЖНЕМ БЬЕ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воспроизводства и сохранения запасов ценных рыб, включая их кормов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режные территории (обводнение поймы, сохранение ценных биоценозов и ландшаф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 охраняемые территории, требующие сохранения наиболее комфортного водн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занесения либо чрезмерного размыва русла или развития эрозионных процессов по берег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итерии оценки экологической обстановки территорий для выявления зон чрезвычайной экологической ситуации и зон экологического бед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кодекс РФ предписывает необходимость установления для водных объектов допустимого объема безвозвратного изъятия поверхностного стока (10-20) % от среднемног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изъятия до двух раз по сравнению с указанными значениями расценивается как чрезвычайная экологическ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водопотребления более двух раз рассматривается как экологическое бед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одохранилищ, которые в установленном порядке отнесены к водным объектам преимущественного исполь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сохранения, воспроизводства и добычи рыбных ресур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авила использования водных ресурсов устанавливаются исходя из приоритетного соблюдения требований рыбного хозяй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51:59Z</dcterms:created>
  <dc:creator>comp</dc:creator>
  <dc:description/>
  <dc:language>en-US</dc:language>
  <cp:lastModifiedBy>Коля</cp:lastModifiedBy>
  <dcterms:modified xsi:type="dcterms:W3CDTF">2013-03-22T15:17:19Z</dcterms:modified>
  <cp:revision>9</cp:revision>
  <dc:subject/>
  <dc:title>МЕТОДОЛОГИЯ  РАЗРАБОТКИ  «ПРАВИЛ ИСПОЛЬЗОВАНИЯ ВОДНЫХ РЕСУРСОВ ВОДОХРАНИЛИЩ» ПО МАТЕРИАЛАМ  Электроэнергетического Совета СНГ «АССОЦИАЦИЯ ГИДРОПРОЕКТ»</dc:title>
</cp:coreProperties>
</file>