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E99-C955-41A8-B3BB-23EB09A8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A71-4B75-4945-8B9A-B98AE06D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D6E-DACE-4B6B-BAAF-60B55E80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B77-4279-46FD-9DE7-C7EB9EA8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F4E-17C2-402A-B741-A45C0C28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F70-71D1-4870-ABBE-348B74A2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F95-95D5-42C8-B388-97E9B732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0A3-33CD-4EF9-A2DB-A328F638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A38-F0BD-4EDE-8D53-B9A1ABD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114-DC80-42D7-B4BD-252C8576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BA0-3138-4CC6-A3C5-5E0A64C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832-93C8-4B32-AC81-C314F4F1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DABE-4E58-4CCD-9C64-2206D9422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ОЛОГИЯ  РАЗРАБОТКИ 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ПРАВИЛ ИСПОЛЬЗОВАНИЯ ВОДНЫХ РЕСУРСОВ ВОДОХРАНИЛИЩ»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материалам методических указан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АССОЦИАЦИИ ГИДРОПРОЕКТ»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действующих методических указаний </a:t>
            </a:r>
            <a:br>
              <a:rPr sz="22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ственные исполнители разработки «правил»: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.т.н., проф. Асарин А.Е., к.т.н. Бестужева К.Н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419720"/>
            <a:ext cx="75722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92760" y="5638680"/>
            <a:ext cx="593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. кафедрой комплексного использования ФГОУ В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ГУприродообустройства Раткович Л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 использования водохранилищ для противопаводк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 определения противопаводковой роли проектируемых и существующих водохранилищ РФ и необходимость ее специального рассмотрения при разработке или пересмотре «Правил» связа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щербами от навод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онением от проектного режима отдельных гидроузлов и их каск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ижних бьефах ряда крупных гидроузлов проводилось интенсивное освоение и застройка пойменных земель, которые в естественных условиях затоплялись каждые 3-5 лет. Для предотвращения затопления этих территорий  в относительно невысокие половодья приходится резко снижать сбросные расходы воды путем форсировки  уровня водохранилищ сверх НПУ, что согласно проектам гидроузлов 1-го и 2-го классов и правилам использования водных ресурсов их водохранилищ допускается лишь в экстремальные половодья (повторяемостью один раз в 1000 и 10000 л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Ы ВРЕМЕННОГО ЗАТОП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я затопления регламентированы. При наличии ценных земель продолжительность затопления 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187280" y="3321000"/>
            <a:ext cx="1656000" cy="16448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1043" h="1036">
                <a:moveTo>
                  <a:pt x="0" y="0"/>
                </a:moveTo>
                <a:cubicBezTo>
                  <a:pt x="41" y="234"/>
                  <a:pt x="83" y="469"/>
                  <a:pt x="136" y="635"/>
                </a:cubicBezTo>
                <a:cubicBezTo>
                  <a:pt x="189" y="801"/>
                  <a:pt x="250" y="1036"/>
                  <a:pt x="318" y="998"/>
                </a:cubicBezTo>
                <a:cubicBezTo>
                  <a:pt x="386" y="960"/>
                  <a:pt x="423" y="574"/>
                  <a:pt x="544" y="408"/>
                </a:cubicBezTo>
                <a:cubicBezTo>
                  <a:pt x="665" y="242"/>
                  <a:pt x="967" y="68"/>
                  <a:pt x="104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332000" y="3824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32000" y="3537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258920" y="34639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258920" y="3176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1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2771640" y="3392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819520" y="311004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ритория застрой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1% + 0.5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4932360" y="3537000"/>
            <a:ext cx="1655640" cy="16444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644480"/>
              <a:gd name="textAreaBottom" fmla="*/ 1644840 h 1644480"/>
            </a:gdLst>
            <a:ahLst/>
            <a:rect l="textAreaLeft" t="textAreaTop" r="textAreaRight" b="textAreaBottom"/>
            <a:pathLst>
              <a:path w="1043" h="1036">
                <a:moveTo>
                  <a:pt x="0" y="0"/>
                </a:moveTo>
                <a:cubicBezTo>
                  <a:pt x="41" y="234"/>
                  <a:pt x="83" y="469"/>
                  <a:pt x="136" y="635"/>
                </a:cubicBezTo>
                <a:cubicBezTo>
                  <a:pt x="189" y="801"/>
                  <a:pt x="250" y="1036"/>
                  <a:pt x="318" y="998"/>
                </a:cubicBezTo>
                <a:cubicBezTo>
                  <a:pt x="386" y="960"/>
                  <a:pt x="423" y="574"/>
                  <a:pt x="544" y="408"/>
                </a:cubicBezTo>
                <a:cubicBezTo>
                  <a:pt x="665" y="242"/>
                  <a:pt x="967" y="68"/>
                  <a:pt x="104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5076720" y="404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076720" y="3753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5003640" y="36799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003640" y="3392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6516720" y="36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6588000" y="3176640"/>
            <a:ext cx="151308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/х и лесные угод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ПУ 5% + 0.5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868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т в «Правилах» требований участников ВХ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снаб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вая и атомная энерге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бное хозяй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энерге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ый транспорт и лесоспл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ьское хозяй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ре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ХОДНЫЕ ДАННЫЕ ПО РУСЛУ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ИНЕ Р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тический план реки и береговой полосы на участке ожидаемого воздействия гидроузла на водный реж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ьный профиль реки на том же участке с отметками дна и водной поверх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водозаборов с указанием расстояния до створа плотины, допустимыми максимальным и минимальным уровнями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кривых связи расходов и уровней воды с указанием отметок выхода воды на пой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еречные профили русла и поймы реки в опорных ство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стика застройки и хозяйственного использования прибрежной полосы, последствий их зато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ВЫЕ И НОРМАТИВНЫЕ АКТЫ, КОТОРЫЕ НЕОБХОДИМО УЧИТЫВАТЬ ПРИ СОСТАВЛЕН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Р, ВЭР И  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ный  кодекс  Российской Федерации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 безопасности гидротехнических  сооружени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охране окружающей среды» от 10.01.2002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особо охраняемых природных территория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 порядке эксплуатации водохранилищ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б утверждении Положения об осуществлении государственного контроля за использованием и охраной водных объект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«Об  утверждении Положения о ведении государственного мониторинга водных объект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иП 2.06.15-85 «Инженерная защита территорий от затопления и подтоп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е СНиП, СанП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идротехнические соору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«Правилах» должны быть приведены общие сведения о гидроузле  (компоновка, состав и параметры подпорных сооружений и т.п.) и  характеристика фактической пропускной способности всех водопропускных сооружений гидроузла (в графическом виде и в виде интерполяционных таблиц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сбросной фронт индивидуален для каждого г/у и представлен : поверхностными и донными водосбросами; шлюзами; рыбопропускными сооруж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ВОПРОСУ ПРАВИЛ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ая функция гидроузла  с ГЭ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использование притока воды, обеспечивающее получение максимальной энергоотдачи при заданной надежности электроснабжения потреб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ая функция  комплексного гидроузл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использование водного ресурса водохранилища вместе с притоком, обеспечивающее получение максимальной водоотдачи с учетом установленной системы приоритетов и критериев покрытия требований к воде всех участников ВХК, включая санитарно-экологическую составляющ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ейшим требованием к функционированию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го гидроузла является обеспечение его безопасности и безопасности населения и хозяйства в верхнем и нижнем бьеф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петчерские графики и правила определяю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новное содержание “Правил использования водных ресурсов водохранилищ гидроузлов электростанций”. Основными элементами диспетчерских графиков являются отметки уровней воды в водохранилище у плотины в конце межени и половод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петчерский график должен быть построе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ким образом, чтобы обеспеч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рмативную надежность гарантированной энерго и водоотда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ксимально возможную среднюю многолетнюю выработку электроэнергии ГЭ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епенное уменьшение энерго и водоотдачи по мере сокращения запаса воды в водохранилище для предотвращения глубоких перебоев в крайне маловодных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ЫСЛ ИСПОЛЬЗОВАНИЯ Д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етчерские правила регулирования стока позволяют в условиях неопределенности исходной гидрологической информации, т.е. при недостаточной заблаговременности и точности долгосрочных гидрологических прогнозов, осуществлять оптимальное управление функционированием каскадов и их объединений в энергосистем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использования диспетчерских графи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ле диспетчерского графика наноси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нач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пределяется зона, в которой будет работать гидроузел в этот интервал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ются средние за интерв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 в соответствии с диспетчерской зоной, в которой окажется вышеуказанная отметка воды в водохранилище (у плотин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ся, в какой зоне диспетчерского графика оказывается вычисленна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если зона графика по сравнению с первоначальной не изменяется, то расчет для данного интервала заканчивается, если изменяется, то уточняется первоначальное значе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яется расчет дл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а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, соответствующих зоне, куда попадае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если и при этом конечная отметка воды в водохранилище вновь попадает в первоначальную зону графика, т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конечн.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анном интервале назначается равным отметке на границе зон и вычисляется промежуточное значение средних за расчетный интерв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б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/или отбор из верхнего бьефа) и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ьные гидравлические расче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сть расчетов обусловлена необходимостью уточнения, по сравнению с проектными данными, гидравлических характеристик русла реки в верхнем и нижнем бьефах (поперечных сечений, уклонов дна, коэффициентов шероховат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м требований к предельным уровням воды во всей зоне водохранилища и диапазону колебаний уровней воды в нижнем бьефе гидроуз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четы пропуска высоких половодий через гидроузел или каскад гидроузлов, кривых свободной поверхности (кривых подпора) водохранилищ и уровней воды в верхнем и нижнем бьефах гидроузла при суточном и недельном регулировании мощности ГЭС, при котором имеет место неустановившееся движение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  И   ЗАДАЧИ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ИЧЕСКИХ У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регулирования стока и использования водных ресурсов крупных водохранилищ РФ определен несколько десятилетий назад, постоянно уточняется и совершенствуется, является предметом пристального внимания ученых и специалистов в области водохозяйственного и энергетического строитель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етодические указания» регламентируют структуру и содержание документа «Правила использования водных ресурсов водохранилищ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ют порядок его разрабо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ют состав необходимых исходных данных, включая требования водопользователей к режиму бьефов гидроузла, методику основных расчетов, а также порядок согласования док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ы для заказчиков и разработчиков документа «Правила использования водных ресурсов» изолированных водохранилищ и каскадов водохранили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ДОКУ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ере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тремальные и непредвиденные обстоя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технические сооружения, естественные водные ресурсы,           требования  водопользователей, нормативные уровни и расходы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водным режи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метеорологическое обеспе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ок согласования и утверждения «Правил использования водных ресурсов» водохранилищ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СОГЛАСОВАНИЯ «ПРАВ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ные, научно-исследовательские, эксплуатирующие или какие-либо другие организации (разработчики) составляют проект первой редакции «Правил использования водных ресурсов» водохранилищ и Пояснительной записки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Проект первой редакции Правил и Пояснительной записки перед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азчику, финансирующему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осводресурсы МПР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министрации субъектов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бобщение данных и экспертиза в РОСВОДРЕС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И ЗАДАЧИ «ПРАВ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оответствии с Водным кодексом Российской Федерации использование и охрана водных ресурсов водохранилищ осуществляется в соответствии с требованиями, согласованными с заинтересованными органами исполнительной власти субъектов Российской Федерации, со специально уполномоченными государственными органами  в области охраны окружающей природной среды, государственным органом санитарно-эпидемиологического надзора, государственным органом управления использованием и охраной рыбных ресурсов и другими заинтересованными органами управл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авила регламентируют режим наполнения и сработки водохранилищ, порядок пропуска половодий и паводков, размеры попусков в нижний бьеф гидроуз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«Правила» подлежат пересмотру по мере накопления опыта эксплуатации, изменения водохозяйственной обстановки, экологических требований к режиму использования стока, но не реже, чем один раз в 10-12 лет. Как разработка, так и пересмотр «Правил» требуют выполнения значительного объема специальных расче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настоящее время основным документом, регламентирующим принципы и методы управления стоком рек с максимально возможным учетом интересов водопользователей и безопасности подпорных сооружений гидроузла, населения и хозяйства в его нижнем бьефе, в настоящее время являются «Основные правила или Основные положения правил использования водных ресурсов» водохранилищ. Вновь составляемые или пересматриваемые документы именуются «Правила использования водных ресурсов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  во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разработки и применения «Правил» насчитывает около четырех десятилетий. В конце 1950-х гг. было разработано, а в 1961 г. – утверждено «Положение о порядке использования водных ресурсов водохранилищ РСФСР (Госводхоз РСФСР. РВ-1-61). В нем указывалось, что «руководящим документом по использованию водных ресурсов водохранилищ в нормальных эксплуатационных условиях должны быть «Основные положения правил использования водных ресурсов» конкретного водохранилища. В 1960-е гг. были разработаны «Основные положения правил» десятков водохранилищ, в том числе крупнейших: Волжско-Камского и Ангаро-Енисейского каскадов гидроузлов, Цимлянского гидроузла на р.Дон и других. Из последних документов основным являются методические указания по разработке «Правил использования водных ресурсов водохранилищ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ие и санитарные требования к режиму работы водохранилищ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х учет в «Правил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безопасных условий проживания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наземных экосистем (растительность и животный 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ению водных экосистем (качество воды, гидробионты, ихтиофау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хранили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ний бьеф гидроуз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требования и их учет 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равилах использования водных ресурсов водохранилищ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водохранилищ гидроузлов на окружающую среду в процессе эксплуатации в значительной степени определяется режимом использования водных ресур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сть поддержания санитарного состояния воды в реке может противоречить оптимальному использованию водных ресурсов в интересах других компонентов. Например, принятый в проекте режим использования водных ресурсов Камского водохранилища на р. Каме и Куйбышевского водохранилища на р.Волге в межень является оптимальным для гидроэнергетики. В настоящее время он изменен с целью обеспечения постоянных в течение суток санитарных попусков в нижние бьефы гидроузлов, предотвращающих вызываемые ветром противотечения. При отсутствии этих попусков в водозаборные сооружения попадали сточные воды нижележащих населенных мест и промышленных пред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елях предотвращения истощения водных ресурсов и деградации водных экосистем предельно допустимый объем ежегодного безвозвратного изъятия воды из водохранилища (в сумме с потерями воды на дополнительное испарение) не должен превышать (10 – 20) % от среднемноголетнего годового стока реки в створе гидроуз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и санитарные требования к режиму работы водохранилищ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негативных явлений, обусловленных зимней сработкой водохранилища, следует ограничить для верхних слоев водохранилища (до 5 м) скорость сработки до 0,3 м/сутки. Более глубокие слои должны срабатываться со скоростью не более 1 м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экологические требования по нижнему бьефу гидроузла сводятся к обеспечению расходов воды, гарантирующих бесперебойную работу питьевых водозаборов, благоприятные условия для культурно-бытового водопользования населения и сохранность биоцено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ы санитарных попусков регламентируются рядом документов различных ведомств, требования которых не всегда совпадают. Одни документы требуют, чтобы минимальный санитарный попуск был не менее минимального среднесуточного расхода воды в реке при бытовом гидрологическом режиме летней и зимней межени года 95% обеспеченности, другие – чтобы минимальный расход воды зарегулированных рек соответствовал установленному гарантированному расходу воды в нижнем бьефе гидроузла с обеспечением кратности разбавления сточных вод в контрольном створе водопользования до нормативов, установленных для данного водного объ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омственный документ МПР России «Временные методические рекомендации по установлению минимально допустимых расходов воды в реках для оценки возможных изъятий водных ресурсов», выдвигает аналогичные требования к минимально допустимым расходам воды в реках. Кроме того, указанный документ требует, чтобы для обеспечения промывки и обводнения поймы в весенний период в нижний бьеф гидроузла поступало не менее 20% объема стока половодья года 75-9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Е ТРЕБОВАНИЯ В НИЖНЕМ БЬЕ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воспроизводства и сохранения запасов ценных рыб, включая их кормовую б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режные территории (обводнение поймы, сохранение ценных биоценозов и ландшаф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 охраняемые территории, требующие сохранения наиболее комфортного водного реж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твращение занесения либо чрезмерного размыва русла или развития эрозионных процессов по берег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итерии оценки экологической обстановки территорий для выявления зон чрезвычайной экологической ситуации и зон экологического бедств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ный кодекс РФ предписывает необходимость установления для водных объектов допустимого объема безвозвратного изъятия поверхностного стока (10-20) % от среднемноголет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ышение объема безвозвратного изъятия до двух раз по сравнению с указанными значениями расценивается как чрезвычайная экологическая ситу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вышение объема безвозвратного водопотребления более двух раз рассматривается как экологическое бед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водохранилищ, которые в установленном порядке отнесены к водным объектам преимущественного использ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сохранения, воспроизводства и добычи рыбных ресурс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авила использования водных ресурсов устанавливаются исходя из приоритетного соблюдения требований рыбного хозяй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9:51:59Z</dcterms:created>
  <dc:creator>comp</dc:creator>
  <dc:description/>
  <dc:language>en-US</dc:language>
  <cp:lastModifiedBy>Коля</cp:lastModifiedBy>
  <dcterms:modified xsi:type="dcterms:W3CDTF">2013-03-22T15:17:19Z</dcterms:modified>
  <cp:revision>9</cp:revision>
  <dc:subject/>
  <dc:title>МЕТОДОЛОГИЯ  РАЗРАБОТКИ  «ПРАВИЛ ИСПОЛЬЗОВАНИЯ ВОДНЫХ РЕСУРСОВ ВОДОХРАНИЛИЩ» ПО МАТЕРИАЛАМ  Электроэнергетического Совета СНГ «АССОЦИАЦИЯ ГИДРОПРОЕКТ»</dc:title>
</cp:coreProperties>
</file>