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315-AEFE-4CA2-A852-693DF598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FBD-02DE-45E9-9297-74926F05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222-A7AD-40A9-B2B9-B2A930AD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3FD-125C-4D51-A987-6D3CE0AA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D658-5438-4BEE-9B5B-188050EF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2E2-275F-4328-9A48-020EF86E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D2A-6BC7-4D11-BC20-B342022C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B52B-D9C3-4EBE-97D9-AA6F47AC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8C0-6CA7-4734-B4A4-0C70B10B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681-1856-4FAB-B75A-C37E6037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7A5-F0A5-451C-8B40-239B2948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1EC-3257-4722-B56F-FDDC852E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B9FF-F161-4117-9F50-382C5776BD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ТОДОЛОГИЯ  РАЗРАБОТКИ 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ПРАВИЛ ИСПОЛЬЗОВАНИЯ ВОДНЫХ РЕСУРСОВ ВОДОХРАНИЛИЩ»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материалам методических указаний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АССОЦИАЦИИ ГИДРОПРОЕКТ»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 действующих методических указаний </a:t>
            </a:r>
            <a:br>
              <a:rPr sz="22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ственные исполнители разработки «правил»: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.т.н., проф. Асарин А.Е., к.т.н. Бестужева К.Н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419720"/>
            <a:ext cx="75722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92760" y="5638680"/>
            <a:ext cx="593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в. кафедрой комплексного использования ФГОУ В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ГУприродообустройства Раткович Л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 использования водохранилищ для противопаводковой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а определения противопаводковой роли проектируемых и существующих водохранилищ РФ и необходимость ее специального рассмотрения при разработке или пересмотре «Правил» связа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щербами от навод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лонением от проектного режима отдельных гидроузлов и их каска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ижних бьефах ряда крупных гидроузлов проводилось интенсивное освоение и застройка пойменных земель, которые в естественных условиях затоплялись каждые 3-5 лет. Для предотвращения затопления этих территорий  в относительно невысокие половодья приходится резко снижать сбросные расходы воды путем форсировки  уровня водохранилищ сверх НПУ, что согласно проектам гидроузлов 1-го и 2-го классов и правилам использования водных ресурсов их водохранилищ допускается лишь в экстремальные половодья (повторяемостью один раз в 1000 и 10000 л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НЫ ВРЕМЕННОГО ЗАТОПЛ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ловия затопления регламентированы. При наличии ценных земель продолжительность затопления 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7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4"/>
          <p:cNvSpPr/>
          <p:nvPr/>
        </p:nvSpPr>
        <p:spPr>
          <a:xfrm>
            <a:off x="1187280" y="3321000"/>
            <a:ext cx="1656000" cy="164484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644840"/>
              <a:gd name="textAreaBottom" fmla="*/ 1645200 h 1644840"/>
            </a:gdLst>
            <a:ahLst/>
            <a:rect l="textAreaLeft" t="textAreaTop" r="textAreaRight" b="textAreaBottom"/>
            <a:pathLst>
              <a:path w="1043" h="1036">
                <a:moveTo>
                  <a:pt x="0" y="0"/>
                </a:moveTo>
                <a:cubicBezTo>
                  <a:pt x="41" y="234"/>
                  <a:pt x="83" y="469"/>
                  <a:pt x="136" y="635"/>
                </a:cubicBezTo>
                <a:cubicBezTo>
                  <a:pt x="189" y="801"/>
                  <a:pt x="250" y="1036"/>
                  <a:pt x="318" y="998"/>
                </a:cubicBezTo>
                <a:cubicBezTo>
                  <a:pt x="386" y="960"/>
                  <a:pt x="423" y="574"/>
                  <a:pt x="544" y="408"/>
                </a:cubicBezTo>
                <a:cubicBezTo>
                  <a:pt x="665" y="242"/>
                  <a:pt x="967" y="68"/>
                  <a:pt x="104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1332000" y="3824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32000" y="3537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П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1258920" y="34639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258920" y="31766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ПУ 1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2771640" y="3392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819520" y="311004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рритория застрой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ПУ 1% + 0.5 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1"/>
          <p:cNvSpPr/>
          <p:nvPr/>
        </p:nvSpPr>
        <p:spPr>
          <a:xfrm>
            <a:off x="4932360" y="3537000"/>
            <a:ext cx="1655640" cy="164448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644480"/>
              <a:gd name="textAreaBottom" fmla="*/ 1644840 h 1644480"/>
            </a:gdLst>
            <a:ahLst/>
            <a:rect l="textAreaLeft" t="textAreaTop" r="textAreaRight" b="textAreaBottom"/>
            <a:pathLst>
              <a:path w="1043" h="1036">
                <a:moveTo>
                  <a:pt x="0" y="0"/>
                </a:moveTo>
                <a:cubicBezTo>
                  <a:pt x="41" y="234"/>
                  <a:pt x="83" y="469"/>
                  <a:pt x="136" y="635"/>
                </a:cubicBezTo>
                <a:cubicBezTo>
                  <a:pt x="189" y="801"/>
                  <a:pt x="250" y="1036"/>
                  <a:pt x="318" y="998"/>
                </a:cubicBezTo>
                <a:cubicBezTo>
                  <a:pt x="386" y="960"/>
                  <a:pt x="423" y="574"/>
                  <a:pt x="544" y="408"/>
                </a:cubicBezTo>
                <a:cubicBezTo>
                  <a:pt x="665" y="242"/>
                  <a:pt x="967" y="68"/>
                  <a:pt x="104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5076720" y="404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5076720" y="3753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П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5003640" y="36799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5003640" y="33926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ПУ 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6516720" y="360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6588000" y="3176640"/>
            <a:ext cx="151308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/х и лесные угод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ПУ 5% + 0.5 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868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т в «Правилах» требований участников ВХ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оснаб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овая и атомная энергет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бное хозяй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оэнергет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ный транспорт и лесоспл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льское хозяй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ре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ХОДНЫЕ ДАННЫЕ ПО РУСЛУ 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ЛИНЕ Р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атический план реки и береговой полосы на участке ожидаемого воздействия гидроузла на водный реж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ьный профиль реки на том же участке с отметками дна и водной поверх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чень водозаборов с указанием расстояния до створа плотины, допустимыми максимальным и минимальным уровнями 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кривых связи расходов и уровней воды с указанием отметок выхода воды на пой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еречные профили русла и поймы реки в опорных ство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стика застройки и хозяйственного использования прибрежной полосы, последствий их зато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ВЫЕ И НОРМАТИВНЫЕ АКТЫ, КОТОРЫЕ НЕОБХОДИМО УЧИТЫВАТЬ ПРИ СОСТАВЛЕН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Р, ВЭР И  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ный  кодекс  Российской Федерации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 безопасности гидротехнических  сооружений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б охране окружающей среды» от 10.01.2002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б особо охраняемых природных территориях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 Правительства Российской Федерации «О порядке эксплуатации водохранилищ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 Правительства Российской Федерации «Об утверждении Положения об осуществлении государственного контроля за использованием и охраной водных объект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 Правительства Российской Федерации «Об  утверждении Положения о ведении государственного мониторинга водных объект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иП 2.06.15-85 «Инженерная защита территорий от затопления и подтопл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ие СНиП, СанП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идротехнические соору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«Правилах» должны быть приведены общие сведения о гидроузле  (компоновка, состав и параметры подпорных сооружений и т.п.) и  характеристика фактической пропускной способности всех водопропускных сооружений гидроузла (в графическом виде и в виде интерполяционных таблиц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осбросной фронт индивидуален для каждого г/у и представлен : поверхностными и донными водосбросами; шлюзами; рыбопропускными сооруж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ВОПРОСУ ПРАВИЛ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вная функция гидроузла  с ГЭ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это использование притока воды, обеспечивающее получение максимальной энергоотдачи при заданной надежности электроснабжения потреб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вная функция  комплексного гидроузл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это использование водного ресурса водохранилища вместе с притоком, обеспечивающее получение максимальной водоотдачи с учетом установленной системы приоритетов и критериев покрытия требований к воде всех участников ВХК, включая санитарно-экологическую составляющ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жнейшим требованием к функционированию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ого гидроузла является обеспечение его безопасности и безопасности населения и хозяйства в верхнем и нижнем бьеф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спетчерские графики и правила определяю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сновное содержание “Правил использования водных ресурсов водохранилищ гидроузлов электростанций”. Основными элементами диспетчерских графиков являются отметки уровней воды в водохранилище у плотины в конце межени и половод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спетчерский график должен быть построе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ким образом, чтобы обеспечи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ативную надежность гарантированной энерго и водоотда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ксимально возможную среднюю многолетнюю выработку электроэнергии ГЭ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епенное уменьшение энерго и водоотдачи по мере сокращения запаса воды в водохранилище для предотвращения глубоких перебоев в крайне маловодных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ЫСЛ ИСПОЛЬЗОВАНИЯ Д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етчерские правила регулирования стока позволяют в условиях неопределенности исходной гидрологической информации, т.е. при недостаточной заблаговременности и точности долгосрочных гидрологических прогнозов, осуществлять оптимальное управление функционированием каскадов и их объединений в энергосистема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ядок использования диспетчерских график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оле диспетчерского графика наноситс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нач.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определяется зона, в которой будет работать гидроузел в этот интервал врем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начаются средние за интерва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и/или отбор из верхнего бьефа) и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ЭС в соответствии с диспетчерской зоной, в которой окажется вышеуказанная отметка воды в водохранилище (у плотин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яетс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конечн.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яется, в какой зоне диспетчерского графика оказывается вычисленна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конечн.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если зона графика по сравнению с первоначальной не изменяется, то расчет для данного интервала заканчивается, если изменяется, то уточняется первоначальное значени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и/или отбор из верхнего бьефа) и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Э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торяется расчет дл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и/или отбора из верхнего бьефа) и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ЭС, соответствующих зоне, куда попадае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конечн.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если и при этом конечная отметка воды в водохранилище вновь попадает в первоначальную зону графика, т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конечн.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данном интервале назначается равным отметке на границе зон и вычисляется промежуточное значение средних за расчетный интерва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и/или отбор из верхнего бьефа) и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Э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циальные гидравлические расче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ость расчетов обусловлена необходимостью уточнения, по сравнению с проектными данными, гидравлических характеристик русла реки в верхнем и нижнем бьефах (поперечных сечений, уклонов дна, коэффициентов шероховат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ением требований к предельным уровням воды во всей зоне водохранилища и диапазону колебаний уровней воды в нижнем бьефе гидроуз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четы пропуска высоких половодий через гидроузел или каскад гидроузлов, кривых свободной поверхности (кривых подпора) водохранилищ и уровней воды в верхнем и нижнем бьефах гидроузла при суточном и недельном регулировании мощности ГЭС, при котором имеет место неустановившееся движение в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  И   ЗАДАЧИ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ИЧЕСКИХ УКАЗ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им регулирования стока и использования водных ресурсов крупных водохранилищ РФ определен несколько десятилетий назад, постоянно уточняется и совершенствуется, является предметом пристального внимания ученых и специалистов в области водохозяйственного и энергетического строитель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етодические указания» регламентируют структуру и содержание документа «Правила использования водных ресурсов водохранилищ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ют порядок его разрабо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ют состав необходимых исходных данных, включая требования водопользователей к режиму бьефов гидроузла, методику основных расчетов, а также порядок согласования доку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ы для заказчиков и разработчиков документа «Правила использования водных ресурсов» изолированных водохранилищ и каскадов водохранилищ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ДОКУ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ок пере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тремальные и непредвиденные обстоя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отехнические сооружения, естественные водные ресурсы,           требования  водопользователей, нормативные уровни и расходы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ие водным режи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ометеорологическое обеспе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ок согласования и утверждения «Правил использования водных ресурсов» водохранилищ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ЯДОК СОГЛАСОВАНИЯ «ПРАВИ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ные, научно-исследовательские, эксплуатирующие или какие-либо другие организации (разработчики) составляют проект первой редакции «Правил использования водных ресурсов» водохранилищ и Пояснительной записки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 Проект первой редакции Правил и Пояснительной записки перед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азчику, финансирующему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осводресурсы МПР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министрации субъектов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Обобщение данных и экспертиза в РОСВОДРЕСУР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И ЗАДАЧИ «ПРАВИ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соответствии с Водным кодексом Российской Федерации использование и охрана водных ресурсов водохранилищ осуществляется в соответствии с требованиями, согласованными с заинтересованными органами исполнительной власти субъектов Российской Федерации, со специально уполномоченными государственными органами  в области охраны окружающей природной среды, государственным органом санитарно-эпидемиологического надзора, государственным органом управления использованием и охраной рыбных ресурсов и другими заинтересованными органами управл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авила регламентируют режим наполнения и сработки водохранилищ, порядок пропуска половодий и паводков, размеры попусков в нижний бьеф гидроуз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«Правила» подлежат пересмотру по мере накопления опыта эксплуатации, изменения водохозяйственной обстановки, экологических требований к режиму использования стока, но не реже, чем один раз в 10-12 лет. Как разработка, так и пересмотр «Правил» требуют выполнения значительного объема специальных расчет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настоящее время основным документом, регламентирующим принципы и методы управления стоком рек с максимально возможным учетом интересов водопользователей и безопасности подпорных сооружений гидроузла, населения и хозяйства в его нижнем бьефе, в настоящее время являются «Основные правила или Основные положения правил использования водных ресурсов» водохранилищ. Вновь составляемые или пересматриваемые документы именуются «Правила использования водных ресурсов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я   во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 разработки и применения «Правил» насчитывает около четырех десятилетий. В конце 1950-х гг. было разработано, а в 1961 г. – утверждено «Положение о порядке использования водных ресурсов водохранилищ РСФСР (Госводхоз РСФСР. РВ-1-61). В нем указывалось, что «руководящим документом по использованию водных ресурсов водохранилищ в нормальных эксплуатационных условиях должны быть «Основные положения правил использования водных ресурсов» конкретного водохранилища. В 1960-е гг. были разработаны «Основные положения правил» десятков водохранилищ, в том числе крупнейших: Волжско-Камского и Ангаро-Енисейского каскадов гидроузлов, Цимлянского гидроузла на р.Дон и других. Из последних документов основным являются методические указания по разработке «Правил использования водных ресурсов водохранилищ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логические и санитарные требования к режиму работы водохранилищ 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х учет в «Правил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е по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хранению безопасных условий проживания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хранению наземных экосистем (растительность и животный 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хранению водных экосистем (качество воды, гидробионты, ихтиофау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хранили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жний бьеф гидроуз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ие требования и их учет 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равилах использования водных ресурсов водохранилищ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действие водохранилищ гидроузлов на окружающую среду в процессе эксплуатации в значительной степени определяется режимом использования водных ресур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ость поддержания санитарного состояния воды в реке может противоречить оптимальному использованию водных ресурсов в интересах других компонентов. Например, принятый в проекте режим использования водных ресурсов Камского водохранилища на р. Каме и Куйбышевского водохранилища на р.Волге в межень является оптимальным для гидроэнергетики. В настоящее время он изменен с целью обеспечения постоянных в течение суток санитарных попусков в нижние бьефы гидроузлов, предотвращающих вызываемые ветром противотечения. При отсутствии этих попусков в водозаборные сооружения попадали сточные воды нижележащих населенных мест и промышленных пред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целях предотвращения истощения водных ресурсов и деградации водных экосистем предельно допустимый объем ежегодного безвозвратного изъятия воды из водохранилища (в сумме с потерями воды на дополнительное испарение) не должен превышать (10 – 20) % от среднемноголетнего годового стока реки в створе гидроуз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ие и санитарные требования к режиму работы водохранилищ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избежание негативных явлений, обусловленных зимней сработкой водохранилища, следует ограничить для верхних слоев водохранилища (до 5 м) скорость сработки до 0,3 м/сутки. Более глубокие слои должны срабатываться со скоростью не более 1 м в су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экологические требования по нижнему бьефу гидроузла сводятся к обеспечению расходов воды, гарантирующих бесперебойную работу питьевых водозаборов, благоприятные условия для культурно-бытового водопользования населения и сохранность биоценоз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ры санитарных попусков регламентируются рядом документов различных ведомств, требования которых не всегда совпадают. Одни документы требуют, чтобы минимальный санитарный попуск был не менее минимального среднесуточного расхода воды в реке при бытовом гидрологическом режиме летней и зимней межени года 95% обеспеченности, другие – чтобы минимальный расход воды зарегулированных рек соответствовал установленному гарантированному расходу воды в нижнем бьефе гидроузла с обеспечением кратности разбавления сточных вод в контрольном створе водопользования до нормативов, установленных для данного водного объек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омственный документ МПР России «Временные методические рекомендации по установлению минимально допустимых расходов воды в реках для оценки возможных изъятий водных ресурсов», выдвигает аналогичные требования к минимально допустимым расходам воды в реках. Кроме того, указанный документ требует, чтобы для обеспечения промывки и обводнения поймы в весенний период в нижний бьеф гидроузла поступало не менее 20% объема стока половодья года 75-95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ИЕ ТРЕБОВАНИЯ В НИЖНЕМ БЬЕ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словий воспроизводства и сохранения запасов ценных рыб, включая их кормовую б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режные территории (обводнение поймы, сохранение ценных биоценозов и ландшаф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о охраняемые территории, требующие сохранения наиболее комфортного водного реж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твращение занесения либо чрезмерного размыва русла или развития эрозионных процессов по берега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ритерии оценки экологической обстановки территорий для выявления зон чрезвычайной экологической ситуации и зон экологического бедств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ный кодекс РФ предписывает необходимость установления для водных объектов допустимого объема безвозвратного изъятия поверхностного стока (10-20) % от среднемноголетн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вышение объема безвозвратного изъятия до двух раз по сравнению с указанными значениями расценивается как чрезвычайная экологическая ситу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вышение объема безвозвратного водопотребления более двух раз рассматривается как экологическое бед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водохранилищ, которые в установленном порядке отнесены к водным объектам преимущественного использован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ля сохранения, воспроизводства и добычи рыбных ресурс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равила использования водных ресурсов устанавливаются исходя из приоритетного соблюдения требований рыбного хозяй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9:51:59Z</dcterms:created>
  <dc:creator>comp</dc:creator>
  <dc:description/>
  <dc:language>en-US</dc:language>
  <cp:lastModifiedBy>Коля</cp:lastModifiedBy>
  <dcterms:modified xsi:type="dcterms:W3CDTF">2013-03-22T15:17:19Z</dcterms:modified>
  <cp:revision>9</cp:revision>
  <dc:subject/>
  <dc:title>МЕТОДОЛОГИЯ  РАЗРАБОТКИ  «ПРАВИЛ ИСПОЛЬЗОВАНИЯ ВОДНЫХ РЕСУРСОВ ВОДОХРАНИЛИЩ» ПО МАТЕРИАЛАМ  Электроэнергетического Совета СНГ «АССОЦИАЦИЯ ГИДРОПРОЕКТ»</dc:title>
</cp:coreProperties>
</file>