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2E3-B625-468F-9ED4-2659E5D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41A-3A54-4070-BE03-E06496F6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7B7-8477-4675-A68B-146433AD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091-08E0-4FF0-A15B-DE1D8398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5CC-C0E4-4ADD-B02E-A072E28C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BE21-F0D3-4B90-8AF4-C4F2464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43B6-2CFF-47E0-A374-0E28DD86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CDE1-AA97-4136-9A32-4DAB936D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471-9782-4658-B09D-063E427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C523-9567-4794-8B80-0FB44DB8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F8F-135E-4D39-B5A8-B717F74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008-3AF8-4261-B95F-FB80FE4D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3780-FE2F-49AE-A9A2-B785008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9DB7-DA4E-42E1-9A40-03FEFEC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508-C83D-4187-8F09-0F2C4CB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E02F-A0BF-4F2E-9690-5140F04C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5656-53B7-4B94-98A7-EC79EB58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568-E556-4FF8-AE8F-CE9D8F20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581-125E-4A0B-A348-D08E671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CA7-9D4B-42F4-9963-712AECD3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069-C233-4A89-8354-EAC2301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F0-EB8B-4966-B35A-7204BC6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2B7-B013-45BA-847C-6CA46E5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699-FBB7-4FB0-B2D3-DEE206D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8A7-51B8-49B9-AE9E-8DFF70AF4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AF1-4189-4D98-9B8F-73D9C0AE43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201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00"/>
                </a:solidFill>
                <a:latin typeface="Arial Black"/>
              </a:rPr>
              <a:t>Пиломатериалы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подавателя  спецдисциплин Андреевой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пиломат2"/>
          <p:cNvPicPr/>
          <p:nvPr/>
        </p:nvPicPr>
        <p:blipFill>
          <a:blip r:embed="rId1"/>
          <a:stretch/>
        </p:blipFill>
        <p:spPr>
          <a:xfrm>
            <a:off x="2571840" y="2000160"/>
            <a:ext cx="380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ск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– пиломатериал толщиной </a:t>
            </a: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, шириной более двойной толщин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иды досо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 Не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то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сторонние обрезны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тупым                                            С острым обзолом                                      обзолом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Копия (4) пиломат2"/>
          <p:cNvPicPr/>
          <p:nvPr/>
        </p:nvPicPr>
        <p:blipFill>
          <a:blip r:embed="rId1"/>
          <a:stretch/>
        </p:blipFill>
        <p:spPr>
          <a:xfrm>
            <a:off x="5003640" y="234936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Копия (5) пиломат2"/>
          <p:cNvPicPr/>
          <p:nvPr/>
        </p:nvPicPr>
        <p:blipFill>
          <a:blip r:embed="rId2"/>
          <a:stretch/>
        </p:blipFill>
        <p:spPr>
          <a:xfrm>
            <a:off x="5651640" y="3500280"/>
            <a:ext cx="1971360" cy="109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опия (6) пиломат2"/>
          <p:cNvPicPr/>
          <p:nvPr/>
        </p:nvPicPr>
        <p:blipFill>
          <a:blip r:embed="rId3"/>
          <a:stretch/>
        </p:blipFill>
        <p:spPr>
          <a:xfrm>
            <a:off x="2627280" y="5229360"/>
            <a:ext cx="39909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4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 Black"/>
              </a:rPr>
              <a:t>Обапол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боковые части бревна, срезанные при продольной распилов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Виды обапо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горбыльн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ропил только с одной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доща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а сторона пропилена, а вторая пропилена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Копия (7) пиломат2"/>
          <p:cNvPicPr/>
          <p:nvPr/>
        </p:nvPicPr>
        <p:blipFill>
          <a:blip r:embed="rId1"/>
          <a:stretch/>
        </p:blipFill>
        <p:spPr>
          <a:xfrm>
            <a:off x="5148360" y="2492280"/>
            <a:ext cx="218124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Копия (8) пиломат2"/>
          <p:cNvPicPr/>
          <p:nvPr/>
        </p:nvPicPr>
        <p:blipFill>
          <a:blip r:embed="rId2"/>
          <a:stretch/>
        </p:blipFill>
        <p:spPr>
          <a:xfrm>
            <a:off x="5148360" y="5229360"/>
            <a:ext cx="223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Шпалы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- пилопродукция в виде бруса, используемая в качестве опор для рельсов железодорожных путе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Копия IMG_2310"/>
          <p:cNvPicPr/>
          <p:nvPr/>
        </p:nvPicPr>
        <p:blipFill>
          <a:blip r:embed="rId1"/>
          <a:stretch/>
        </p:blipFill>
        <p:spPr>
          <a:xfrm>
            <a:off x="2556000" y="3068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Виды шпа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Копия (9) пиломат2"/>
          <p:cNvPicPr/>
          <p:nvPr/>
        </p:nvPicPr>
        <p:blipFill>
          <a:blip r:embed="rId1"/>
          <a:stretch/>
        </p:blipFill>
        <p:spPr>
          <a:xfrm>
            <a:off x="3132000" y="134136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Копия (10) пиломат2"/>
          <p:cNvPicPr/>
          <p:nvPr/>
        </p:nvPicPr>
        <p:blipFill>
          <a:blip r:embed="rId2"/>
          <a:stretch/>
        </p:blipFill>
        <p:spPr>
          <a:xfrm>
            <a:off x="3132000" y="436572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По месту расположения пиломатериалов в бревне(по отношению к продольной оси) различают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ые доск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больше других подвержены растрескив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еньше подвержены растрескиванию, чем сердцеви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хорошо обрабатываются, по качеству лучше сердцевинных и центральных.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ая до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Горб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 Название доски в распиленном бревне: сердцевинная  доска; центральные доски; боковые доски; горбыли"/>
          <p:cNvPicPr/>
          <p:nvPr/>
        </p:nvPicPr>
        <p:blipFill>
          <a:blip r:embed="rId1"/>
          <a:stretch/>
        </p:blipFill>
        <p:spPr>
          <a:xfrm>
            <a:off x="1187280" y="2349360"/>
            <a:ext cx="6697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Arial Black"/>
              </a:rPr>
              <a:t>Способы распиловки бреве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4" descr=" "/>
          <p:cNvPicPr/>
          <p:nvPr/>
        </p:nvPicPr>
        <p:blipFill>
          <a:blip r:embed="rId1"/>
          <a:stretch/>
        </p:blipFill>
        <p:spPr>
          <a:xfrm>
            <a:off x="324000" y="1838160"/>
            <a:ext cx="8569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6" descr=" 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 имеют следующие элемен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Кром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еб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л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 правильность ответа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опр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какой части при разделке ствола получают пиломатериал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4724280"/>
            <a:ext cx="64166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07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</a:t>
            </a: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эт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атериалы, которы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лучают из круглы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есоматериало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пиле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строга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88640"/>
            <a:ext cx="9036000" cy="65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енная деталь-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лопродукция определенных размеров, не требующая дальнейшей обработки для её исполь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Строганным пиломатериало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называется  такой, у которого обработаны строганием или фрезерованием хотя бы одна пласть или обе кромк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 Black"/>
              </a:rPr>
              <a:t>Размеры пиломатериал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Толщ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пластями, измеряемое перпендикулярно пластя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Шир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кромками, измеряемое перпендикулярно продольной ос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Дл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 (расстояние) между торцами, опиленными перпендикулярно продольной ос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оверьте, правильно ли вы ответил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071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Безымянный"/>
          <p:cNvPicPr/>
          <p:nvPr/>
        </p:nvPicPr>
        <p:blipFill>
          <a:blip r:embed="rId1"/>
          <a:stretch/>
        </p:blipFill>
        <p:spPr>
          <a:xfrm>
            <a:off x="2050920" y="1800360"/>
            <a:ext cx="4962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По форме и размерам поперечного сечения пиломатериалы быва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ап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па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русь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иломатериалы толщиной и шириной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олее 100м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о числу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опиленных сторон брусья могут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дву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пропилены 2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т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3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четы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4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.                б.            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пиломат"/>
          <p:cNvPicPr/>
          <p:nvPr/>
        </p:nvPicPr>
        <p:blipFill>
          <a:blip r:embed="rId1"/>
          <a:stretch/>
        </p:blipFill>
        <p:spPr>
          <a:xfrm>
            <a:off x="4067280" y="4797360"/>
            <a:ext cx="5076720" cy="206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Бруски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– обрезной пиломатериал толщиной </a:t>
            </a: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, у которого ширина не более двойной толщин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Копия (3) пиломат2"/>
          <p:cNvPicPr/>
          <p:nvPr/>
        </p:nvPicPr>
        <p:blipFill>
          <a:blip r:embed="rId1"/>
          <a:stretch/>
        </p:blipFill>
        <p:spPr>
          <a:xfrm>
            <a:off x="3564000" y="306864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20:58Z</dcterms:created>
  <dc:creator>Вика</dc:creator>
  <dc:description/>
  <dc:language>en-US</dc:language>
  <cp:lastModifiedBy>Admin</cp:lastModifiedBy>
  <dcterms:modified xsi:type="dcterms:W3CDTF">2014-10-22T16:05:42Z</dcterms:modified>
  <cp:revision>9</cp:revision>
  <dc:subject/>
  <dc:title>Пиломатериалы</dc:title>
</cp:coreProperties>
</file>