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B61-1730-4AF9-ABA4-7A362904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1AF-EA8A-4278-94D4-2FFBB993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070-7B10-4B55-BDD1-7127B24A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E31-1A36-466F-86CF-DBAA426F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42AE-9D90-4B85-9206-0D31E32A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C2A1-64DE-476D-B074-7386A3FC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26A2-F3DA-4CD5-8AB9-23C280A6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105C-4DBE-4A8C-8A05-95AAD0D8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679A-F794-4976-9A26-4596A61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CB7-FF2E-4468-A8BB-7465747C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A2FB-0086-4DBC-B85B-3E6F2A33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546-30D8-4E51-BF5D-65CFE1E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587D-B2F6-4613-B79E-6979971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89C2-A06B-4814-AFFD-35F2D6FE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7D47-8690-4901-AEC2-21579A02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98DE-1AAF-434D-8166-31A855C2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CFA7-08FC-429E-80FC-67BAC874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BC7-5D1A-4D58-813F-8A3B55A9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5EC-C902-47DD-BEA2-03C6252E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87D-2AEE-470F-A338-8A600372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53F-3C24-411F-8214-5981CAA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479-9D66-4005-BC33-B2402E8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F5D-A0BD-4D96-A137-D4468D1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3BA-99E3-4F23-8FF2-55FF48B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EF5-1213-4E90-8049-70F6040C9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9B07-C222-4264-A49E-3D0E8569AE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1201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9900"/>
                </a:solidFill>
                <a:latin typeface="Arial Black"/>
              </a:rPr>
              <a:t>Пиломатериалы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подавателя  спецдисциплин Андреевой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пиломат2"/>
          <p:cNvPicPr/>
          <p:nvPr/>
        </p:nvPicPr>
        <p:blipFill>
          <a:blip r:embed="rId1"/>
          <a:stretch/>
        </p:blipFill>
        <p:spPr>
          <a:xfrm>
            <a:off x="2571840" y="2000160"/>
            <a:ext cx="3808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Доск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– пиломатериал толщиной </a:t>
            </a: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до 100 м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, шириной более двойной толщин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иды досок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 Необрезная дос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тообрезная дос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дносторонние обрезны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тупым                                            С острым обзолом                                      обзолом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Копия (4) пиломат2"/>
          <p:cNvPicPr/>
          <p:nvPr/>
        </p:nvPicPr>
        <p:blipFill>
          <a:blip r:embed="rId1"/>
          <a:stretch/>
        </p:blipFill>
        <p:spPr>
          <a:xfrm>
            <a:off x="5003640" y="234936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Копия (5) пиломат2"/>
          <p:cNvPicPr/>
          <p:nvPr/>
        </p:nvPicPr>
        <p:blipFill>
          <a:blip r:embed="rId2"/>
          <a:stretch/>
        </p:blipFill>
        <p:spPr>
          <a:xfrm>
            <a:off x="5651640" y="3500280"/>
            <a:ext cx="1971360" cy="109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опия (6) пиломат2"/>
          <p:cNvPicPr/>
          <p:nvPr/>
        </p:nvPicPr>
        <p:blipFill>
          <a:blip r:embed="rId3"/>
          <a:stretch/>
        </p:blipFill>
        <p:spPr>
          <a:xfrm>
            <a:off x="2627280" y="5229360"/>
            <a:ext cx="399096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47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 Black"/>
              </a:rPr>
              <a:t>Обапол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боковые части бревна, срезанные при продольной распилов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Виды обапо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бапол горбыльн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ропил только с одной сто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бапол дощат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а сторона пропилена, а вторая пропилена час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Копия (7) пиломат2"/>
          <p:cNvPicPr/>
          <p:nvPr/>
        </p:nvPicPr>
        <p:blipFill>
          <a:blip r:embed="rId1"/>
          <a:stretch/>
        </p:blipFill>
        <p:spPr>
          <a:xfrm>
            <a:off x="5148360" y="2492280"/>
            <a:ext cx="218124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Копия (8) пиломат2"/>
          <p:cNvPicPr/>
          <p:nvPr/>
        </p:nvPicPr>
        <p:blipFill>
          <a:blip r:embed="rId2"/>
          <a:stretch/>
        </p:blipFill>
        <p:spPr>
          <a:xfrm>
            <a:off x="5148360" y="5229360"/>
            <a:ext cx="2232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 Black"/>
              </a:rPr>
              <a:t>Шпалы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- пилопродукция в виде бруса, используемая в качестве опор для рельсов железодорожных путе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Копия IMG_2310"/>
          <p:cNvPicPr/>
          <p:nvPr/>
        </p:nvPicPr>
        <p:blipFill>
          <a:blip r:embed="rId1"/>
          <a:stretch/>
        </p:blipFill>
        <p:spPr>
          <a:xfrm>
            <a:off x="2556000" y="3068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Виды шпа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обрезные шпал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езные шпал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Копия (9) пиломат2"/>
          <p:cNvPicPr/>
          <p:nvPr/>
        </p:nvPicPr>
        <p:blipFill>
          <a:blip r:embed="rId1"/>
          <a:stretch/>
        </p:blipFill>
        <p:spPr>
          <a:xfrm>
            <a:off x="3132000" y="134136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Копия (10) пиломат2"/>
          <p:cNvPicPr/>
          <p:nvPr/>
        </p:nvPicPr>
        <p:blipFill>
          <a:blip r:embed="rId2"/>
          <a:stretch/>
        </p:blipFill>
        <p:spPr>
          <a:xfrm>
            <a:off x="3132000" y="436572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 Black"/>
              </a:rPr>
              <a:t>По месту расположения пиломатериалов в бревне(по отношению к продольной оси) различают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ердцевинные доск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больше других подвержены растрескив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Центральные дос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меньше подвержены растрескиванию, чем сердцеви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Боковые дос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хорошо обрабатываются, по качеству лучше сердцевинных и центральных.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ердцевинная до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Центральные до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Боковые до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Горбы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 Название доски в распиленном бревне: сердцевинная  доска; центральные доски; боковые доски; горбыли"/>
          <p:cNvPicPr/>
          <p:nvPr/>
        </p:nvPicPr>
        <p:blipFill>
          <a:blip r:embed="rId1"/>
          <a:stretch/>
        </p:blipFill>
        <p:spPr>
          <a:xfrm>
            <a:off x="1187280" y="2349360"/>
            <a:ext cx="6697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Arial Black"/>
              </a:rPr>
              <a:t>Способы распиловки бреве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4" descr=" "/>
          <p:cNvPicPr/>
          <p:nvPr/>
        </p:nvPicPr>
        <p:blipFill>
          <a:blip r:embed="rId1"/>
          <a:stretch/>
        </p:blipFill>
        <p:spPr>
          <a:xfrm>
            <a:off x="324000" y="1838160"/>
            <a:ext cx="8569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4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6" descr=" 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Пиломатериалы имеют следующие элемен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Кром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ебр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л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ь правильность ответа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2492280"/>
            <a:ext cx="7775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Вопр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 какой части при разделке ствола получают пиломатериал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1258920" y="4724280"/>
            <a:ext cx="64166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80071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Arial"/>
              </a:rPr>
              <a:t>Пиломатериалы</a:t>
            </a: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эт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атериалы, которы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лучают из круглых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есоматериало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пилением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строганием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88640"/>
            <a:ext cx="9036000" cy="65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Пиленная деталь-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лопродукция определенных размеров, не требующая дальнейшей обработки для её исполь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Строганным пиломатериало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называется  такой, у которого обработаны строганием или фрезерованием хотя бы одна пласть или обе кромк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Arial Black"/>
              </a:rPr>
              <a:t>Размеры пиломатериал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Толщ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(расстояние) между пластями, измеряемое перпендикулярно пластя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Шир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(расстояние) между кромками, измеряемое перпендикулярно продольной ос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Дл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 (расстояние) между торцами, опиленными перпендикулярно продольной ос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640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оверьте, правильно ли вы ответил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071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Безымянный"/>
          <p:cNvPicPr/>
          <p:nvPr/>
        </p:nvPicPr>
        <p:blipFill>
          <a:blip r:embed="rId1"/>
          <a:stretch/>
        </p:blipFill>
        <p:spPr>
          <a:xfrm>
            <a:off x="2050920" y="1800360"/>
            <a:ext cx="4962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 Black"/>
              </a:rPr>
              <a:t>По форме и размерам поперечного сечения пиломатериалы бывают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276280"/>
            <a:ext cx="8007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рус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рус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с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ап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Шпа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Брусь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пиломатериалы толщиной и шириной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более 100м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о числу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опиленных сторон брусья могут бы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дву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пропилены 2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тре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ропилены 3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четыре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ропилены 4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а.                б.            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Копия пиломат"/>
          <p:cNvPicPr/>
          <p:nvPr/>
        </p:nvPicPr>
        <p:blipFill>
          <a:blip r:embed="rId1"/>
          <a:stretch/>
        </p:blipFill>
        <p:spPr>
          <a:xfrm>
            <a:off x="4067280" y="4797360"/>
            <a:ext cx="5076720" cy="206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Бруски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– обрезной пиломатериал толщиной </a:t>
            </a: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до 100 мм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, у которого ширина не более двойной толщин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Копия (3) пиломат2"/>
          <p:cNvPicPr/>
          <p:nvPr/>
        </p:nvPicPr>
        <p:blipFill>
          <a:blip r:embed="rId1"/>
          <a:stretch/>
        </p:blipFill>
        <p:spPr>
          <a:xfrm>
            <a:off x="3564000" y="306864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20:58Z</dcterms:created>
  <dc:creator>Вика</dc:creator>
  <dc:description/>
  <dc:language>en-US</dc:language>
  <cp:lastModifiedBy>Admin</cp:lastModifiedBy>
  <dcterms:modified xsi:type="dcterms:W3CDTF">2014-10-22T16:05:42Z</dcterms:modified>
  <cp:revision>9</cp:revision>
  <dc:subject/>
  <dc:title>Пиломатериалы</dc:title>
</cp:coreProperties>
</file>