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E20-0346-485A-BCB9-EB9413E1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E4A-22D3-401A-BA02-6613236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149-D52A-44B3-B214-F6A96B42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42A-3133-4883-BFE1-E96D9C14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8DD7-AD14-45E6-AAE6-E4A65D0E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244-EF7A-477F-9BE5-D9B4FF4D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2C03-BD48-4591-9D86-AC717F6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2A1-9754-4CEC-BDAE-DA146860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03E-35E6-42DB-B8D5-7FA675C8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FF2B-B361-4559-B8BD-BCD4F2D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E254-EDD2-4F55-B9A7-09F46E94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FB3-127A-47FE-B21C-4A938C3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9DC-CF2C-42D0-8245-BF4650B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B6F-7FE0-44CE-A1EF-7BBE2DF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06B-C9D8-4AF8-84DB-07C0D55F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ADCC-EA1B-4219-A694-730CBA9B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2217-D1A3-48A0-BA4C-8698CB5C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77E-A5F3-48D7-92FC-F5ABF0E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10C-DD87-489B-A80B-853BC100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D1C-9F3F-4575-B26E-189B19BA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AFC-73DC-4298-B32B-380655A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9A1-A062-4A87-B439-4853063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293-6AF7-4967-9F70-57CEAAE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9C5-2F43-4E26-A60A-EB32FAC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A67A-F590-46EC-8C30-C7F572334B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70B8-0B55-4DE0-9E8C-DF4A77AF01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12016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00"/>
                </a:solidFill>
                <a:latin typeface="Arial Black"/>
              </a:rPr>
              <a:t>Пиломатериалы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подавателя  спецдисциплин Андреевой М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пиломат2"/>
          <p:cNvPicPr/>
          <p:nvPr/>
        </p:nvPicPr>
        <p:blipFill>
          <a:blip r:embed="rId1"/>
          <a:stretch/>
        </p:blipFill>
        <p:spPr>
          <a:xfrm>
            <a:off x="2571840" y="2000160"/>
            <a:ext cx="3808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ски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– пиломатериал толщиной </a:t>
            </a:r>
            <a:r>
              <a:rPr b="1" lang="ru-RU" sz="40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, шириной более двойной толщин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иды досок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 Не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тообрезная дос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дносторонние обрезны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тупым                                            С острым обзолом                                      обзолом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Копия (4) пиломат2"/>
          <p:cNvPicPr/>
          <p:nvPr/>
        </p:nvPicPr>
        <p:blipFill>
          <a:blip r:embed="rId1"/>
          <a:stretch/>
        </p:blipFill>
        <p:spPr>
          <a:xfrm>
            <a:off x="5003640" y="2349360"/>
            <a:ext cx="201636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Копия (5) пиломат2"/>
          <p:cNvPicPr/>
          <p:nvPr/>
        </p:nvPicPr>
        <p:blipFill>
          <a:blip r:embed="rId2"/>
          <a:stretch/>
        </p:blipFill>
        <p:spPr>
          <a:xfrm>
            <a:off x="5651640" y="3500280"/>
            <a:ext cx="1971360" cy="109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опия (6) пиломат2"/>
          <p:cNvPicPr/>
          <p:nvPr/>
        </p:nvPicPr>
        <p:blipFill>
          <a:blip r:embed="rId3"/>
          <a:stretch/>
        </p:blipFill>
        <p:spPr>
          <a:xfrm>
            <a:off x="2627280" y="5229360"/>
            <a:ext cx="39909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47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 Black"/>
              </a:rPr>
              <a:t>Обапол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боковые части бревна, срезанные при продольной распилов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Виды обапо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горбыльн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ропил только с одной сто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Обапол доща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а сторона пропилена, а вторая пропилена частич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Копия (7) пиломат2"/>
          <p:cNvPicPr/>
          <p:nvPr/>
        </p:nvPicPr>
        <p:blipFill>
          <a:blip r:embed="rId1"/>
          <a:stretch/>
        </p:blipFill>
        <p:spPr>
          <a:xfrm>
            <a:off x="5148360" y="2492280"/>
            <a:ext cx="218124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Копия (8) пиломат2"/>
          <p:cNvPicPr/>
          <p:nvPr/>
        </p:nvPicPr>
        <p:blipFill>
          <a:blip r:embed="rId2"/>
          <a:stretch/>
        </p:blipFill>
        <p:spPr>
          <a:xfrm>
            <a:off x="5148360" y="5229360"/>
            <a:ext cx="2232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Шпалы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- пилопродукция в виде бруса, используемая в качестве опор для рельсов железодорожных путе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Копия IMG_2310"/>
          <p:cNvPicPr/>
          <p:nvPr/>
        </p:nvPicPr>
        <p:blipFill>
          <a:blip r:embed="rId1"/>
          <a:stretch/>
        </p:blipFill>
        <p:spPr>
          <a:xfrm>
            <a:off x="2556000" y="306864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Виды шпа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езные шпал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Копия (9) пиломат2"/>
          <p:cNvPicPr/>
          <p:nvPr/>
        </p:nvPicPr>
        <p:blipFill>
          <a:blip r:embed="rId1"/>
          <a:stretch/>
        </p:blipFill>
        <p:spPr>
          <a:xfrm>
            <a:off x="3132000" y="134136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Копия (10) пиломат2"/>
          <p:cNvPicPr/>
          <p:nvPr/>
        </p:nvPicPr>
        <p:blipFill>
          <a:blip r:embed="rId2"/>
          <a:stretch/>
        </p:blipFill>
        <p:spPr>
          <a:xfrm>
            <a:off x="3132000" y="436572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b7"/>
                </a:solidFill>
                <a:uFillTx/>
                <a:latin typeface="Arial Black"/>
              </a:rPr>
              <a:t>По месту расположения пиломатериалов в бревне(по отношению к продольной оси) различают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ые доск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больше других подвержены растрескив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меньше подвержены растрескиванию, чем сердцевин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хорошо обрабатываются, по качеству лучше сердцевинных и центральных.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Сердцевинная до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Центральн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Боковые до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Горб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 Название доски в распиленном бревне: сердцевинная  доска; центральные доски; боковые доски; горбыли"/>
          <p:cNvPicPr/>
          <p:nvPr/>
        </p:nvPicPr>
        <p:blipFill>
          <a:blip r:embed="rId1"/>
          <a:stretch/>
        </p:blipFill>
        <p:spPr>
          <a:xfrm>
            <a:off x="1187280" y="2349360"/>
            <a:ext cx="6697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Arial Black"/>
              </a:rPr>
              <a:t>Способы распиловки бреве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4" descr=" "/>
          <p:cNvPicPr/>
          <p:nvPr/>
        </p:nvPicPr>
        <p:blipFill>
          <a:blip r:embed="rId1"/>
          <a:stretch/>
        </p:blipFill>
        <p:spPr>
          <a:xfrm>
            <a:off x="324000" y="1838160"/>
            <a:ext cx="8569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6" descr=" 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 имеют следующие элемен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Кром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Реб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ла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оре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верь правильность ответа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2492280"/>
            <a:ext cx="7775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опро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какой части при разделке ствола получают пиломатериал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1258920" y="4724280"/>
            <a:ext cx="64166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071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"/>
              </a:rPr>
              <a:t>Пиломатериалы</a:t>
            </a: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эт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атериалы, которы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лучают из круглы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есоматериало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пиле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800" spc="-1" strike="noStrike" u="sng">
                <a:solidFill>
                  <a:srgbClr val="ffffff"/>
                </a:solidFill>
                <a:uFillTx/>
                <a:latin typeface="Arial"/>
              </a:rPr>
              <a:t>строганием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88640"/>
            <a:ext cx="9036000" cy="65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Пиленная деталь-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лопродукция определенных размеров, не требующая дальнейшей обработки для её исполь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Строганным пиломатериало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называется  такой, у которого обработаны строганием или фрезерованием хотя бы одна пласть или обе кромк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9900"/>
                </a:solidFill>
                <a:uFillTx/>
                <a:latin typeface="Arial Black"/>
              </a:rPr>
              <a:t>Размеры пиломатериал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Толщ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пластями, измеряемое перпендикулярно пластя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Шир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(расстояние) между кромками, измеряемое перпендикулярно продольной ос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"/>
              </a:rPr>
              <a:t>Длин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размер (расстояние) между торцами, опиленными перпендикулярно продольной ос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640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оверьте, правильно ли вы ответил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0071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Безымянный"/>
          <p:cNvPicPr/>
          <p:nvPr/>
        </p:nvPicPr>
        <p:blipFill>
          <a:blip r:embed="rId1"/>
          <a:stretch/>
        </p:blipFill>
        <p:spPr>
          <a:xfrm>
            <a:off x="2050920" y="1800360"/>
            <a:ext cx="4962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Arial Black"/>
              </a:rPr>
              <a:t>По форме и размерам поперечного сечения пиломатериалы быва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276280"/>
            <a:ext cx="8007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ру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с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ап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па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русь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иломатериалы толщиной и шириной 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более 100м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о числу</a:t>
            </a:r>
            <a:r>
              <a:rPr b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опиленных сторон брусья могут бы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дву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пропилены 2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т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3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1" lang="ru-RU" sz="2800" spc="-1" strike="noStrike" u="sng">
                <a:solidFill>
                  <a:srgbClr val="ff9900"/>
                </a:solidFill>
                <a:uFillTx/>
                <a:latin typeface="Arial"/>
              </a:rPr>
              <a:t>четырехка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пропилены 4 сторо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а.                б.            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Копия пиломат"/>
          <p:cNvPicPr/>
          <p:nvPr/>
        </p:nvPicPr>
        <p:blipFill>
          <a:blip r:embed="rId1"/>
          <a:stretch/>
        </p:blipFill>
        <p:spPr>
          <a:xfrm>
            <a:off x="4067280" y="4797360"/>
            <a:ext cx="5076720" cy="206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Бруски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– обрезной пиломатериал толщиной </a:t>
            </a: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до 100 мм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, у которого ширина не более двойной толщин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Копия (3) пиломат2"/>
          <p:cNvPicPr/>
          <p:nvPr/>
        </p:nvPicPr>
        <p:blipFill>
          <a:blip r:embed="rId1"/>
          <a:stretch/>
        </p:blipFill>
        <p:spPr>
          <a:xfrm>
            <a:off x="3564000" y="306864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20:58Z</dcterms:created>
  <dc:creator>Вика</dc:creator>
  <dc:description/>
  <dc:language>en-US</dc:language>
  <cp:lastModifiedBy>Admin</cp:lastModifiedBy>
  <dcterms:modified xsi:type="dcterms:W3CDTF">2014-10-22T16:05:42Z</dcterms:modified>
  <cp:revision>9</cp:revision>
  <dc:subject/>
  <dc:title>Пиломатериалы</dc:title>
</cp:coreProperties>
</file>