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3.jpeg" ContentType="image/jpeg"/>
  <Override PartName="/ppt/media/NEW1_01.WAV" ContentType="audio/x-wav"/>
  <Override PartName="/ppt/media/image17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EA76-73B4-4EF5-90B9-8BD95570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051-9872-4BE3-AC53-D23FDBDF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DCC-B891-4F11-BD27-128FE6DB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218F-9A9C-413B-A7E4-DBEA25FC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01F-38BA-4581-AC99-97945E0A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DF57-2C73-49D7-8654-42147A03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0C7-CD3A-48A3-A266-1E804E02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CDC9-DE83-432A-A044-1FE45DE7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BA9-B555-4A68-B0E6-2B7EC144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92E-69C5-4232-9C4A-D91B9A6E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C95-920E-4650-AA66-CA714921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169-2DBC-47A3-83EC-0F74B4F5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6FEB4D-EA4A-4B63-9E69-684D3A79B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NEW1_01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2541600"/>
            <a:ext cx="327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Arial"/>
              </a:rPr>
              <a:t>КИТА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60560" y="5175360"/>
            <a:ext cx="39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Долгова Вера Максим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635280" y="620640"/>
            <a:ext cx="192420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7 КЛАСС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835280" y="1484280"/>
            <a:ext cx="5545080" cy="1027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:"Евразия"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0760" y="5608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К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ОУ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Бирюченская О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О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random/>
    <p:sndAc>
      <p:stSnd>
        <p:snd r:embed="rId1" name="NEW1_0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4450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880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759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2164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2164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558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2164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1308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2164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940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934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558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2164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1308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558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1308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681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91320" y="61833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2164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934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1308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010640" cy="701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1308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934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36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324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445080" y="61833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1-05T09:47:50Z</dcterms:modified>
  <cp:revision>1</cp:revision>
  <dc:subject/>
  <dc:title>Слайд 1</dc:title>
</cp:coreProperties>
</file>