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NEW1_01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19B-7329-4BB3-A318-ED998103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38A-E851-4B31-BF52-D7E30220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81A-1270-47EA-839A-506D3697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657-E4DD-4E00-A6CD-02B9ECC2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75B-7EA5-4F8E-8901-8EBA6E2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FE5-B1F2-4D8B-81F2-9AEAD67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C71-BEC2-4678-8035-5587CA6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A72-E72B-4262-92F5-02E1DF3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457-FB5E-4D5C-A186-D81E2ED4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D08-0E64-49C4-9513-0593C5F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0B7-AE5A-452B-9D2D-8E0C5BC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59F-FB9F-4299-955E-9D63FE3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0F05C-38F3-46FD-83FA-2ADEC21C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EW1_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2541600"/>
            <a:ext cx="32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КИТА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0560" y="51753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олгова Вера Максим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620640"/>
            <a:ext cx="19242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484280"/>
            <a:ext cx="554508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"Евразия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760" y="5608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У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ирюченская О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  <p:sndAc>
      <p:stSnd>
        <p:snd r:embed="rId1" name="NEW1_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88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5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94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81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1320" y="6183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701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5T09:47:50Z</dcterms:modified>
  <cp:revision>1</cp:revision>
  <dc:subject/>
  <dc:title>Слайд 1</dc:title>
</cp:coreProperties>
</file>