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3.jpeg" ContentType="image/jpeg"/>
  <Override PartName="/ppt/media/NEW1_01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739-66F8-47E3-8058-AEB167A2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9C7-6759-46D4-A732-79666D09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A9C-9355-4E85-8D12-BC0125A1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110-2FB3-4246-B8DA-E3CD85D4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0E9-5FF1-45F7-986D-D9376299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61E-403B-4F5A-B18C-EC5A10E0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E50-891C-4197-B390-857B9DDF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E4D-2D2B-4FAB-8749-63110987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FEB-8DF5-4E3E-990C-186CE7F8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838-79CE-424B-B52F-6EE2724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F35-3EAE-4EE0-85ED-00917C90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C30-99EF-46BE-ACA9-185B80E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5D24EA-199F-4013-BC6F-A3470379E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EW1_0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2541600"/>
            <a:ext cx="32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Arial"/>
              </a:rPr>
              <a:t>КИТА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60560" y="517536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олгова Вера Максим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35280" y="620640"/>
            <a:ext cx="192420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КЛАС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1484280"/>
            <a:ext cx="5545080" cy="102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"Евразия"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0760" y="5608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ОУ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ирюченская О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О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  <p:sndAc>
      <p:stSnd>
        <p:snd r:embed="rId1" name="NEW1_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450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880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5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558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940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558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558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81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91320" y="6183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701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450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5T09:47:50Z</dcterms:modified>
  <cp:revision>1</cp:revision>
  <dc:subject/>
  <dc:title>Слайд 1</dc:title>
</cp:coreProperties>
</file>