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FCD-D189-4120-8580-219EFD3B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E43-49D0-42E3-8D26-54D1E5A5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3E6-623C-4F93-9F62-82A15208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499-D015-4BBB-B6F0-3FA81AAF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4374-56F0-4BA1-8760-EE229F33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ED9E-D816-4445-BD6E-DA64D054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4535-8DA4-46BE-96AE-C08DE3C8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BAF4-80D4-424F-AD48-5D974BE3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E2B3-E215-4E91-A4D5-47FA88CC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0066-F4EE-41C5-9C21-2BDCF8B9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4965-1080-48E7-A9E1-945647FF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3C9-A024-4069-B5BD-812ECDCB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F337-9BF0-4565-ABFB-3A4B0BBC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124D-2ABE-4E4D-9BC7-A9AC906F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D21E-57C4-4209-9D44-E89AEE30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ACE4-65C9-43B1-847F-BCF9A309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A6DD-3D70-48D4-B4D3-E10BD100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50A-7D71-499A-B42E-99F98B1D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AD8-4537-46CE-9869-AB0C5838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AB5-978E-4411-802F-F89EE004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CBF-12EB-49D4-973F-6ED983A7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758-7590-4FB4-B6CA-579C05CF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2EF-D769-42F9-923C-CCE11048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108-6CCA-4EBC-94DF-027F4FB7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04BF-B331-4E72-B8CE-8A8EAB7613E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BD41-831C-4B7A-B430-6F0284B17BF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остюхин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ветлана Николаев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Рисунок 4" descr="DSCN4978.jpg"/>
          <p:cNvPicPr/>
          <p:nvPr/>
        </p:nvPicPr>
        <p:blipFill>
          <a:blip r:embed="rId2"/>
          <a:stretch/>
        </p:blipFill>
        <p:spPr>
          <a:xfrm>
            <a:off x="214200" y="214200"/>
            <a:ext cx="2357640" cy="2786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31431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4286160" y="3571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Рисунок 6" descr="PH01046J.JPG"/>
          <p:cNvPicPr/>
          <p:nvPr/>
        </p:nvPicPr>
        <p:blipFill>
          <a:blip r:embed="rId3"/>
          <a:stretch/>
        </p:blipFill>
        <p:spPr>
          <a:xfrm>
            <a:off x="714240" y="4357800"/>
            <a:ext cx="14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61128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63480" y="272880"/>
            <a:ext cx="78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селение и хозяйственное осво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787400"/>
            <a:ext cx="9169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кова плотность населения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2. Где располагаются очаги его концент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3. Почему для района характерна высокая дол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ельского насел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 Докажите, что район отличается от друг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этническим разнообраз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 Основные религии, которые исповедуе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населени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6. Межнациональные проблемы район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х причи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7. Народы гор и предгорий: традиции, культур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ромысл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735120" y="22068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Хозяйство 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40080" y="1281240"/>
            <a:ext cx="61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Агропромышленный комплекс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1773360"/>
            <a:ext cx="86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 на основе работы с текстом учебни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§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  <a:ea typeface="Tahoma"/>
              </a:rPr>
              <a:t> 37 стр.160 и картой атласа, заполните таблиц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2852640"/>
          <a:ext cx="8898120" cy="2651400"/>
        </p:xfrm>
        <a:graphic>
          <a:graphicData uri="http://schemas.openxmlformats.org/drawingml/2006/table">
            <a:tbl>
              <a:tblPr/>
              <a:tblGrid>
                <a:gridCol w="2376720"/>
                <a:gridCol w="2211120"/>
                <a:gridCol w="2292480"/>
                <a:gridCol w="20178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тение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вотно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щ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45"/>
          <p:cNvSpPr/>
          <p:nvPr/>
        </p:nvSpPr>
        <p:spPr>
          <a:xfrm>
            <a:off x="204480" y="5529240"/>
            <a:ext cx="77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делайте вывод о месте сельского хозяйства 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экономик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826920" y="1928880"/>
            <a:ext cx="836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очему в районе необходима интенсификац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ельского хозяйства и перерабатывающ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траслей АПК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 чем состоит проблема развития мор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рыбного хозяйств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239840" y="4046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азвитие промышлен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79960" y="920880"/>
            <a:ext cx="77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На основе работы с текстом учебника стр. 162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ртами атласа, заполните таблиц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2492280"/>
          <a:ext cx="8424720" cy="30704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ро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сурсы райо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асли специа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34"/>
          <p:cNvSpPr/>
          <p:nvPr/>
        </p:nvSpPr>
        <p:spPr>
          <a:xfrm>
            <a:off x="376200" y="5602320"/>
            <a:ext cx="84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Сделайте вывод о месте промышленности в  экономик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345680" y="581040"/>
            <a:ext cx="7160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Машиностро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а) сельскохозяйствен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б) транспорт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) энергетическ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Цветная металлург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Топливно-энергетический комплек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Какова роль черноморских портов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развитии хозяйства страны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421280" y="652320"/>
            <a:ext cx="66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креационное хозяйств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55640" y="2060640"/>
            <a:ext cx="9680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 вы сотрудник турагент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кие маршруты путешествий по Северном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вказу вы предложили бы с целью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А) отдыха и ле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Б) горнолыжного спор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) познавательного туризма и знакомст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 памятниками приро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оставьте примерные схемы маршрутов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х опис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4435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5472360" cy="3648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rcRect l="0" t="0" r="21" b="20"/>
          <a:stretch/>
        </p:blipFill>
        <p:spPr>
          <a:xfrm>
            <a:off x="179280" y="189000"/>
            <a:ext cx="4824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4619520" y="260280"/>
            <a:ext cx="4205520" cy="630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20516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755640" y="1084320"/>
            <a:ext cx="8863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тветьте на вопро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Какие отрасли являются главными 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хозяйстве рай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 чем проявляются сложности в реше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оциально-экономических проблем республик Северного Кавказ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Основные экономические, социальные и экологические проблемы реги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1071720" y="1785960"/>
            <a:ext cx="69548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вропейский Ю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375920" y="652320"/>
            <a:ext cx="73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цените свою деятельность на уро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900000" y="2205000"/>
            <a:ext cx="77043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Вспомните задачи сегодняшне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                              </a:t>
            </a: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Сегодня на уроке мне было 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Знания, полученные на уроке, мне пригодятся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Сегодня я…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Мне было легко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Мне было сложно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О том, что я узнал (а), я расскажу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116000" y="1281240"/>
            <a:ext cx="787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1. Прочитать текст учебника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§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 3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2. Подготовиться к тесту по изученной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08000" y="333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«Визитная карточка» экономическог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0" t="0" r="-25" b="-19"/>
          <a:stretch/>
        </p:blipFill>
        <p:spPr>
          <a:xfrm>
            <a:off x="2214720" y="928800"/>
            <a:ext cx="4475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288800" y="333360"/>
            <a:ext cx="70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став экономического рай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174320" y="1357200"/>
            <a:ext cx="796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Задание: на основе работы с картой атла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установите какие субъекты РФ входят 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состав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Информацию сверните в схем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Organization Chart 7"/>
          <p:cNvGrpSpPr/>
          <p:nvPr/>
        </p:nvGrpSpPr>
        <p:grpSpPr>
          <a:xfrm>
            <a:off x="468360" y="3284640"/>
            <a:ext cx="8280000" cy="1872360"/>
            <a:chOff x="468360" y="3284640"/>
            <a:chExt cx="8280000" cy="1872360"/>
          </a:xfrm>
        </p:grpSpPr>
        <p:cxnSp>
          <p:nvCxnSpPr>
            <p:cNvPr id="112" name="_s1028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869800" y="2770920"/>
              <a:ext cx="375120" cy="2898720"/>
            </a:xfrm>
            <a:prstGeom prst="bentConnector3">
              <a:avLst>
                <a:gd name="adj1" fmla="val 20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2"/>
            </p:cNvCxnSpPr>
            <p:nvPr/>
          </p:nvCxnSpPr>
          <p:spPr>
            <a:xfrm flipV="1">
              <a:off x="4608000" y="4033080"/>
              <a:ext cx="3240" cy="37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2971800" y="2771280"/>
              <a:ext cx="375120" cy="2898720"/>
            </a:xfrm>
            <a:prstGeom prst="bentConnector3">
              <a:avLst>
                <a:gd name="adj1" fmla="val 20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1031"/>
            <p:cNvSpPr/>
            <p:nvPr/>
          </p:nvSpPr>
          <p:spPr>
            <a:xfrm>
              <a:off x="3366360" y="328464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Европейский ЮГ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68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Области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3"/>
            <p:cNvSpPr/>
            <p:nvPr/>
          </p:nvSpPr>
          <p:spPr>
            <a:xfrm>
              <a:off x="3366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Края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6264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Республики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" name="Text Box 16"/>
          <p:cNvSpPr/>
          <p:nvPr/>
        </p:nvSpPr>
        <p:spPr>
          <a:xfrm>
            <a:off x="471960" y="5533920"/>
            <a:ext cx="80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делайте вывод об особенностях состав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экономическог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rcRect l="0" t="0" r="-43" b="102"/>
          <a:stretch/>
        </p:blipFill>
        <p:spPr>
          <a:xfrm>
            <a:off x="1258920" y="549360"/>
            <a:ext cx="74167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7240" y="963720"/>
            <a:ext cx="72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акторы формирования рай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92200" y="2421000"/>
            <a:ext cx="837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амый Южный район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 трех сторон ограничен природными рубеж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лияние морей на природу и хозяйствен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собенности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Наиболее существенное влияние Черного мор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Геополитические интересы РФ на Северно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вказ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6.Природный амфитеат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564560" y="26028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рода 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16000" y="1413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Дайте характеристику особенностей природы Европейского Юга для жизни и хозяйственной 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398960" y="8366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Organization Chart 8"/>
          <p:cNvGrpSpPr/>
          <p:nvPr/>
        </p:nvGrpSpPr>
        <p:grpSpPr>
          <a:xfrm>
            <a:off x="179280" y="3068640"/>
            <a:ext cx="8785080" cy="1655280"/>
            <a:chOff x="179280" y="3068640"/>
            <a:chExt cx="8785080" cy="1655280"/>
          </a:xfrm>
        </p:grpSpPr>
        <p:cxnSp>
          <p:nvCxnSpPr>
            <p:cNvPr id="127" name="_s2052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6113880" y="2187000"/>
              <a:ext cx="331560" cy="341712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3"/>
            <p:cNvCxnSpPr>
              <a:stCxn id="131" idx="0"/>
              <a:endCxn id="129" idx="2"/>
            </p:cNvCxnSpPr>
            <p:nvPr/>
          </p:nvCxnSpPr>
          <p:spPr>
            <a:xfrm flipV="1" rot="16200000">
              <a:off x="4975200" y="3325680"/>
              <a:ext cx="331560" cy="113976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4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3837600" y="3327120"/>
              <a:ext cx="331560" cy="113724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5"/>
            <p:cNvCxnSpPr>
              <a:stCxn id="135" idx="0"/>
              <a:endCxn id="129" idx="2"/>
            </p:cNvCxnSpPr>
            <p:nvPr/>
          </p:nvCxnSpPr>
          <p:spPr>
            <a:xfrm flipH="1" flipV="1" rot="5400000">
              <a:off x="2697480" y="2187360"/>
              <a:ext cx="331560" cy="341676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056"/>
            <p:cNvSpPr/>
            <p:nvPr/>
          </p:nvSpPr>
          <p:spPr>
            <a:xfrm>
              <a:off x="3595320" y="306864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рирод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2057"/>
            <p:cNvSpPr/>
            <p:nvPr/>
          </p:nvSpPr>
          <p:spPr>
            <a:xfrm>
              <a:off x="17928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Рельеф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_s2058"/>
            <p:cNvSpPr/>
            <p:nvPr/>
          </p:nvSpPr>
          <p:spPr>
            <a:xfrm>
              <a:off x="245664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лима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_s2059"/>
            <p:cNvSpPr/>
            <p:nvPr/>
          </p:nvSpPr>
          <p:spPr>
            <a:xfrm>
              <a:off x="473436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Реки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7012080" y="4061880"/>
              <a:ext cx="1952280" cy="6598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Высотная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оясность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Text Box 23"/>
          <p:cNvSpPr/>
          <p:nvPr/>
        </p:nvSpPr>
        <p:spPr>
          <a:xfrm>
            <a:off x="179280" y="5025960"/>
            <a:ext cx="947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Каковы различия по рельефу, климату, гидрографии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ландшафтам и набору природных ресурсов равнинно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предгорной и горной частей район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rcRect l="0" t="0" r="32" b="32"/>
          <a:stretch/>
        </p:blipFill>
        <p:spPr>
          <a:xfrm>
            <a:off x="755640" y="333360"/>
            <a:ext cx="7777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rcRect l="0" t="0" r="38" b="63"/>
          <a:stretch/>
        </p:blipFill>
        <p:spPr>
          <a:xfrm>
            <a:off x="250920" y="981000"/>
            <a:ext cx="856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9:20:00Z</dcterms:created>
  <dc:creator>user</dc:creator>
  <dc:description/>
  <dc:language>en-US</dc:language>
  <cp:lastModifiedBy>User</cp:lastModifiedBy>
  <dcterms:modified xsi:type="dcterms:W3CDTF">2011-09-25T16:45:3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d0000000000010250300207f7000400038000</vt:lpwstr>
  </property>
</Properties>
</file>