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FAD-4511-446C-B530-2815D32A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424-7A67-460E-8722-1969BDAB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B44-C001-492D-A9C6-D00ECA09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867-7479-4C0B-8A64-EDAE798C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6773-33DF-422C-AB49-0E192ECB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35DA-79E4-4BD3-8557-794B9E69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E7E7-661B-404D-B2B7-891D9348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C2EC-0A0F-4DA3-8652-AA467E75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3F2B-183F-4838-86ED-7ADA5F58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A562-04E3-413F-8C84-36257226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A7FA-289F-4D18-BDFF-AA7EAB2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8BB-CBD0-456F-ADEE-4F6557B4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F62A-F53D-4671-93DD-1252779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8DD3-DFA4-404A-ACF4-B1FBAAD7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6BFC-7A60-4DC4-A8EA-29098CC4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C275-9309-4E1B-9196-66B2265A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1DFC-1521-4001-9A1B-84600EFB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8F1-C837-4BB7-A302-C71D1026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BD8-D50A-44CC-BBC2-0E6C0A16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0A1-7504-44CA-8C9D-BBEDAE41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654-42A4-4DF5-90FA-73BC9F7D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CBC-6687-4129-B6F6-9440AD0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495-46E7-4184-B444-B3A7EAD4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FF2-F37C-420B-9C78-02B83A0F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EB1E-A4C4-4CAA-9FFE-F80B92E3A13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F545-5EDF-4BEF-934F-65D0C7C4C0B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остюхин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ветлана Николаев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Рисунок 4" descr="DSCN4978.jpg"/>
          <p:cNvPicPr/>
          <p:nvPr/>
        </p:nvPicPr>
        <p:blipFill>
          <a:blip r:embed="rId2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Рисунок 6" descr="PH01046J.JPG"/>
          <p:cNvPicPr/>
          <p:nvPr/>
        </p:nvPicPr>
        <p:blipFill>
          <a:blip r:embed="rId3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61128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63480" y="272880"/>
            <a:ext cx="78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селение и хозяйственное осво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787400"/>
            <a:ext cx="9169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ова плотность населения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2. Где располагаются очаги его концент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3. Почему для района характерна высокая дол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насел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 Докажите, что район отличается от друг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тническим разнообраз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 Основные религии, которые исповеду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селени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 Межнациональные проблемы район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причи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7. Народы гор и предгорий: традиции, культур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ромысл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35120" y="22068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Хозяйство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40080" y="1281240"/>
            <a:ext cx="61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Агропромышленный комплекс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177336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на основе работы с текстом учебни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  <a:ea typeface="Tahoma"/>
              </a:rPr>
              <a:t> 37 стр.160 и картой атласа, заполните таблиц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2852640"/>
          <a:ext cx="8898120" cy="2651400"/>
        </p:xfrm>
        <a:graphic>
          <a:graphicData uri="http://schemas.openxmlformats.org/drawingml/2006/table">
            <a:tbl>
              <a:tblPr/>
              <a:tblGrid>
                <a:gridCol w="2376720"/>
                <a:gridCol w="2211120"/>
                <a:gridCol w="2292480"/>
                <a:gridCol w="20178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тение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вотно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щ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5"/>
          <p:cNvSpPr/>
          <p:nvPr/>
        </p:nvSpPr>
        <p:spPr>
          <a:xfrm>
            <a:off x="204480" y="5529240"/>
            <a:ext cx="77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сельского хозяйства 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826920" y="1928880"/>
            <a:ext cx="836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очему в районе необходима интенсификац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хозяйства и перерабатывающ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траслей АПК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 чем состоит проблема развития мор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рыбного хозяйств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239840" y="4046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азвитие промышле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79960" y="9208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 основе работы с текстом учебника стр. 162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ртами атласа, заполните таблиц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2492280"/>
          <a:ext cx="8424720" cy="30704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ро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сурсы рай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сли специа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34"/>
          <p:cNvSpPr/>
          <p:nvPr/>
        </p:nvSpPr>
        <p:spPr>
          <a:xfrm>
            <a:off x="376200" y="5602320"/>
            <a:ext cx="84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промышленности в  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345680" y="581040"/>
            <a:ext cx="716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Машиностро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а) сельскохозяйствен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б) транспорт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) энергетическ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Цветная металлург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Топливно-энергетический комплек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ова роль черноморских портов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развитии хозяйства страны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421280" y="652320"/>
            <a:ext cx="66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креационное хозяйств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55640" y="2060640"/>
            <a:ext cx="9680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вы сотрудник турагент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ие маршруты путешествий по Северном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у вы предложили бы с целью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А) отдыха и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Б) горнолыжного спор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) познавательного туризма и знакомст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памятниками приро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оставьте примерные схемы маршрутов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опис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4435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5472360" cy="3648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0" t="0" r="21" b="20"/>
          <a:stretch/>
        </p:blipFill>
        <p:spPr>
          <a:xfrm>
            <a:off x="179280" y="189000"/>
            <a:ext cx="4824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4619520" y="260280"/>
            <a:ext cx="4205520" cy="630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20516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755640" y="1084320"/>
            <a:ext cx="8863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тветьте на вопро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ие отрасли являются главными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хозяйстве рай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 чем проявляются сложности в реше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оциально-экономических проблем республик Северного Кавказ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Основные экономические, социальные и экологические проблемы реги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1071720" y="1785960"/>
            <a:ext cx="69548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вропейский Ю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375920" y="652320"/>
            <a:ext cx="73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цените свою деятельность на уро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900000" y="2205000"/>
            <a:ext cx="77043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Вспомните задачи сегодняшне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                      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на уроке мне было 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нания, полученные на уроке, мне пригодятся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я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легк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сложн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О том, что я узнал (а), я расскажу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116000" y="1281240"/>
            <a:ext cx="787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1. Прочитать текст учебника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3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2. Подготовиться к тесту по изученной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08000" y="333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«Визитная карточка» 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0" t="0" r="-25" b="-19"/>
          <a:stretch/>
        </p:blipFill>
        <p:spPr>
          <a:xfrm>
            <a:off x="2214720" y="928800"/>
            <a:ext cx="4475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288800" y="333360"/>
            <a:ext cx="70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став экономического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74320" y="1357200"/>
            <a:ext cx="796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Задание: на основе работы с картой атла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установите какие субъекты РФ входят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состав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Информацию сверните в схе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Organization Chart 7"/>
          <p:cNvGrpSpPr/>
          <p:nvPr/>
        </p:nvGrpSpPr>
        <p:grpSpPr>
          <a:xfrm>
            <a:off x="468360" y="3284640"/>
            <a:ext cx="8280000" cy="1872360"/>
            <a:chOff x="468360" y="3284640"/>
            <a:chExt cx="8280000" cy="1872360"/>
          </a:xfrm>
        </p:grpSpPr>
        <p:cxnSp>
          <p:nvCxnSpPr>
            <p:cNvPr id="112" name="_s1028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869800" y="277092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2"/>
            </p:cNvCxnSpPr>
            <p:nvPr/>
          </p:nvCxnSpPr>
          <p:spPr>
            <a:xfrm flipV="1">
              <a:off x="4608000" y="4033080"/>
              <a:ext cx="3240" cy="37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2971800" y="277128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1031"/>
            <p:cNvSpPr/>
            <p:nvPr/>
          </p:nvSpPr>
          <p:spPr>
            <a:xfrm>
              <a:off x="3366360" y="328464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Европейский ЮГ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68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бласт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3"/>
            <p:cNvSpPr/>
            <p:nvPr/>
          </p:nvSpPr>
          <p:spPr>
            <a:xfrm>
              <a:off x="3366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Края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6264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Республик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" name="Text Box 16"/>
          <p:cNvSpPr/>
          <p:nvPr/>
        </p:nvSpPr>
        <p:spPr>
          <a:xfrm>
            <a:off x="471960" y="5533920"/>
            <a:ext cx="80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делайте вывод об особенностях состав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rcRect l="0" t="0" r="-43" b="102"/>
          <a:stretch/>
        </p:blipFill>
        <p:spPr>
          <a:xfrm>
            <a:off x="1258920" y="549360"/>
            <a:ext cx="74167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7240" y="963720"/>
            <a:ext cx="72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акторы формирования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92200" y="2421000"/>
            <a:ext cx="837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амый Южный район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трех сторон ограничен природными рубеж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лияние морей на природу и хозяйствен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собенности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Наиболее существенное влияние Черного мо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Геополитические интересы РФ на Северно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Природный амфитеат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564560" y="26028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рода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16000" y="1413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Дайте характеристику особенностей природы Европейского Юга для жизни и хозяйственной 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398960" y="8366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Organization Chart 8"/>
          <p:cNvGrpSpPr/>
          <p:nvPr/>
        </p:nvGrpSpPr>
        <p:grpSpPr>
          <a:xfrm>
            <a:off x="179280" y="3068640"/>
            <a:ext cx="8785080" cy="1655280"/>
            <a:chOff x="179280" y="3068640"/>
            <a:chExt cx="8785080" cy="1655280"/>
          </a:xfrm>
        </p:grpSpPr>
        <p:cxnSp>
          <p:nvCxnSpPr>
            <p:cNvPr id="127" name="_s2052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6113880" y="2187000"/>
              <a:ext cx="331560" cy="341712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3"/>
            <p:cNvCxnSpPr>
              <a:stCxn id="131" idx="0"/>
              <a:endCxn id="129" idx="2"/>
            </p:cNvCxnSpPr>
            <p:nvPr/>
          </p:nvCxnSpPr>
          <p:spPr>
            <a:xfrm flipV="1" rot="16200000">
              <a:off x="4975200" y="3325680"/>
              <a:ext cx="331560" cy="1139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4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3837600" y="3327120"/>
              <a:ext cx="331560" cy="113724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5"/>
            <p:cNvCxnSpPr>
              <a:stCxn id="135" idx="0"/>
              <a:endCxn id="129" idx="2"/>
            </p:cNvCxnSpPr>
            <p:nvPr/>
          </p:nvCxnSpPr>
          <p:spPr>
            <a:xfrm flipH="1" flipV="1" rot="5400000">
              <a:off x="2697480" y="2187360"/>
              <a:ext cx="331560" cy="3416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056"/>
            <p:cNvSpPr/>
            <p:nvPr/>
          </p:nvSpPr>
          <p:spPr>
            <a:xfrm>
              <a:off x="3595320" y="306864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рирод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2057"/>
            <p:cNvSpPr/>
            <p:nvPr/>
          </p:nvSpPr>
          <p:spPr>
            <a:xfrm>
              <a:off x="17928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льеф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_s2058"/>
            <p:cNvSpPr/>
            <p:nvPr/>
          </p:nvSpPr>
          <p:spPr>
            <a:xfrm>
              <a:off x="245664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лима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_s2059"/>
            <p:cNvSpPr/>
            <p:nvPr/>
          </p:nvSpPr>
          <p:spPr>
            <a:xfrm>
              <a:off x="473436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ки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7012080" y="4061880"/>
              <a:ext cx="1952280" cy="6598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ысотная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оясность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Text Box 23"/>
          <p:cNvSpPr/>
          <p:nvPr/>
        </p:nvSpPr>
        <p:spPr>
          <a:xfrm>
            <a:off x="179280" y="5025960"/>
            <a:ext cx="947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Каковы различия по рельефу, климату, гидрографии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ландшафтам и набору природных ресурсов равнинно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предгорной и горной частей район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rcRect l="0" t="0" r="32" b="32"/>
          <a:stretch/>
        </p:blipFill>
        <p:spPr>
          <a:xfrm>
            <a:off x="755640" y="333360"/>
            <a:ext cx="7777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rcRect l="0" t="0" r="38" b="63"/>
          <a:stretch/>
        </p:blipFill>
        <p:spPr>
          <a:xfrm>
            <a:off x="250920" y="981000"/>
            <a:ext cx="856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9:20:00Z</dcterms:created>
  <dc:creator>user</dc:creator>
  <dc:description/>
  <dc:language>en-US</dc:language>
  <cp:lastModifiedBy>User</cp:lastModifiedBy>
  <dcterms:modified xsi:type="dcterms:W3CDTF">2011-09-25T16:45:3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d0000000000010250300207f7000400038000</vt:lpwstr>
  </property>
</Properties>
</file>