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76FA-E4B4-4FE8-8419-723AF85E4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61BA-0A76-4394-B2F5-FC737683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E620-2C1C-43DC-A973-F1CC20658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4684-BEA1-4066-8CC5-EA3A82EAE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7CA3-6086-4580-87BB-D2B5E6EE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30B6-1E26-49DF-9626-09053822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BD86-8E04-421F-9997-F3CB584B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0C7F-5C91-4672-BE78-277DD7A9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F1D7-8558-4D73-AC5A-9EC2A60D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0622-F502-47BF-922B-B89CA878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A18C-E7A5-472B-B528-C90063C1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A2CB-EE83-408D-B35C-DFB0EE3A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3B65-6E89-44A6-A0B2-2C424654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DBDE-D379-4DB0-B60C-678B6B86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4D07-D209-45B0-983A-537518D5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858F-3018-4557-B2A3-53857C9FE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3043-EDBA-4ED6-9D32-BA5636E68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767B-5BA2-4D35-BC6A-237E52AA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D462-9B47-4D09-981D-D4C56DBF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3056-9B78-40B0-879A-228B6A29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53A1-4A82-4E07-B8B8-0E7291FE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483D-B398-4EBA-BE3E-5BC85F65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AAA5-3665-4094-8E3E-911AED15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B6EE-759A-4415-917A-8ACDCC38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6F45-615F-461A-9CD1-0B354B378F9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8727-49B3-4DB7-9280-919B50818990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28960" y="1856880"/>
            <a:ext cx="621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Гостюхина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ветлана Николаевн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Рисунок 4" descr="DSCN4978.jpg"/>
          <p:cNvPicPr/>
          <p:nvPr/>
        </p:nvPicPr>
        <p:blipFill>
          <a:blip r:embed="rId2"/>
          <a:stretch/>
        </p:blipFill>
        <p:spPr>
          <a:xfrm>
            <a:off x="214200" y="214200"/>
            <a:ext cx="2357640" cy="278604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5"/>
          <p:cNvSpPr/>
          <p:nvPr/>
        </p:nvSpPr>
        <p:spPr>
          <a:xfrm>
            <a:off x="3143160" y="214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КОУ СОШ с УИОП г. Кирс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ровской област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Прямоугольник 6"/>
          <p:cNvSpPr/>
          <p:nvPr/>
        </p:nvSpPr>
        <p:spPr>
          <a:xfrm>
            <a:off x="4286160" y="357192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географ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шей категор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бедитель конкурса лучших учителей Кировской области и Российской Федерации ПНП  «Образование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ж педагогической работы  34 год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Рисунок 6" descr="PH01046J.JPG"/>
          <p:cNvPicPr/>
          <p:nvPr/>
        </p:nvPicPr>
        <p:blipFill>
          <a:blip r:embed="rId3"/>
          <a:stretch/>
        </p:blipFill>
        <p:spPr>
          <a:xfrm>
            <a:off x="714240" y="4357800"/>
            <a:ext cx="1428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611280" y="33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63480" y="272880"/>
            <a:ext cx="786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Население и хозяйственное освоен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Европейского Юг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395280" y="1787400"/>
            <a:ext cx="9169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Какова плотность населения район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2. Где располагаются очаги его концентрац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3. Почему для района характерна высокая доля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сельского населения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4. Докажите, что район отличается от други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этническим разнообразие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5. Основные религии, которые исповедует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население Европейского Юг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6. Межнациональные проблемы района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их причин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7. Народы гор и предгорий: традиции, культура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промысл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735120" y="220680"/>
            <a:ext cx="76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Хозяйство Европейского Юг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540080" y="1281240"/>
            <a:ext cx="61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Агропромышленный комплекс район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755640" y="1773360"/>
            <a:ext cx="869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Задание: на основе работы с текстом учебника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Tahoma"/>
              </a:rPr>
              <a:t>§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  <a:ea typeface="Tahoma"/>
              </a:rPr>
              <a:t> 37 стр.160 и картой атласа, заполните таблицу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9280" y="2852640"/>
          <a:ext cx="8898120" cy="2651400"/>
        </p:xfrm>
        <a:graphic>
          <a:graphicData uri="http://schemas.openxmlformats.org/drawingml/2006/table">
            <a:tbl>
              <a:tblPr/>
              <a:tblGrid>
                <a:gridCol w="2376720"/>
                <a:gridCol w="2211120"/>
                <a:gridCol w="2292480"/>
                <a:gridCol w="201780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тениевод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ивотновод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ище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мышл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т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Text Box 45"/>
          <p:cNvSpPr/>
          <p:nvPr/>
        </p:nvSpPr>
        <p:spPr>
          <a:xfrm>
            <a:off x="204480" y="5529240"/>
            <a:ext cx="777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Сделайте вывод о месте сельского хозяйства 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экономике Европейского Юг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826920" y="1928880"/>
            <a:ext cx="836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Почему в районе необходима интенсификац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сельского хозяйства и перерабатывающи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отраслей АПК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В чем состоит проблема развития морско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рыбного хозяйства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1239840" y="404640"/>
            <a:ext cx="71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Развитие промышленност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479960" y="920880"/>
            <a:ext cx="774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На основе работы с текстом учебника стр. 162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картами атласа, заполните таблиц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95280" y="2492280"/>
          <a:ext cx="8424720" cy="307044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род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сурсы район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расли специализ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тр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34"/>
          <p:cNvSpPr/>
          <p:nvPr/>
        </p:nvSpPr>
        <p:spPr>
          <a:xfrm>
            <a:off x="376200" y="5602320"/>
            <a:ext cx="84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ahoma"/>
              </a:rPr>
              <a:t>Сделайте вывод о месте промышленности в  экономике Европейского Юг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1345680" y="581040"/>
            <a:ext cx="7160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Машиностроени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              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а) сельскохозяйственно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              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б) транспортно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              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в) энергетическо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Цветная металлург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Топливно-энергетический комплекс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Какова роль черноморских портов 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развитии хозяйства страны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1421280" y="652320"/>
            <a:ext cx="66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Рекреационное хозяйство район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755640" y="2060640"/>
            <a:ext cx="9680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Задание: вы сотрудник турагентст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Какие маршруты путешествий по Северному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Кавказу вы предложили бы с целью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А) отдыха и лече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Б) горнолыжного спор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В) познавательного туризма и знакомств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с памятниками природ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Составьте примерные схемы маршрутов 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их опис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5184720" cy="3456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3564000" y="2997360"/>
            <a:ext cx="544356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3492360" y="3068640"/>
            <a:ext cx="5472360" cy="3648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2"/>
          <a:srcRect l="0" t="0" r="21" b="20"/>
          <a:stretch/>
        </p:blipFill>
        <p:spPr>
          <a:xfrm>
            <a:off x="179280" y="189000"/>
            <a:ext cx="48243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4619520" y="260280"/>
            <a:ext cx="4205520" cy="6307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205160" cy="63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755640" y="1084320"/>
            <a:ext cx="8863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Ответьте на вопрос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Какие отрасли являются главными в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хозяйстве район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Почему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В чем проявляются сложности в решен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социально-экономических проблем республик Северного Кавказ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Основные экономические, социальные и экологические проблемы регион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WordArt 6"/>
          <p:cNvSpPr txBox="1"/>
          <p:nvPr/>
        </p:nvSpPr>
        <p:spPr>
          <a:xfrm>
            <a:off x="1071720" y="1785960"/>
            <a:ext cx="695484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вропейский Юг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1375920" y="652320"/>
            <a:ext cx="73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Оцените свою деятельность на урок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900000" y="2205000"/>
            <a:ext cx="770436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Вспомните задачи сегодняшне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                              </a:t>
            </a: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занят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Сегодня на уроке мне было …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Знания, полученные на уроке, мне пригодятся…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Сегодня я…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Мне было легко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Мне было сложно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ahoma"/>
              </a:rPr>
              <a:t>О том, что я узнал (а), я расскажу…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1116000" y="1281240"/>
            <a:ext cx="7872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1. Прочитать текст учебника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§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  <a:ea typeface="Tahoma"/>
              </a:rPr>
              <a:t> 37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  <a:ea typeface="Tahoma"/>
              </a:rPr>
              <a:t>2. Подготовиться к тесту по изученной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  <a:ea typeface="Tahoma"/>
              </a:rPr>
              <a:t>    </a:t>
            </a:r>
            <a:r>
              <a:rPr b="1" lang="ru-RU" sz="2800" spc="-1" strike="noStrike">
                <a:solidFill>
                  <a:srgbClr val="3333cc"/>
                </a:solidFill>
                <a:latin typeface="Tahoma"/>
                <a:ea typeface="Tahoma"/>
              </a:rPr>
              <a:t>тем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108000" y="333360"/>
            <a:ext cx="90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«Визитная карточка» экономического район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rcRect l="0" t="0" r="-25" b="-19"/>
          <a:stretch/>
        </p:blipFill>
        <p:spPr>
          <a:xfrm>
            <a:off x="2214720" y="928800"/>
            <a:ext cx="44751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1288800" y="333360"/>
            <a:ext cx="704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Состав экономического район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174320" y="1357200"/>
            <a:ext cx="796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ahoma"/>
              </a:rPr>
              <a:t>Задание: на основе работы с картой атлас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ahoma"/>
              </a:rPr>
              <a:t>установите какие субъекты РФ входят в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ahoma"/>
              </a:rPr>
              <a:t>состав район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ahoma"/>
              </a:rPr>
              <a:t>Информацию сверните в схем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1" name="Organization Chart 7"/>
          <p:cNvGrpSpPr/>
          <p:nvPr/>
        </p:nvGrpSpPr>
        <p:grpSpPr>
          <a:xfrm>
            <a:off x="468360" y="3284640"/>
            <a:ext cx="8280000" cy="1872360"/>
            <a:chOff x="468360" y="3284640"/>
            <a:chExt cx="8280000" cy="1872360"/>
          </a:xfrm>
        </p:grpSpPr>
        <p:cxnSp>
          <p:nvCxnSpPr>
            <p:cNvPr id="112" name="_s1028"/>
            <p:cNvCxnSpPr>
              <a:stCxn id="113" idx="0"/>
              <a:endCxn id="114" idx="2"/>
            </p:cNvCxnSpPr>
            <p:nvPr/>
          </p:nvCxnSpPr>
          <p:spPr>
            <a:xfrm flipV="1" rot="16200000">
              <a:off x="5869800" y="2770920"/>
              <a:ext cx="375120" cy="2898720"/>
            </a:xfrm>
            <a:prstGeom prst="bentConnector3">
              <a:avLst>
                <a:gd name="adj1" fmla="val 208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1029"/>
            <p:cNvCxnSpPr>
              <a:stCxn id="116" idx="0"/>
              <a:endCxn id="114" idx="2"/>
            </p:cNvCxnSpPr>
            <p:nvPr/>
          </p:nvCxnSpPr>
          <p:spPr>
            <a:xfrm flipV="1">
              <a:off x="4608000" y="4033080"/>
              <a:ext cx="3240" cy="37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1030"/>
            <p:cNvCxnSpPr>
              <a:stCxn id="118" idx="0"/>
              <a:endCxn id="114" idx="2"/>
            </p:cNvCxnSpPr>
            <p:nvPr/>
          </p:nvCxnSpPr>
          <p:spPr>
            <a:xfrm flipH="1" flipV="1" rot="5400000">
              <a:off x="2971800" y="2771280"/>
              <a:ext cx="375120" cy="2898720"/>
            </a:xfrm>
            <a:prstGeom prst="bentConnector3">
              <a:avLst>
                <a:gd name="adj1" fmla="val 208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4" name="_s1031"/>
            <p:cNvSpPr/>
            <p:nvPr/>
          </p:nvSpPr>
          <p:spPr>
            <a:xfrm>
              <a:off x="3366360" y="3284640"/>
              <a:ext cx="2484000" cy="7488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ahoma"/>
                </a:rPr>
                <a:t>Европейский ЮГ.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_s1032"/>
            <p:cNvSpPr/>
            <p:nvPr/>
          </p:nvSpPr>
          <p:spPr>
            <a:xfrm>
              <a:off x="468360" y="4408200"/>
              <a:ext cx="2484000" cy="7488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ahoma"/>
                </a:rPr>
                <a:t>Области.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_s1033"/>
            <p:cNvSpPr/>
            <p:nvPr/>
          </p:nvSpPr>
          <p:spPr>
            <a:xfrm>
              <a:off x="3366360" y="4408200"/>
              <a:ext cx="2484000" cy="7488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ahoma"/>
                </a:rPr>
                <a:t>Края.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_s1034"/>
            <p:cNvSpPr/>
            <p:nvPr/>
          </p:nvSpPr>
          <p:spPr>
            <a:xfrm>
              <a:off x="6264360" y="4408200"/>
              <a:ext cx="2484000" cy="7488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ahoma"/>
                </a:rPr>
                <a:t>Республики.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9" name="Text Box 16"/>
          <p:cNvSpPr/>
          <p:nvPr/>
        </p:nvSpPr>
        <p:spPr>
          <a:xfrm>
            <a:off x="471960" y="5533920"/>
            <a:ext cx="804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Сделайте вывод об особенностях состав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ahoma"/>
              </a:rPr>
              <a:t>экономического район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rcRect l="0" t="0" r="-43" b="102"/>
          <a:stretch/>
        </p:blipFill>
        <p:spPr>
          <a:xfrm>
            <a:off x="1258920" y="549360"/>
            <a:ext cx="741672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1407240" y="963720"/>
            <a:ext cx="728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Факторы формирования район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592200" y="2421000"/>
            <a:ext cx="8372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Самый Южный район Росс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С трех сторон ограничен природными рубеж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Влияние морей на природу и хозяйственны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особенности район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4.Наиболее существенное влияние Черного мор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5.Геополитические интересы РФ на Северно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Кавказ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6.Природный амфитеат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1564560" y="260280"/>
            <a:ext cx="54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рирода Европейского Юг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116000" y="14130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Дайте характеристику особенностей природы Европейского Юга для жизни и хозяйственной деятельности челове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398960" y="83664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Зада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6" name="Organization Chart 8"/>
          <p:cNvGrpSpPr/>
          <p:nvPr/>
        </p:nvGrpSpPr>
        <p:grpSpPr>
          <a:xfrm>
            <a:off x="179280" y="3068640"/>
            <a:ext cx="8785080" cy="1655280"/>
            <a:chOff x="179280" y="3068640"/>
            <a:chExt cx="8785080" cy="1655280"/>
          </a:xfrm>
        </p:grpSpPr>
        <p:cxnSp>
          <p:nvCxnSpPr>
            <p:cNvPr id="127" name="_s2052"/>
            <p:cNvCxnSpPr>
              <a:stCxn id="128" idx="0"/>
              <a:endCxn id="129" idx="2"/>
            </p:cNvCxnSpPr>
            <p:nvPr/>
          </p:nvCxnSpPr>
          <p:spPr>
            <a:xfrm flipV="1" rot="16200000">
              <a:off x="6113880" y="2187000"/>
              <a:ext cx="331560" cy="3417120"/>
            </a:xfrm>
            <a:prstGeom prst="bentConnector3">
              <a:avLst>
                <a:gd name="adj1" fmla="val 229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2053"/>
            <p:cNvCxnSpPr>
              <a:stCxn id="131" idx="0"/>
              <a:endCxn id="129" idx="2"/>
            </p:cNvCxnSpPr>
            <p:nvPr/>
          </p:nvCxnSpPr>
          <p:spPr>
            <a:xfrm flipV="1" rot="16200000">
              <a:off x="4975200" y="3325680"/>
              <a:ext cx="331560" cy="1139760"/>
            </a:xfrm>
            <a:prstGeom prst="bentConnector3">
              <a:avLst>
                <a:gd name="adj1" fmla="val 229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2054"/>
            <p:cNvCxnSpPr>
              <a:stCxn id="133" idx="0"/>
              <a:endCxn id="129" idx="2"/>
            </p:cNvCxnSpPr>
            <p:nvPr/>
          </p:nvCxnSpPr>
          <p:spPr>
            <a:xfrm flipH="1" flipV="1" rot="5400000">
              <a:off x="3837600" y="3327120"/>
              <a:ext cx="331560" cy="1137240"/>
            </a:xfrm>
            <a:prstGeom prst="bentConnector3">
              <a:avLst>
                <a:gd name="adj1" fmla="val 229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2055"/>
            <p:cNvCxnSpPr>
              <a:stCxn id="135" idx="0"/>
              <a:endCxn id="129" idx="2"/>
            </p:cNvCxnSpPr>
            <p:nvPr/>
          </p:nvCxnSpPr>
          <p:spPr>
            <a:xfrm flipH="1" flipV="1" rot="5400000">
              <a:off x="2697480" y="2187360"/>
              <a:ext cx="331560" cy="3416760"/>
            </a:xfrm>
            <a:prstGeom prst="bentConnector3">
              <a:avLst>
                <a:gd name="adj1" fmla="val 229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9" name="_s2056"/>
            <p:cNvSpPr/>
            <p:nvPr/>
          </p:nvSpPr>
          <p:spPr>
            <a:xfrm>
              <a:off x="3595320" y="3068640"/>
              <a:ext cx="1952280" cy="66204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Природ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_s2057"/>
            <p:cNvSpPr/>
            <p:nvPr/>
          </p:nvSpPr>
          <p:spPr>
            <a:xfrm>
              <a:off x="179280" y="4061880"/>
              <a:ext cx="1952280" cy="66204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Рельеф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_s2058"/>
            <p:cNvSpPr/>
            <p:nvPr/>
          </p:nvSpPr>
          <p:spPr>
            <a:xfrm>
              <a:off x="2456640" y="4061880"/>
              <a:ext cx="1952280" cy="66204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Климат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_s2059"/>
            <p:cNvSpPr/>
            <p:nvPr/>
          </p:nvSpPr>
          <p:spPr>
            <a:xfrm>
              <a:off x="4734360" y="4061880"/>
              <a:ext cx="1952280" cy="66204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Реки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_s2060"/>
            <p:cNvSpPr/>
            <p:nvPr/>
          </p:nvSpPr>
          <p:spPr>
            <a:xfrm>
              <a:off x="7012080" y="4061880"/>
              <a:ext cx="1952280" cy="65988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Высотная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поясность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6" name="Text Box 23"/>
          <p:cNvSpPr/>
          <p:nvPr/>
        </p:nvSpPr>
        <p:spPr>
          <a:xfrm>
            <a:off x="179280" y="5025960"/>
            <a:ext cx="947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3333cc"/>
                </a:solidFill>
                <a:latin typeface="Tahoma"/>
              </a:rPr>
              <a:t>Каковы различия по рельефу, климату, гидрографии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ahoma"/>
              </a:rPr>
              <a:t>ландшафтам и набору природных ресурсов равнинной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ahoma"/>
              </a:rPr>
              <a:t>предгорной и горной частей района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rcRect l="0" t="0" r="32" b="32"/>
          <a:stretch/>
        </p:blipFill>
        <p:spPr>
          <a:xfrm>
            <a:off x="755640" y="333360"/>
            <a:ext cx="77770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rcRect l="0" t="0" r="38" b="63"/>
          <a:stretch/>
        </p:blipFill>
        <p:spPr>
          <a:xfrm>
            <a:off x="250920" y="981000"/>
            <a:ext cx="85690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19:20:00Z</dcterms:created>
  <dc:creator>user</dc:creator>
  <dc:description/>
  <dc:language>en-US</dc:language>
  <cp:lastModifiedBy>User</cp:lastModifiedBy>
  <dcterms:modified xsi:type="dcterms:W3CDTF">2011-09-25T16:45:34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c0d0000000000010250300207f7000400038000</vt:lpwstr>
  </property>
</Properties>
</file>