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28.jpeg" ContentType="image/jpeg"/>
  <Override PartName="/ppt/media/image34.jpeg" ContentType="image/jpeg"/>
  <Override PartName="/ppt/media/image31.jpeg" ContentType="image/jpeg"/>
  <Override PartName="/ppt/media/image32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7CF-4A67-4C06-9150-14DEFEBA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0C35-978A-4527-A047-FD2B85B7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1D0-2445-41A3-ADBC-1F71183D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F4E6-0E54-411E-82E7-C60DEFD2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D17-2A95-4612-918A-C221E94B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92D-C758-4FDF-9FA4-845C9883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166-2CC6-47E2-A1AE-E3FB6F5B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8B97-353E-462A-A122-A2B48669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6DE-ABF7-4C91-88C6-BD31E6A0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BC7-C264-48F6-8C74-28CE8013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81F-FF4F-4357-98D6-9198A852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E8C-77AB-4E4C-9700-E45E5F38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007A-D29B-4AA6-A678-6977D3CDE5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Рабочий стол\угадай\Зелёный.gif"/>
          <p:cNvPicPr/>
          <p:nvPr/>
        </p:nvPicPr>
        <p:blipFill>
          <a:blip r:embed="rId3"/>
          <a:stretch/>
        </p:blipFill>
        <p:spPr>
          <a:xfrm>
            <a:off x="7500960" y="6507000"/>
            <a:ext cx="1643040" cy="35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6;&#1077;&#1095;&#1077;&#1074;&#1086;&#1081;_&#1101;&#1090;&#1080;&#1082;&#1077;&#1090;&amp;action=edit&amp;redlink=1" TargetMode="External"/><Relationship Id="rId2" Type="http://schemas.openxmlformats.org/officeDocument/2006/relationships/hyperlink" Target="http://ru.wikipedia.org/w/index.php?title=&#1057;&#1090;&#1086;&#1083;&#1086;&#1074;&#1099;&#1081;_&#1101;&#1090;&#1080;&#1082;&#1077;&#1090;&amp;action=edit&amp;redlink=1" TargetMode="External"/><Relationship Id="rId3" Type="http://schemas.openxmlformats.org/officeDocument/2006/relationships/hyperlink" Target="http://ru.wikipedia.org/w/index.php?title=&#1057;&#1074;&#1072;&#1076;&#1077;&#1073;&#1085;&#1099;&#1081;_&#1101;&#1090;&#1080;&#1082;&#1077;&#1090;&amp;action=edit&amp;redlink=1" TargetMode="External"/><Relationship Id="rId4" Type="http://schemas.openxmlformats.org/officeDocument/2006/relationships/hyperlink" Target="http://ru.wikipedia.org/w/index.php?title=&#1058;&#1088;&#1072;&#1091;&#1088;&#1085;&#1099;&#1081;_&#1101;&#1090;&#1080;&#1082;&#1077;&#1090;&amp;action=edit&amp;redlink=1" TargetMode="External"/><Relationship Id="rId5" Type="http://schemas.openxmlformats.org/officeDocument/2006/relationships/hyperlink" Target="http://ru.wikipedia.org/w/index.php?title=&#1069;&#1090;&#1080;&#1082;&#1077;&#1090;_&#171;&#1074;&#1099;&#1093;&#1086;&#1076;&#1085;&#1086;&#1075;&#1086;_&#1076;&#1085;&#1103;&#187;&amp;action=edit&amp;redlink=1" TargetMode="External"/><Relationship Id="rId6" Type="http://schemas.openxmlformats.org/officeDocument/2006/relationships/hyperlink" Target="http://ru.wikipedia.org/w/index.php?title=&#1044;&#1080;&#1087;&#1083;&#1086;&#1084;&#1072;&#1090;&#1080;&#1095;&#1077;&#1089;&#1082;&#1080;&#1081;_&#1101;&#1090;&#1080;&#1082;&#1077;&#1090;&amp;action=edit&amp;redlink=1" TargetMode="External"/><Relationship Id="rId7" Type="http://schemas.openxmlformats.org/officeDocument/2006/relationships/hyperlink" Target="http://ru.wikipedia.org/w/index.php?title=&#1055;&#1088;&#1086;&#1092;&#1077;&#1089;&#1089;&#1080;&#1086;&#1085;&#1072;&#1083;&#1100;&#1085;&#1099;&#1081;_&#1101;&#1090;&#1080;&#1082;&#1077;&#1090;&amp;action=edit&amp;redlink=1" TargetMode="External"/><Relationship Id="rId8" Type="http://schemas.openxmlformats.org/officeDocument/2006/relationships/hyperlink" Target="http://ru.wikipedia.org/w/index.php?title=&#1056;&#1077;&#1083;&#1080;&#1075;&#1080;&#1086;&#1079;&#1085;&#1099;&#1081;_&#1101;&#1090;&#1080;&#1082;&#1077;&#1090;&amp;action=edit&amp;redlink=1" TargetMode="External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 rot="21297000">
            <a:off x="3214800" y="3135240"/>
            <a:ext cx="4781520" cy="26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7030a0"/>
                </a:solidFill>
                <a:latin typeface="Cambria"/>
              </a:rPr>
              <a:t>Этикет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9" name="Picture 5" descr="C:\Users\ру.юст\Documents\Клипарты\Клипарт пейзажи\0_78910_684a155e_M.jpg"/>
          <p:cNvPicPr/>
          <p:nvPr/>
        </p:nvPicPr>
        <p:blipFill>
          <a:blip r:embed="rId1"/>
          <a:stretch/>
        </p:blipFill>
        <p:spPr>
          <a:xfrm>
            <a:off x="6012000" y="5961240"/>
            <a:ext cx="2411280" cy="896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C:\Users\ру.юст\Documents\Клипарты\Клипарт пейзажи\0_78910_684a155e_M.jpg"/>
          <p:cNvPicPr/>
          <p:nvPr/>
        </p:nvPicPr>
        <p:blipFill>
          <a:blip r:embed="rId2"/>
          <a:stretch/>
        </p:blipFill>
        <p:spPr>
          <a:xfrm>
            <a:off x="6732720" y="5961240"/>
            <a:ext cx="2411280" cy="896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:\Users\ру.юст\Documents\Клипарты\Клипарт пейзажи\0_78910_684a155e_M.jpg"/>
          <p:cNvPicPr/>
          <p:nvPr/>
        </p:nvPicPr>
        <p:blipFill>
          <a:blip r:embed="rId3"/>
          <a:stretch/>
        </p:blipFill>
        <p:spPr>
          <a:xfrm>
            <a:off x="6875640" y="5961240"/>
            <a:ext cx="2412720" cy="8967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C:\Users\ру.юст\Documents\Клипарты\Клипарты анимированые\2387216t99994h92p.gif"/>
          <p:cNvPicPr/>
          <p:nvPr/>
        </p:nvPicPr>
        <p:blipFill>
          <a:blip r:embed="rId4"/>
          <a:stretch/>
        </p:blipFill>
        <p:spPr>
          <a:xfrm>
            <a:off x="7020000" y="5516640"/>
            <a:ext cx="1285920" cy="117144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Виды этикета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Речево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толов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вадеб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раур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Этикет «выходного дня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(театральный, концертный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Дипломатически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Профессиональный этик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(воинский, медицинский, юридический, сервисный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Религиоз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жеб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ефон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http://steampunker.ru/uploads/images/4/5/5/7/391/35bd19e888.jpg"/>
          <p:cNvPicPr/>
          <p:nvPr/>
        </p:nvPicPr>
        <p:blipFill>
          <a:blip r:embed="rId1"/>
          <a:stretch/>
        </p:blipFill>
        <p:spPr>
          <a:xfrm>
            <a:off x="468360" y="1341360"/>
            <a:ext cx="7775640" cy="53276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айный этикет в Англии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Деловой этикет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8" name="Picture 2" descr="http://www.man-world.info/images/stories/deelovoi%20etiket.jpg"/>
          <p:cNvPicPr/>
          <p:nvPr/>
        </p:nvPicPr>
        <p:blipFill>
          <a:blip r:embed="rId1"/>
          <a:stretch/>
        </p:blipFill>
        <p:spPr>
          <a:xfrm>
            <a:off x="324000" y="1773360"/>
            <a:ext cx="4248000" cy="4464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http://fictionbook.ru/static/bookimages/01/70/72/01707285.bin.dir/h/i_001.jpg"/>
          <p:cNvPicPr/>
          <p:nvPr/>
        </p:nvPicPr>
        <p:blipFill>
          <a:blip r:embed="rId2"/>
          <a:stretch/>
        </p:blipFill>
        <p:spPr>
          <a:xfrm>
            <a:off x="5067360" y="1700280"/>
            <a:ext cx="36082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Речевой этикет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1" name="Picture 2" descr="http://mamaeva375.ru/wp-content/uploads/2011/07/beseda-v-sadu.jpg"/>
          <p:cNvPicPr/>
          <p:nvPr/>
        </p:nvPicPr>
        <p:blipFill>
          <a:blip r:embed="rId1"/>
          <a:stretch/>
        </p:blipFill>
        <p:spPr>
          <a:xfrm>
            <a:off x="468360" y="1341360"/>
            <a:ext cx="7775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Этикет в одежде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3" name="Picture 10" descr="http://s54.radikal.ru/i143/1103/9f/e860dc75c73a.jpg"/>
          <p:cNvPicPr/>
          <p:nvPr/>
        </p:nvPicPr>
        <p:blipFill>
          <a:blip r:embed="rId1"/>
          <a:stretch/>
        </p:blipFill>
        <p:spPr>
          <a:xfrm>
            <a:off x="1476360" y="1268280"/>
            <a:ext cx="5962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Воинская честь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79280" y="1341000"/>
            <a:ext cx="85075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окупность всех положительных качеств, присущих человеку в военной форме: мужество и храбрость, воинственность и благородство, дисциплина, сознание своего долга перед отечеством, самоотверженность, вера в свои силы, выносливость в лишениях, страдани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4" descr="http://vvaii.ru/d/30883/d/5_0.jpg"/>
          <p:cNvPicPr/>
          <p:nvPr/>
        </p:nvPicPr>
        <p:blipFill>
          <a:blip r:embed="rId1"/>
          <a:stretch/>
        </p:blipFill>
        <p:spPr>
          <a:xfrm>
            <a:off x="755640" y="3357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http://static.newsland.ru/news_images/628/big_628184.jpg"/>
          <p:cNvPicPr/>
          <p:nvPr/>
        </p:nvPicPr>
        <p:blipFill>
          <a:blip r:embed="rId2"/>
          <a:stretch/>
        </p:blipFill>
        <p:spPr>
          <a:xfrm>
            <a:off x="4716360" y="2781360"/>
            <a:ext cx="4103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Посещение церкви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9" name="Picture 2" descr="Посещение церкви"/>
          <p:cNvPicPr/>
          <p:nvPr/>
        </p:nvPicPr>
        <p:blipFill>
          <a:blip r:embed="rId1"/>
          <a:stretch/>
        </p:blipFill>
        <p:spPr>
          <a:xfrm>
            <a:off x="468360" y="1484280"/>
            <a:ext cx="3314520" cy="5040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http://vecherka.su/pics/uploads/archive2008/12_2008/15122008/7.jpg"/>
          <p:cNvPicPr/>
          <p:nvPr/>
        </p:nvPicPr>
        <p:blipFill>
          <a:blip r:embed="rId2"/>
          <a:stretch/>
        </p:blipFill>
        <p:spPr>
          <a:xfrm>
            <a:off x="3995640" y="2637000"/>
            <a:ext cx="476244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Гостевой этикет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2" name="Picture 4" descr="http://iskysstvoetiketa.com/upload/photo/foto/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7084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tehnologiya.narod.ru/etiket/2_2_table20.jpg"/>
          <p:cNvPicPr/>
          <p:nvPr/>
        </p:nvPicPr>
        <p:blipFill>
          <a:blip r:embed="rId1"/>
          <a:stretch/>
        </p:blipFill>
        <p:spPr>
          <a:xfrm>
            <a:off x="250920" y="189000"/>
            <a:ext cx="4267080" cy="2990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www.neskuchno.com/images/stories/users/opytom/0910/gosty01.jpg"/>
          <p:cNvPicPr/>
          <p:nvPr/>
        </p:nvPicPr>
        <p:blipFill>
          <a:blip r:embed="rId2"/>
          <a:stretch/>
        </p:blipFill>
        <p:spPr>
          <a:xfrm>
            <a:off x="324000" y="3500280"/>
            <a:ext cx="3960720" cy="31896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http://tehnologiya.narod.ru/etiket/2_2_table26.jpg"/>
          <p:cNvPicPr/>
          <p:nvPr/>
        </p:nvPicPr>
        <p:blipFill>
          <a:blip r:embed="rId3"/>
          <a:stretch/>
        </p:blipFill>
        <p:spPr>
          <a:xfrm>
            <a:off x="4500720" y="3645000"/>
            <a:ext cx="4381200" cy="30002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2" descr="http://tehnologiya.narod.ru/etiket/2_3_table27.jpg"/>
          <p:cNvPicPr/>
          <p:nvPr/>
        </p:nvPicPr>
        <p:blipFill>
          <a:blip r:embed="rId4"/>
          <a:stretch/>
        </p:blipFill>
        <p:spPr>
          <a:xfrm>
            <a:off x="4643280" y="260280"/>
            <a:ext cx="4381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www.chuc.ru/netcat_files/Image/8_3_2.gif"/>
          <p:cNvPicPr/>
          <p:nvPr/>
        </p:nvPicPr>
        <p:blipFill>
          <a:blip r:embed="rId1"/>
          <a:stretch/>
        </p:blipFill>
        <p:spPr>
          <a:xfrm>
            <a:off x="179280" y="115920"/>
            <a:ext cx="3384720" cy="3313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http://www.publiclibrary.ru/readers/25kadr/images-25kadr/etiket-takt.jpg"/>
          <p:cNvPicPr/>
          <p:nvPr/>
        </p:nvPicPr>
        <p:blipFill>
          <a:blip r:embed="rId2"/>
          <a:stretch/>
        </p:blipFill>
        <p:spPr>
          <a:xfrm>
            <a:off x="611280" y="3716280"/>
            <a:ext cx="3722760" cy="2997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http://img.1tvrus.com/2011-01-17/fmt_73_23641.jpg"/>
          <p:cNvPicPr/>
          <p:nvPr/>
        </p:nvPicPr>
        <p:blipFill>
          <a:blip r:embed="rId3"/>
          <a:stretch/>
        </p:blipFill>
        <p:spPr>
          <a:xfrm>
            <a:off x="3924360" y="115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http://sibznayka.ru/img/sov_0117.jpg"/>
          <p:cNvPicPr/>
          <p:nvPr/>
        </p:nvPicPr>
        <p:blipFill>
          <a:blip r:embed="rId4"/>
          <a:stretch/>
        </p:blipFill>
        <p:spPr>
          <a:xfrm>
            <a:off x="5435640" y="378936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униципальное бюджетное образовательное учреждение «Средняя общеобразовательная школа №  225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. Заречный Пензенской област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я к курсу «ОРК и СЭ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дуль «Светская этик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классе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четвер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дготовила презентацию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читель ИЗО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Голуб Елена Борис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m.delo.si/images/460/full/20110726/sz5_bonton3.jpg"/>
          <p:cNvPicPr/>
          <p:nvPr/>
        </p:nvPicPr>
        <p:blipFill>
          <a:blip r:embed="rId1"/>
          <a:stretch/>
        </p:blipFill>
        <p:spPr>
          <a:xfrm>
            <a:off x="395280" y="549360"/>
            <a:ext cx="3889440" cy="3024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http://www.delo.si/assets/media/picture/20110726/bonton1.jpg"/>
          <p:cNvPicPr/>
          <p:nvPr/>
        </p:nvPicPr>
        <p:blipFill>
          <a:blip r:embed="rId2"/>
          <a:stretch/>
        </p:blipFill>
        <p:spPr>
          <a:xfrm>
            <a:off x="4284720" y="3197160"/>
            <a:ext cx="44226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ру.юст\Documents\Клипарты\Клипарты анимированые\52ba5be115fc.gif"/>
          <p:cNvPicPr/>
          <p:nvPr/>
        </p:nvPicPr>
        <p:blipFill>
          <a:blip r:embed="rId1"/>
          <a:stretch/>
        </p:blipFill>
        <p:spPr>
          <a:xfrm>
            <a:off x="1476360" y="115920"/>
            <a:ext cx="57596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Источники информации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etiquetterules.ru/page/3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greenmama.ru/nid/40988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33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Этикет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это свод норм, правил общения людей между собой, поведения каждого конкретного человека в обществе — в той социальной среде, где он живет, с членами которой взаимодейству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2" descr="http://img0.liveinternet.ru/images/attach/c/1/45/767/45767012_svadmod03.jpg"/>
          <p:cNvPicPr/>
          <p:nvPr/>
        </p:nvPicPr>
        <p:blipFill>
          <a:blip r:embed="rId1"/>
          <a:stretch/>
        </p:blipFill>
        <p:spPr>
          <a:xfrm>
            <a:off x="5580000" y="285264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79280" y="188640"/>
            <a:ext cx="8785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авних времён летописцы, философы, писатели и поэты давали многочисленные рекомендации относительно поведения человека за столом. В Древнем Египте в III тысячелетии до н. э. одной из популярных рукописей был сборник добрых советов </a:t>
            </a: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«Поучения Кочемни»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борнике в виде рекомендаций отца сыновьям объяснялась необходимость практически обучать молодых людей правилам приличия и образцового поведения в обществе. Уже тогда у египтян считалось необходимым пользоваться столовыми приборами, также умение есть красиво, бесшумно. Такое поведение расценивалось как большое достоинство и необходимый компонент культу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8" descr="http://img-fotki.yandex.ru/get/5006/olenka11130.11/0_74209_e300dbae_L"/>
          <p:cNvPicPr/>
          <p:nvPr/>
        </p:nvPicPr>
        <p:blipFill>
          <a:blip r:embed="rId1"/>
          <a:stretch/>
        </p:blipFill>
        <p:spPr>
          <a:xfrm>
            <a:off x="1042920" y="2781360"/>
            <a:ext cx="3041640" cy="3840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http://www.touregypt.net/images/touregypt/osiris.jpg"/>
          <p:cNvPicPr/>
          <p:nvPr/>
        </p:nvPicPr>
        <p:blipFill>
          <a:blip r:embed="rId2"/>
          <a:stretch/>
        </p:blipFill>
        <p:spPr>
          <a:xfrm>
            <a:off x="4211640" y="3645000"/>
            <a:ext cx="4610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www.etiket.bloknotwoman.ru/wp-content/uploads/2011/08/ee1055182f4f.jpg"/>
          <p:cNvPicPr/>
          <p:nvPr/>
        </p:nvPicPr>
        <p:blipFill>
          <a:blip r:embed="rId1"/>
          <a:stretch/>
        </p:blipFill>
        <p:spPr>
          <a:xfrm>
            <a:off x="4788000" y="1042920"/>
            <a:ext cx="3838320" cy="5626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345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Основы этикета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3" name="Picture 2" descr="http://crazy.werd.ru/uploads/posts/2009-12-10/1260419716_53d10e60cd06.jpg"/>
          <p:cNvPicPr/>
          <p:nvPr/>
        </p:nvPicPr>
        <p:blipFill>
          <a:blip r:embed="rId2"/>
          <a:stretch/>
        </p:blipFill>
        <p:spPr>
          <a:xfrm>
            <a:off x="539640" y="981000"/>
            <a:ext cx="3672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http://camel.az/uploads/posts/2010-07/1279167876_45763723_873bdb6eafb1.jpg"/>
          <p:cNvPicPr/>
          <p:nvPr/>
        </p:nvPicPr>
        <p:blipFill>
          <a:blip r:embed="rId1"/>
          <a:stretch/>
        </p:blipFill>
        <p:spPr>
          <a:xfrm>
            <a:off x="1042920" y="620640"/>
            <a:ext cx="66103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История этикета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79280" y="1196640"/>
            <a:ext cx="468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ово «этикет» впервые было употреблено в современном его значении на приеме при дворе короля Франции Людовика ХIV (1638–1715), когда гостям были розданы карточки (этикетки) с изложением того, как они должны держа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4" descr="Файл:Louis XIV of France.jpg"/>
          <p:cNvPicPr/>
          <p:nvPr/>
        </p:nvPicPr>
        <p:blipFill>
          <a:blip r:embed="rId1"/>
          <a:stretch/>
        </p:blipFill>
        <p:spPr>
          <a:xfrm>
            <a:off x="4859280" y="1125360"/>
            <a:ext cx="401976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http://camel.az/uploads/posts/2010-07/1279167084_11482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В России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79280" y="1341000"/>
            <a:ext cx="8507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Петре Великом, в 1717 году вышла в свет книга о хороших манерах под название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Юности честное зерцало, или Показания к житейскому обхождению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2" descr="История этикета России"/>
          <p:cNvPicPr/>
          <p:nvPr/>
        </p:nvPicPr>
        <p:blipFill>
          <a:blip r:embed="rId1"/>
          <a:stretch/>
        </p:blipFill>
        <p:spPr>
          <a:xfrm>
            <a:off x="108000" y="2637000"/>
            <a:ext cx="3240000" cy="3809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http://etiquetterules.ru/uploads/images/etiquette-27.jpg"/>
          <p:cNvPicPr/>
          <p:nvPr/>
        </p:nvPicPr>
        <p:blipFill>
          <a:blip r:embed="rId2"/>
          <a:stretch/>
        </p:blipFill>
        <p:spPr>
          <a:xfrm>
            <a:off x="3564000" y="2708280"/>
            <a:ext cx="5256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08:07Z</dcterms:created>
  <dc:creator>Федотова Виктория Александровна</dc:creator>
  <dc:description/>
  <dc:language>en-US</dc:language>
  <cp:lastModifiedBy>Admin</cp:lastModifiedBy>
  <dcterms:modified xsi:type="dcterms:W3CDTF">2012-08-12T13:19:52Z</dcterms:modified>
  <cp:revision>34</cp:revision>
  <dc:subject/>
  <dc:title>Слайд 1</dc:title>
</cp:coreProperties>
</file>