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9.jpeg" ContentType="image/jpeg"/>
  <Override PartName="/ppt/media/image11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30.png" ContentType="image/png"/>
  <Override PartName="/ppt/media/image28.jpeg" ContentType="image/jpeg"/>
  <Override PartName="/ppt/media/image34.jpeg" ContentType="image/jpeg"/>
  <Override PartName="/ppt/media/image31.jpeg" ContentType="image/jpeg"/>
  <Override PartName="/ppt/media/image32.jpeg" ContentType="image/jpeg"/>
  <Override PartName="/ppt/media/image7.jpeg" ContentType="image/jpeg"/>
  <Override PartName="/ppt/media/image5.gif" ContentType="image/gif"/>
  <Override PartName="/ppt/media/image14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ED95-7AEA-498C-BBCF-305369BC0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3C3E-9880-46F6-A420-2EC71ADF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78F4-7F65-4064-BB2D-8FAA190E7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BD3D-47CC-421C-8D5F-15F8D9729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9BAD-00C7-43D5-AD1A-7ACADBE8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6E6E-BC64-4340-97F2-34F70602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9A00-FC66-45B7-8F88-8AEDAF7D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3E31-DD38-4776-877D-23244DFD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E5A5-57CC-4ADF-9D4F-BA9D528F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18FE-6E20-4C60-929F-80221B1E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36B8-A470-4481-9FBE-511B88D7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646B-BBED-4923-AF73-F07710E0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CA0C-9A16-4408-BCAF-7072146251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Admin\Рабочий стол\угадай\Зелёный.gif"/>
          <p:cNvPicPr/>
          <p:nvPr/>
        </p:nvPicPr>
        <p:blipFill>
          <a:blip r:embed="rId3"/>
          <a:stretch/>
        </p:blipFill>
        <p:spPr>
          <a:xfrm>
            <a:off x="7500960" y="6507000"/>
            <a:ext cx="1643040" cy="351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hyperlink" Target="http://prezentacii.com/" TargetMode="External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6;&#1077;&#1095;&#1077;&#1074;&#1086;&#1081;_&#1101;&#1090;&#1080;&#1082;&#1077;&#1090;&amp;action=edit&amp;redlink=1" TargetMode="External"/><Relationship Id="rId2" Type="http://schemas.openxmlformats.org/officeDocument/2006/relationships/hyperlink" Target="http://ru.wikipedia.org/w/index.php?title=&#1057;&#1090;&#1086;&#1083;&#1086;&#1074;&#1099;&#1081;_&#1101;&#1090;&#1080;&#1082;&#1077;&#1090;&amp;action=edit&amp;redlink=1" TargetMode="External"/><Relationship Id="rId3" Type="http://schemas.openxmlformats.org/officeDocument/2006/relationships/hyperlink" Target="http://ru.wikipedia.org/w/index.php?title=&#1057;&#1074;&#1072;&#1076;&#1077;&#1073;&#1085;&#1099;&#1081;_&#1101;&#1090;&#1080;&#1082;&#1077;&#1090;&amp;action=edit&amp;redlink=1" TargetMode="External"/><Relationship Id="rId4" Type="http://schemas.openxmlformats.org/officeDocument/2006/relationships/hyperlink" Target="http://ru.wikipedia.org/w/index.php?title=&#1058;&#1088;&#1072;&#1091;&#1088;&#1085;&#1099;&#1081;_&#1101;&#1090;&#1080;&#1082;&#1077;&#1090;&amp;action=edit&amp;redlink=1" TargetMode="External"/><Relationship Id="rId5" Type="http://schemas.openxmlformats.org/officeDocument/2006/relationships/hyperlink" Target="http://ru.wikipedia.org/w/index.php?title=&#1069;&#1090;&#1080;&#1082;&#1077;&#1090;_&#171;&#1074;&#1099;&#1093;&#1086;&#1076;&#1085;&#1086;&#1075;&#1086;_&#1076;&#1085;&#1103;&#187;&amp;action=edit&amp;redlink=1" TargetMode="External"/><Relationship Id="rId6" Type="http://schemas.openxmlformats.org/officeDocument/2006/relationships/hyperlink" Target="http://ru.wikipedia.org/w/index.php?title=&#1044;&#1080;&#1087;&#1083;&#1086;&#1084;&#1072;&#1090;&#1080;&#1095;&#1077;&#1089;&#1082;&#1080;&#1081;_&#1101;&#1090;&#1080;&#1082;&#1077;&#1090;&amp;action=edit&amp;redlink=1" TargetMode="External"/><Relationship Id="rId7" Type="http://schemas.openxmlformats.org/officeDocument/2006/relationships/hyperlink" Target="http://ru.wikipedia.org/w/index.php?title=&#1055;&#1088;&#1086;&#1092;&#1077;&#1089;&#1089;&#1080;&#1086;&#1085;&#1072;&#1083;&#1100;&#1085;&#1099;&#1081;_&#1101;&#1090;&#1080;&#1082;&#1077;&#1090;&amp;action=edit&amp;redlink=1" TargetMode="External"/><Relationship Id="rId8" Type="http://schemas.openxmlformats.org/officeDocument/2006/relationships/hyperlink" Target="http://ru.wikipedia.org/w/index.php?title=&#1056;&#1077;&#1083;&#1080;&#1075;&#1080;&#1086;&#1079;&#1085;&#1099;&#1081;_&#1101;&#1090;&#1080;&#1082;&#1077;&#1090;&amp;action=edit&amp;redlink=1" TargetMode="External"/><Relationship Id="rId9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 rot="21297000">
            <a:off x="3214800" y="3135240"/>
            <a:ext cx="4781520" cy="26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7030a0"/>
                </a:solidFill>
                <a:latin typeface="Cambria"/>
              </a:rPr>
              <a:t>Этикет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09" name="Picture 5" descr="C:\Users\ру.юст\Documents\Клипарты\Клипарт пейзажи\0_78910_684a155e_M.jpg"/>
          <p:cNvPicPr/>
          <p:nvPr/>
        </p:nvPicPr>
        <p:blipFill>
          <a:blip r:embed="rId1"/>
          <a:stretch/>
        </p:blipFill>
        <p:spPr>
          <a:xfrm>
            <a:off x="6012000" y="5961240"/>
            <a:ext cx="2411280" cy="896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C:\Users\ру.юст\Documents\Клипарты\Клипарт пейзажи\0_78910_684a155e_M.jpg"/>
          <p:cNvPicPr/>
          <p:nvPr/>
        </p:nvPicPr>
        <p:blipFill>
          <a:blip r:embed="rId2"/>
          <a:stretch/>
        </p:blipFill>
        <p:spPr>
          <a:xfrm>
            <a:off x="6732720" y="5961240"/>
            <a:ext cx="2411280" cy="8967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C:\Users\ру.юст\Documents\Клипарты\Клипарт пейзажи\0_78910_684a155e_M.jpg"/>
          <p:cNvPicPr/>
          <p:nvPr/>
        </p:nvPicPr>
        <p:blipFill>
          <a:blip r:embed="rId3"/>
          <a:stretch/>
        </p:blipFill>
        <p:spPr>
          <a:xfrm>
            <a:off x="6875640" y="5961240"/>
            <a:ext cx="2412720" cy="8967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" descr="C:\Users\ру.юст\Documents\Клипарты\Клипарты анимированые\2387216t99994h92p.gif"/>
          <p:cNvPicPr/>
          <p:nvPr/>
        </p:nvPicPr>
        <p:blipFill>
          <a:blip r:embed="rId4"/>
          <a:stretch/>
        </p:blipFill>
        <p:spPr>
          <a:xfrm>
            <a:off x="7020000" y="5516640"/>
            <a:ext cx="1285920" cy="1171440"/>
          </a:xfrm>
          <a:prstGeom prst="rect">
            <a:avLst/>
          </a:prstGeom>
          <a:ln w="0">
            <a:noFill/>
          </a:ln>
        </p:spPr>
      </p:pic>
      <p:sp>
        <p:nvSpPr>
          <p:cNvPr id="313" name="Прямоугольник 6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dce6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3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Виды этикета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Речевой этик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Столовый этик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Свадебный этик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Траурный этик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Этикет «выходного дня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(театральный, концертный и др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Дипломатический этик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Профессиональный этике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(воинский, медицинский, юридический, сервисный и др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Религиозный этик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ужебный этик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лефонный этик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http://steampunker.ru/uploads/images/4/5/5/7/391/35bd19e888.jpg"/>
          <p:cNvPicPr/>
          <p:nvPr/>
        </p:nvPicPr>
        <p:blipFill>
          <a:blip r:embed="rId1"/>
          <a:stretch/>
        </p:blipFill>
        <p:spPr>
          <a:xfrm>
            <a:off x="468360" y="1341360"/>
            <a:ext cx="7775640" cy="53276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Чайный этикет в Англии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Деловой этикет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38" name="Picture 2" descr="http://www.man-world.info/images/stories/deelovoi%20etiket.jpg"/>
          <p:cNvPicPr/>
          <p:nvPr/>
        </p:nvPicPr>
        <p:blipFill>
          <a:blip r:embed="rId1"/>
          <a:stretch/>
        </p:blipFill>
        <p:spPr>
          <a:xfrm>
            <a:off x="324000" y="1773360"/>
            <a:ext cx="4248000" cy="44640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" descr="http://fictionbook.ru/static/bookimages/01/70/72/01707285.bin.dir/h/i_001.jpg"/>
          <p:cNvPicPr/>
          <p:nvPr/>
        </p:nvPicPr>
        <p:blipFill>
          <a:blip r:embed="rId2"/>
          <a:stretch/>
        </p:blipFill>
        <p:spPr>
          <a:xfrm>
            <a:off x="5067360" y="1700280"/>
            <a:ext cx="360828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Речевой этикет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41" name="Picture 2" descr="http://mamaeva375.ru/wp-content/uploads/2011/07/beseda-v-sadu.jpg"/>
          <p:cNvPicPr/>
          <p:nvPr/>
        </p:nvPicPr>
        <p:blipFill>
          <a:blip r:embed="rId1"/>
          <a:stretch/>
        </p:blipFill>
        <p:spPr>
          <a:xfrm>
            <a:off x="468360" y="1341360"/>
            <a:ext cx="77756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Этикет в одежде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43" name="Picture 10" descr="http://s54.radikal.ru/i143/1103/9f/e860dc75c73a.jpg"/>
          <p:cNvPicPr/>
          <p:nvPr/>
        </p:nvPicPr>
        <p:blipFill>
          <a:blip r:embed="rId1"/>
          <a:stretch/>
        </p:blipFill>
        <p:spPr>
          <a:xfrm>
            <a:off x="1476360" y="1268280"/>
            <a:ext cx="59626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Воинская честь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79280" y="1341000"/>
            <a:ext cx="850752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окупность всех положительных качеств, присущих человеку в военной форме: мужество и храбрость, воинственность и благородство, дисциплина, сознание своего долга перед отечеством, самоотверженность, вера в свои силы, выносливость в лишениях, страдания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Picture 4" descr="http://vvaii.ru/d/30883/d/5_0.jpg"/>
          <p:cNvPicPr/>
          <p:nvPr/>
        </p:nvPicPr>
        <p:blipFill>
          <a:blip r:embed="rId1"/>
          <a:stretch/>
        </p:blipFill>
        <p:spPr>
          <a:xfrm>
            <a:off x="755640" y="33577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http://static.newsland.ru/news_images/628/big_628184.jpg"/>
          <p:cNvPicPr/>
          <p:nvPr/>
        </p:nvPicPr>
        <p:blipFill>
          <a:blip r:embed="rId2"/>
          <a:stretch/>
        </p:blipFill>
        <p:spPr>
          <a:xfrm>
            <a:off x="4716360" y="2781360"/>
            <a:ext cx="41036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Посещение церкви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49" name="Picture 2" descr="Посещение церкви"/>
          <p:cNvPicPr/>
          <p:nvPr/>
        </p:nvPicPr>
        <p:blipFill>
          <a:blip r:embed="rId1"/>
          <a:stretch/>
        </p:blipFill>
        <p:spPr>
          <a:xfrm>
            <a:off x="468360" y="1484280"/>
            <a:ext cx="3314520" cy="50403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http://vecherka.su/pics/uploads/archive2008/12_2008/15122008/7.jpg"/>
          <p:cNvPicPr/>
          <p:nvPr/>
        </p:nvPicPr>
        <p:blipFill>
          <a:blip r:embed="rId2"/>
          <a:stretch/>
        </p:blipFill>
        <p:spPr>
          <a:xfrm>
            <a:off x="3995640" y="2637000"/>
            <a:ext cx="476244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Гостевой этикет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52" name="Picture 4" descr="http://iskysstvoetiketa.com/upload/photo/foto/2.jpg"/>
          <p:cNvPicPr/>
          <p:nvPr/>
        </p:nvPicPr>
        <p:blipFill>
          <a:blip r:embed="rId1"/>
          <a:stretch/>
        </p:blipFill>
        <p:spPr>
          <a:xfrm>
            <a:off x="2195640" y="1413000"/>
            <a:ext cx="470844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http://tehnologiya.narod.ru/etiket/2_2_table20.jpg"/>
          <p:cNvPicPr/>
          <p:nvPr/>
        </p:nvPicPr>
        <p:blipFill>
          <a:blip r:embed="rId1"/>
          <a:stretch/>
        </p:blipFill>
        <p:spPr>
          <a:xfrm>
            <a:off x="250920" y="189000"/>
            <a:ext cx="4267080" cy="29908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" descr="http://www.neskuchno.com/images/stories/users/opytom/0910/gosty01.jpg"/>
          <p:cNvPicPr/>
          <p:nvPr/>
        </p:nvPicPr>
        <p:blipFill>
          <a:blip r:embed="rId2"/>
          <a:stretch/>
        </p:blipFill>
        <p:spPr>
          <a:xfrm>
            <a:off x="324000" y="3500280"/>
            <a:ext cx="3960720" cy="31896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0" descr="http://tehnologiya.narod.ru/etiket/2_2_table26.jpg"/>
          <p:cNvPicPr/>
          <p:nvPr/>
        </p:nvPicPr>
        <p:blipFill>
          <a:blip r:embed="rId3"/>
          <a:stretch/>
        </p:blipFill>
        <p:spPr>
          <a:xfrm>
            <a:off x="4500720" y="3645000"/>
            <a:ext cx="4381200" cy="30002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2" descr="http://tehnologiya.narod.ru/etiket/2_3_table27.jpg"/>
          <p:cNvPicPr/>
          <p:nvPr/>
        </p:nvPicPr>
        <p:blipFill>
          <a:blip r:embed="rId4"/>
          <a:stretch/>
        </p:blipFill>
        <p:spPr>
          <a:xfrm>
            <a:off x="4643280" y="260280"/>
            <a:ext cx="43815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http://www.chuc.ru/netcat_files/Image/8_3_2.gif"/>
          <p:cNvPicPr/>
          <p:nvPr/>
        </p:nvPicPr>
        <p:blipFill>
          <a:blip r:embed="rId1"/>
          <a:stretch/>
        </p:blipFill>
        <p:spPr>
          <a:xfrm>
            <a:off x="179280" y="115920"/>
            <a:ext cx="3384720" cy="3313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http://www.publiclibrary.ru/readers/25kadr/images-25kadr/etiket-takt.jpg"/>
          <p:cNvPicPr/>
          <p:nvPr/>
        </p:nvPicPr>
        <p:blipFill>
          <a:blip r:embed="rId2"/>
          <a:stretch/>
        </p:blipFill>
        <p:spPr>
          <a:xfrm>
            <a:off x="611280" y="3716280"/>
            <a:ext cx="3722760" cy="29973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http://img.1tvrus.com/2011-01-17/fmt_73_23641.jpg"/>
          <p:cNvPicPr/>
          <p:nvPr/>
        </p:nvPicPr>
        <p:blipFill>
          <a:blip r:embed="rId3"/>
          <a:stretch/>
        </p:blipFill>
        <p:spPr>
          <a:xfrm>
            <a:off x="3924360" y="1159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http://sibznayka.ru/img/sov_0117.jpg"/>
          <p:cNvPicPr/>
          <p:nvPr/>
        </p:nvPicPr>
        <p:blipFill>
          <a:blip r:embed="rId4"/>
          <a:stretch/>
        </p:blipFill>
        <p:spPr>
          <a:xfrm>
            <a:off x="5435640" y="3789360"/>
            <a:ext cx="25923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Муниципальное бюджетное образовательное учреждение «Средняя общеобразовательная школа №  225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г. Заречный Пензенской област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зентация к курсу «ОРК и СЭ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дуль «Светская этика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 классе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четвер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одготовила презентацию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учитель ИЗО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Голуб Елена Борис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http://m.delo.si/images/460/full/20110726/sz5_bonton3.jpg"/>
          <p:cNvPicPr/>
          <p:nvPr/>
        </p:nvPicPr>
        <p:blipFill>
          <a:blip r:embed="rId1"/>
          <a:stretch/>
        </p:blipFill>
        <p:spPr>
          <a:xfrm>
            <a:off x="395280" y="549360"/>
            <a:ext cx="3889440" cy="30240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http://www.delo.si/assets/media/picture/20110726/bonton1.jpg"/>
          <p:cNvPicPr/>
          <p:nvPr/>
        </p:nvPicPr>
        <p:blipFill>
          <a:blip r:embed="rId2"/>
          <a:stretch/>
        </p:blipFill>
        <p:spPr>
          <a:xfrm>
            <a:off x="4284720" y="3197160"/>
            <a:ext cx="442260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C:\Users\ру.юст\Documents\Клипарты\Клипарты анимированые\52ba5be115fc.gif"/>
          <p:cNvPicPr/>
          <p:nvPr/>
        </p:nvPicPr>
        <p:blipFill>
          <a:blip r:embed="rId1"/>
          <a:stretch/>
        </p:blipFill>
        <p:spPr>
          <a:xfrm>
            <a:off x="1476360" y="115920"/>
            <a:ext cx="575964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3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Источники информации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ttp://etiquetterules.ru/page/3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ttp://www.greenmama.ru/nid/40988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Прямоугольник 3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dce6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57200" y="333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Этикет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это свод норм, правил общения людей между собой, поведения каждого конкретного человека в обществе — в той социальной среде, где он живет, с членами которой взаимодейству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Picture 2" descr="http://img0.liveinternet.ru/images/attach/c/1/45/767/45767012_svadmod03.jpg"/>
          <p:cNvPicPr/>
          <p:nvPr/>
        </p:nvPicPr>
        <p:blipFill>
          <a:blip r:embed="rId1"/>
          <a:stretch/>
        </p:blipFill>
        <p:spPr>
          <a:xfrm>
            <a:off x="5580000" y="2852640"/>
            <a:ext cx="2857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79280" y="188640"/>
            <a:ext cx="878544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давних времён летописцы, философы, писатели и поэты давали многочисленные рекомендации относительно поведения человека за столом. В Древнем Египте в III тысячелетии до н. э. одной из популярных рукописей был сборник добрых советов </a:t>
            </a:r>
            <a:r>
              <a:rPr b="1" lang="ru-RU" sz="1800" spc="-1" strike="noStrike">
                <a:solidFill>
                  <a:srgbClr val="0d0d0d"/>
                </a:solidFill>
                <a:latin typeface="Calibri"/>
              </a:rPr>
              <a:t>«Поучения Кочемни»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сборнике в виде рекомендаций отца сыновьям объяснялась необходимость практически обучать молодых людей правилам приличия и образцового поведения в обществе. Уже тогда у египтян считалось необходимым пользоваться столовыми приборами, также умение есть красиво, бесшумно. Такое поведение расценивалось как большое достоинство и необходимый компонент культур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Picture 8" descr="http://img-fotki.yandex.ru/get/5006/olenka11130.11/0_74209_e300dbae_L"/>
          <p:cNvPicPr/>
          <p:nvPr/>
        </p:nvPicPr>
        <p:blipFill>
          <a:blip r:embed="rId1"/>
          <a:stretch/>
        </p:blipFill>
        <p:spPr>
          <a:xfrm>
            <a:off x="1042920" y="2781360"/>
            <a:ext cx="3041640" cy="38401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0" descr="http://www.touregypt.net/images/touregypt/osiris.jpg"/>
          <p:cNvPicPr/>
          <p:nvPr/>
        </p:nvPicPr>
        <p:blipFill>
          <a:blip r:embed="rId2"/>
          <a:stretch/>
        </p:blipFill>
        <p:spPr>
          <a:xfrm>
            <a:off x="4211640" y="3645000"/>
            <a:ext cx="4610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http://www.etiket.bloknotwoman.ru/wp-content/uploads/2011/08/ee1055182f4f.jpg"/>
          <p:cNvPicPr/>
          <p:nvPr/>
        </p:nvPicPr>
        <p:blipFill>
          <a:blip r:embed="rId1"/>
          <a:stretch/>
        </p:blipFill>
        <p:spPr>
          <a:xfrm>
            <a:off x="4788000" y="1042920"/>
            <a:ext cx="3838320" cy="562608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345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Основы этикета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23" name="Picture 2" descr="http://crazy.werd.ru/uploads/posts/2009-12-10/1260419716_53d10e60cd06.jpg"/>
          <p:cNvPicPr/>
          <p:nvPr/>
        </p:nvPicPr>
        <p:blipFill>
          <a:blip r:embed="rId2"/>
          <a:stretch/>
        </p:blipFill>
        <p:spPr>
          <a:xfrm>
            <a:off x="539640" y="981000"/>
            <a:ext cx="367200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http://camel.az/uploads/posts/2010-07/1279167876_45763723_873bdb6eafb1.jpg"/>
          <p:cNvPicPr/>
          <p:nvPr/>
        </p:nvPicPr>
        <p:blipFill>
          <a:blip r:embed="rId1"/>
          <a:stretch/>
        </p:blipFill>
        <p:spPr>
          <a:xfrm>
            <a:off x="1042920" y="620640"/>
            <a:ext cx="661032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История этикета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79280" y="1196640"/>
            <a:ext cx="4680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лово «этикет» впервые было употреблено в современном его значении на приеме при дворе короля Франции Людовика ХIV (1638–1715), когда гостям были розданы карточки (этикетки) с изложением того, как они должны держать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" name="Picture 4" descr="Файл:Louis XIV of France.jpg"/>
          <p:cNvPicPr/>
          <p:nvPr/>
        </p:nvPicPr>
        <p:blipFill>
          <a:blip r:embed="rId1"/>
          <a:stretch/>
        </p:blipFill>
        <p:spPr>
          <a:xfrm>
            <a:off x="4859280" y="1125360"/>
            <a:ext cx="4019760" cy="552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http://camel.az/uploads/posts/2010-07/1279167084_114828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В России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79280" y="1341000"/>
            <a:ext cx="85075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Петре Великом, в 1717 году вышла в свет книга о хороших манерах под названием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Юности честное зерцало, или Показания к житейскому обхождению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2" descr="История этикета России"/>
          <p:cNvPicPr/>
          <p:nvPr/>
        </p:nvPicPr>
        <p:blipFill>
          <a:blip r:embed="rId1"/>
          <a:stretch/>
        </p:blipFill>
        <p:spPr>
          <a:xfrm>
            <a:off x="108000" y="2637000"/>
            <a:ext cx="3240000" cy="3809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http://etiquetterules.ru/uploads/images/etiquette-27.jpg"/>
          <p:cNvPicPr/>
          <p:nvPr/>
        </p:nvPicPr>
        <p:blipFill>
          <a:blip r:embed="rId2"/>
          <a:stretch/>
        </p:blipFill>
        <p:spPr>
          <a:xfrm>
            <a:off x="3564000" y="2708280"/>
            <a:ext cx="52560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04:08:07Z</dcterms:created>
  <dc:creator>Федотова Виктория Александровна</dc:creator>
  <dc:description/>
  <dc:language>en-US</dc:language>
  <cp:lastModifiedBy>Admin</cp:lastModifiedBy>
  <dcterms:modified xsi:type="dcterms:W3CDTF">2012-08-12T13:19:52Z</dcterms:modified>
  <cp:revision>34</cp:revision>
  <dc:subject/>
  <dc:title>Слайд 1</dc:title>
</cp:coreProperties>
</file>