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88A-1D14-4D75-B0B9-2B056329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37A-C78F-4C5F-9DAB-4ABEF264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514-9551-4E97-A197-34061EEC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FB9-6561-4FEE-B45B-2538B0D7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64B-7283-4871-80F0-F92B388C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14D-E515-4F32-9B9E-86E2FA6E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99A-3170-4ED0-94FD-E162E7DD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2D8-8619-4956-B1CD-E7AF8A74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D00-F45F-4C7A-953C-3022E606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29F-C5D4-4BFA-A0A4-9F30576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449-C99C-4988-994B-FB20A931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2D4-3E5E-4C98-8C19-57776F1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B8ED-9977-4454-B780-853ADEDE2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295A-79C6-4749-99FA-F9D4D3A475E9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642924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14520" y="18900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785880" y="1000080"/>
            <a:ext cx="750096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ковинные деревья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8760" y="461484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21488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убнич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ью покрывается красными шаровидными плодами величиной с небольшое яблоко, по форме напоминающими гигантские ягоды клубники. Они съедобны и состоят из сладкой слизистой мякоти, в которую погружены довольно крупные «зернышки». Но, конечно, плоды, а точнее – соплодия клубничного дерева, не имеют ничего общего с настоящей клубникой. Научное название этого растения – кизил головч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713443"/>
          <p:cNvPicPr/>
          <p:nvPr/>
        </p:nvPicPr>
        <p:blipFill>
          <a:blip r:embed="rId1"/>
          <a:stretch/>
        </p:blipFill>
        <p:spPr>
          <a:xfrm>
            <a:off x="539640" y="2276640"/>
            <a:ext cx="424512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леб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Хлебное дерево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Хлебное дерево №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бас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плоды ("колбасы"), в беспорядке свисающие с ветвей, имеют весьма аппетитный вид, и все дерево выглядит как своего рода закусочная под открытым небом. К сожалению, "колбасы" эти несъедобны ни для человека, ни для зве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kolbas_derevo"/>
          <p:cNvPicPr/>
          <p:nvPr/>
        </p:nvPicPr>
        <p:blipFill>
          <a:blip r:embed="rId1"/>
          <a:stretch/>
        </p:blipFill>
        <p:spPr>
          <a:xfrm>
            <a:off x="4932360" y="2060640"/>
            <a:ext cx="34005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ыр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ды обладают резким запахом, напоминающим запах плесневелого сыра — по этой причине некоторые народности называют это растение "сырным деревом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Моринда цитрусолистнаяы"/>
          <p:cNvPicPr/>
          <p:nvPr/>
        </p:nvPicPr>
        <p:blipFill>
          <a:blip r:embed="rId1"/>
          <a:stretch/>
        </p:blipFill>
        <p:spPr>
          <a:xfrm>
            <a:off x="324000" y="2205000"/>
            <a:ext cx="4329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47640" y="735120"/>
            <a:ext cx="781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зывают, что, когда в Европу из Брази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тились первые мореплавате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поразили всех привезенными с собой чудесными раст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рассказами о земле, «где не надо пахать, боронить, сеять и ж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бо хлеб сам собой растет на деревьях». И это было чистой прав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вами - чудеса растительного мира или уди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ьте себе, что ес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разилии дерево под названием "молочная соска". Достаточно ткнуть кончиком ножа ствол, и из коры потечет растительное "молоко". За один раз дерево дает до 4 л молока, которое перед употреблением нужно только разбавить водой и вскипят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о кеппел растет в Индии, и его плоды такие душистые, что стоит человеку их попробовать, как он сам по себе начинает пахнуть фиалками. Этим активно пользуются местные дон-жу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альной Америке ароматическое дерево флорифундия. Запах этого дерева навевает сон, и другими снотворными средствами местные жители почти не пользу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уст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450px-Cabbage_tree"/>
          <p:cNvPicPr/>
          <p:nvPr/>
        </p:nvPicPr>
        <p:blipFill>
          <a:blip r:embed="rId1"/>
          <a:stretch/>
        </p:blipFill>
        <p:spPr>
          <a:xfrm>
            <a:off x="2627280" y="1413000"/>
            <a:ext cx="3749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юльпан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ulpenboom__Liriodendron_tulipifera__Tulip_treeimg_4336bloem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вится своими цветками, внешне действительно напоминающими привычные для нас степные тюльпаны. Только зеленоватой окраски, с крупным оранжевым пятном у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ндышев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о свое название из-за сходства запаха его цветков с запахом ландыша. Внешне же цветки ландышевого дерева на жемчужные капли лесного красавца вовсе не похожи. Они мелкие, невзрачные, зеленоватые и собраны в кистевидные соцветия. Зато зимой ландышевое дерево покрыто ярко-красными плодами, напоминающими плоды ряб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igiri_5"/>
          <p:cNvPicPr/>
          <p:nvPr/>
        </p:nvPicPr>
        <p:blipFill>
          <a:blip r:embed="rId1"/>
          <a:stretch/>
        </p:blipFill>
        <p:spPr>
          <a:xfrm>
            <a:off x="395280" y="2349360"/>
            <a:ext cx="431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фет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олне заслужило свое название. На его ветвях действительно растут своеобразные «конфетки». Правда, это не плоды, а веточки-плодоножки – коричневого цвета, причудливо изогнутые, чуть тоньше карандаша. Они содержат до 40% фруктозы, очень сладкие и по вкусу напоминают изюм. Сами же плоды конфетного дерева мелкие и жесткие. Конфетное дерево часто, особенно в Китае и Японии, выращивают как декоративное растение, а также для получения сладостей. В Китае его плодоножки считаются лекарством против алкоголизма. Древесина конфетного дерева имеет красивый цвет и рисунок и используется в производстве мебели 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SC00538"/>
          <p:cNvPicPr/>
          <p:nvPr/>
        </p:nvPicPr>
        <p:blipFill>
          <a:blip r:embed="rId1"/>
          <a:stretch/>
        </p:blipFill>
        <p:spPr>
          <a:xfrm>
            <a:off x="2195640" y="333360"/>
            <a:ext cx="46386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но «вкусное» дерево. Его плоды внешне действительно напоминают плоды земляники – ярко-красные с мелкобугорчатой поверхностью. Плоды земляничного дерева съедобны, они сочные и сладкие. Из них готовят варенье, вино и лик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yamamomo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00:51Z</dcterms:created>
  <dc:creator>user</dc:creator>
  <dc:description/>
  <dc:language>en-US</dc:language>
  <cp:lastModifiedBy>Admin</cp:lastModifiedBy>
  <dcterms:modified xsi:type="dcterms:W3CDTF">2012-05-27T08:10:42Z</dcterms:modified>
  <cp:revision>4</cp:revision>
  <dc:subject/>
  <dc:title>Слайд 1</dc:title>
</cp:coreProperties>
</file>