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81B-7C5C-4BF9-A917-326AB78D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255C-1845-49B1-AE30-96AA1642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1278-E52A-421C-B230-8961CB97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4E0-94BF-48E4-9914-EB91D764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33A7-22CE-4C8E-A73C-1BE16796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7E39-DBE1-4DD4-9AA2-2B80C4FA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EA3-7B69-4119-8107-170D799A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1AEA-7D93-4D6F-81E3-CB247C10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FBB6-CB68-49C5-AD06-4D81E2D1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5D79-9BCE-46F0-997B-6894F2BA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B17B-74D0-4310-A099-5B891806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0FC-A969-425A-AA89-D3902630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AB6B-260A-442A-995C-E64B247EAF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041A-A2A5-4591-B343-B60D1A72C794}" type="datetime3">
              <a:rPr b="0" lang="ru-RU" sz="1400" spc="-1" strike="noStrike">
                <a:solidFill>
                  <a:srgbClr val="000000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Нижний колонтитул 2"/>
          <p:cNvSpPr/>
          <p:nvPr/>
        </p:nvSpPr>
        <p:spPr>
          <a:xfrm>
            <a:off x="642924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14520" y="189000"/>
            <a:ext cx="79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ганская область, Петуховский район, МОУ «Новогеоргиев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785880" y="1000080"/>
            <a:ext cx="7500960" cy="29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иковинные деревья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18760" y="4614840"/>
            <a:ext cx="415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ковлева Ларис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4214880" y="6357960"/>
            <a:ext cx="2286000" cy="5000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убнич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енью покрывается красными шаровидными плодами величиной с небольшое яблоко, по форме напоминающими гигантские ягоды клубники. Они съедобны и состоят из сладкой слизистой мякоти, в которую погружены довольно крупные «зернышки». Но, конечно, плоды, а точнее – соплодия клубничного дерева, не имеют ничего общего с настоящей клубникой. Научное название этого растения – кизил головча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713443"/>
          <p:cNvPicPr/>
          <p:nvPr/>
        </p:nvPicPr>
        <p:blipFill>
          <a:blip r:embed="rId1"/>
          <a:stretch/>
        </p:blipFill>
        <p:spPr>
          <a:xfrm>
            <a:off x="539640" y="2276640"/>
            <a:ext cx="4245120" cy="28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леб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Хлебное дерево"/>
          <p:cNvPicPr/>
          <p:nvPr/>
        </p:nvPicPr>
        <p:blipFill>
          <a:blip r:embed="rId1"/>
          <a:stretch/>
        </p:blipFill>
        <p:spPr>
          <a:xfrm>
            <a:off x="457200" y="251604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Хлебное дерево №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бас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плоды ("колбасы"), в беспорядке свисающие с ветвей, имеют весьма аппетитный вид, и все дерево выглядит как своего рода закусочная под открытым небом. К сожалению, "колбасы" эти несъедобны ни для человека, ни для зве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kolbas_derevo"/>
          <p:cNvPicPr/>
          <p:nvPr/>
        </p:nvPicPr>
        <p:blipFill>
          <a:blip r:embed="rId1"/>
          <a:stretch/>
        </p:blipFill>
        <p:spPr>
          <a:xfrm>
            <a:off x="4932360" y="2060640"/>
            <a:ext cx="340056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ыр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ды обладают резким запахом, напоминающим запах плесневелого сыра — по этой причине некоторые народности называют это растение "сырным деревом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Моринда цитрусолистнаяы"/>
          <p:cNvPicPr/>
          <p:nvPr/>
        </p:nvPicPr>
        <p:blipFill>
          <a:blip r:embed="rId1"/>
          <a:stretch/>
        </p:blipFill>
        <p:spPr>
          <a:xfrm>
            <a:off x="324000" y="2205000"/>
            <a:ext cx="432900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647640" y="735120"/>
            <a:ext cx="781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казывают, что, когда в Европу из Брази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тились первые мореплавате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поразили всех привезенными с собой чудесными растен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рассказами о земле, «где не надо пахать, боронить, сеять и ж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бо хлеб сам собой растет на деревьях». И это было чистой прав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 вами - чудеса растительного мира или уди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раст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ставьте себе, что ест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разилии дерево под названием "молочная соска". Достаточно ткнуть кончиком ножа ствол, и из коры потечет растительное "молоко". За один раз дерево дает до 4 л молока, которое перед употреблением нужно только разбавить водой и вскипят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ево кеппел растет в Индии, и его плоды такие душистые, что стоит человеку их попробовать, как он сам по себе начинает пахнуть фиалками. Этим активно пользуются местные дон-жу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нтральной Америке ароматическое дерево флорифундия. Запах этого дерева навевает сон, и другими снотворными средствами местные жители почти не пользую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пуст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450px-Cabbage_tree"/>
          <p:cNvPicPr/>
          <p:nvPr/>
        </p:nvPicPr>
        <p:blipFill>
          <a:blip r:embed="rId1"/>
          <a:stretch/>
        </p:blipFill>
        <p:spPr>
          <a:xfrm>
            <a:off x="2627280" y="1413000"/>
            <a:ext cx="37497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юльпан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Tulpenboom__Liriodendron_tulipifera__Tulip_treeimg_4336bloem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вится своими цветками, внешне действительно напоминающими привычные для нас степные тюльпаны. Только зеленоватой окраски, с крупным оранжевым пятном у осн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андышев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ло свое название из-за сходства запаха его цветков с запахом ландыша. Внешне же цветки ландышевого дерева на жемчужные капли лесного красавца вовсе не похожи. Они мелкие, невзрачные, зеленоватые и собраны в кистевидные соцветия. Зато зимой ландышевое дерево покрыто ярко-красными плодами, напоминающими плоды ряб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iigiri_5"/>
          <p:cNvPicPr/>
          <p:nvPr/>
        </p:nvPicPr>
        <p:blipFill>
          <a:blip r:embed="rId1"/>
          <a:stretch/>
        </p:blipFill>
        <p:spPr>
          <a:xfrm>
            <a:off x="395280" y="2349360"/>
            <a:ext cx="43164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фет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олне заслужило свое название. На его ветвях действительно растут своеобразные «конфетки». Правда, это не плоды, а веточки-плодоножки – коричневого цвета, причудливо изогнутые, чуть тоньше карандаша. Они содержат до 40% фруктозы, очень сладкие и по вкусу напоминают изюм. Сами же плоды конфетного дерева мелкие и жесткие. Конфетное дерево часто, особенно в Китае и Японии, выращивают как декоративное растение, а также для получения сладостей. В Китае его плодоножки считаются лекарством против алкоголизма. Древесина конфетного дерева имеет красивый цвет и рисунок и используется в производстве мебели и музыкальных инстру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SC00538"/>
          <p:cNvPicPr/>
          <p:nvPr/>
        </p:nvPicPr>
        <p:blipFill>
          <a:blip r:embed="rId1"/>
          <a:stretch/>
        </p:blipFill>
        <p:spPr>
          <a:xfrm>
            <a:off x="2195640" y="333360"/>
            <a:ext cx="463860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янич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е одно «вкусное» дерево. Его плоды внешне действительно напоминают плоды земляники – ярко-красные с мелкобугорчатой поверхностью. Плоды земляничного дерева съедобны, они сочные и сладкие. Из них готовят варенье, вино и лик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yamamomo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4:00:51Z</dcterms:created>
  <dc:creator>user</dc:creator>
  <dc:description/>
  <dc:language>en-US</dc:language>
  <cp:lastModifiedBy>Admin</cp:lastModifiedBy>
  <dcterms:modified xsi:type="dcterms:W3CDTF">2012-05-27T08:10:42Z</dcterms:modified>
  <cp:revision>4</cp:revision>
  <dc:subject/>
  <dc:title>Слайд 1</dc:title>
</cp:coreProperties>
</file>