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799-B9FB-4BE1-9849-BC3AA95F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4AB-EF26-41B8-BF65-DD944780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B77-9728-44D9-9DC2-26E3BC38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356-770B-4F64-B443-12E6FCA0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CB7D-8744-47F0-A164-DD4AE1C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EC6B-2A3C-43CA-AA9F-603E7FA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B956-D53D-42BD-B1B4-93547046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990-EF42-47AC-88DB-B5898CB7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355E-A61A-4473-83B2-6D225B2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890E-DA45-4A2A-9BEA-B977ED33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7C5-2198-4ECE-B970-16593E6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EFF-F64B-4F74-8B11-6E4E5F4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178-71BA-4F0F-802A-149E7CAB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AD2C-3C06-4DC6-9096-D169BF8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E1A-FBB7-49EA-820E-5CFAC7C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937D-CE93-41FD-A86B-239DE16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50BC-0FA3-4A27-AFE4-4B36EC90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A56D-4F8D-486D-8F1B-5D327F1F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C459-E237-4460-9D5F-FDCA197E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553F-5AC2-4A1F-9283-99812C26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C12E-5A8A-49E7-8B28-A1D11A6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1B21-256A-4990-BE63-2009C2B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833-12B6-424B-BEEC-194DC1E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7DA7-A0B3-4BAD-8871-360679D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070F-7FE8-49A6-BEF2-236DDC6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60F3-4922-4D75-AC0F-E99D8CE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2B21-10F0-4F30-B8D0-095396FE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7829-BADE-458B-9490-1129D986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3978-A68C-4116-8990-C57721C1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0103-061B-4F3D-8FF0-A75215D4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24E-CE3E-4FA9-9B72-BEDC11DB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A30-5B9F-429F-B35E-2C6594A3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74C-5639-4A6D-A6AA-442DDD9A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5E8-4468-4517-B4B0-3283F32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F6C-1D4C-48F2-9E8B-2A2CF4E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47C-1C62-4032-86D8-AE4C5452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FA4-E708-4BF1-BFC6-DCB33878E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4FA-D14B-4E77-B961-CBF5F412BB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AADF-5101-4456-A07B-F342DF45912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4" descr="IMGA0166"/>
          <p:cNvPicPr/>
          <p:nvPr/>
        </p:nvPicPr>
        <p:blipFill>
          <a:blip r:embed="rId1"/>
          <a:stretch/>
        </p:blipFill>
        <p:spPr>
          <a:xfrm>
            <a:off x="507960" y="345456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IMGA0151"/>
          <p:cNvPicPr/>
          <p:nvPr/>
        </p:nvPicPr>
        <p:blipFill>
          <a:blip r:embed="rId2"/>
          <a:stretch/>
        </p:blipFill>
        <p:spPr>
          <a:xfrm>
            <a:off x="4859280" y="3400560"/>
            <a:ext cx="4102200" cy="30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IMGA0165"/>
          <p:cNvPicPr/>
          <p:nvPr/>
        </p:nvPicPr>
        <p:blipFill>
          <a:blip r:embed="rId3"/>
          <a:stretch/>
        </p:blipFill>
        <p:spPr>
          <a:xfrm>
            <a:off x="108000" y="114480"/>
            <a:ext cx="3711600" cy="27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IMGA0162"/>
          <p:cNvPicPr/>
          <p:nvPr/>
        </p:nvPicPr>
        <p:blipFill>
          <a:blip r:embed="rId4"/>
          <a:stretch/>
        </p:blipFill>
        <p:spPr>
          <a:xfrm>
            <a:off x="5292720" y="114480"/>
            <a:ext cx="345744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40048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растёт на клум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асная книга предупреждает какие растения находятся в опасности. Она призывает беречь и защищать редкие и исчезающие виды растени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031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образие  ц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003"/>
          <p:cNvPicPr/>
          <p:nvPr/>
        </p:nvPicPr>
        <p:blipFill>
          <a:blip r:embed="rId2"/>
          <a:stretch/>
        </p:blipFill>
        <p:spPr>
          <a:xfrm>
            <a:off x="324000" y="98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007"/>
          <p:cNvPicPr/>
          <p:nvPr/>
        </p:nvPicPr>
        <p:blipFill>
          <a:blip r:embed="rId3"/>
          <a:stretch/>
        </p:blipFill>
        <p:spPr>
          <a:xfrm>
            <a:off x="5003640" y="907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040"/>
          <p:cNvPicPr/>
          <p:nvPr/>
        </p:nvPicPr>
        <p:blipFill>
          <a:blip r:embed="rId4"/>
          <a:stretch/>
        </p:blipFill>
        <p:spPr>
          <a:xfrm>
            <a:off x="324000" y="393372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p (337)"/>
          <p:cNvPicPr/>
          <p:nvPr/>
        </p:nvPicPr>
        <p:blipFill>
          <a:blip r:embed="rId5"/>
          <a:stretch/>
        </p:blipFill>
        <p:spPr>
          <a:xfrm>
            <a:off x="5076720" y="393372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.  Что такое цветок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.  Группы цвет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  Роль цветов в природ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  Цветы в народном творч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5.  Знакомство с Красной книг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ть растения, на котором образуется плод, а также само раст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ph-10401"/>
          <p:cNvPicPr/>
          <p:nvPr/>
        </p:nvPicPr>
        <p:blipFill>
          <a:blip r:embed="rId1"/>
          <a:stretch/>
        </p:blipFill>
        <p:spPr>
          <a:xfrm>
            <a:off x="5724360" y="260280"/>
            <a:ext cx="2919600" cy="2189160"/>
          </a:xfrm>
          <a:prstGeom prst="rect">
            <a:avLst/>
          </a:prstGeom>
          <a:ln w="0">
            <a:noFill/>
          </a:ln>
        </p:spPr>
      </p:pic>
      <p:grpSp>
        <p:nvGrpSpPr>
          <p:cNvPr id="170" name="Organization Chart 7"/>
          <p:cNvGrpSpPr/>
          <p:nvPr/>
        </p:nvGrpSpPr>
        <p:grpSpPr>
          <a:xfrm>
            <a:off x="2771640" y="4440600"/>
            <a:ext cx="4038840" cy="1044000"/>
            <a:chOff x="2771640" y="4440600"/>
            <a:chExt cx="4038840" cy="1044000"/>
          </a:xfrm>
        </p:grpSpPr>
        <p:cxnSp>
          <p:nvCxnSpPr>
            <p:cNvPr id="171" name="_s1028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387040" y="4249800"/>
              <a:ext cx="230400" cy="1423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4" name="_s1029"/>
            <p:cNvCxnSpPr>
              <a:stCxn id="175" idx="0"/>
              <a:endCxn id="173" idx="2"/>
            </p:cNvCxnSpPr>
            <p:nvPr/>
          </p:nvCxnSpPr>
          <p:spPr>
            <a:xfrm flipV="1">
              <a:off x="4790880" y="4846680"/>
              <a:ext cx="2160" cy="2304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1030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965040" y="4250880"/>
              <a:ext cx="230400" cy="1422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3" name="_s1031"/>
            <p:cNvSpPr/>
            <p:nvPr/>
          </p:nvSpPr>
          <p:spPr>
            <a:xfrm>
              <a:off x="4192920" y="444060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ве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2"/>
            <p:cNvSpPr/>
            <p:nvPr/>
          </p:nvSpPr>
          <p:spPr>
            <a:xfrm>
              <a:off x="277164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Луг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3"/>
            <p:cNvSpPr/>
            <p:nvPr/>
          </p:nvSpPr>
          <p:spPr>
            <a:xfrm>
              <a:off x="419292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4"/>
            <p:cNvSpPr/>
            <p:nvPr/>
          </p:nvSpPr>
          <p:spPr>
            <a:xfrm>
              <a:off x="5614560" y="5077080"/>
              <a:ext cx="1195920" cy="4075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ад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веты лу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7" descr="025"/>
          <p:cNvPicPr/>
          <p:nvPr/>
        </p:nvPicPr>
        <p:blipFill>
          <a:blip r:embed="rId1"/>
          <a:stretch/>
        </p:blipFill>
        <p:spPr>
          <a:xfrm>
            <a:off x="179280" y="1125360"/>
            <a:ext cx="2919600" cy="2189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040"/>
          <p:cNvPicPr/>
          <p:nvPr/>
        </p:nvPicPr>
        <p:blipFill>
          <a:blip r:embed="rId2"/>
          <a:stretch/>
        </p:blipFill>
        <p:spPr>
          <a:xfrm>
            <a:off x="6012000" y="1197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027"/>
          <p:cNvPicPr/>
          <p:nvPr/>
        </p:nvPicPr>
        <p:blipFill>
          <a:blip r:embed="rId3"/>
          <a:stretch/>
        </p:blipFill>
        <p:spPr>
          <a:xfrm>
            <a:off x="250920" y="429264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019"/>
          <p:cNvPicPr/>
          <p:nvPr/>
        </p:nvPicPr>
        <p:blipFill>
          <a:blip r:embed="rId4"/>
          <a:stretch/>
        </p:blipFill>
        <p:spPr>
          <a:xfrm>
            <a:off x="5867280" y="4292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"/>
          <p:cNvSpPr/>
          <p:nvPr/>
        </p:nvSpPr>
        <p:spPr>
          <a:xfrm>
            <a:off x="6806880" y="6922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39640" y="62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68360" y="3716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73272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708360" y="2997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цветы растут на л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ле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силек-сорняк в поле, а в медицине - лекарственное раст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005"/>
          <p:cNvPicPr/>
          <p:nvPr/>
        </p:nvPicPr>
        <p:blipFill>
          <a:blip r:embed="rId1"/>
          <a:stretch/>
        </p:blipFill>
        <p:spPr>
          <a:xfrm>
            <a:off x="4211640" y="2349360"/>
            <a:ext cx="4932360" cy="4508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68360" y="4653000"/>
            <a:ext cx="33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цветы растут в по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довые ц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Есть цветы, которые люди вывели упорным и многолетним трудом, сделали их разнообразными по форме и цвету. Это декоративные цве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101"/>
          <p:cNvPicPr/>
          <p:nvPr/>
        </p:nvPicPr>
        <p:blipFill>
          <a:blip r:embed="rId1"/>
          <a:stretch/>
        </p:blipFill>
        <p:spPr>
          <a:xfrm>
            <a:off x="5003640" y="198900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4932360" y="5445000"/>
            <a:ext cx="374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декоративные цветы вы зна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цветов в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веты создал человек для того, чтобы украсить сады, парки, скверы. Они приносят людям радость и поднимают настроение. К любому празднику принято дарить цве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4" descr="102"/>
          <p:cNvPicPr/>
          <p:nvPr/>
        </p:nvPicPr>
        <p:blipFill>
          <a:blip r:embed="rId1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102"/>
          <p:cNvPicPr/>
          <p:nvPr/>
        </p:nvPicPr>
        <p:blipFill>
          <a:blip r:embed="rId2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102"/>
          <p:cNvPicPr/>
          <p:nvPr/>
        </p:nvPicPr>
        <p:blipFill>
          <a:blip r:embed="rId3"/>
          <a:stretch/>
        </p:blipFill>
        <p:spPr>
          <a:xfrm>
            <a:off x="4356000" y="1268280"/>
            <a:ext cx="478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веты в народн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964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издавна рисовали цветы, украшали ими одежду, посуду, игрушки. На Руси женщины украшали себя цветными пла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507"/>
          <p:cNvPicPr/>
          <p:nvPr/>
        </p:nvPicPr>
        <p:blipFill>
          <a:blip r:embed="rId1"/>
          <a:stretch/>
        </p:blipFill>
        <p:spPr>
          <a:xfrm>
            <a:off x="2411280" y="3141720"/>
            <a:ext cx="4681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37:23Z</dcterms:created>
  <dc:creator>Владелец</dc:creator>
  <dc:description/>
  <dc:language>en-US</dc:language>
  <cp:lastModifiedBy>Коля</cp:lastModifiedBy>
  <dcterms:modified xsi:type="dcterms:W3CDTF">2013-03-24T19:03:41Z</dcterms:modified>
  <cp:revision>24</cp:revision>
  <dc:subject/>
  <dc:title>Цветы и челове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