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43D-DBE5-459C-A5AC-1A6F5D7B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DB5-4E1A-4D22-B438-2FA81433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0277-7668-44FA-B639-CF33032F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530-6E29-4025-A408-55B2299A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92CC-EDCD-4F09-B323-86306E76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8F74-EB93-48EF-895C-B681A0AB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29F2-5511-4362-9A61-6F5C98CD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2011-CA50-4B20-91E6-C6EAD5AB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E4D9-1DB8-4E06-B21A-5E40A435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5450-D69B-4B8D-ADE4-BC23C891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91AF-FB51-4492-AF7B-7C98FCA7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5E8-A78A-4A74-92AE-8155472C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3CEF-5416-4881-83F0-772172D7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5384-BF9F-49BE-A302-9BD58DEC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ABC4-3E2D-4052-B7EF-C86205CA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43B0-2E1A-4F05-8F7C-771F30D4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D8C0-E280-4723-ADA7-54586E66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AA889-BF87-406B-8F1E-7B05348A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9525B-109C-4ECE-802A-5CEF22CD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B5C34-043F-4E90-8D22-09AE676E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42829-8625-4545-ACB2-B9812A2B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27463-E743-4CE8-8349-233935B8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CF8-C5F3-4081-B7B9-6FA37F97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692E1-4318-4C27-AF7C-59B4415F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191B6-9063-4A3E-8D3C-E8679B34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F4793-6310-40AF-922E-D82E02ED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81C8-1D2E-43A0-BA7B-D37819D2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577FC-89E7-431A-B856-5FDD016E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5A6FF-BAAD-40B7-9159-2FAC5AD6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54D57-7E64-44A8-8B7B-F811A229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F0E-D91F-4179-8B59-AF8FF78F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2D4-4DF4-433D-9DA4-72AFC8AB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C84-A372-4825-AC5E-98B0216C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701-5868-4F5D-A069-92037E2D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AC5-8514-4F42-B57D-B9CFB4EF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6AD-34A2-4B5B-8AF2-C414E482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79D2-3909-4899-A3D7-F4FD96CFB4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9198-C1BC-41C5-B7AA-1351CB7957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7BCC-2269-4397-9E21-774A715407D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4" descr="IMGA0166"/>
          <p:cNvPicPr/>
          <p:nvPr/>
        </p:nvPicPr>
        <p:blipFill>
          <a:blip r:embed="rId1"/>
          <a:stretch/>
        </p:blipFill>
        <p:spPr>
          <a:xfrm>
            <a:off x="507960" y="3454560"/>
            <a:ext cx="3959280" cy="2968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IMGA0151"/>
          <p:cNvPicPr/>
          <p:nvPr/>
        </p:nvPicPr>
        <p:blipFill>
          <a:blip r:embed="rId2"/>
          <a:stretch/>
        </p:blipFill>
        <p:spPr>
          <a:xfrm>
            <a:off x="4859280" y="340056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IMGA0165"/>
          <p:cNvPicPr/>
          <p:nvPr/>
        </p:nvPicPr>
        <p:blipFill>
          <a:blip r:embed="rId3"/>
          <a:stretch/>
        </p:blipFill>
        <p:spPr>
          <a:xfrm>
            <a:off x="108000" y="114480"/>
            <a:ext cx="3711600" cy="278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IMGA0162"/>
          <p:cNvPicPr/>
          <p:nvPr/>
        </p:nvPicPr>
        <p:blipFill>
          <a:blip r:embed="rId4"/>
          <a:stretch/>
        </p:blipFill>
        <p:spPr>
          <a:xfrm>
            <a:off x="5292720" y="114480"/>
            <a:ext cx="3457440" cy="2593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400480"/>
            <a:ext cx="7772400" cy="14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растёт на клумб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Красная книг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асная книга предупреждает какие растения находятся в опасности. Она призывает беречь и защищать редкие и исчезающие виды растени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6" name="Picture 4" descr="031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нообразие  цв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003"/>
          <p:cNvPicPr/>
          <p:nvPr/>
        </p:nvPicPr>
        <p:blipFill>
          <a:blip r:embed="rId2"/>
          <a:stretch/>
        </p:blipFill>
        <p:spPr>
          <a:xfrm>
            <a:off x="324000" y="981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007"/>
          <p:cNvPicPr/>
          <p:nvPr/>
        </p:nvPicPr>
        <p:blipFill>
          <a:blip r:embed="rId3"/>
          <a:stretch/>
        </p:blipFill>
        <p:spPr>
          <a:xfrm>
            <a:off x="5003640" y="90792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040"/>
          <p:cNvPicPr/>
          <p:nvPr/>
        </p:nvPicPr>
        <p:blipFill>
          <a:blip r:embed="rId4"/>
          <a:stretch/>
        </p:blipFill>
        <p:spPr>
          <a:xfrm>
            <a:off x="324000" y="393372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p (337)"/>
          <p:cNvPicPr/>
          <p:nvPr/>
        </p:nvPicPr>
        <p:blipFill>
          <a:blip r:embed="rId5"/>
          <a:stretch/>
        </p:blipFill>
        <p:spPr>
          <a:xfrm>
            <a:off x="5076720" y="393372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1.  Что такое цветок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2.  Группы цвет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3.  Роль цветов в природ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4.  Цветы в народном творчеств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5.  Знакомство с Красной книг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54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вето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асть растения, на котором образуется плод, а также само растени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4" descr="ph-10401"/>
          <p:cNvPicPr/>
          <p:nvPr/>
        </p:nvPicPr>
        <p:blipFill>
          <a:blip r:embed="rId1"/>
          <a:stretch/>
        </p:blipFill>
        <p:spPr>
          <a:xfrm>
            <a:off x="5724360" y="260280"/>
            <a:ext cx="2919600" cy="2189160"/>
          </a:xfrm>
          <a:prstGeom prst="rect">
            <a:avLst/>
          </a:prstGeom>
          <a:ln w="0">
            <a:noFill/>
          </a:ln>
        </p:spPr>
      </p:pic>
      <p:grpSp>
        <p:nvGrpSpPr>
          <p:cNvPr id="170" name="Organization Chart 7"/>
          <p:cNvGrpSpPr/>
          <p:nvPr/>
        </p:nvGrpSpPr>
        <p:grpSpPr>
          <a:xfrm>
            <a:off x="2771640" y="4440600"/>
            <a:ext cx="4038840" cy="1044000"/>
            <a:chOff x="2771640" y="4440600"/>
            <a:chExt cx="4038840" cy="1044000"/>
          </a:xfrm>
        </p:grpSpPr>
        <p:cxnSp>
          <p:nvCxnSpPr>
            <p:cNvPr id="171" name="_s1028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5387040" y="4249800"/>
              <a:ext cx="230400" cy="14238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4" name="_s1029"/>
            <p:cNvCxnSpPr>
              <a:stCxn id="175" idx="0"/>
              <a:endCxn id="173" idx="2"/>
            </p:cNvCxnSpPr>
            <p:nvPr/>
          </p:nvCxnSpPr>
          <p:spPr>
            <a:xfrm flipV="1">
              <a:off x="4790880" y="4846680"/>
              <a:ext cx="2160" cy="2304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6" name="_s1030"/>
            <p:cNvCxnSpPr>
              <a:stCxn id="177" idx="0"/>
              <a:endCxn id="173" idx="2"/>
            </p:cNvCxnSpPr>
            <p:nvPr/>
          </p:nvCxnSpPr>
          <p:spPr>
            <a:xfrm flipH="1" flipV="1" rot="5400000">
              <a:off x="3965040" y="4250880"/>
              <a:ext cx="230400" cy="14220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73" name="_s1031"/>
            <p:cNvSpPr/>
            <p:nvPr/>
          </p:nvSpPr>
          <p:spPr>
            <a:xfrm>
              <a:off x="4192920" y="4440600"/>
              <a:ext cx="1195920" cy="407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Цве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32"/>
            <p:cNvSpPr/>
            <p:nvPr/>
          </p:nvSpPr>
          <p:spPr>
            <a:xfrm>
              <a:off x="2771640" y="5077080"/>
              <a:ext cx="1195920" cy="407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Луг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3"/>
            <p:cNvSpPr/>
            <p:nvPr/>
          </p:nvSpPr>
          <p:spPr>
            <a:xfrm>
              <a:off x="4192920" y="5077080"/>
              <a:ext cx="1195920" cy="407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ле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34"/>
            <p:cNvSpPr/>
            <p:nvPr/>
          </p:nvSpPr>
          <p:spPr>
            <a:xfrm>
              <a:off x="5614560" y="5077080"/>
              <a:ext cx="1195920" cy="407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ад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Цветы луг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9" name="Picture 7" descr="025"/>
          <p:cNvPicPr/>
          <p:nvPr/>
        </p:nvPicPr>
        <p:blipFill>
          <a:blip r:embed="rId1"/>
          <a:stretch/>
        </p:blipFill>
        <p:spPr>
          <a:xfrm>
            <a:off x="179280" y="1125360"/>
            <a:ext cx="2919600" cy="2189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040"/>
          <p:cNvPicPr/>
          <p:nvPr/>
        </p:nvPicPr>
        <p:blipFill>
          <a:blip r:embed="rId2"/>
          <a:stretch/>
        </p:blipFill>
        <p:spPr>
          <a:xfrm>
            <a:off x="6012000" y="11970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027"/>
          <p:cNvPicPr/>
          <p:nvPr/>
        </p:nvPicPr>
        <p:blipFill>
          <a:blip r:embed="rId3"/>
          <a:stretch/>
        </p:blipFill>
        <p:spPr>
          <a:xfrm>
            <a:off x="250920" y="429264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019"/>
          <p:cNvPicPr/>
          <p:nvPr/>
        </p:nvPicPr>
        <p:blipFill>
          <a:blip r:embed="rId4"/>
          <a:stretch/>
        </p:blipFill>
        <p:spPr>
          <a:xfrm>
            <a:off x="5867280" y="429264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3"/>
          <p:cNvSpPr/>
          <p:nvPr/>
        </p:nvSpPr>
        <p:spPr>
          <a:xfrm>
            <a:off x="6806880" y="69228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539640" y="620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468360" y="3716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6732720" y="378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3708360" y="299736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цветы растут на луг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левые цве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асилек-сорняк в поле, а в медицине - лекарственное раст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4" descr="005"/>
          <p:cNvPicPr/>
          <p:nvPr/>
        </p:nvPicPr>
        <p:blipFill>
          <a:blip r:embed="rId1"/>
          <a:stretch/>
        </p:blipFill>
        <p:spPr>
          <a:xfrm>
            <a:off x="4211640" y="2349360"/>
            <a:ext cx="4932360" cy="45086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468360" y="4653000"/>
            <a:ext cx="331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цветы растут в пол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адовые цве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Есть цветы, которые люди вывели упорным и многолетним трудом, сделали их разнообразными по форме и цвету. Это декоративные цвет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4" descr="101"/>
          <p:cNvPicPr/>
          <p:nvPr/>
        </p:nvPicPr>
        <p:blipFill>
          <a:blip r:embed="rId1"/>
          <a:stretch/>
        </p:blipFill>
        <p:spPr>
          <a:xfrm>
            <a:off x="5003640" y="198900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4932360" y="5445000"/>
            <a:ext cx="374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декоративные цветы вы знае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оль цветов в жизни челове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Цветы создал человек для того, чтобы украсить сады, парки, скверы. Они приносят людям радость и поднимают настроение. К любому празднику принято дарить цвет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4" descr="102"/>
          <p:cNvPicPr/>
          <p:nvPr/>
        </p:nvPicPr>
        <p:blipFill>
          <a:blip r:embed="rId1"/>
          <a:stretch/>
        </p:blipFill>
        <p:spPr>
          <a:xfrm>
            <a:off x="4356000" y="1268280"/>
            <a:ext cx="4788000" cy="338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102"/>
          <p:cNvPicPr/>
          <p:nvPr/>
        </p:nvPicPr>
        <p:blipFill>
          <a:blip r:embed="rId2"/>
          <a:stretch/>
        </p:blipFill>
        <p:spPr>
          <a:xfrm>
            <a:off x="4356000" y="1268280"/>
            <a:ext cx="4788000" cy="3384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102"/>
          <p:cNvPicPr/>
          <p:nvPr/>
        </p:nvPicPr>
        <p:blipFill>
          <a:blip r:embed="rId3"/>
          <a:stretch/>
        </p:blipFill>
        <p:spPr>
          <a:xfrm>
            <a:off x="4356000" y="1268280"/>
            <a:ext cx="4788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веты в народном творчеств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9640" y="191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и издавна рисовали цветы, украшали ими одежду, посуду, игрушки. На Руси женщины украшали себя цветными пла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507"/>
          <p:cNvPicPr/>
          <p:nvPr/>
        </p:nvPicPr>
        <p:blipFill>
          <a:blip r:embed="rId1"/>
          <a:stretch/>
        </p:blipFill>
        <p:spPr>
          <a:xfrm>
            <a:off x="2411280" y="3141720"/>
            <a:ext cx="46818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37:23Z</dcterms:created>
  <dc:creator>Владелец</dc:creator>
  <dc:description/>
  <dc:language>en-US</dc:language>
  <cp:lastModifiedBy>Коля</cp:lastModifiedBy>
  <dcterms:modified xsi:type="dcterms:W3CDTF">2013-03-24T19:03:41Z</dcterms:modified>
  <cp:revision>24</cp:revision>
  <dc:subject/>
  <dc:title>Цветы и челове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c000000000001024140</vt:lpwstr>
  </property>
</Properties>
</file>