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679-155B-4FFB-A3A2-169E36C6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E20-4FA6-45A9-BE14-056612E8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243-A70B-4A0B-B38E-479E215A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F14-506A-44E3-A5C6-41B09806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B033-A3D5-4F2C-ADCB-764D7FFD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E5EC-E44D-4794-BB0A-2A4FC49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B42-5F96-412B-AC1B-CD8AB3C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C1F-7B12-43D4-B92A-9EA87F6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E73D-6616-4206-9D51-BC986AF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EAB-AB8E-41D4-A7DB-2B5729F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59A-A067-4A59-985E-2FAE18D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A2F-5870-4A65-8186-732194EC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8C17-36FA-4B44-A8B5-CBDE399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4D24-6F7A-436D-878F-563B59A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EBD9-8345-43EC-9DBA-425C6C7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C46D-99D2-4ED8-B7A6-AA99B7E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45E3-F84F-4D93-9A33-E96BDA1E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AD06-F916-4B3F-9CA7-6D88A7BC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8264-93D7-4752-AA21-8B4DF8A7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A69A-A2C6-411C-810E-848DA65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A7C3-F76C-4315-8956-C26CF18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ECC9-661D-4A1B-9197-5F04A85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502-7F90-4054-A954-CAC93BFF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643C-8BC7-4D29-8933-74FA8120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A98E-D7D4-48E3-9ABC-E45CF9A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61FE-EFC9-4475-B08F-7B10DE6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08F9-4F61-4526-AEE8-3317D36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154F-54A1-40B6-8E32-B12078C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D564-EE12-419C-9652-26334CD5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0544-50A1-4A1C-92BC-DD6DC365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927-AEB9-46F0-9D27-6868383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6C8-961E-4092-86CF-751B4B5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AFA-324D-4D6D-A429-6D7FE20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125-70C5-4874-83FE-C778D59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991-A05C-4F07-A81A-836B921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034-F47B-4BDF-94F0-B556BEA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1D8B-C6FE-4209-BD5F-61892FF93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5A54-65E1-4794-AB72-ACA12B33DC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580-135E-4006-8984-F1DC5D1515E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IMGA0166"/>
          <p:cNvPicPr/>
          <p:nvPr/>
        </p:nvPicPr>
        <p:blipFill>
          <a:blip r:embed="rId1"/>
          <a:stretch/>
        </p:blipFill>
        <p:spPr>
          <a:xfrm>
            <a:off x="507960" y="345456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IMGA0151"/>
          <p:cNvPicPr/>
          <p:nvPr/>
        </p:nvPicPr>
        <p:blipFill>
          <a:blip r:embed="rId2"/>
          <a:stretch/>
        </p:blipFill>
        <p:spPr>
          <a:xfrm>
            <a:off x="4859280" y="34005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IMGA0165"/>
          <p:cNvPicPr/>
          <p:nvPr/>
        </p:nvPicPr>
        <p:blipFill>
          <a:blip r:embed="rId3"/>
          <a:stretch/>
        </p:blipFill>
        <p:spPr>
          <a:xfrm>
            <a:off x="108000" y="114480"/>
            <a:ext cx="3711600" cy="27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IMGA0162"/>
          <p:cNvPicPr/>
          <p:nvPr/>
        </p:nvPicPr>
        <p:blipFill>
          <a:blip r:embed="rId4"/>
          <a:stretch/>
        </p:blipFill>
        <p:spPr>
          <a:xfrm>
            <a:off x="5292720" y="114480"/>
            <a:ext cx="345744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40048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растёт на клум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асная книга предупреждает какие растения находятся в опасности. Она призывает беречь и защищать редкие и исчезающие виды раст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031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образие  ц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003"/>
          <p:cNvPicPr/>
          <p:nvPr/>
        </p:nvPicPr>
        <p:blipFill>
          <a:blip r:embed="rId2"/>
          <a:stretch/>
        </p:blipFill>
        <p:spPr>
          <a:xfrm>
            <a:off x="324000" y="98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007"/>
          <p:cNvPicPr/>
          <p:nvPr/>
        </p:nvPicPr>
        <p:blipFill>
          <a:blip r:embed="rId3"/>
          <a:stretch/>
        </p:blipFill>
        <p:spPr>
          <a:xfrm>
            <a:off x="5003640" y="907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040"/>
          <p:cNvPicPr/>
          <p:nvPr/>
        </p:nvPicPr>
        <p:blipFill>
          <a:blip r:embed="rId4"/>
          <a:stretch/>
        </p:blipFill>
        <p:spPr>
          <a:xfrm>
            <a:off x="324000" y="393372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 (337)"/>
          <p:cNvPicPr/>
          <p:nvPr/>
        </p:nvPicPr>
        <p:blipFill>
          <a:blip r:embed="rId5"/>
          <a:stretch/>
        </p:blipFill>
        <p:spPr>
          <a:xfrm>
            <a:off x="5076720" y="393372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.  Что такое цветок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.  Группы цвет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  Роль цветов в природ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  Цветы в народном творч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5.  Знакомство с Красной книг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ть растения, на котором образуется плод, а также само раст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ph-10401"/>
          <p:cNvPicPr/>
          <p:nvPr/>
        </p:nvPicPr>
        <p:blipFill>
          <a:blip r:embed="rId1"/>
          <a:stretch/>
        </p:blipFill>
        <p:spPr>
          <a:xfrm>
            <a:off x="5724360" y="260280"/>
            <a:ext cx="2919600" cy="2189160"/>
          </a:xfrm>
          <a:prstGeom prst="rect">
            <a:avLst/>
          </a:prstGeom>
          <a:ln w="0">
            <a:noFill/>
          </a:ln>
        </p:spPr>
      </p:pic>
      <p:grpSp>
        <p:nvGrpSpPr>
          <p:cNvPr id="170" name="Organization Chart 7"/>
          <p:cNvGrpSpPr/>
          <p:nvPr/>
        </p:nvGrpSpPr>
        <p:grpSpPr>
          <a:xfrm>
            <a:off x="2771640" y="4440600"/>
            <a:ext cx="4038840" cy="1044000"/>
            <a:chOff x="2771640" y="4440600"/>
            <a:chExt cx="4038840" cy="1044000"/>
          </a:xfrm>
        </p:grpSpPr>
        <p:cxnSp>
          <p:nvCxnSpPr>
            <p:cNvPr id="171" name="_s10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387040" y="4249800"/>
              <a:ext cx="230400" cy="1423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4" name="_s1029"/>
            <p:cNvCxnSpPr>
              <a:stCxn id="175" idx="0"/>
              <a:endCxn id="173" idx="2"/>
            </p:cNvCxnSpPr>
            <p:nvPr/>
          </p:nvCxnSpPr>
          <p:spPr>
            <a:xfrm flipV="1">
              <a:off x="4790880" y="4846680"/>
              <a:ext cx="2160" cy="2304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1030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965040" y="4250880"/>
              <a:ext cx="230400" cy="1422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3" name="_s1031"/>
            <p:cNvSpPr/>
            <p:nvPr/>
          </p:nvSpPr>
          <p:spPr>
            <a:xfrm>
              <a:off x="4192920" y="444060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ве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2"/>
            <p:cNvSpPr/>
            <p:nvPr/>
          </p:nvSpPr>
          <p:spPr>
            <a:xfrm>
              <a:off x="277164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уг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419292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>
              <a:off x="561456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д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веты лу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7" descr="025"/>
          <p:cNvPicPr/>
          <p:nvPr/>
        </p:nvPicPr>
        <p:blipFill>
          <a:blip r:embed="rId1"/>
          <a:stretch/>
        </p:blipFill>
        <p:spPr>
          <a:xfrm>
            <a:off x="179280" y="1125360"/>
            <a:ext cx="2919600" cy="2189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040"/>
          <p:cNvPicPr/>
          <p:nvPr/>
        </p:nvPicPr>
        <p:blipFill>
          <a:blip r:embed="rId2"/>
          <a:stretch/>
        </p:blipFill>
        <p:spPr>
          <a:xfrm>
            <a:off x="6012000" y="1197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027"/>
          <p:cNvPicPr/>
          <p:nvPr/>
        </p:nvPicPr>
        <p:blipFill>
          <a:blip r:embed="rId3"/>
          <a:stretch/>
        </p:blipFill>
        <p:spPr>
          <a:xfrm>
            <a:off x="250920" y="4292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019"/>
          <p:cNvPicPr/>
          <p:nvPr/>
        </p:nvPicPr>
        <p:blipFill>
          <a:blip r:embed="rId4"/>
          <a:stretch/>
        </p:blipFill>
        <p:spPr>
          <a:xfrm>
            <a:off x="5867280" y="4292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6806880" y="6922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39640" y="62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68360" y="37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73272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708360" y="2997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цветы растут на л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ле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силек-сорняк в поле, а в медицине - лекарственное раст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005"/>
          <p:cNvPicPr/>
          <p:nvPr/>
        </p:nvPicPr>
        <p:blipFill>
          <a:blip r:embed="rId1"/>
          <a:stretch/>
        </p:blipFill>
        <p:spPr>
          <a:xfrm>
            <a:off x="4211640" y="2349360"/>
            <a:ext cx="4932360" cy="4508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68360" y="4653000"/>
            <a:ext cx="33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цветы растут в по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до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ть цветы, которые люди вывели упорным и многолетним трудом, сделали их разнообразными по форме и цвету. Это декоративные цве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101"/>
          <p:cNvPicPr/>
          <p:nvPr/>
        </p:nvPicPr>
        <p:blipFill>
          <a:blip r:embed="rId1"/>
          <a:stretch/>
        </p:blipFill>
        <p:spPr>
          <a:xfrm>
            <a:off x="5003640" y="198900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4932360" y="54450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екоративные цветы вы зна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цветов в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веты создал человек для того, чтобы украсить сады, парки, скверы. Они приносят людям радость и поднимают настроение. К любому празднику принято дарить цве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4" descr="102"/>
          <p:cNvPicPr/>
          <p:nvPr/>
        </p:nvPicPr>
        <p:blipFill>
          <a:blip r:embed="rId1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102"/>
          <p:cNvPicPr/>
          <p:nvPr/>
        </p:nvPicPr>
        <p:blipFill>
          <a:blip r:embed="rId2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102"/>
          <p:cNvPicPr/>
          <p:nvPr/>
        </p:nvPicPr>
        <p:blipFill>
          <a:blip r:embed="rId3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ы в народн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964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здавна рисовали цветы, украшали ими одежду, посуду, игрушки. На Руси женщины украшали себя цветными пла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507"/>
          <p:cNvPicPr/>
          <p:nvPr/>
        </p:nvPicPr>
        <p:blipFill>
          <a:blip r:embed="rId1"/>
          <a:stretch/>
        </p:blipFill>
        <p:spPr>
          <a:xfrm>
            <a:off x="2411280" y="3141720"/>
            <a:ext cx="4681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37:23Z</dcterms:created>
  <dc:creator>Владелец</dc:creator>
  <dc:description/>
  <dc:language>en-US</dc:language>
  <cp:lastModifiedBy>Коля</cp:lastModifiedBy>
  <dcterms:modified xsi:type="dcterms:W3CDTF">2013-03-24T19:03:41Z</dcterms:modified>
  <cp:revision>24</cp:revision>
  <dc:subject/>
  <dc:title>Цветы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