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C30-B05A-4907-A37E-82A61780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B25-E9C3-4C88-B22B-ADB88D3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DC8-3E71-4373-ABA2-80118054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85C-5EA4-4320-A34E-6E90EE90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634C-C422-4014-8DDD-7F8AD90F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260-8582-4D8D-92B1-A93B72A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9704-CB4E-4811-A794-FF716FB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9872-CC3A-4492-91E1-1F3BDF0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412B-3B3D-4EB0-B45E-CF572351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AF85-FEDB-4096-9B7B-0D33B33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94C1-7C07-4DEB-BC16-FAC73AC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AD3-2248-4C1A-BBAF-B744E73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5BB7-0230-41DE-8047-52721D6E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0B9A-8D8C-4117-8F24-A18D791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718-875C-4EAF-A249-C7EE454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ABA-9C32-497C-9D15-DCBA412A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6CC5-BD19-48FD-82BE-2F5A8A95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83D-01EC-4F1C-9271-080C45FF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2B0-152A-4023-A579-C10F16E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B41-2207-4283-908A-CF52141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8F7-4E06-4912-875F-67566CD0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678-2D07-43FE-8F13-8A4BC1D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13B-8C67-462C-B36B-FC4A9D1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14B-57A3-4872-AA38-4FEA229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1580-895A-4868-A77B-2C841FE38E8D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446-6684-4E59-A1D4-FD561D094035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79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Боливия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813600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213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Arial"/>
              </a:rPr>
              <a:t>Достопримечательност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- одна из самых высокогорных стран мира, самая изолированная и самобытная страна Южной Америки. Боливия – страна, большинство населения которой, является потомками южноамериканских индейцев – америндов. Жители Боливии до наших дней сохраняют культурные основы и верования своих предков. Анды, которые дали приют самобытной Боливийской нации, дарят также незабываемые впечатления искателям приключений, попавшим сюда: могучие заснеженные пики гор и вулканов, завораживающие долины, соляные озера, непроходимые джунгли и пустынные пампа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укр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ысокогорный город Сукре – сердце и душа Боливии, город который является официальной столицей страны. Исторический центр города внесен в список всемирного наследия ЮНЕСКО, и это неудивительно – очаровательные колониальные постройки города отличаются единством стиля, который свято охраняется местными властями. Все постройки выбелены в белый цвет, на фасадах белых зданий – темные балконы и двери, с обратной стороны домов - уютные дворики… В окрестностях Сукре раскинулась Долина Динозавров, любопытная с исторической точки зрения местность, в которой сохранились следы динозавров, животных и растений доисторической эпохи Земли 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Ла-Пас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Фактическая столица Боливии Ла-Пас является самой высокогорной столицей мира и отправной точкой для путешествия по стране. Очаровательная колониальная архитектура города на фоне незабываемых горных пейзажей, яркие одежды местных жителей, особая культура и стиль поведения местных жителей, национальная кухня – Ла-Пас во всех отношениях идеален для акклиматизации на высокогорье и знакомства с культурой этой самобытной страны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лар-де-Уюн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амое большое высохшее соляное озеро в мире Салар-де-Юни расположено высоко в горах на юге Боливии. Потрясающие воображение пейзажи этой местности уникальны: огромная соляная пустыня на фоне величественных Анд, которая во время дождей покрывается слоем воды, создавая неповторимый зеркальный эффект. В регионе много природных достопримечательностей: гейзеры, извергающие столпы воды, термальные источники, места обитания розовых фламинго, высокие кактус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циональный парк Мадид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Уникальный Национальный парк Мадиди, который занимает территорию около 19 тыс.кв.км., расположен в верховье великой реки Амазонка. Мадиди считается одним из самых биологически разнообразных регионов планеты. Его территории растянулись от холодных ледников Анд до жарких тропических лесов реки Туичи. Потрясающие ландшафты, дикость и удаленность этих мест, треккинг в джунгли, наблюдение за дикими животными и птицами заставляют путешественников преодолевать долгий и тяжелый путь к этому уникальному природном уголку планеты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920" y="549000"/>
            <a:ext cx="72388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спублика Боливия – государство в Центральной части Южной Америки, площадью 1 098 580 км2, держит несколько мировых рекордов высоты . Столица Боливии Сукре , но фактическое местопребывание правительства – Ла-Пас - самая высокогорная столица мира. В центре города на высоте примерно 4000м над уровнем моря трудно дышать из-за нехватки кислорода. Еще выше находятся районы бедноты, и только самые богатые горожане селятся в глубоком ущелье, где воздух влажнее и не такой разреженный. В Боливии административное территориальное деление: девять департаментов. Глава государства и правительства – президент. Законодательный орган – Национальный конгресс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Озеро Титика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амое высокогорное озеро в мире, в водах которого расположен уникальный озерный архипелаг. На большинстве из 36 островов архипелага живут представители древних индейских народностей аймара и кечуа. На островах сохранились останки древних цивилизаций, самые интересные из которых расположены на островах Солнца и Луны, где по преданию зарождалась цивилизация Инков. Потомки древней цивилизации Уро с давних времен сооружают из тростника плавучие острова Урос, которые дрейфуют по озеру… Между островами курсируют лодки, которые позволяют туристам ближе познакомится с традициями древних народностей и насладится красотами этого уникального природного уголка планеты. Главный город на озере со стороны Боливии – Копакабан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Самайпат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Маленький сонный город Самайпата, расположенный высоко в горах открывает доступ к мистическому месту, полному загадок древних цивилизай – Фуэрте-де-Самайпата. Огромный холм, на каменной поверхности которого высечены рисунки – по предположению историков связанные с верованиями и ритуалами древних индейских цивилизаций. Возле холма – останки древнего города. Сам городок Самайпата полон уютных готиниц и ресторанчиков и является отличной базой для исследования загадок древност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Географическое полож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Боливия занимает 27 место в списке стран по площади после Эфиопии. Страна не имеет выхода к морю с 1879 года, когда она потеряла прибрежную область Антофагаста в Тихоокеанской войне с Чили. Однако выход в Атлантический океан у Боливии есть — по реке Парагвай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отянувшись не более,чем на 950 миль (1,503 километров) с севера на юг и на 800 миль с востока на запад,Боливия граничит на севере и востоке с Бразилией,на юго-востоке с Парагваем, на юге с Аргентиной и на юго-западе с Чили и Перу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Наиболее крупные города Боливии: Ла-Пас, Эль-Альто, Санта-Крус-де-ла-Сьерра и Кочабамба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Населе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Численность населения — 9,9 млн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Годовой прирост — 1,7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редняя продолжительность жизни — 64 года у мужчин, 70 лет у женщин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тно-расовый состав — индейцы 55 % (в основном кечуа и аймара), метисы 30 %, белые 15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Языки — 3 официальных языка: испанский 60,7 %, кечуа 21,2 %, аймара 14,6 %; другие языки 3,6 %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елигии — католики 59 %, протестанты (евангелические методисты) 11 %, Атеисты и агностики 12 %, Инканизм 15 %, Буддизм и другие 3 %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Боливия обладает богатыми природными ресурсами — олово, газ, нефть, цинк, вольфрам, сурьа, серебро, железо, свинец, золото, лес, гидроэнергетические ресурсы. При этом Боливия остаётся одной из самых беднейших и наименее экономически развитых стран Латинской Амери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ВВП на душу населения— 4,8 тыс. долл. (150-е место в мире). Безработица — 8,5 %, ниже уровня бедности — 60 % населения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ельское хозяйство (11 % ВВП, 40 % работающих) — соя, кофе, кока, хлопчатник, кукуруза, сахарный тростник, рис, картофель; лесозаготовки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животноводство: крупный рогатый скот,овцеводство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Промышленность (37 % ВВП, 17 % работающих) — добыча олова и нефти, пищевая промышленность, табак, ручные ремёсла, одежд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Сфера обслуживания — 52 % ВВП, 43 % работающих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47:59Z</dcterms:created>
  <dc:creator>Admin</dc:creator>
  <dc:description/>
  <cp:keywords/>
  <dc:language>en-US</dc:language>
  <cp:lastModifiedBy>Admin</cp:lastModifiedBy>
  <dcterms:modified xsi:type="dcterms:W3CDTF">2011-03-17T19:55:28Z</dcterms:modified>
  <cp:revision>2</cp:revision>
  <dc:subject/>
  <dc:title>Болив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