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B33-B2AC-46BE-83D2-A0DEC492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FCE-0632-4353-8571-C02778D0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ADE-AD45-4190-905F-C3290FF2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153-69EF-4B8B-BD9A-73090901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B407-96EA-4F2F-84AE-1B76EC55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ADCE-4EA2-44C0-AD73-D16D2A84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84B4-D315-4806-A6B0-3D70C23C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574D-1E1D-458E-8364-227E5AEF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F552-495B-483E-B165-8BB9B698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58EF-A3CC-48D4-840B-78085E92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C7A3-9B8C-4843-A764-0FC10489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5FF-3071-451C-82D7-FC79F52C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25CC-DD9E-47B3-AC9E-C95CFB4B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7FBD-0F5F-40B5-A68D-206CF459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9986-0B7D-4209-B87D-89C0A4BC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EDBB-BA83-4B26-9C24-07DC584B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7DD1-472D-45CE-B715-8D52697B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EC9-B174-41DE-BE95-162697CA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522-1962-416E-82EC-85F3B7E7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262-8E26-4829-91A5-0F64E172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327-0630-4EE5-B7CA-4CAD9287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1AD-D3EF-4672-B473-FA34C1C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E30-607E-4DA9-8ADC-4D26586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863B-7B79-4874-8E9E-E42C78A4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FB2A-D6B3-4250-A8E0-C646A37D7C34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0298-39A8-4C57-94F6-083BE015BFBF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79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Arial"/>
              </a:rPr>
              <a:t>Боливия.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8136000" cy="3235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32130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Arial"/>
              </a:rPr>
              <a:t>Достопримечательности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Боливия - одна из самых высокогорных стран мира, самая изолированная и самобытная страна Южной Америки. Боливия – страна, большинство населения которой, является потомками южноамериканских индейцев – америндов. Жители Боливии до наших дней сохраняют культурные основы и верования своих предков. Анды, которые дали приют самобытной Боливийской нации, дарят также незабываемые впечатления искателям приключений, попавшим сюда: могучие заснеженные пики гор и вулканов, завораживающие долины, соляные озера, непроходимые джунгли и пустынные пампасы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Сукр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Высокогорный город Сукре – сердце и душа Боливии, город который является официальной столицей страны. Исторический центр города внесен в список всемирного наследия ЮНЕСКО, и это неудивительно – очаровательные колониальные постройки города отличаются единством стиля, который свято охраняется местными властями. Все постройки выбелены в белый цвет, на фасадах белых зданий – темные балконы и двери, с обратной стороны домов - уютные дворики… В окрестностях Сукре раскинулась Долина Динозавров, любопытная с исторической точки зрения местность, в которой сохранились следы динозавров, животных и растений доисторической эпохи Земли 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Ла-Пас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Фактическая столица Боливии Ла-Пас является самой высокогорной столицей мира и отправной точкой для путешествия по стране. Очаровательная колониальная архитектура города на фоне незабываемых горных пейзажей, яркие одежды местных жителей, особая культура и стиль поведения местных жителей, национальная кухня – Ла-Пас во всех отношениях идеален для акклиматизации на высокогорье и знакомства с культурой этой самобытной страны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Салар-де-Уюни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Самое большое высохшее соляное озеро в мире Салар-де-Юни расположено высоко в горах на юге Боливии. Потрясающие воображение пейзажи этой местности уникальны: огромная соляная пустыня на фоне величественных Анд, которая во время дождей покрывается слоем воды, создавая неповторимый зеркальный эффект. В регионе много природных достопримечательностей: гейзеры, извергающие столпы воды, термальные источники, места обитания розовых фламинго, высокие кактусы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Национальный парк Мадиди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Уникальный Национальный парк Мадиди, который занимает территорию около 19 тыс.кв.км., расположен в верховье великой реки Амазонка. Мадиди считается одним из самых биологически разнообразных регионов планеты. Его территории растянулись от холодных ледников Анд до жарких тропических лесов реки Туичи. Потрясающие ландшафты, дикость и удаленность этих мест, треккинг в джунгли, наблюдение за дикими животными и птицами заставляют путешественников преодолевать долгий и тяжелый путь к этому уникальному природном уголку планеты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47920" y="549000"/>
            <a:ext cx="7238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Республика Боливия – государство в Центральной части Южной Америки, площадью 1 098 580 км2, держит несколько мировых рекордов высоты . Столица Боливии Сукре , но фактическое местопребывание правительства – Ла-Пас - самая высокогорная столица мира. В центре города на высоте примерно 4000м над уровнем моря трудно дышать из-за нехватки кислорода. Еще выше находятся районы бедноты, и только самые богатые горожане селятся в глубоком ущелье, где воздух влажнее и не такой разреженный. В Боливии административное территориальное деление: девять департаментов. Глава государства и правительства – президент. Законодательный орган – Национальный конгресс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Озеро Титикака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Самое высокогорное озеро в мире, в водах которого расположен уникальный озерный архипелаг. На большинстве из 36 островов архипелага живут представители древних индейских народностей аймара и кечуа. На островах сохранились останки древних цивилизаций, самые интересные из которых расположены на островах Солнца и Луны, где по преданию зарождалась цивилизация Инков. Потомки древней цивилизации Уро с давних времен сооружают из тростника плавучие острова Урос, которые дрейфуют по озеру… Между островами курсируют лодки, которые позволяют туристам ближе познакомится с традициями древних народностей и насладится красотами этого уникального природного уголка планеты. Главный город на озере со стороны Боливии – Копакабана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Самайпата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Маленький сонный город Самайпата, расположенный высоко в горах открывает доступ к мистическому месту, полному загадок древних цивилизай – Фуэрте-де-Самайпата. Огромный холм, на каменной поверхности которого высечены рисунки – по предположению историков связанные с верованиями и ритуалами древних индейских цивилизаций. Возле холма – останки древнего города. Сам городок Самайпата полон уютных готиниц и ресторанчиков и является отличной базой для исследования загадок древности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Географическое положени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Боливия занимает 27 место в списке стран по площади после Эфиопии. Страна не имеет выхода к морю с 1879 года, когда она потеряла прибрежную область Антофагаста в Тихоокеанской войне с Чили. Однако выход в Атлантический океан у Боливии есть — по реке Парагвай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отянувшись не более,чем на 950 миль (1,503 километров) с севера на юг и на 800 миль с востока на запад,Боливия граничит на севере и востоке с Бразилией,на юго-востоке с Парагваем, на юге с Аргентиной и на юго-западе с Чили и Перу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Наиболее крупные города Боливии: Ла-Пас, Эль-Альто, Санта-Крус-де-ла-Сьерра и Кочабамба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Населени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Численность населения — 9,9 млн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Годовой прирост — 1,7 %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Средняя продолжительность жизни — 64 года у мужчин, 70 лет у женщин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Этно-расовый состав — индейцы 55 % (в основном кечуа и аймара), метисы 30 %, белые 15 %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Языки — 3 официальных языка: испанский 60,7 %, кечуа 21,2 %, аймара 14,6 %; другие языки 3,6 %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Религии — католики 59 %, протестанты (евангелические методисты) 11 %, Атеисты и агностики 12 %, Инканизм 15 %, Буддизм и другие 3 %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Боливия обладает богатыми природными ресурсами — олово, газ, нефть, цинк, вольфрам, сурьа, серебро, железо, свинец, золото, лес, гидроэнергетические ресурсы. При этом Боливия остаётся одной из самых беднейших и наименее экономически развитых стран Латинской Америки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ВВП на душу населения— 4,8 тыс. долл. (150-е место в мире). Безработица — 8,5 %, ниже уровня бедности — 60 % населения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Сельское хозяйство (11 % ВВП, 40 % работающих) — соя, кофе, кока, хлопчатник, кукуруза, сахарный тростник, рис, картофель; лесозаготовки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животноводство: крупный рогатый скот,овцеводство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Промышленность (37 % ВВП, 17 % работающих) — добыча олова и нефти, пищевая промышленность, табак, ручные ремёсла, одежда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Сфера обслуживания — 52 % ВВП, 43 % работающих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47:59Z</dcterms:created>
  <dc:creator>Admin</dc:creator>
  <dc:description/>
  <cp:keywords/>
  <dc:language>en-US</dc:language>
  <cp:lastModifiedBy>Admin</cp:lastModifiedBy>
  <dcterms:modified xsi:type="dcterms:W3CDTF">2011-03-17T19:55:28Z</dcterms:modified>
  <cp:revision>2</cp:revision>
  <dc:subject/>
  <dc:title>Болив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81049</vt:lpwstr>
  </property>
</Properties>
</file>