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2A2-9433-485A-87AF-34988712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5BD-1D8F-42B6-B872-2A14B0BC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6C3-CA73-4E24-8E74-0E692806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440-A423-4FCA-946A-B2D269BC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BA0-81CE-4A8F-8271-8A271B7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CD26-AC2A-4967-8251-E164484B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37E6-B6E1-4625-8870-A478CCF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6FE-E582-4387-AEC4-7048E54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A1D-91B2-44D9-BF22-5BC710F4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5ED-9A0A-4D8A-8527-D55B31D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6450-6B65-407C-AA46-583EB46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5BE-E6BA-484B-91F8-26F1F14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443-AB84-442A-8862-E1DBB11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E11D-ED59-4460-807C-6DB7E7E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478-35EE-4767-984F-CDE0B08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F05-A5F0-4D30-ABCB-92F71C5A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5B55-C512-4179-87DE-FB3B6BD6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25C-433C-4B65-9639-8BE310E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42F-E1F5-4523-A8B6-F6297C3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64C-2714-474F-B851-010B5BF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BA8-25BF-47EB-A79C-95CCD4F0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7D1-529E-4977-B07E-01F5A27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723-D19C-4ABC-A3F8-8C8732C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D89-48B8-4194-B086-C3D1427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DF4B-D7AE-4E6E-B3F7-76496CF94B13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9CA3-1EAF-4D54-8BD1-5D5823B32FFF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79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Боливия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813600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213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Достопримечательност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- одна из самых высокогорных стран мира, самая изолированная и самобытная страна Южной Америки. Боливия – страна, большинство населения которой, является потомками южноамериканских индейцев – америндов. Жители Боливии до наших дней сохраняют культурные основы и верования своих предков. Анды, которые дали приют самобытной Боливийской нации, дарят также незабываемые впечатления искателям приключений, попавшим сюда: могучие заснеженные пики гор и вулканов, завораживающие долины, соляные озера, непроходимые джунгли и пустынные пампа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укр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ысокогорный город Сукре – сердце и душа Боливии, город который является официальной столицей страны. Исторический центр города внесен в список всемирного наследия ЮНЕСКО, и это неудивительно – очаровательные колониальные постройки города отличаются единством стиля, который свято охраняется местными властями. Все постройки выбелены в белый цвет, на фасадах белых зданий – темные балконы и двери, с обратной стороны домов - уютные дворики… В окрестностях Сукре раскинулась Долина Динозавров, любопытная с исторической точки зрения местность, в которой сохранились следы динозавров, животных и растений доисторической эпохи Земли 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а-Пас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Фактическая столица Боливии Ла-Пас является самой высокогорной столицей мира и отправной точкой для путешествия по стране. Очаровательная колониальная архитектура города на фоне незабываемых горных пейзажей, яркие одежды местных жителей, особая культура и стиль поведения местных жителей, национальная кухня – Ла-Пас во всех отношениях идеален для акклиматизации на высокогорье и знакомства с культурой этой самобытной страны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лар-де-Уюн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амое большое высохшее соляное озеро в мире Салар-де-Юни расположено высоко в горах на юге Боливии. Потрясающие воображение пейзажи этой местности уникальны: огромная соляная пустыня на фоне величественных Анд, которая во время дождей покрывается слоем воды, создавая неповторимый зеркальный эффект. В регионе много природных достопримечательностей: гейзеры, извергающие столпы воды, термальные источники, места обитания розовых фламинго, высокие какту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циональный парк Мадид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Уникальный Национальный парк Мадиди, который занимает территорию около 19 тыс.кв.км., расположен в верховье великой реки Амазонка. Мадиди считается одним из самых биологически разнообразных регионов планеты. Его территории растянулись от холодных ледников Анд до жарких тропических лесов реки Туичи. Потрясающие ландшафты, дикость и удаленность этих мест, треккинг в джунгли, наблюдение за дикими животными и птицами заставляют путешественников преодолевать долгий и тяжелый путь к этому уникальному природном уголку планет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238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спублика Боливия – государство в Центральной части Южной Америки, площадью 1 098 580 км2, держит несколько мировых рекордов высоты . Столица Боливии Сукре , но фактическое местопребывание правительства – Ла-Пас - самая высокогорная столица мира. В центре города на высоте примерно 4000м над уровнем моря трудно дышать из-за нехватки кислорода. Еще выше находятся районы бедноты, и только самые богатые горожане селятся в глубоком ущелье, где воздух влажнее и не такой разреженный. В Боливии административное территориальное деление: девять департаментов. Глава государства и правительства – президент. Законодательный орган – Национальный конгресс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зеро Титика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амое высокогорное озеро в мире, в водах которого расположен уникальный озерный архипелаг. На большинстве из 36 островов архипелага живут представители древних индейских народностей аймара и кечуа. На островах сохранились останки древних цивилизаций, самые интересные из которых расположены на островах Солнца и Луны, где по преданию зарождалась цивилизация Инков. Потомки древней цивилизации Уро с давних времен сооружают из тростника плавучие острова Урос, которые дрейфуют по озеру… Между островами курсируют лодки, которые позволяют туристам ближе познакомится с традициями древних народностей и насладится красотами этого уникального природного уголка планеты. Главный город на озере со стороны Боливии – Копакабан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майпат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Маленький сонный город Самайпата, расположенный высоко в горах открывает доступ к мистическому месту, полному загадок древних цивилизай – Фуэрте-де-Самайпата. Огромный холм, на каменной поверхности которого высечены рисунки – по предположению историков связанные с верованиями и ритуалами древних индейских цивилизаций. Возле холма – останки древнего города. Сам городок Самайпата полон уютных готиниц и ресторанчиков и является отличной базой для исследования загадок древност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Географическое полож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занимает 27 место в списке стран по площади после Эфиопии. Страна не имеет выхода к морю с 1879 года, когда она потеряла прибрежную область Антофагаста в Тихоокеанской войне с Чили. Однако выход в Атлантический океан у Боливии есть — по реке Парагвай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отянувшись не более,чем на 950 миль (1,503 километров) с севера на юг и на 800 миль с востока на запад,Боливия граничит на севере и востоке с Бразилией,на юго-востоке с Парагваем, на юге с Аргентиной и на юго-западе с Чили и Перу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аиболее крупные города Боливии: Ла-Пас, Эль-Альто, Санта-Крус-де-ла-Сьерра и Кочабамба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сел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Численность населения — 9,9 млн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Годовой прирост — 1,7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редняя продолжительность жизни — 64 года у мужчин, 70 лет у женщин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тно-расовый состав — индейцы 55 % (в основном кечуа и аймара), метисы 30 %, белые 15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Языки — 3 официальных языка: испанский 60,7 %, кечуа 21,2 %, аймара 14,6 %; другие языки 3,6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лигии — католики 59 %, протестанты (евангелические методисты) 11 %, Атеисты и агностики 12 %, Инканизм 15 %, Буддизм и другие 3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Боливия обладает богатыми природными ресурсами — олово, газ, нефть, цинк, вольфрам, сурьа, серебро, железо, свинец, золото, лес, гидроэнергетические ресурсы. При этом Боливия остаётся одной из самых беднейших и наименее экономически развитых стран Латинской Амери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ВВП на душу населения— 4,8 тыс. долл. (150-е место в мире). Безработица — 8,5 %, ниже уровня бедности — 60 % населения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ельское хозяйство (11 % ВВП, 40 % работающих) — соя, кофе, кока, хлопчатник, кукуруза, сахарный тростник, рис, картофель; лесозаготов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животноводство: крупный рогатый скот,овцеводство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Промышленность (37 % ВВП, 17 % работающих) — добыча олова и нефти, пищевая промышленность, табак, ручные ремёсла, одежд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фера обслуживания — 52 % ВВП, 43 % работающих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47:59Z</dcterms:created>
  <dc:creator>Admin</dc:creator>
  <dc:description/>
  <cp:keywords/>
  <dc:language>en-US</dc:language>
  <cp:lastModifiedBy>Admin</cp:lastModifiedBy>
  <dcterms:modified xsi:type="dcterms:W3CDTF">2011-03-17T19:55:28Z</dcterms:modified>
  <cp:revision>2</cp:revision>
  <dc:subject/>
  <dc:title>Болив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