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A19B-E8F2-4CAA-96A2-D42CB440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B07-AE7C-489D-856B-8D45725F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500-176A-4FE0-B95F-0104B430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B76-DDA8-49AF-A8EF-A36509F4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F5E-4C69-4DE3-A2F4-21605DB7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0C0-A8FD-4AA5-AFE1-E41154A7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47C-7E11-4030-AEF0-063B3AAC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7F0-5C3A-4F2E-A084-A760EEC3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A1E-E3FB-43CA-8B58-85EF4218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B1F-05EE-4F9E-8C5C-61382FE3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F5B-3BED-4259-A3F3-11AFB10B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45A-BD31-41D5-B31B-A55963F5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6AC07-5804-4D80-8E21-802894F007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0"/>
            <a:ext cx="10156680" cy="7620120"/>
            <a:chOff x="0" y="0"/>
            <a:chExt cx="10156680" cy="7620120"/>
          </a:xfrm>
        </p:grpSpPr>
        <p:sp>
          <p:nvSpPr>
            <p:cNvPr id="423" name=""/>
            <p:cNvSpPr/>
            <p:nvPr/>
          </p:nvSpPr>
          <p:spPr>
            <a:xfrm>
              <a:off x="0" y="0"/>
              <a:ext cx="10156680" cy="7620120"/>
            </a:xfrm>
            <a:prstGeom prst="roundRect">
              <a:avLst>
                <a:gd name="adj" fmla="val 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0" y="0"/>
              <a:ext cx="10156680" cy="7620120"/>
              <a:chOff x="0" y="0"/>
              <a:chExt cx="10156680" cy="762012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0" y="179280"/>
                <a:ext cx="10156680" cy="7378920"/>
                <a:chOff x="0" y="179280"/>
                <a:chExt cx="10156680" cy="73789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0" y="71978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0" y="73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0" y="71978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0" y="75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0" y="66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0" y="683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0" y="66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0" y="701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0" y="611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0" y="629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0" y="611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0" y="647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0" y="55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0" y="57578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0" y="55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0" y="593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0" y="50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0" y="521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0" y="50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0" y="53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0" y="44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0" y="46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0" y="44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0" y="48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0" y="39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0" y="41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0" y="39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0" y="431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0" y="34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0" y="35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0" y="34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0" y="377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0" y="34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0" y="34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0" y="28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0" y="30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0" y="28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0" y="32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0" y="23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0" y="251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0" y="23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0" y="26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0" y="180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0" y="197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0" y="180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0" y="21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0" y="12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0" y="143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0" y="12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0" y="16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0" y="7203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0" y="8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0" y="7203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0" y="107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0" y="3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0" y="5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0" y="3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0" y="17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0" y="0"/>
                <a:ext cx="10156680" cy="7620120"/>
              </a:xfrm>
              <a:prstGeom prst="roundRect">
                <a:avLst>
                  <a:gd name="adj" fmla="val 19"/>
                </a:avLst>
              </a:prstGeom>
              <a:solidFill>
                <a:srgbClr val="33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0" y="0"/>
            <a:ext cx="10158480" cy="7621560"/>
          </a:xfrm>
          <a:custGeom>
            <a:avLst/>
            <a:gdLst/>
            <a:ahLst/>
            <a:rect l="l" t="t" r="r" b="b"/>
            <a:pathLst>
              <a:path w="28220" h="21170">
                <a:moveTo>
                  <a:pt x="28219" y="0"/>
                </a:moveTo>
                <a:lnTo>
                  <a:pt x="28219" y="16405"/>
                </a:lnTo>
                <a:lnTo>
                  <a:pt x="9828" y="16405"/>
                </a:lnTo>
                <a:lnTo>
                  <a:pt x="5913" y="21169"/>
                </a:lnTo>
                <a:lnTo>
                  <a:pt x="0" y="21169"/>
                </a:lnTo>
                <a:lnTo>
                  <a:pt x="0" y="10586"/>
                </a:lnTo>
                <a:lnTo>
                  <a:pt x="0" y="4771"/>
                </a:lnTo>
                <a:lnTo>
                  <a:pt x="18392" y="4771"/>
                </a:lnTo>
                <a:lnTo>
                  <a:pt x="22310" y="0"/>
                </a:lnTo>
                <a:lnTo>
                  <a:pt x="28219" y="0"/>
                </a:lnTo>
              </a:path>
            </a:pathLst>
          </a:custGeom>
          <a:solidFill>
            <a:srgbClr val="000000">
              <a:alpha val="40000"/>
            </a:srgbClr>
          </a:soli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0" y="271440"/>
            <a:ext cx="10156320" cy="7278840"/>
            <a:chOff x="0" y="271440"/>
            <a:chExt cx="10156320" cy="7278840"/>
          </a:xfrm>
        </p:grpSpPr>
        <p:sp>
          <p:nvSpPr>
            <p:cNvPr id="487" name=""/>
            <p:cNvSpPr/>
            <p:nvPr/>
          </p:nvSpPr>
          <p:spPr>
            <a:xfrm>
              <a:off x="118800" y="1887480"/>
              <a:ext cx="882360" cy="2114640"/>
            </a:xfrm>
            <a:custGeom>
              <a:avLst/>
              <a:gdLst>
                <a:gd name="textAreaLeft" fmla="*/ 360 w 882360"/>
                <a:gd name="textAreaRight" fmla="*/ 882000 w 882360"/>
                <a:gd name="textAreaTop" fmla="*/ 360 h 2114640"/>
                <a:gd name="textAreaBottom" fmla="*/ 2114280 h 2114640"/>
              </a:gdLst>
              <a:ahLst/>
              <a:rect l="textAreaLeft" t="textAreaTop" r="textAreaRight" b="textAreaBottom"/>
              <a:pathLst>
                <a:path w="21600" h="51754">
                  <a:moveTo>
                    <a:pt x="38" y="0"/>
                  </a:moveTo>
                  <a:arcTo wR="38" hR="38" stAng="16200000" swAng="-5400000"/>
                  <a:lnTo>
                    <a:pt x="0" y="51716"/>
                  </a:lnTo>
                  <a:arcTo wR="38" hR="38" stAng="10800000" swAng="-5400000"/>
                  <a:lnTo>
                    <a:pt x="21562" y="51754"/>
                  </a:lnTo>
                  <a:arcTo wR="38" hR="38" stAng="5400000" swAng="-5400000"/>
                  <a:lnTo>
                    <a:pt x="21600" y="38"/>
                  </a:lnTo>
                  <a:arcTo wR="38" hR="3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5840" y="2746440"/>
              <a:ext cx="7502760" cy="998640"/>
            </a:xfrm>
            <a:prstGeom prst="roundRect">
              <a:avLst>
                <a:gd name="adj" fmla="val 157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5240" y="3260880"/>
              <a:ext cx="763200" cy="3660480"/>
            </a:xfrm>
            <a:custGeom>
              <a:avLst/>
              <a:gdLst>
                <a:gd name="textAreaLeft" fmla="*/ 360 w 763200"/>
                <a:gd name="textAreaRight" fmla="*/ 762840 w 763200"/>
                <a:gd name="textAreaTop" fmla="*/ 360 h 3660480"/>
                <a:gd name="textAreaBottom" fmla="*/ 3660120 h 3660480"/>
              </a:gdLst>
              <a:ahLst/>
              <a:rect l="textAreaLeft" t="textAreaTop" r="textAreaRight" b="textAreaBottom"/>
              <a:pathLst>
                <a:path w="21600" h="103560">
                  <a:moveTo>
                    <a:pt x="44" y="0"/>
                  </a:moveTo>
                  <a:arcTo wR="44" hR="44" stAng="16200000" swAng="-5400000"/>
                  <a:lnTo>
                    <a:pt x="0" y="103516"/>
                  </a:lnTo>
                  <a:arcTo wR="44" hR="44" stAng="10800000" swAng="-5400000"/>
                  <a:lnTo>
                    <a:pt x="21556" y="103560"/>
                  </a:lnTo>
                  <a:arcTo wR="44" hR="44" stAng="5400000" swAng="-5400000"/>
                  <a:lnTo>
                    <a:pt x="21600" y="44"/>
                  </a:lnTo>
                  <a:arcTo wR="44" hR="44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26720" y="6093000"/>
              <a:ext cx="1479240" cy="68400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627760" y="657360"/>
              <a:ext cx="1241280" cy="4289400"/>
            </a:xfrm>
            <a:custGeom>
              <a:avLst/>
              <a:gdLst>
                <a:gd name="textAreaLeft" fmla="*/ 360 w 1241280"/>
                <a:gd name="textAreaRight" fmla="*/ 1240920 w 1241280"/>
                <a:gd name="textAreaTop" fmla="*/ 360 h 4289400"/>
                <a:gd name="textAreaBottom" fmla="*/ 4289040 h 4289400"/>
              </a:gdLst>
              <a:ahLst/>
              <a:rect l="textAreaLeft" t="textAreaTop" r="textAreaRight" b="textAreaBottom"/>
              <a:pathLst>
                <a:path w="21600" h="74626">
                  <a:moveTo>
                    <a:pt x="27" y="0"/>
                  </a:moveTo>
                  <a:arcTo wR="27" hR="27" stAng="16200000" swAng="-5400000"/>
                  <a:lnTo>
                    <a:pt x="0" y="74599"/>
                  </a:lnTo>
                  <a:arcTo wR="27" hR="27" stAng="10800000" swAng="-5400000"/>
                  <a:lnTo>
                    <a:pt x="21573" y="74626"/>
                  </a:lnTo>
                  <a:arcTo wR="27" hR="27" stAng="5400000" swAng="-5400000"/>
                  <a:lnTo>
                    <a:pt x="21600" y="27"/>
                  </a:lnTo>
                  <a:arcTo wR="27" hR="27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36040" y="3289320"/>
              <a:ext cx="2531160" cy="2373120"/>
            </a:xfrm>
            <a:prstGeom prst="roundRect">
              <a:avLst>
                <a:gd name="adj" fmla="val 65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66480" y="2260440"/>
              <a:ext cx="3296520" cy="1886040"/>
            </a:xfrm>
            <a:prstGeom prst="roundRect">
              <a:avLst>
                <a:gd name="adj" fmla="val 8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13800" y="3289320"/>
              <a:ext cx="452160" cy="3058920"/>
            </a:xfrm>
            <a:custGeom>
              <a:avLst/>
              <a:gdLst>
                <a:gd name="textAreaLeft" fmla="*/ 360 w 452160"/>
                <a:gd name="textAreaRight" fmla="*/ 451800 w 452160"/>
                <a:gd name="textAreaTop" fmla="*/ 360 h 3058920"/>
                <a:gd name="textAreaBottom" fmla="*/ 3058560 h 3058920"/>
              </a:gdLst>
              <a:ahLst/>
              <a:rect l="textAreaLeft" t="textAreaTop" r="textAreaRight" b="textAreaBottom"/>
              <a:pathLst>
                <a:path w="21600" h="146028">
                  <a:moveTo>
                    <a:pt x="75" y="0"/>
                  </a:moveTo>
                  <a:arcTo wR="75" hR="75" stAng="16200000" swAng="-5400000"/>
                  <a:lnTo>
                    <a:pt x="0" y="145953"/>
                  </a:lnTo>
                  <a:arcTo wR="75" hR="75" stAng="10800000" swAng="-5400000"/>
                  <a:lnTo>
                    <a:pt x="21525" y="146028"/>
                  </a:lnTo>
                  <a:arcTo wR="75" hR="75" stAng="5400000" swAng="-5400000"/>
                  <a:lnTo>
                    <a:pt x="21600" y="75"/>
                  </a:lnTo>
                  <a:arcTo wR="75" hR="75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2920" y="4605480"/>
              <a:ext cx="2602800" cy="971280"/>
            </a:xfrm>
            <a:prstGeom prst="roundRect">
              <a:avLst>
                <a:gd name="adj" fmla="val 162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6920" y="5092560"/>
              <a:ext cx="9510480" cy="312840"/>
            </a:xfrm>
            <a:prstGeom prst="roundRect">
              <a:avLst>
                <a:gd name="adj" fmla="val 505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42520" y="1030320"/>
              <a:ext cx="1337760" cy="1028520"/>
            </a:xfrm>
            <a:prstGeom prst="roundRect">
              <a:avLst>
                <a:gd name="adj" fmla="val 15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34360" y="4548240"/>
              <a:ext cx="1622160" cy="341280"/>
            </a:xfrm>
            <a:prstGeom prst="roundRect">
              <a:avLst>
                <a:gd name="adj" fmla="val 46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72920" y="2260440"/>
              <a:ext cx="499680" cy="1086120"/>
            </a:xfrm>
            <a:custGeom>
              <a:avLst/>
              <a:gdLst>
                <a:gd name="textAreaLeft" fmla="*/ 360 w 499680"/>
                <a:gd name="textAreaRight" fmla="*/ 499320 w 499680"/>
                <a:gd name="textAreaTop" fmla="*/ 360 h 1086120"/>
                <a:gd name="textAreaBottom" fmla="*/ 1085760 h 1086120"/>
              </a:gdLst>
              <a:ahLst/>
              <a:rect l="textAreaLeft" t="textAreaTop" r="textAreaRight" b="textAreaBottom"/>
              <a:pathLst>
                <a:path w="21600" h="46932">
                  <a:moveTo>
                    <a:pt x="68" y="0"/>
                  </a:moveTo>
                  <a:arcTo wR="68" hR="68" stAng="16200000" swAng="-5400000"/>
                  <a:lnTo>
                    <a:pt x="0" y="46864"/>
                  </a:lnTo>
                  <a:arcTo wR="68" hR="68" stAng="10800000" swAng="-5400000"/>
                  <a:lnTo>
                    <a:pt x="21532" y="46932"/>
                  </a:lnTo>
                  <a:arcTo wR="68" hR="68" stAng="5400000" swAng="-5400000"/>
                  <a:lnTo>
                    <a:pt x="21600" y="68"/>
                  </a:lnTo>
                  <a:arcTo wR="68" hR="6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36240" y="2317680"/>
              <a:ext cx="644040" cy="1028880"/>
            </a:xfrm>
            <a:custGeom>
              <a:avLst/>
              <a:gdLst>
                <a:gd name="textAreaLeft" fmla="*/ 360 w 644040"/>
                <a:gd name="textAreaRight" fmla="*/ 643680 w 644040"/>
                <a:gd name="textAreaTop" fmla="*/ 360 h 1028880"/>
                <a:gd name="textAreaBottom" fmla="*/ 1028520 h 1028880"/>
              </a:gdLst>
              <a:ahLst/>
              <a:rect l="textAreaLeft" t="textAreaTop" r="textAreaRight" b="textAreaBottom"/>
              <a:pathLst>
                <a:path w="21600" h="34500">
                  <a:moveTo>
                    <a:pt x="53" y="0"/>
                  </a:moveTo>
                  <a:arcTo wR="53" hR="53" stAng="16200000" swAng="-5400000"/>
                  <a:lnTo>
                    <a:pt x="0" y="34447"/>
                  </a:lnTo>
                  <a:arcTo wR="53" hR="53" stAng="10800000" swAng="-5400000"/>
                  <a:lnTo>
                    <a:pt x="21547" y="34500"/>
                  </a:lnTo>
                  <a:arcTo wR="53" hR="53" stAng="5400000" swAng="-5400000"/>
                  <a:lnTo>
                    <a:pt x="21600" y="53"/>
                  </a:lnTo>
                  <a:arcTo wR="53" hR="53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28280" y="4343400"/>
              <a:ext cx="1025280" cy="3206880"/>
            </a:xfrm>
            <a:custGeom>
              <a:avLst/>
              <a:gdLst/>
              <a:ahLst/>
              <a:rect l="l" t="t" r="r" b="b"/>
              <a:pathLst>
                <a:path w="2852" h="8913">
                  <a:moveTo>
                    <a:pt x="0" y="8912"/>
                  </a:moveTo>
                  <a:lnTo>
                    <a:pt x="0" y="0"/>
                  </a:lnTo>
                  <a:lnTo>
                    <a:pt x="2849" y="0"/>
                  </a:lnTo>
                  <a:lnTo>
                    <a:pt x="2851" y="7226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4773600"/>
              <a:ext cx="987120" cy="2776680"/>
            </a:xfrm>
            <a:custGeom>
              <a:avLst/>
              <a:gdLst/>
              <a:ahLst/>
              <a:rect l="l" t="t" r="r" b="b"/>
              <a:pathLst>
                <a:path w="2748" h="7718">
                  <a:moveTo>
                    <a:pt x="0" y="0"/>
                  </a:moveTo>
                  <a:lnTo>
                    <a:pt x="2747" y="0"/>
                  </a:lnTo>
                  <a:lnTo>
                    <a:pt x="2747" y="7717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48760" y="1744560"/>
              <a:ext cx="1118880" cy="2165400"/>
            </a:xfrm>
            <a:custGeom>
              <a:avLst/>
              <a:gdLst/>
              <a:ahLst/>
              <a:rect l="l" t="t" r="r" b="b"/>
              <a:pathLst>
                <a:path w="3113" h="6019">
                  <a:moveTo>
                    <a:pt x="0" y="0"/>
                  </a:moveTo>
                  <a:lnTo>
                    <a:pt x="0" y="6018"/>
                  </a:lnTo>
                  <a:lnTo>
                    <a:pt x="3112" y="6018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1744560"/>
              <a:ext cx="3366360" cy="1352520"/>
            </a:xfrm>
            <a:custGeom>
              <a:avLst/>
              <a:gdLst/>
              <a:ahLst/>
              <a:rect l="l" t="t" r="r" b="b"/>
              <a:pathLst>
                <a:path w="9359" h="3761">
                  <a:moveTo>
                    <a:pt x="9358" y="0"/>
                  </a:moveTo>
                  <a:lnTo>
                    <a:pt x="9358" y="3760"/>
                  </a:lnTo>
                  <a:lnTo>
                    <a:pt x="0" y="376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09000" y="4389480"/>
              <a:ext cx="2598120" cy="1473120"/>
            </a:xfrm>
            <a:custGeom>
              <a:avLst/>
              <a:gdLst/>
              <a:ahLst/>
              <a:rect l="l" t="t" r="r" b="b"/>
              <a:pathLst>
                <a:path w="7225" h="4098">
                  <a:moveTo>
                    <a:pt x="0" y="4097"/>
                  </a:moveTo>
                  <a:lnTo>
                    <a:pt x="0" y="0"/>
                  </a:lnTo>
                  <a:lnTo>
                    <a:pt x="7224" y="0"/>
                  </a:lnTo>
                  <a:lnTo>
                    <a:pt x="7224" y="4097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89960" y="463680"/>
              <a:ext cx="2466360" cy="2009520"/>
            </a:xfrm>
            <a:custGeom>
              <a:avLst/>
              <a:gdLst/>
              <a:ahLst/>
              <a:rect l="l" t="t" r="r" b="b"/>
              <a:pathLst>
                <a:path w="6856" h="5587">
                  <a:moveTo>
                    <a:pt x="6855" y="5586"/>
                  </a:moveTo>
                  <a:lnTo>
                    <a:pt x="0" y="558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869320" y="271440"/>
              <a:ext cx="1118520" cy="90972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0" y="0"/>
            <a:ext cx="10158480" cy="7621560"/>
          </a:xfrm>
          <a:prstGeom prst="roundRect">
            <a:avLst>
              <a:gd name="adj" fmla="val 19"/>
            </a:avLst>
          </a:prstGeom>
          <a:solidFill>
            <a:srgbClr val="0000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EAA9534-B322-46D5-A6EB-62D206502899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10115640" cy="7559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347920" y="2101320"/>
            <a:ext cx="6999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6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6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6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6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6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6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6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6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6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6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80720" y="1402920"/>
            <a:ext cx="8999640" cy="4319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Презентация на тему: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 «Архангельская область»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471680" y="104256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67200" y="6443640"/>
            <a:ext cx="2893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Выполнила: Ким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0000" y="-360360"/>
            <a:ext cx="882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Животный мир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294920" y="611280"/>
            <a:ext cx="8496360" cy="7081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31640" indent="-323640" algn="just">
              <a:lnSpc>
                <a:spcPct val="90000"/>
              </a:lnSpc>
              <a:spcAft>
                <a:spcPts val="1400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рхангельской области типичен для таежной зоны европейской части России. Млекопитающие, как правило, имеют густой, пушистый мех и впадают в зимнюю спячку. Широко распространена боровая дичь. Имеются разнообразные насекомые, в том числе таежный гнус. Из зверей характерны лось, олень, медведь, рысь, росомаха, волк, лисица, белка, куница, норка, бобр, ондатра, заяц; из птиц — тетерев, глухарь, рябчик, дятел, синица, снегирь, пищух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29720" y="-357120"/>
            <a:ext cx="934884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Некоторые виды животных, внесенные в Красную книгу РФ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824000" y="1258560"/>
            <a:ext cx="538812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5000"/>
          </a:bodyPr>
          <a:p>
            <a:pPr marL="325800" indent="0">
              <a:lnSpc>
                <a:spcPct val="7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Ночница Брандта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Небольшой зверек. Длина тела 3,8—5,5 см, масса 5—10 г. Размах крыльев около 20 см. Мех густой, длинный, слегка всклокоченный. Лицевая «маска» покрыта темными волосами. Крыловая перепонка крепится к основанию внешнего пальца ступни.Населяет главным образом смешанные и широколиственные леса, по речным долинам проникает в зону тайг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1511280" y="1619280"/>
            <a:ext cx="352728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0080" y="342720"/>
            <a:ext cx="86090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Бурый ушан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880240" y="971280"/>
            <a:ext cx="4200480" cy="594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1000"/>
          </a:bodyPr>
          <a:p>
            <a:pPr marL="312120" indent="0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Небольшой зверек. Длина тела 42—55 мм, масса 5—11 г. Размах крыльев до 28 см. От других летучих мышей, обитающих на севере европейской части России, отличается хорошо видными в полете очень крупными ушами (не менее 30 мм, в покое они загибаются на спину). Полет медленный, маневренный, зверек может «зависать» на одном месте. В окраске меха всегда присутствуют бурые и желтоватые тона.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1511280" y="1116000"/>
            <a:ext cx="4608360" cy="6443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91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Times New Roman"/>
              </a:rPr>
              <a:t>Летяг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511280" y="878040"/>
            <a:ext cx="3409920" cy="63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86000"/>
          </a:bodyPr>
          <a:p>
            <a:pPr marL="2948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Грызун, внешне похожий на обыкновенную белку. Голова более округлая, тупомордая, с большими черными глазами. Длина тела 13,5—20,0 см, хвост составляет от 2/3 до 3/4 длины тела. Передние и задние конечности соединены кожистой перепонкой, играющей роль несущей поверхности при прыжках. Спереди она поддерживается особой косточкой, отходящей от запястья и по длине примерно равной предплеч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040360" y="963720"/>
            <a:ext cx="5040360" cy="605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655640" y="177840"/>
            <a:ext cx="8064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ри прыжках передние конечности широко расставлены, задние прижаты к хвосту, поэтому силуэт парящей летяги имеет очертания треугольника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368000" y="1476360"/>
            <a:ext cx="3838680" cy="59752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85000"/>
          </a:bodyPr>
          <a:p>
            <a:pPr marL="291600" indent="0" algn="just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Monotype Corsiva"/>
              </a:rPr>
              <a:t>Населяет старовозрастные смешанные леса, в темнохвойной тайге встречается исключительно на участках с наличием старых осин, в дуплах которых устраивает гнезда. Гнездовой участок самки занимает в среднем 8,3 га, при этом участки разных самок не перекрываются. Приносит один помет в год, состоящий из 2—3 детенышей. Ведет сумеречный образ жизни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5472000" y="1476360"/>
            <a:ext cx="4608720" cy="608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914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Times New Roman"/>
              </a:rPr>
              <a:t>Белоклювая гагар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27640" y="1187280"/>
            <a:ext cx="420048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3000"/>
          </a:bodyPr>
          <a:p>
            <a:pPr marL="318960"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чень крупная гагара. Длина тела 75—90 см, масса 4,1—6,4 кг. Самец несколько крупнее самки. Крылья острые, относительно узкие и короткие. Три передних пальца на ногах соединены плавательной перепонкой, задний палец недоразвит. Клюв острый и крупный, слегка вздернутый, светлый или желтоваты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584360" y="1800360"/>
            <a:ext cx="381636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60000" y="0"/>
            <a:ext cx="8820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Атлантическая черная казарк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584000" y="1357200"/>
            <a:ext cx="3336840" cy="56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3000"/>
          </a:bodyPr>
          <a:p>
            <a:pPr marL="2844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Небольшая казарка. Длина тела 55—60 см, масса 1,75—2,25 кг. Голова маленькая, клюв короткий. Оперение черновато-бурое. Голова, шея, передняя часть груди, первостепенные маховые перья, клюв и лапы чёрные.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Голос — мелодичный горловой крик «рронк» или «ррук»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5040360" y="1440000"/>
            <a:ext cx="504036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4968720" y="1260360"/>
            <a:ext cx="5112000" cy="604836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79640" y="0"/>
            <a:ext cx="8999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Пискульк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511280" y="1187280"/>
            <a:ext cx="3889440" cy="5832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2000"/>
          </a:bodyPr>
          <a:p>
            <a:pPr marL="281160"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Небольшой по размерам гусь. Длина тела 53—66 см, масса 1,7—2,4 кг. Клюв короткий, розоватый, лапы желто-оранжевые. На лбу белое пятно шириной 25—30 мм, заходящее на темя. Вокруг глаз голое узкое желтое кольцо. Крылья и хвост буровато-чёрные, концы рулевых перьев белые. Голос — высокие, пискливые крики «пиу-иу» или «пиу-иу-иу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00000" y="-3240"/>
            <a:ext cx="91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Лебедь-кликун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511280" y="1618920"/>
            <a:ext cx="340992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1000"/>
          </a:bodyPr>
          <a:p>
            <a:pPr marL="3121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Одна из самых крупных птиц в регионе. Размах крыльев до 2,5 м. Самцы крупнее самок. Оперение взрослых особей чисто белое, у молодых — буроватое. Плавая на воде, кликуны очень прямо держат шею, «палкой». Голос—разнообразные трубные крики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4859280" y="1079640"/>
            <a:ext cx="5040360" cy="611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00000" y="-3240"/>
            <a:ext cx="91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Осое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439640" y="1030320"/>
            <a:ext cx="3816360" cy="5989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2000"/>
          </a:bodyPr>
          <a:p>
            <a:pPr marL="28116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Крупная хищная птица. Длина тела 50—60 см; самки массой 1,2 кг, самцы — 0,7 кг. Оперение плотное. Тело стройное, длинные хвост, крылья и шея. Оперение на спине серовато-бурое, на голове — пепельно-серое, в нижней части тела — желтоватое с темным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естринами. Хвост серо-бурый с тремя более темными поперечными полос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5400720" y="1079640"/>
            <a:ext cx="4498920" cy="611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20360" y="177480"/>
            <a:ext cx="8999640" cy="162252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Карта Архангельской области</a:t>
            </a:r>
            <a:r>
              <a:rPr b="0" lang="ru-RU" sz="47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9539280" cy="594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79640" y="0"/>
            <a:ext cx="8999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Беркут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439640" y="1116000"/>
            <a:ext cx="41036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8000"/>
          </a:bodyPr>
          <a:p>
            <a:pPr marL="3016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Крупный орел. Размах крыльев 1,8—2,3 м. Оперение темно-бурое, на голове золотисто-каштановые перья, удлиненные на затылке. Отличительным признаком в полете является длинный и широкий, слегка закругленный хвост. У взрослых птиц хвост темно-бурый, у молодых особей — белый с широкой темно-бурой концевой полос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400720" y="1079640"/>
            <a:ext cx="4680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1800360" y="2556000"/>
            <a:ext cx="777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 ЗА  ВНИМАНИЕ !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1132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Географическое положение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295280" y="1042920"/>
            <a:ext cx="8609040" cy="72612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7000"/>
          </a:bodyPr>
          <a:p>
            <a:pPr marL="418680" indent="-313920" algn="just">
              <a:lnSpc>
                <a:spcPct val="90000"/>
              </a:lnSpc>
              <a:spcAft>
                <a:spcPts val="1400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рхангельская область занимает центральное положение на Европейском Севере. Площадь территории 587,3 тыс км2. Область расположена в ледяной, тундровой, лесотундровой и таежной природных зонах. Территория Архангельской области в целом представляет собой обширную равнину со слабо выраженным уклоном к Белому и Баренцеву морям, где равнинность местами нарушается конечно-моренными всхолмлениями, образовавшимися в результате древнего ледн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23640" y="466200"/>
            <a:ext cx="860724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1000"/>
          </a:bodyPr>
          <a:p>
            <a:pPr marL="312120" indent="0" algn="just">
              <a:lnSpc>
                <a:spcPct val="7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Крупнейшие реки — Северная Двина (с притоками Вычегда, Пинега и Вага), Онега, Мезень и Печора. На территории области около 2,5 тысяч озёр, особенно много их в бассейне Онеги и на крайнем северо-востоке. Наиболее крупные озёра — Лача, Кенозеро и Кожозеро.  В водах архангельской области обитает большое количество промысловых рыб: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сельдь, навага, сайда, камбала, налим, треска, зубатка, пикша, рогатка, стерлядь, минога, семга, хариус, щука, плотва, лещ, густера, язь, карась, гольян, уклейка, окунь, ерш и т.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3640" y="971280"/>
            <a:ext cx="8459640" cy="293220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Растительность.</a:t>
            </a: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рхангельская область большей частью входит в зону тайги и тундры, исключение составляют архипелаги Новая Земля и Земля Франца Иосиф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стров Виктория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— они относятся к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рктическим  пустыня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0000" y="88560"/>
            <a:ext cx="86090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амая распространённая порода лесов — ель сибирская (65%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55640" y="4680"/>
            <a:ext cx="824400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Monotype Corsiva"/>
              </a:rPr>
              <a:t>На втором месте по распространению — сосна обыкновенная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506600" y="1979640"/>
            <a:ext cx="857412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727280" y="33120"/>
            <a:ext cx="761184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Широко распространены берёза бородавчатая, берёза пушистая и осин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, часто образующие вторичные лес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095640" y="2916360"/>
            <a:ext cx="5761080" cy="4430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871640" y="68040"/>
            <a:ext cx="8028000" cy="28112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территории Архангельской области расположены: Пинежский заповедник, Кенозёрский национальный парк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, частично Водлозёрский национальный пар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1698480" y="2700360"/>
            <a:ext cx="784080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4:50:25Z</dcterms:created>
  <dc:creator/>
  <dc:description/>
  <dc:language>en-US</dc:language>
  <cp:lastModifiedBy>1</cp:lastModifiedBy>
  <dcterms:modified xsi:type="dcterms:W3CDTF">2011-12-05T14:26:33Z</dcterms:modified>
  <cp:revision>32</cp:revision>
  <dc:subject/>
  <dc:title>Презентация на тему:   «Растительный и животный мир Архангельской области»  </dc:title>
</cp:coreProperties>
</file>