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4.png" ContentType="image/png"/>
  <Override PartName="/ppt/media/image26.jpeg" ContentType="image/jpeg"/>
  <Override PartName="/ppt/media/image1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25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8650-EC14-44DF-AB05-16BDD9299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A2D9-2D29-4763-B644-8EEEF5390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730080" y="6393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64032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55056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73008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64032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55056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9D43-F5D6-4D7F-AE83-08C93523D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730080" y="6393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032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5056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008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032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5056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57C7-91E0-4D83-BD6E-C2CA8FAAE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64032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55056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73008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64032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55056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730080" y="6393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64032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55056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73008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64032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55056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730080" y="6393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64032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55056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73008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64032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55056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ubTitle"/>
          </p:nvPr>
        </p:nvSpPr>
        <p:spPr>
          <a:xfrm>
            <a:off x="730080" y="6393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64032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55056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73008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6"/>
          <p:cNvSpPr>
            <a:spLocks noGrp="1"/>
          </p:cNvSpPr>
          <p:nvPr>
            <p:ph/>
          </p:nvPr>
        </p:nvSpPr>
        <p:spPr>
          <a:xfrm>
            <a:off x="364032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7"/>
          <p:cNvSpPr>
            <a:spLocks noGrp="1"/>
          </p:cNvSpPr>
          <p:nvPr>
            <p:ph/>
          </p:nvPr>
        </p:nvSpPr>
        <p:spPr>
          <a:xfrm>
            <a:off x="655056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730080" y="6393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64032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55056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73008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364032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655056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30080" y="6393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B481-3155-4E5C-A630-2DA7F32E7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4032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5056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3008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4032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5056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EEBF-0A27-4D1E-ADA9-F4392A134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730080" y="6393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64032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55056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73008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64032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55056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2D3E-628C-415D-927F-640673B51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30080" y="6393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64032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55056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73008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64032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55056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D203-2D9D-4218-B7FD-D2330A5CE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730080" y="6393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30080" y="6393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DB8E-165E-4310-9B77-0338B910D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64032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55056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73008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64032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55056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730080" y="6393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4791-CECB-4843-9928-C8DA1A03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64032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55056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73008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64032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55056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730080" y="6393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1237-E438-409B-9D03-CA737855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64032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55056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73008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64032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55056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7AD5-B979-414A-82DD-5383C12D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730080" y="6393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64032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55056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73008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64032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55056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FC6A1C-CB9B-44B1-91DE-0C64E8FA7E3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2" name=""/>
          <p:cNvGrpSpPr/>
          <p:nvPr/>
        </p:nvGrpSpPr>
        <p:grpSpPr>
          <a:xfrm>
            <a:off x="0" y="0"/>
            <a:ext cx="10156680" cy="7620120"/>
            <a:chOff x="0" y="0"/>
            <a:chExt cx="10156680" cy="7620120"/>
          </a:xfrm>
        </p:grpSpPr>
        <p:sp>
          <p:nvSpPr>
            <p:cNvPr id="423" name=""/>
            <p:cNvSpPr/>
            <p:nvPr/>
          </p:nvSpPr>
          <p:spPr>
            <a:xfrm>
              <a:off x="0" y="0"/>
              <a:ext cx="10156680" cy="7620120"/>
            </a:xfrm>
            <a:prstGeom prst="roundRect">
              <a:avLst>
                <a:gd name="adj" fmla="val 19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4" name=""/>
            <p:cNvGrpSpPr/>
            <p:nvPr/>
          </p:nvGrpSpPr>
          <p:grpSpPr>
            <a:xfrm>
              <a:off x="0" y="0"/>
              <a:ext cx="10156680" cy="7620120"/>
              <a:chOff x="0" y="0"/>
              <a:chExt cx="10156680" cy="7620120"/>
            </a:xfrm>
          </p:grpSpPr>
          <p:grpSp>
            <p:nvGrpSpPr>
              <p:cNvPr id="425" name=""/>
              <p:cNvGrpSpPr/>
              <p:nvPr/>
            </p:nvGrpSpPr>
            <p:grpSpPr>
              <a:xfrm>
                <a:off x="0" y="179280"/>
                <a:ext cx="10156680" cy="7378920"/>
                <a:chOff x="0" y="179280"/>
                <a:chExt cx="10156680" cy="737892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0" y="719784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0" y="737892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0" y="719784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0" y="755820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0" y="665820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0" y="683892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0" y="665820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0" y="701856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0" y="611820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0" y="629928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0" y="611820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0" y="647856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0" y="557892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0" y="575784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0" y="557892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0" y="593892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0" y="503928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0" y="521856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0" y="503928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0" y="539964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0" y="449964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0" y="467892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0" y="449964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0" y="485820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0" y="395820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0" y="413928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0" y="395820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0" y="431856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0" y="341892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0" y="359964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0" y="341892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0" y="377928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0" y="341892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0" y="341892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0" y="287892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0" y="306000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0" y="287892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0" y="323928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0" y="233928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0" y="251856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0" y="233928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0" y="269964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0" y="180000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0" y="197928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0" y="180000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0" y="216000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0" y="126000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0" y="143964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0" y="126000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0" y="161892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0" y="72036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0" y="89964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0" y="72036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0" y="107928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0" y="36000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0" y="53928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0" y="36000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0" y="179280"/>
                  <a:ext cx="10156680" cy="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4" name=""/>
              <p:cNvSpPr/>
              <p:nvPr/>
            </p:nvSpPr>
            <p:spPr>
              <a:xfrm>
                <a:off x="0" y="0"/>
                <a:ext cx="10156680" cy="7620120"/>
              </a:xfrm>
              <a:prstGeom prst="roundRect">
                <a:avLst>
                  <a:gd name="adj" fmla="val 19"/>
                </a:avLst>
              </a:prstGeom>
              <a:solidFill>
                <a:srgbClr val="3333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5" name=""/>
          <p:cNvSpPr/>
          <p:nvPr/>
        </p:nvSpPr>
        <p:spPr>
          <a:xfrm>
            <a:off x="0" y="0"/>
            <a:ext cx="10158480" cy="7621560"/>
          </a:xfrm>
          <a:custGeom>
            <a:avLst/>
            <a:gdLst/>
            <a:ahLst/>
            <a:rect l="l" t="t" r="r" b="b"/>
            <a:pathLst>
              <a:path w="28220" h="21170">
                <a:moveTo>
                  <a:pt x="28219" y="0"/>
                </a:moveTo>
                <a:lnTo>
                  <a:pt x="28219" y="16405"/>
                </a:lnTo>
                <a:lnTo>
                  <a:pt x="9828" y="16405"/>
                </a:lnTo>
                <a:lnTo>
                  <a:pt x="5913" y="21169"/>
                </a:lnTo>
                <a:lnTo>
                  <a:pt x="0" y="21169"/>
                </a:lnTo>
                <a:lnTo>
                  <a:pt x="0" y="10586"/>
                </a:lnTo>
                <a:lnTo>
                  <a:pt x="0" y="4771"/>
                </a:lnTo>
                <a:lnTo>
                  <a:pt x="18392" y="4771"/>
                </a:lnTo>
                <a:lnTo>
                  <a:pt x="22310" y="0"/>
                </a:lnTo>
                <a:lnTo>
                  <a:pt x="28219" y="0"/>
                </a:lnTo>
              </a:path>
            </a:pathLst>
          </a:custGeom>
          <a:solidFill>
            <a:srgbClr val="000000">
              <a:alpha val="40000"/>
            </a:srgbClr>
          </a:solidFill>
          <a:ln w="9360">
            <a:solidFill>
              <a:srgbClr val="33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0" y="271440"/>
            <a:ext cx="10156320" cy="7278840"/>
            <a:chOff x="0" y="271440"/>
            <a:chExt cx="10156320" cy="7278840"/>
          </a:xfrm>
        </p:grpSpPr>
        <p:sp>
          <p:nvSpPr>
            <p:cNvPr id="487" name=""/>
            <p:cNvSpPr/>
            <p:nvPr/>
          </p:nvSpPr>
          <p:spPr>
            <a:xfrm>
              <a:off x="118800" y="1887480"/>
              <a:ext cx="882360" cy="2114640"/>
            </a:xfrm>
            <a:custGeom>
              <a:avLst/>
              <a:gdLst>
                <a:gd name="textAreaLeft" fmla="*/ 360 w 882360"/>
                <a:gd name="textAreaRight" fmla="*/ 882000 w 882360"/>
                <a:gd name="textAreaTop" fmla="*/ 360 h 2114640"/>
                <a:gd name="textAreaBottom" fmla="*/ 2114280 h 2114640"/>
              </a:gdLst>
              <a:ahLst/>
              <a:rect l="textAreaLeft" t="textAreaTop" r="textAreaRight" b="textAreaBottom"/>
              <a:pathLst>
                <a:path w="21600" h="51754">
                  <a:moveTo>
                    <a:pt x="38" y="0"/>
                  </a:moveTo>
                  <a:arcTo wR="38" hR="38" stAng="16200000" swAng="-5400000"/>
                  <a:lnTo>
                    <a:pt x="0" y="51716"/>
                  </a:lnTo>
                  <a:arcTo wR="38" hR="38" stAng="10800000" swAng="-5400000"/>
                  <a:lnTo>
                    <a:pt x="21562" y="51754"/>
                  </a:lnTo>
                  <a:arcTo wR="38" hR="38" stAng="5400000" swAng="-5400000"/>
                  <a:lnTo>
                    <a:pt x="21600" y="38"/>
                  </a:lnTo>
                  <a:arcTo wR="38" hR="38" stAng="0" swAng="-5400000"/>
                  <a:close/>
                </a:path>
              </a:pathLst>
            </a:cu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45840" y="2746440"/>
              <a:ext cx="7502760" cy="998640"/>
            </a:xfrm>
            <a:prstGeom prst="roundRect">
              <a:avLst>
                <a:gd name="adj" fmla="val 157"/>
              </a:avLst>
            </a:pr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25240" y="3260880"/>
              <a:ext cx="763200" cy="3660480"/>
            </a:xfrm>
            <a:custGeom>
              <a:avLst/>
              <a:gdLst>
                <a:gd name="textAreaLeft" fmla="*/ 360 w 763200"/>
                <a:gd name="textAreaRight" fmla="*/ 762840 w 763200"/>
                <a:gd name="textAreaTop" fmla="*/ 360 h 3660480"/>
                <a:gd name="textAreaBottom" fmla="*/ 3660120 h 3660480"/>
              </a:gdLst>
              <a:ahLst/>
              <a:rect l="textAreaLeft" t="textAreaTop" r="textAreaRight" b="textAreaBottom"/>
              <a:pathLst>
                <a:path w="21600" h="103560">
                  <a:moveTo>
                    <a:pt x="44" y="0"/>
                  </a:moveTo>
                  <a:arcTo wR="44" hR="44" stAng="16200000" swAng="-5400000"/>
                  <a:lnTo>
                    <a:pt x="0" y="103516"/>
                  </a:lnTo>
                  <a:arcTo wR="44" hR="44" stAng="10800000" swAng="-5400000"/>
                  <a:lnTo>
                    <a:pt x="21556" y="103560"/>
                  </a:lnTo>
                  <a:arcTo wR="44" hR="44" stAng="5400000" swAng="-5400000"/>
                  <a:lnTo>
                    <a:pt x="21600" y="44"/>
                  </a:lnTo>
                  <a:arcTo wR="44" hR="44" stAng="0" swAng="-5400000"/>
                  <a:close/>
                </a:path>
              </a:pathLst>
            </a:cu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026720" y="6093000"/>
              <a:ext cx="1479240" cy="684000"/>
            </a:xfrm>
            <a:prstGeom prst="roundRect">
              <a:avLst>
                <a:gd name="adj" fmla="val 231"/>
              </a:avLst>
            </a:pr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627760" y="657360"/>
              <a:ext cx="1241280" cy="4289400"/>
            </a:xfrm>
            <a:custGeom>
              <a:avLst/>
              <a:gdLst>
                <a:gd name="textAreaLeft" fmla="*/ 360 w 1241280"/>
                <a:gd name="textAreaRight" fmla="*/ 1240920 w 1241280"/>
                <a:gd name="textAreaTop" fmla="*/ 360 h 4289400"/>
                <a:gd name="textAreaBottom" fmla="*/ 4289040 h 4289400"/>
              </a:gdLst>
              <a:ahLst/>
              <a:rect l="textAreaLeft" t="textAreaTop" r="textAreaRight" b="textAreaBottom"/>
              <a:pathLst>
                <a:path w="21600" h="74626">
                  <a:moveTo>
                    <a:pt x="27" y="0"/>
                  </a:moveTo>
                  <a:arcTo wR="27" hR="27" stAng="16200000" swAng="-5400000"/>
                  <a:lnTo>
                    <a:pt x="0" y="74599"/>
                  </a:lnTo>
                  <a:arcTo wR="27" hR="27" stAng="10800000" swAng="-5400000"/>
                  <a:lnTo>
                    <a:pt x="21573" y="74626"/>
                  </a:lnTo>
                  <a:arcTo wR="27" hR="27" stAng="5400000" swAng="-5400000"/>
                  <a:lnTo>
                    <a:pt x="21600" y="27"/>
                  </a:lnTo>
                  <a:arcTo wR="27" hR="27" stAng="0" swAng="-5400000"/>
                  <a:close/>
                </a:path>
              </a:pathLst>
            </a:cu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836040" y="3289320"/>
              <a:ext cx="2531160" cy="2373120"/>
            </a:xfrm>
            <a:prstGeom prst="roundRect">
              <a:avLst>
                <a:gd name="adj" fmla="val 65"/>
              </a:avLst>
            </a:pr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966480" y="2260440"/>
              <a:ext cx="3296520" cy="1886040"/>
            </a:xfrm>
            <a:prstGeom prst="roundRect">
              <a:avLst>
                <a:gd name="adj" fmla="val 83"/>
              </a:avLst>
            </a:pr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413800" y="3289320"/>
              <a:ext cx="452160" cy="3058920"/>
            </a:xfrm>
            <a:custGeom>
              <a:avLst/>
              <a:gdLst>
                <a:gd name="textAreaLeft" fmla="*/ 360 w 452160"/>
                <a:gd name="textAreaRight" fmla="*/ 451800 w 452160"/>
                <a:gd name="textAreaTop" fmla="*/ 360 h 3058920"/>
                <a:gd name="textAreaBottom" fmla="*/ 3058560 h 3058920"/>
              </a:gdLst>
              <a:ahLst/>
              <a:rect l="textAreaLeft" t="textAreaTop" r="textAreaRight" b="textAreaBottom"/>
              <a:pathLst>
                <a:path w="21600" h="146028">
                  <a:moveTo>
                    <a:pt x="75" y="0"/>
                  </a:moveTo>
                  <a:arcTo wR="75" hR="75" stAng="16200000" swAng="-5400000"/>
                  <a:lnTo>
                    <a:pt x="0" y="145953"/>
                  </a:lnTo>
                  <a:arcTo wR="75" hR="75" stAng="10800000" swAng="-5400000"/>
                  <a:lnTo>
                    <a:pt x="21525" y="146028"/>
                  </a:lnTo>
                  <a:arcTo wR="75" hR="75" stAng="5400000" swAng="-5400000"/>
                  <a:lnTo>
                    <a:pt x="21600" y="75"/>
                  </a:lnTo>
                  <a:arcTo wR="75" hR="75" stAng="0" swAng="-5400000"/>
                  <a:close/>
                </a:path>
              </a:pathLst>
            </a:cu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202920" y="4605480"/>
              <a:ext cx="2602800" cy="971280"/>
            </a:xfrm>
            <a:prstGeom prst="roundRect">
              <a:avLst>
                <a:gd name="adj" fmla="val 162"/>
              </a:avLst>
            </a:pr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86920" y="5092560"/>
              <a:ext cx="9510480" cy="312840"/>
            </a:xfrm>
            <a:prstGeom prst="roundRect">
              <a:avLst>
                <a:gd name="adj" fmla="val 505"/>
              </a:avLst>
            </a:pr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742520" y="1030320"/>
              <a:ext cx="1337760" cy="1028520"/>
            </a:xfrm>
            <a:prstGeom prst="roundRect">
              <a:avLst>
                <a:gd name="adj" fmla="val 153"/>
              </a:avLst>
            </a:pr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434360" y="4548240"/>
              <a:ext cx="1622160" cy="341280"/>
            </a:xfrm>
            <a:prstGeom prst="roundRect">
              <a:avLst>
                <a:gd name="adj" fmla="val 463"/>
              </a:avLst>
            </a:pr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672920" y="2260440"/>
              <a:ext cx="499680" cy="1086120"/>
            </a:xfrm>
            <a:custGeom>
              <a:avLst/>
              <a:gdLst>
                <a:gd name="textAreaLeft" fmla="*/ 360 w 499680"/>
                <a:gd name="textAreaRight" fmla="*/ 499320 w 499680"/>
                <a:gd name="textAreaTop" fmla="*/ 360 h 1086120"/>
                <a:gd name="textAreaBottom" fmla="*/ 1085760 h 1086120"/>
              </a:gdLst>
              <a:ahLst/>
              <a:rect l="textAreaLeft" t="textAreaTop" r="textAreaRight" b="textAreaBottom"/>
              <a:pathLst>
                <a:path w="21600" h="46932">
                  <a:moveTo>
                    <a:pt x="68" y="0"/>
                  </a:moveTo>
                  <a:arcTo wR="68" hR="68" stAng="16200000" swAng="-5400000"/>
                  <a:lnTo>
                    <a:pt x="0" y="46864"/>
                  </a:lnTo>
                  <a:arcTo wR="68" hR="68" stAng="10800000" swAng="-5400000"/>
                  <a:lnTo>
                    <a:pt x="21532" y="46932"/>
                  </a:lnTo>
                  <a:arcTo wR="68" hR="68" stAng="5400000" swAng="-5400000"/>
                  <a:lnTo>
                    <a:pt x="21600" y="68"/>
                  </a:lnTo>
                  <a:arcTo wR="68" hR="68" stAng="0" swAng="-5400000"/>
                  <a:close/>
                </a:path>
              </a:pathLst>
            </a:cu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36240" y="2317680"/>
              <a:ext cx="644040" cy="1028880"/>
            </a:xfrm>
            <a:custGeom>
              <a:avLst/>
              <a:gdLst>
                <a:gd name="textAreaLeft" fmla="*/ 360 w 644040"/>
                <a:gd name="textAreaRight" fmla="*/ 643680 w 644040"/>
                <a:gd name="textAreaTop" fmla="*/ 360 h 1028880"/>
                <a:gd name="textAreaBottom" fmla="*/ 1028520 h 1028880"/>
              </a:gdLst>
              <a:ahLst/>
              <a:rect l="textAreaLeft" t="textAreaTop" r="textAreaRight" b="textAreaBottom"/>
              <a:pathLst>
                <a:path w="21600" h="34500">
                  <a:moveTo>
                    <a:pt x="53" y="0"/>
                  </a:moveTo>
                  <a:arcTo wR="53" hR="53" stAng="16200000" swAng="-5400000"/>
                  <a:lnTo>
                    <a:pt x="0" y="34447"/>
                  </a:lnTo>
                  <a:arcTo wR="53" hR="53" stAng="10800000" swAng="-5400000"/>
                  <a:lnTo>
                    <a:pt x="21547" y="34500"/>
                  </a:lnTo>
                  <a:arcTo wR="53" hR="53" stAng="5400000" swAng="-5400000"/>
                  <a:lnTo>
                    <a:pt x="21600" y="53"/>
                  </a:lnTo>
                  <a:arcTo wR="53" hR="53" stAng="0" swAng="-5400000"/>
                  <a:close/>
                </a:path>
              </a:pathLst>
            </a:cu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628280" y="4343400"/>
              <a:ext cx="1025280" cy="3206880"/>
            </a:xfrm>
            <a:custGeom>
              <a:avLst/>
              <a:gdLst/>
              <a:ahLst/>
              <a:rect l="l" t="t" r="r" b="b"/>
              <a:pathLst>
                <a:path w="2852" h="8913">
                  <a:moveTo>
                    <a:pt x="0" y="8912"/>
                  </a:moveTo>
                  <a:lnTo>
                    <a:pt x="0" y="0"/>
                  </a:lnTo>
                  <a:lnTo>
                    <a:pt x="2849" y="0"/>
                  </a:lnTo>
                  <a:lnTo>
                    <a:pt x="2851" y="7226"/>
                  </a:lnTo>
                </a:path>
              </a:pathLst>
            </a:custGeom>
            <a:noFill/>
            <a:ln w="9360">
              <a:solidFill>
                <a:srgbClr val="33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0" y="4773600"/>
              <a:ext cx="987120" cy="2776680"/>
            </a:xfrm>
            <a:custGeom>
              <a:avLst/>
              <a:gdLst/>
              <a:ahLst/>
              <a:rect l="l" t="t" r="r" b="b"/>
              <a:pathLst>
                <a:path w="2748" h="7718">
                  <a:moveTo>
                    <a:pt x="0" y="0"/>
                  </a:moveTo>
                  <a:lnTo>
                    <a:pt x="2747" y="0"/>
                  </a:lnTo>
                  <a:lnTo>
                    <a:pt x="2747" y="7717"/>
                  </a:lnTo>
                </a:path>
              </a:pathLst>
            </a:custGeom>
            <a:noFill/>
            <a:ln w="9360">
              <a:solidFill>
                <a:srgbClr val="33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748760" y="1744560"/>
              <a:ext cx="1118880" cy="2165400"/>
            </a:xfrm>
            <a:custGeom>
              <a:avLst/>
              <a:gdLst/>
              <a:ahLst/>
              <a:rect l="l" t="t" r="r" b="b"/>
              <a:pathLst>
                <a:path w="3113" h="6019">
                  <a:moveTo>
                    <a:pt x="0" y="0"/>
                  </a:moveTo>
                  <a:lnTo>
                    <a:pt x="0" y="6018"/>
                  </a:lnTo>
                  <a:lnTo>
                    <a:pt x="3112" y="6018"/>
                  </a:lnTo>
                  <a:lnTo>
                    <a:pt x="3112" y="0"/>
                  </a:lnTo>
                </a:path>
              </a:pathLst>
            </a:custGeom>
            <a:noFill/>
            <a:ln w="9360">
              <a:solidFill>
                <a:srgbClr val="33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0" y="1744560"/>
              <a:ext cx="3366360" cy="1352520"/>
            </a:xfrm>
            <a:custGeom>
              <a:avLst/>
              <a:gdLst/>
              <a:ahLst/>
              <a:rect l="l" t="t" r="r" b="b"/>
              <a:pathLst>
                <a:path w="9359" h="3761">
                  <a:moveTo>
                    <a:pt x="9358" y="0"/>
                  </a:moveTo>
                  <a:lnTo>
                    <a:pt x="9358" y="3760"/>
                  </a:lnTo>
                  <a:lnTo>
                    <a:pt x="0" y="3760"/>
                  </a:lnTo>
                </a:path>
              </a:pathLst>
            </a:custGeom>
            <a:noFill/>
            <a:ln w="9360">
              <a:solidFill>
                <a:srgbClr val="33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509000" y="4389480"/>
              <a:ext cx="2598120" cy="1473120"/>
            </a:xfrm>
            <a:custGeom>
              <a:avLst/>
              <a:gdLst/>
              <a:ahLst/>
              <a:rect l="l" t="t" r="r" b="b"/>
              <a:pathLst>
                <a:path w="7225" h="4098">
                  <a:moveTo>
                    <a:pt x="0" y="4097"/>
                  </a:moveTo>
                  <a:lnTo>
                    <a:pt x="0" y="0"/>
                  </a:lnTo>
                  <a:lnTo>
                    <a:pt x="7224" y="0"/>
                  </a:lnTo>
                  <a:lnTo>
                    <a:pt x="7224" y="4097"/>
                  </a:lnTo>
                </a:path>
              </a:pathLst>
            </a:custGeom>
            <a:noFill/>
            <a:ln w="9360">
              <a:solidFill>
                <a:srgbClr val="33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689960" y="463680"/>
              <a:ext cx="2466360" cy="2009520"/>
            </a:xfrm>
            <a:custGeom>
              <a:avLst/>
              <a:gdLst/>
              <a:ahLst/>
              <a:rect l="l" t="t" r="r" b="b"/>
              <a:pathLst>
                <a:path w="6856" h="5587">
                  <a:moveTo>
                    <a:pt x="6855" y="5586"/>
                  </a:moveTo>
                  <a:lnTo>
                    <a:pt x="0" y="558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33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869320" y="271440"/>
              <a:ext cx="1118520" cy="909720"/>
            </a:xfrm>
            <a:prstGeom prst="roundRect">
              <a:avLst>
                <a:gd name="adj" fmla="val 171"/>
              </a:avLst>
            </a:pr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0" y="0"/>
            <a:ext cx="10158480" cy="7621560"/>
          </a:xfrm>
          <a:prstGeom prst="roundRect">
            <a:avLst>
              <a:gd name="adj" fmla="val 19"/>
            </a:avLst>
          </a:prstGeom>
          <a:solidFill>
            <a:srgbClr val="000000">
              <a:alpha val="3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0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0" y="0"/>
            <a:ext cx="5219640" cy="1017720"/>
          </a:xfrm>
          <a:custGeom>
            <a:avLst/>
            <a:gdLst/>
            <a:ahLst/>
            <a:rect l="l" t="t" r="r" b="b"/>
            <a:pathLst>
              <a:path w="14498" h="2828">
                <a:moveTo>
                  <a:pt x="0" y="0"/>
                </a:moveTo>
                <a:lnTo>
                  <a:pt x="0" y="1236"/>
                </a:lnTo>
                <a:lnTo>
                  <a:pt x="706" y="1631"/>
                </a:lnTo>
                <a:lnTo>
                  <a:pt x="1407" y="1935"/>
                </a:lnTo>
                <a:lnTo>
                  <a:pt x="2157" y="2197"/>
                </a:lnTo>
                <a:lnTo>
                  <a:pt x="2943" y="2418"/>
                </a:lnTo>
                <a:lnTo>
                  <a:pt x="3767" y="2593"/>
                </a:lnTo>
                <a:lnTo>
                  <a:pt x="4625" y="2721"/>
                </a:lnTo>
                <a:lnTo>
                  <a:pt x="5510" y="2801"/>
                </a:lnTo>
                <a:lnTo>
                  <a:pt x="6417" y="2827"/>
                </a:lnTo>
                <a:lnTo>
                  <a:pt x="7329" y="2801"/>
                </a:lnTo>
                <a:lnTo>
                  <a:pt x="8215" y="2721"/>
                </a:lnTo>
                <a:lnTo>
                  <a:pt x="9072" y="2593"/>
                </a:lnTo>
                <a:lnTo>
                  <a:pt x="9895" y="2418"/>
                </a:lnTo>
                <a:lnTo>
                  <a:pt x="10684" y="2197"/>
                </a:lnTo>
                <a:lnTo>
                  <a:pt x="11432" y="1935"/>
                </a:lnTo>
                <a:lnTo>
                  <a:pt x="12136" y="1631"/>
                </a:lnTo>
                <a:lnTo>
                  <a:pt x="12788" y="1293"/>
                </a:lnTo>
                <a:lnTo>
                  <a:pt x="13392" y="920"/>
                </a:lnTo>
                <a:lnTo>
                  <a:pt x="13940" y="513"/>
                </a:lnTo>
                <a:lnTo>
                  <a:pt x="14429" y="78"/>
                </a:lnTo>
                <a:lnTo>
                  <a:pt x="14497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47ff"/>
              </a:gs>
              <a:gs pos="100000">
                <a:srgbClr val="000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0" y="5402160"/>
            <a:ext cx="10080720" cy="2157480"/>
          </a:xfrm>
          <a:prstGeom prst="roundRect">
            <a:avLst>
              <a:gd name="adj" fmla="val 69"/>
            </a:avLst>
          </a:prstGeom>
          <a:gradFill rotWithShape="0">
            <a:gsLst>
              <a:gs pos="0">
                <a:srgbClr val="0047ff"/>
              </a:gs>
              <a:gs pos="100000">
                <a:srgbClr val="000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-33480" y="6459480"/>
            <a:ext cx="5240520" cy="1101960"/>
          </a:xfrm>
          <a:custGeom>
            <a:avLst/>
            <a:gdLst/>
            <a:ahLst/>
            <a:rect l="l" t="t" r="r" b="b"/>
            <a:pathLst>
              <a:path w="14555" h="3060">
                <a:moveTo>
                  <a:pt x="93" y="3059"/>
                </a:moveTo>
                <a:lnTo>
                  <a:pt x="93" y="2102"/>
                </a:lnTo>
                <a:lnTo>
                  <a:pt x="0" y="2065"/>
                </a:lnTo>
                <a:lnTo>
                  <a:pt x="586" y="1659"/>
                </a:lnTo>
                <a:lnTo>
                  <a:pt x="1219" y="1291"/>
                </a:lnTo>
                <a:lnTo>
                  <a:pt x="1898" y="964"/>
                </a:lnTo>
                <a:lnTo>
                  <a:pt x="2620" y="680"/>
                </a:lnTo>
                <a:lnTo>
                  <a:pt x="3383" y="441"/>
                </a:lnTo>
                <a:lnTo>
                  <a:pt x="4180" y="252"/>
                </a:lnTo>
                <a:lnTo>
                  <a:pt x="5008" y="112"/>
                </a:lnTo>
                <a:lnTo>
                  <a:pt x="5864" y="29"/>
                </a:lnTo>
                <a:lnTo>
                  <a:pt x="6745" y="0"/>
                </a:lnTo>
                <a:lnTo>
                  <a:pt x="7625" y="29"/>
                </a:lnTo>
                <a:lnTo>
                  <a:pt x="8479" y="112"/>
                </a:lnTo>
                <a:lnTo>
                  <a:pt x="9308" y="252"/>
                </a:lnTo>
                <a:lnTo>
                  <a:pt x="10104" y="441"/>
                </a:lnTo>
                <a:lnTo>
                  <a:pt x="10868" y="680"/>
                </a:lnTo>
                <a:lnTo>
                  <a:pt x="11590" y="964"/>
                </a:lnTo>
                <a:lnTo>
                  <a:pt x="12269" y="1291"/>
                </a:lnTo>
                <a:lnTo>
                  <a:pt x="12902" y="1659"/>
                </a:lnTo>
                <a:lnTo>
                  <a:pt x="13487" y="2065"/>
                </a:lnTo>
                <a:lnTo>
                  <a:pt x="14018" y="2504"/>
                </a:lnTo>
                <a:lnTo>
                  <a:pt x="14489" y="2976"/>
                </a:lnTo>
                <a:lnTo>
                  <a:pt x="14554" y="3059"/>
                </a:lnTo>
                <a:lnTo>
                  <a:pt x="93" y="3059"/>
                </a:lnTo>
              </a:path>
            </a:pathLst>
          </a:custGeom>
          <a:gradFill rotWithShape="0">
            <a:gsLst>
              <a:gs pos="0">
                <a:srgbClr val="2300dc"/>
              </a:gs>
              <a:gs pos="100000">
                <a:srgbClr val="000080">
                  <a:alpha val="5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e6e6ff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5120" y="0"/>
            <a:ext cx="961560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fffbf0"/>
              </a:gs>
              <a:gs pos="100000">
                <a:srgbClr val="ffffcc"/>
              </a:gs>
            </a:gsLst>
            <a:lin ang="0"/>
          </a:gradFill>
          <a:ln w="9360">
            <a:solidFill>
              <a:srgbClr val="33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eb613d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20728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0728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207280" y="717552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20728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20728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20728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93772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93772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937720" y="717552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93772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93772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93772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eb613d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20728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20728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07280" y="717552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20728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20728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0728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93772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93772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937720" y="717552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93772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93772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93772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9180360" y="6659640"/>
            <a:ext cx="900360" cy="900000"/>
          </a:xfrm>
          <a:custGeom>
            <a:avLst/>
            <a:gdLst/>
            <a:ahLst/>
            <a:rect l="l" t="t" r="r" b="b"/>
            <a:pathLst>
              <a:path w="2501" h="2501">
                <a:moveTo>
                  <a:pt x="0" y="2499"/>
                </a:moveTo>
                <a:lnTo>
                  <a:pt x="2499" y="0"/>
                </a:lnTo>
                <a:lnTo>
                  <a:pt x="2500" y="2500"/>
                </a:lnTo>
                <a:lnTo>
                  <a:pt x="0" y="249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0"/>
            <a:ext cx="10078920" cy="711360"/>
          </a:xfrm>
          <a:prstGeom prst="roundRect">
            <a:avLst>
              <a:gd name="adj" fmla="val 222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268200" y="1079640"/>
            <a:ext cx="9547200" cy="63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9480600" y="6985080"/>
            <a:ext cx="480960" cy="4539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179280" y="101520"/>
            <a:ext cx="457200" cy="438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 rot="21000000">
            <a:off x="9240480" y="7076880"/>
            <a:ext cx="86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64A803F1-BD93-48A9-89D1-AAAB034A24E2}" type="slidenum">
              <a:rPr b="0" lang="ru-RU" sz="16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0" y="4432320"/>
            <a:ext cx="2906640" cy="312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0" y="17640"/>
            <a:ext cx="10115640" cy="755964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334960" y="626760"/>
            <a:ext cx="70117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e6e6ff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2347920" y="2101320"/>
            <a:ext cx="69991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1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6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6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6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6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6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60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6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60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6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6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6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5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5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5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5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080720" y="1402920"/>
            <a:ext cx="8999640" cy="43196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0" rIns="0" tIns="3024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Презентация на тему:</a:t>
            </a:r>
            <a:br>
              <a:rPr sz="4800"/>
            </a:br>
            <a:br>
              <a:rPr sz="4800"/>
            </a:b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 «Архангельская область»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1471680" y="1042560"/>
            <a:ext cx="860904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667200" y="6443640"/>
            <a:ext cx="289332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Monotype Corsiva"/>
              </a:rPr>
              <a:t>Выполнила: Ким Кс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260000" y="-360360"/>
            <a:ext cx="8820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700" spc="-1" strike="noStrike">
                <a:solidFill>
                  <a:srgbClr val="000000"/>
                </a:solidFill>
                <a:latin typeface="Monotype Corsiva"/>
              </a:rPr>
              <a:t>Животный мир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1294920" y="611280"/>
            <a:ext cx="8496360" cy="70819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431640" indent="-323640" algn="just">
              <a:lnSpc>
                <a:spcPct val="90000"/>
              </a:lnSpc>
              <a:spcAft>
                <a:spcPts val="1400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Архангельской области типичен для таежной зоны европейской части России. Млекопитающие, как правило, имеют густой, пушистый мех и впадают в зимнюю спячку. Широко распространена боровая дичь. Имеются разнообразные насекомые, в том числе таежный гнус. Из зверей характерны лось, олень, медведь, рысь, росомаха, волк, лисица, белка, куница, норка, бобр, ондатра, заяц; из птиц — тетерев, глухарь, рябчик, дятел, синица, снегирь, пищух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729720" y="-357120"/>
            <a:ext cx="9348840" cy="197640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1" lang="ru-RU" sz="4700" spc="-1" strike="noStrike">
                <a:solidFill>
                  <a:srgbClr val="000000"/>
                </a:solidFill>
                <a:latin typeface="Monotype Corsiva"/>
              </a:rPr>
              <a:t>Некоторые виды животных, внесенные в Красную книгу РФ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824000" y="1258560"/>
            <a:ext cx="5388120" cy="64594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 fontScale="95000"/>
          </a:bodyPr>
          <a:p>
            <a:pPr marL="325800" indent="0">
              <a:lnSpc>
                <a:spcPct val="75000"/>
              </a:lnSpc>
              <a:spcAft>
                <a:spcPts val="1400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Ночница Брандта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Небольшой зверек. Длина тела 3,8—5,5 см, масса 5—10 г. Размах крыльев около 20 см. Мех густой, длинный, слегка всклокоченный. Лицевая «маска» покрыта темными волосами. Крыловая перепонка крепится к основанию внешнего пальца ступни.Населяет главным образом смешанные и широколиственные леса, по речным долинам проникает в зону тайги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4" name="" descr=""/>
          <p:cNvPicPr/>
          <p:nvPr/>
        </p:nvPicPr>
        <p:blipFill>
          <a:blip r:embed="rId1"/>
          <a:stretch/>
        </p:blipFill>
        <p:spPr>
          <a:xfrm>
            <a:off x="1511280" y="1619280"/>
            <a:ext cx="3527280" cy="3240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730080" y="342720"/>
            <a:ext cx="8609040" cy="185724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Бурый ушан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5880240" y="971280"/>
            <a:ext cx="4200480" cy="594972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 fontScale="91000"/>
          </a:bodyPr>
          <a:p>
            <a:pPr marL="312120" indent="0">
              <a:lnSpc>
                <a:spcPct val="85000"/>
              </a:lnSpc>
              <a:spcAft>
                <a:spcPts val="1400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Небольшой зверек. Длина тела 42—55 мм, масса 5—11 г. Размах крыльев до 28 см. От других летучих мышей, обитающих на севере европейской части России, отличается хорошо видными в полете очень крупными ушами (не менее 30 мм, в покое они загибаются на спину). Полет медленный, маневренный, зверек может «зависать» на одном месте. В окраске меха всегда присутствуют бурые и желтоватые тона.</a:t>
            </a:r>
            <a:r>
              <a:rPr b="0" lang="en-US" sz="1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7" name="" descr=""/>
          <p:cNvPicPr/>
          <p:nvPr/>
        </p:nvPicPr>
        <p:blipFill>
          <a:blip r:embed="rId1"/>
          <a:stretch/>
        </p:blipFill>
        <p:spPr>
          <a:xfrm>
            <a:off x="1511280" y="1116000"/>
            <a:ext cx="4608360" cy="6443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918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700" spc="-1" strike="noStrike">
                <a:solidFill>
                  <a:srgbClr val="000000"/>
                </a:solidFill>
                <a:latin typeface="Times New Roman"/>
              </a:rPr>
              <a:t>Летяга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1511280" y="878040"/>
            <a:ext cx="3409920" cy="632304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 fontScale="86000"/>
          </a:bodyPr>
          <a:p>
            <a:pPr marL="2948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Грызун, внешне похожий на обыкновенную белку. Голова более округлая, тупомордая, с большими черными глазами. Длина тела 13,5—20,0 см, хвост составляет от 2/3 до 3/4 длины тела. Передние и задние конечности соединены кожистой перепонкой, играющей роль несущей поверхности при прыжках. Спереди она поддерживается особой косточкой, отходящей от запястья и по длине примерно равной предплечью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0" name="" descr=""/>
          <p:cNvPicPr/>
          <p:nvPr/>
        </p:nvPicPr>
        <p:blipFill>
          <a:blip r:embed="rId1"/>
          <a:stretch/>
        </p:blipFill>
        <p:spPr>
          <a:xfrm>
            <a:off x="5040360" y="963720"/>
            <a:ext cx="5040360" cy="6056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655640" y="177840"/>
            <a:ext cx="8064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 algn="just">
              <a:lnSpc>
                <a:spcPct val="8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При прыжках передние конечности широко расставлены, задние прижаты к хвосту, поэтому силуэт парящей летяги имеет очертания треугольника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1368000" y="1476360"/>
            <a:ext cx="3838680" cy="59752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 fontScale="85000"/>
          </a:bodyPr>
          <a:p>
            <a:pPr marL="291600" indent="0" algn="just">
              <a:lnSpc>
                <a:spcPct val="85000"/>
              </a:lnSpc>
              <a:spcAft>
                <a:spcPts val="1400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Monotype Corsiva"/>
              </a:rPr>
              <a:t>Населяет старовозрастные смешанные леса, в темнохвойной тайге встречается исключительно на участках с наличием старых осин, в дуплах которых устраивает гнезда. Гнездовой участок самки занимает в среднем 8,3 га, при этом участки разных самок не перекрываются. Приносит один помет в год, состоящий из 2—3 детенышей. Ведет сумеречный образ жизни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5472000" y="1476360"/>
            <a:ext cx="4608720" cy="6083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91486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700" spc="-1" strike="noStrike">
                <a:solidFill>
                  <a:srgbClr val="000000"/>
                </a:solidFill>
                <a:latin typeface="Times New Roman"/>
              </a:rPr>
              <a:t>Белоклювая гагара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327640" y="1187280"/>
            <a:ext cx="4200480" cy="51912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 fontScale="93000"/>
          </a:bodyPr>
          <a:p>
            <a:pPr marL="318960" indent="0" algn="just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чень крупная гагара. Длина тела 75—90 см, масса 4,1—6,4 кг. Самец несколько крупнее самки. Крылья острые, относительно узкие и короткие. Три передних пальца на ногах соединены плавательной перепонкой, задний палец недоразвит. Клюв острый и крупный, слегка вздернутый, светлый или желтоваты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6" name="" descr=""/>
          <p:cNvPicPr/>
          <p:nvPr/>
        </p:nvPicPr>
        <p:blipFill>
          <a:blip r:embed="rId1"/>
          <a:stretch/>
        </p:blipFill>
        <p:spPr>
          <a:xfrm>
            <a:off x="1584360" y="1800360"/>
            <a:ext cx="3816360" cy="5759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260000" y="0"/>
            <a:ext cx="882036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700" spc="-1" strike="noStrike">
                <a:solidFill>
                  <a:srgbClr val="000000"/>
                </a:solidFill>
                <a:latin typeface="Monotype Corsiva"/>
              </a:rPr>
              <a:t>Атлантическая черная казарка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584000" y="1357200"/>
            <a:ext cx="3336840" cy="56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 fontScale="83000"/>
          </a:bodyPr>
          <a:p>
            <a:pPr marL="28440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Небольшая казарка. Длина тела 55—60 см, масса 1,75—2,25 кг. Голова маленькая, клюв короткий. Оперение черновато-бурое. Голова, шея, передняя часть груди, первостепенные маховые перья, клюв и лапы чёрные. </a:t>
            </a: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Голос — мелодичный горловой крик «рронк» или «ррук»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5040360" y="1440000"/>
            <a:ext cx="5040360" cy="5759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4968720" y="1260360"/>
            <a:ext cx="5112000" cy="6048360"/>
          </a:xfrm>
          <a:prstGeom prst="rect">
            <a:avLst/>
          </a:prstGeom>
          <a:ln w="0">
            <a:noFill/>
          </a:ln>
        </p:spPr>
      </p:pic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079640" y="0"/>
            <a:ext cx="89992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Пискулька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1511280" y="1187280"/>
            <a:ext cx="3889440" cy="5832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 fontScale="82000"/>
          </a:bodyPr>
          <a:p>
            <a:pPr marL="281160" indent="0" algn="just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Небольшой по размерам гусь. Длина тела 53—66 см, масса 1,7—2,4 кг. Клюв короткий, розоватый, лапы желто-оранжевые. На лбу белое пятно шириной 25—30 мм, заходящее на темя. Вокруг глаз голое узкое желтое кольцо. Крылья и хвост буровато-чёрные, концы рулевых перьев белые. Голос — высокие, пискливые крики «пиу-иу» или «пиу-иу-иу»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900000" y="-3240"/>
            <a:ext cx="918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024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Лебедь-кликун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511280" y="1618920"/>
            <a:ext cx="340992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 fontScale="91000"/>
          </a:bodyPr>
          <a:p>
            <a:pPr marL="31212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Одна из самых крупных птиц в регионе. Размах крыльев до 2,5 м. Самцы крупнее самок. Оперение взрослых особей чисто белое, у молодых — буроватое. Плавая на воде, кликуны очень прямо держат шею, «палкой». Голос—разнообразные трубные крики</a:t>
            </a:r>
            <a:r>
              <a:rPr b="0" lang="en-US" sz="1200" spc="-1" strike="noStrike">
                <a:solidFill>
                  <a:srgbClr val="000000"/>
                </a:solidFill>
                <a:latin typeface="Monotype Corsiv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4859280" y="1079640"/>
            <a:ext cx="5040360" cy="6119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900000" y="-3240"/>
            <a:ext cx="918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024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Осоед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439640" y="1030320"/>
            <a:ext cx="3816360" cy="59896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 fontScale="82000"/>
          </a:bodyPr>
          <a:p>
            <a:pPr marL="28116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Крупная хищная птица. Длина тела 50—60 см; самки массой 1,2 кг, самцы — 0,7 кг. Оперение плотное. Тело стройное, длинные хвост, крылья и шея. Оперение на спине серовато-бурое, на голове — пепельно-серое, в нижней части тела — желтоватое с темными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пестринами. Хвост серо-бурый с тремя более темными поперечными полоса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8" name="" descr=""/>
          <p:cNvPicPr/>
          <p:nvPr/>
        </p:nvPicPr>
        <p:blipFill>
          <a:blip r:embed="rId1"/>
          <a:stretch/>
        </p:blipFill>
        <p:spPr>
          <a:xfrm>
            <a:off x="5400720" y="1079640"/>
            <a:ext cx="4498920" cy="6119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720360" y="177480"/>
            <a:ext cx="8999640" cy="162252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700" spc="-1" strike="noStrike">
                <a:solidFill>
                  <a:srgbClr val="000000"/>
                </a:solidFill>
                <a:latin typeface="Monotype Corsiva"/>
              </a:rPr>
              <a:t>Карта Архангельской области</a:t>
            </a:r>
            <a:r>
              <a:rPr b="0" lang="ru-RU" sz="47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5" name="" descr=""/>
          <p:cNvPicPr/>
          <p:nvPr/>
        </p:nvPicPr>
        <p:blipFill>
          <a:blip r:embed="rId1"/>
          <a:stretch/>
        </p:blipFill>
        <p:spPr>
          <a:xfrm>
            <a:off x="360360" y="1440000"/>
            <a:ext cx="9539280" cy="5940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079640" y="0"/>
            <a:ext cx="89992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700" spc="-1" strike="noStrike">
                <a:solidFill>
                  <a:srgbClr val="000000"/>
                </a:solidFill>
                <a:latin typeface="Monotype Corsiva"/>
              </a:rPr>
              <a:t>Беркут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439640" y="1116000"/>
            <a:ext cx="410364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 fontScale="88000"/>
          </a:bodyPr>
          <a:p>
            <a:pPr marL="3016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Крупный орел. Размах крыльев 1,8—2,3 м. Оперение темно-бурое, на голове золотисто-каштановые перья, удлиненные на затылке. Отличительным признаком в полете является длинный и широкий, слегка закругленный хвост. У взрослых птиц хвост темно-бурый, у молодых особей — белый с широкой темно-бурой концевой полосо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5400720" y="1079640"/>
            <a:ext cx="468000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 txBox="1"/>
          <p:nvPr/>
        </p:nvSpPr>
        <p:spPr>
          <a:xfrm>
            <a:off x="1800360" y="2556000"/>
            <a:ext cx="7777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 ЗА  ВНИМАНИЕ !</a:t>
            </a:r>
            <a:endParaRPr b="0" lang="en-US" sz="1800" spc="1" strike="noStrike">
              <a:ln w="19080">
                <a:solidFill>
                  <a:srgbClr val="3366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over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7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111320" y="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700" spc="-1" strike="noStrike">
                <a:solidFill>
                  <a:srgbClr val="000000"/>
                </a:solidFill>
                <a:latin typeface="Monotype Corsiva"/>
              </a:rPr>
              <a:t>Географическое положение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1295280" y="1042920"/>
            <a:ext cx="8609040" cy="72612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 fontScale="97000"/>
          </a:bodyPr>
          <a:p>
            <a:pPr marL="418680" indent="-313920" algn="just">
              <a:lnSpc>
                <a:spcPct val="90000"/>
              </a:lnSpc>
              <a:spcAft>
                <a:spcPts val="1400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Архангельская область занимает центральное положение на Европейском Севере. Площадь территории 587,3 тыс км2. Область расположена в ледяной, тундровой, лесотундровой и таежной природных зонах. Территория Архангельской области в целом представляет собой обширную равнину со слабо выраженным уклоном к Белому и Баренцеву морям, где равнинность местами нарушается конечно-моренными всхолмлениями, образовавшимися в результате древнего ледник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18680" indent="0" algn="just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223640" y="466200"/>
            <a:ext cx="8607240" cy="7093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1000"/>
          </a:bodyPr>
          <a:p>
            <a:pPr marL="312120" indent="0" algn="just">
              <a:lnSpc>
                <a:spcPct val="7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i="1" lang="ru-RU" sz="4000" spc="-1" strike="noStrike">
                <a:solidFill>
                  <a:srgbClr val="000000"/>
                </a:solidFill>
                <a:latin typeface="Monotype Corsiva"/>
              </a:rPr>
              <a:t>Крупнейшие реки — Северная Двина (с притоками Вычегда, Пинега и Вага), Онега, Мезень и Печора. На территории области около 2,5 тысяч озёр, особенно много их в бассейне Онеги и на крайнем северо-востоке. Наиболее крупные озёра — Лача, Кенозеро и Кожозеро.  В водах архангельской области обитает большое количество промысловых рыб: </a:t>
            </a:r>
            <a:r>
              <a:rPr b="0" i="1" lang="ru-RU" sz="4000" spc="-1" strike="noStrike">
                <a:solidFill>
                  <a:srgbClr val="000000"/>
                </a:solidFill>
                <a:latin typeface="Monotype Corsiva"/>
              </a:rPr>
              <a:t>сельдь, навага, сайда, камбала, налим, треска, зубатка, пикша, рогатка, стерлядь, минога, семга, хариус, щука, плотва, лещ, густера, язь, карась, гольян, уклейка, окунь, ерш и т.д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23640" y="971280"/>
            <a:ext cx="8459640" cy="2932200"/>
          </a:xfrm>
          <a:prstGeom prst="rect">
            <a:avLst/>
          </a:prstGeom>
          <a:noFill/>
          <a:ln w="0">
            <a:noFill/>
          </a:ln>
        </p:spPr>
        <p:txBody>
          <a:bodyPr lIns="0" rIns="0" tIns="30240" bIns="0" anchor="ctr">
            <a:noAutofit/>
          </a:bodyPr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Растительность.</a:t>
            </a:r>
            <a:br>
              <a:rPr sz="4800"/>
            </a:b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Архангельская область большей частью входит в зону тайги и тундры, исключение составляют архипелаги Новая Земля и Земля Франца Иосифа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,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остров Виктория 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— они относятся к 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арктическим  пустыням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440000" y="88560"/>
            <a:ext cx="8609040" cy="1351080"/>
          </a:xfrm>
          <a:prstGeom prst="rect">
            <a:avLst/>
          </a:prstGeom>
          <a:noFill/>
          <a:ln w="0">
            <a:noFill/>
          </a:ln>
        </p:spPr>
        <p:txBody>
          <a:bodyPr lIns="0" rIns="0" tIns="3024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Самая распространённая порода лесов — ель сибирская (65%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655640" y="4680"/>
            <a:ext cx="8244000" cy="197640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000000"/>
                </a:solidFill>
                <a:latin typeface="Monotype Corsiva"/>
              </a:rPr>
              <a:t>На втором месте по распространению — сосна обыкновенная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5" name="" descr=""/>
          <p:cNvPicPr/>
          <p:nvPr/>
        </p:nvPicPr>
        <p:blipFill>
          <a:blip r:embed="rId1"/>
          <a:stretch/>
        </p:blipFill>
        <p:spPr>
          <a:xfrm>
            <a:off x="1506600" y="1979640"/>
            <a:ext cx="8574120" cy="5580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727280" y="33120"/>
            <a:ext cx="761184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Широко распространены берёза бородавчатая, берёза пушистая и осина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, часто образующие вторичные лес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7" name="" descr=""/>
          <p:cNvPicPr/>
          <p:nvPr/>
        </p:nvPicPr>
        <p:blipFill>
          <a:blip r:embed="rId1"/>
          <a:stretch/>
        </p:blipFill>
        <p:spPr>
          <a:xfrm>
            <a:off x="3095640" y="2916360"/>
            <a:ext cx="5761080" cy="44305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871640" y="68040"/>
            <a:ext cx="8028000" cy="281124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На территории Архангельской области расположены: Пинежский заповедник, Кенозёрский национальный парк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, частично Водлозёрский национальный парк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9" name="" descr=""/>
          <p:cNvPicPr/>
          <p:nvPr/>
        </p:nvPicPr>
        <p:blipFill>
          <a:blip r:embed="rId1"/>
          <a:stretch/>
        </p:blipFill>
        <p:spPr>
          <a:xfrm>
            <a:off x="1698480" y="2700360"/>
            <a:ext cx="7840800" cy="4859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3T04:50:25Z</dcterms:created>
  <dc:creator/>
  <dc:description/>
  <dc:language>en-US</dc:language>
  <cp:lastModifiedBy>1</cp:lastModifiedBy>
  <dcterms:modified xsi:type="dcterms:W3CDTF">2011-12-05T14:26:33Z</dcterms:modified>
  <cp:revision>32</cp:revision>
  <dc:subject/>
  <dc:title>Презентация на тему:   «Растительный и животный мир Архангельской области»  </dc:title>
</cp:coreProperties>
</file>