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B6B5-4103-479C-AF92-4CF90753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8BC2-EC1A-474C-AC54-AD27C589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38BE-B436-41E7-8FDF-A9C1642D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FE9F-EC2B-4D20-99C0-EE3F8AD4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A115-3C71-47A3-A01D-60404983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EADD-2B14-415E-8068-B48D1414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A84F-6A3E-480D-92F5-A1C1201B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5935-2D21-44D1-8397-5281C99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E621-877F-4DDF-8F55-39FA3BBB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6412-8E53-4329-BD96-DD9C5ED3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BDCB-B460-4518-9349-6E145BBD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0E25-BEE4-41C2-97D6-5F580346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FD5C-3C68-45AB-97F2-B282CA3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3ED9-B8BD-43E9-904C-0FE0BCA0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5BCD-7020-47C8-BFE0-B1265652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8507-BF19-41A8-8434-95C9409B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1CD9-DFE0-4DE5-A455-3A6ABF53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2875-7F3A-47D0-9C71-BA8D7E02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D1C80-0074-4C3E-A46D-11CBFB24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9130-0912-4222-B8D6-8F09B4C9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23D06-ABBC-4C1A-A462-C14B9FF4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4CFC-E3E5-4EF5-AE61-978CAD8E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F1B1-15CE-48EA-AEFE-A8FA0B1F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B526-2D36-4354-9DE1-C3864F4C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DA4B-718F-41B0-ADFD-D09FE20C69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9DFA-F16E-4380-8300-AA3585B326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more7007/view/154404/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fotki.yandex.ru/users/more7007/view/64528/" TargetMode="External"/><Relationship Id="rId5" Type="http://schemas.openxmlformats.org/officeDocument/2006/relationships/image" Target="../media/image13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more7007/view/62677/" TargetMode="Externa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wsru.com/pict/big/845602.html" TargetMode="External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ервый космонавт земл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Юрий Алексеевич Гагари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84360" y="3284640"/>
            <a:ext cx="3960720" cy="3240000"/>
            <a:chOff x="2484360" y="3284640"/>
            <a:chExt cx="3960720" cy="3240000"/>
          </a:xfrm>
        </p:grpSpPr>
        <p:sp>
          <p:nvSpPr>
            <p:cNvPr id="103" name=""/>
            <p:cNvSpPr/>
            <p:nvPr/>
          </p:nvSpPr>
          <p:spPr>
            <a:xfrm>
              <a:off x="2484360" y="3284640"/>
              <a:ext cx="3960720" cy="3240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2556000" y="3357720"/>
              <a:ext cx="3809880" cy="3085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Мировая слав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Его приглашали во многие страны ми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8600" y="3581280"/>
            <a:ext cx="4038480" cy="2819520"/>
            <a:chOff x="228600" y="3581280"/>
            <a:chExt cx="4038480" cy="2819520"/>
          </a:xfrm>
        </p:grpSpPr>
        <p:sp>
          <p:nvSpPr>
            <p:cNvPr id="162" name=""/>
            <p:cNvSpPr/>
            <p:nvPr/>
          </p:nvSpPr>
          <p:spPr>
            <a:xfrm>
              <a:off x="228600" y="3581280"/>
              <a:ext cx="4038480" cy="28195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04920" y="3657600"/>
              <a:ext cx="3898800" cy="26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4724280" y="1600200"/>
            <a:ext cx="4114800" cy="3048120"/>
            <a:chOff x="4724280" y="1600200"/>
            <a:chExt cx="4114800" cy="3048120"/>
          </a:xfrm>
        </p:grpSpPr>
        <p:sp>
          <p:nvSpPr>
            <p:cNvPr id="165" name=""/>
            <p:cNvSpPr/>
            <p:nvPr/>
          </p:nvSpPr>
          <p:spPr>
            <a:xfrm>
              <a:off x="4724280" y="1600200"/>
              <a:ext cx="4114800" cy="30481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800600" y="1676520"/>
              <a:ext cx="3954600" cy="28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5334120" y="48006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Фиделем Каст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6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188640"/>
            <a:ext cx="360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Семь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47920" y="1219320"/>
            <a:ext cx="6095880" cy="4267080"/>
            <a:chOff x="1447920" y="1219320"/>
            <a:chExt cx="6095880" cy="4267080"/>
          </a:xfrm>
        </p:grpSpPr>
        <p:sp>
          <p:nvSpPr>
            <p:cNvPr id="171" name=""/>
            <p:cNvSpPr/>
            <p:nvPr/>
          </p:nvSpPr>
          <p:spPr>
            <a:xfrm>
              <a:off x="1447920" y="1219320"/>
              <a:ext cx="6095880" cy="4267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523880" y="1295280"/>
              <a:ext cx="5904000" cy="408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1384200" y="5199120"/>
            <a:ext cx="5275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3480" y="5486400"/>
            <a:ext cx="441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920" y="5516640"/>
            <a:ext cx="71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Гагарин, жена и д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оследний выле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71600" y="1523880"/>
            <a:ext cx="6477120" cy="4114800"/>
            <a:chOff x="1371600" y="1523880"/>
            <a:chExt cx="6477120" cy="4114800"/>
          </a:xfrm>
        </p:grpSpPr>
        <p:sp>
          <p:nvSpPr>
            <p:cNvPr id="179" name=""/>
            <p:cNvSpPr/>
            <p:nvPr/>
          </p:nvSpPr>
          <p:spPr>
            <a:xfrm>
              <a:off x="1371600" y="1523880"/>
              <a:ext cx="6477120" cy="4114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324480" cy="393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амять народ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1280" y="1916280"/>
            <a:ext cx="4465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Именем Гагар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азваны город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лощади, улицы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его имя присвоен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оенно – воздушн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академии в Мони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10080" y="1447920"/>
            <a:ext cx="2971800" cy="5029200"/>
            <a:chOff x="5410080" y="1447920"/>
            <a:chExt cx="2971800" cy="5029200"/>
          </a:xfrm>
        </p:grpSpPr>
        <p:sp>
          <p:nvSpPr>
            <p:cNvPr id="185" name=""/>
            <p:cNvSpPr/>
            <p:nvPr/>
          </p:nvSpPr>
          <p:spPr>
            <a:xfrm>
              <a:off x="5410080" y="1447920"/>
              <a:ext cx="2971800" cy="50292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486400" y="1523880"/>
              <a:ext cx="2781360" cy="489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оследняя запись в дневнике Юрия Гагарина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42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Нет у меня сильнее влечения, чем желание летать. Летчик должен летать. Всегда летать.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376200"/>
            <a:ext cx="2895480" cy="67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Р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Дет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Уче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Увле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Арм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Косм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380880"/>
            <a:ext cx="457200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ервый пол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Мировая сл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Сем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Последний выл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амять нар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Днев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5589720"/>
            <a:ext cx="331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тец – Алексей Иванови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агар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5589720"/>
            <a:ext cx="331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Мать – Анна Тимофее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агар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508720" y="1557360"/>
            <a:ext cx="2808360" cy="3816360"/>
            <a:chOff x="5508720" y="1557360"/>
            <a:chExt cx="2808360" cy="3816360"/>
          </a:xfrm>
        </p:grpSpPr>
        <p:sp>
          <p:nvSpPr>
            <p:cNvPr id="110" name=""/>
            <p:cNvSpPr/>
            <p:nvPr/>
          </p:nvSpPr>
          <p:spPr>
            <a:xfrm>
              <a:off x="5508720" y="1557360"/>
              <a:ext cx="2808360" cy="381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580000" y="1628640"/>
              <a:ext cx="2692440" cy="36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611280" y="1557360"/>
            <a:ext cx="3024000" cy="3816360"/>
            <a:chOff x="611280" y="1557360"/>
            <a:chExt cx="3024000" cy="3816360"/>
          </a:xfrm>
        </p:grpSpPr>
        <p:sp>
          <p:nvSpPr>
            <p:cNvPr id="113" name=""/>
            <p:cNvSpPr/>
            <p:nvPr/>
          </p:nvSpPr>
          <p:spPr>
            <a:xfrm>
              <a:off x="611280" y="1557360"/>
              <a:ext cx="3024000" cy="381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684360" y="1628640"/>
              <a:ext cx="284472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2556000" y="260280"/>
            <a:ext cx="35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Родител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10480" y="64008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03640" y="260280"/>
            <a:ext cx="4680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Д е т с т в о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429228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Родился 9 марта 1934 года в селе Клушино Гжатского района Смоленской област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43280" y="1484280"/>
            <a:ext cx="4176720" cy="4681440"/>
            <a:chOff x="4643280" y="1484280"/>
            <a:chExt cx="4176720" cy="4681440"/>
          </a:xfrm>
        </p:grpSpPr>
        <p:sp>
          <p:nvSpPr>
            <p:cNvPr id="120" name=""/>
            <p:cNvSpPr/>
            <p:nvPr/>
          </p:nvSpPr>
          <p:spPr>
            <a:xfrm>
              <a:off x="4643280" y="1484280"/>
              <a:ext cx="4176720" cy="46814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4716360" y="1557360"/>
              <a:ext cx="4032360" cy="453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611280" y="260280"/>
            <a:ext cx="2232000" cy="3960720"/>
            <a:chOff x="611280" y="260280"/>
            <a:chExt cx="2232000" cy="3960720"/>
          </a:xfrm>
        </p:grpSpPr>
        <p:sp>
          <p:nvSpPr>
            <p:cNvPr id="123" name=""/>
            <p:cNvSpPr/>
            <p:nvPr/>
          </p:nvSpPr>
          <p:spPr>
            <a:xfrm>
              <a:off x="611280" y="260280"/>
              <a:ext cx="2232000" cy="3960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684360" y="333360"/>
              <a:ext cx="208584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280" y="274320"/>
            <a:ext cx="288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Учеб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4000" y="1267920"/>
            <a:ext cx="4968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1951г. закончи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берецкое ремесленн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илище по специаль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ормовщик-литейщ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933720"/>
            <a:ext cx="51019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1955г. закончил с отличием Саратовский индустриальный технику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35640" y="1268280"/>
            <a:ext cx="2881440" cy="4537080"/>
            <a:chOff x="5435640" y="1268280"/>
            <a:chExt cx="2881440" cy="4537080"/>
          </a:xfrm>
        </p:grpSpPr>
        <p:sp>
          <p:nvSpPr>
            <p:cNvPr id="130" name=""/>
            <p:cNvSpPr/>
            <p:nvPr/>
          </p:nvSpPr>
          <p:spPr>
            <a:xfrm>
              <a:off x="5435640" y="1268280"/>
              <a:ext cx="2881440" cy="4537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5508720" y="1341360"/>
              <a:ext cx="2757240" cy="439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Увлечени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Занятия в аэроклуб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 1954 год 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348000" y="1557360"/>
            <a:ext cx="5256360" cy="4248000"/>
            <a:chOff x="3348000" y="1557360"/>
            <a:chExt cx="5256360" cy="4248000"/>
          </a:xfrm>
        </p:grpSpPr>
        <p:sp>
          <p:nvSpPr>
            <p:cNvPr id="136" name=""/>
            <p:cNvSpPr/>
            <p:nvPr/>
          </p:nvSpPr>
          <p:spPr>
            <a:xfrm>
              <a:off x="3348000" y="1557360"/>
              <a:ext cx="5256360" cy="4248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3492360" y="1700280"/>
              <a:ext cx="5040360" cy="40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Арм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590920"/>
            <a:ext cx="40384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лужба в армии и учеба в военно – авиационном училище в Оренбург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00600" y="1371600"/>
            <a:ext cx="3657600" cy="4952880"/>
            <a:chOff x="4800600" y="1371600"/>
            <a:chExt cx="3657600" cy="4952880"/>
          </a:xfrm>
        </p:grpSpPr>
        <p:sp>
          <p:nvSpPr>
            <p:cNvPr id="142" name=""/>
            <p:cNvSpPr/>
            <p:nvPr/>
          </p:nvSpPr>
          <p:spPr>
            <a:xfrm>
              <a:off x="4800600" y="1371600"/>
              <a:ext cx="3657600" cy="49528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3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876920" y="1447920"/>
              <a:ext cx="3483000" cy="482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Космос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6553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960 год включен в группу кандидатов в космонав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657600" y="3276720"/>
            <a:ext cx="4952880" cy="2590560"/>
            <a:chOff x="3657600" y="3276720"/>
            <a:chExt cx="4952880" cy="2590560"/>
          </a:xfrm>
        </p:grpSpPr>
        <p:sp>
          <p:nvSpPr>
            <p:cNvPr id="148" name=""/>
            <p:cNvSpPr/>
            <p:nvPr/>
          </p:nvSpPr>
          <p:spPr>
            <a:xfrm>
              <a:off x="3657600" y="3276720"/>
              <a:ext cx="4952880" cy="25905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3733920" y="3352680"/>
              <a:ext cx="4752720" cy="243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1143000" y="472428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Гагар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410080"/>
            <a:ext cx="2895480" cy="0"/>
          </a:xfrm>
          <a:prstGeom prst="line">
            <a:avLst/>
          </a:prstGeom>
          <a:ln w="381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ервый поле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2 апреля 1961 года Юрий Гагарин впервые в мире совершил полет в космос на космическом корабле – спутнике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осто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427640" y="1557360"/>
            <a:ext cx="4248000" cy="4680000"/>
            <a:chOff x="4427640" y="1557360"/>
            <a:chExt cx="4248000" cy="4680000"/>
          </a:xfrm>
        </p:grpSpPr>
        <p:sp>
          <p:nvSpPr>
            <p:cNvPr id="156" name=""/>
            <p:cNvSpPr/>
            <p:nvPr/>
          </p:nvSpPr>
          <p:spPr>
            <a:xfrm>
              <a:off x="4427640" y="1557360"/>
              <a:ext cx="4248000" cy="4680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7" name="" descr="12 апреля 1961 года Советский Союз вывел на орбиту Земли космический корабль-спутник &quot;Восток&quot;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500720" y="1628640"/>
              <a:ext cx="4103640" cy="453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3:14:45Z</dcterms:created>
  <dc:creator>Ученик</dc:creator>
  <dc:description/>
  <dc:language>en-US</dc:language>
  <cp:lastModifiedBy>Таня</cp:lastModifiedBy>
  <dcterms:modified xsi:type="dcterms:W3CDTF">2008-12-11T15:09:03Z</dcterms:modified>
  <cp:revision>13</cp:revision>
  <dc:subject/>
  <dc:title>Первый космонавт земли</dc:title>
</cp:coreProperties>
</file>