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D154-09C7-46FE-834C-8FB32CAF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BA3B-08CA-4ED5-87B7-5C31C2F9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1037-14C9-471C-906A-9AD0233C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85D4-6B6F-4D7A-99F0-AC0CC2DF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14B-0EBE-4421-B043-AFEE372F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B51-743C-4424-96A5-A34A5C6A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5DA-E2F9-4EDD-931D-CB46121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BA3-9985-48B1-AA8F-8AA8EB0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58BF-CEE2-4562-92AB-5038D54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540-2787-4373-82CA-CB21E4B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F9D-2A18-4276-B9DF-9AC26F6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D1CF-7DDF-49FA-BE0E-EB44656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9F2F-3676-4286-8869-DC51FCB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0FF6-2F11-44DC-8F43-DC56B6D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19D-4EEC-4B03-82F1-9813CD1F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5DD-76C4-44CB-81ED-4C5A1AB8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483-F045-44B7-BB9D-862AD2F6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8B53-EBCB-4C78-88DE-1EF1E139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5724-4C11-4B18-BC56-49109E3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0C87-5D86-4315-93C8-EB790F33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4CDA-6549-4CF7-9384-1FCF0FE2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7E62-E5D6-438F-BC6D-EEFE001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FD5C-6A93-475C-B11B-F662B14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7E74-9810-4011-8308-B739CFF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A10-5536-41E2-A7F1-0E2309980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CD2-9D50-4934-87D6-C75B8E60C1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154404/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fotki.yandex.ru/users/more7007/view/64528/" TargetMode="External"/><Relationship Id="rId5" Type="http://schemas.openxmlformats.org/officeDocument/2006/relationships/image" Target="../media/image13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62677/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845602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космонавт зем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Юрий Алексеевич 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84360" y="3284640"/>
            <a:ext cx="3960720" cy="3240000"/>
            <a:chOff x="2484360" y="3284640"/>
            <a:chExt cx="3960720" cy="3240000"/>
          </a:xfrm>
        </p:grpSpPr>
        <p:sp>
          <p:nvSpPr>
            <p:cNvPr id="103" name=""/>
            <p:cNvSpPr/>
            <p:nvPr/>
          </p:nvSpPr>
          <p:spPr>
            <a:xfrm>
              <a:off x="2484360" y="3284640"/>
              <a:ext cx="3960720" cy="324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56000" y="3357720"/>
              <a:ext cx="3809880" cy="30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Мировая сла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го приглашали во многие страны ми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600" y="3581280"/>
            <a:ext cx="4038480" cy="2819520"/>
            <a:chOff x="228600" y="3581280"/>
            <a:chExt cx="4038480" cy="2819520"/>
          </a:xfrm>
        </p:grpSpPr>
        <p:sp>
          <p:nvSpPr>
            <p:cNvPr id="162" name=""/>
            <p:cNvSpPr/>
            <p:nvPr/>
          </p:nvSpPr>
          <p:spPr>
            <a:xfrm>
              <a:off x="228600" y="3581280"/>
              <a:ext cx="4038480" cy="2819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04920" y="3657600"/>
              <a:ext cx="38988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724280" y="1600200"/>
            <a:ext cx="4114800" cy="3048120"/>
            <a:chOff x="4724280" y="1600200"/>
            <a:chExt cx="4114800" cy="3048120"/>
          </a:xfrm>
        </p:grpSpPr>
        <p:sp>
          <p:nvSpPr>
            <p:cNvPr id="165" name=""/>
            <p:cNvSpPr/>
            <p:nvPr/>
          </p:nvSpPr>
          <p:spPr>
            <a:xfrm>
              <a:off x="4724280" y="1600200"/>
              <a:ext cx="4114800" cy="30481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00600" y="1676520"/>
              <a:ext cx="3954600" cy="28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334120" y="48006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Фиделем Кас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6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Сем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7920" y="1219320"/>
            <a:ext cx="6095880" cy="4267080"/>
            <a:chOff x="1447920" y="1219320"/>
            <a:chExt cx="6095880" cy="4267080"/>
          </a:xfrm>
        </p:grpSpPr>
        <p:sp>
          <p:nvSpPr>
            <p:cNvPr id="171" name=""/>
            <p:cNvSpPr/>
            <p:nvPr/>
          </p:nvSpPr>
          <p:spPr>
            <a:xfrm>
              <a:off x="1447920" y="1219320"/>
              <a:ext cx="6095880" cy="426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5904000" cy="40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1384200" y="5199120"/>
            <a:ext cx="527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3480" y="5486400"/>
            <a:ext cx="441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920" y="55166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Гагарин, жена и д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ий вы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600" y="1523880"/>
            <a:ext cx="6477120" cy="4114800"/>
            <a:chOff x="1371600" y="1523880"/>
            <a:chExt cx="6477120" cy="4114800"/>
          </a:xfrm>
        </p:grpSpPr>
        <p:sp>
          <p:nvSpPr>
            <p:cNvPr id="179" name=""/>
            <p:cNvSpPr/>
            <p:nvPr/>
          </p:nvSpPr>
          <p:spPr>
            <a:xfrm>
              <a:off x="1371600" y="1523880"/>
              <a:ext cx="6477120" cy="4114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324480" cy="39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амять наро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916280"/>
            <a:ext cx="446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менем Гага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званы гор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лощади, улиц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его имя присвое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оенно – воздуш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кадемии в Мони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10080" y="1447920"/>
            <a:ext cx="2971800" cy="5029200"/>
            <a:chOff x="5410080" y="1447920"/>
            <a:chExt cx="2971800" cy="5029200"/>
          </a:xfrm>
        </p:grpSpPr>
        <p:sp>
          <p:nvSpPr>
            <p:cNvPr id="185" name=""/>
            <p:cNvSpPr/>
            <p:nvPr/>
          </p:nvSpPr>
          <p:spPr>
            <a:xfrm>
              <a:off x="5410080" y="1447920"/>
              <a:ext cx="2971800" cy="5029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486400" y="1523880"/>
              <a:ext cx="278136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яя запись в дневнике Юрия Гагарин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2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ет у меня сильнее влечения, чем желание летать. Летчик должен летать. Всегда летать.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76200"/>
            <a:ext cx="2895480" cy="67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Дет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Увле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Арм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Косм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80880"/>
            <a:ext cx="45720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ервый по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ировая с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Сем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Последний вы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амять на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нев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ец – Алексей Иванови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Мать – Анна Тимофее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08720" y="1557360"/>
            <a:ext cx="2808360" cy="3816360"/>
            <a:chOff x="5508720" y="1557360"/>
            <a:chExt cx="2808360" cy="3816360"/>
          </a:xfrm>
        </p:grpSpPr>
        <p:sp>
          <p:nvSpPr>
            <p:cNvPr id="110" name=""/>
            <p:cNvSpPr/>
            <p:nvPr/>
          </p:nvSpPr>
          <p:spPr>
            <a:xfrm>
              <a:off x="5508720" y="1557360"/>
              <a:ext cx="280836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580000" y="1628640"/>
              <a:ext cx="269244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1280" y="1557360"/>
            <a:ext cx="3024000" cy="3816360"/>
            <a:chOff x="611280" y="1557360"/>
            <a:chExt cx="3024000" cy="3816360"/>
          </a:xfrm>
        </p:grpSpPr>
        <p:sp>
          <p:nvSpPr>
            <p:cNvPr id="113" name=""/>
            <p:cNvSpPr/>
            <p:nvPr/>
          </p:nvSpPr>
          <p:spPr>
            <a:xfrm>
              <a:off x="611280" y="1557360"/>
              <a:ext cx="302400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28447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2556000" y="260280"/>
            <a:ext cx="35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Родите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6400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3640" y="260280"/>
            <a:ext cx="4680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Д е т с т в 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Родился 9 марта 1934 года в селе Клушино Гжатского района Смоленской обла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43280" y="1484280"/>
            <a:ext cx="4176720" cy="4681440"/>
            <a:chOff x="4643280" y="1484280"/>
            <a:chExt cx="4176720" cy="4681440"/>
          </a:xfrm>
        </p:grpSpPr>
        <p:sp>
          <p:nvSpPr>
            <p:cNvPr id="120" name=""/>
            <p:cNvSpPr/>
            <p:nvPr/>
          </p:nvSpPr>
          <p:spPr>
            <a:xfrm>
              <a:off x="4643280" y="1484280"/>
              <a:ext cx="4176720" cy="4681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716360" y="1557360"/>
              <a:ext cx="4032360" cy="453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11280" y="260280"/>
            <a:ext cx="2232000" cy="3960720"/>
            <a:chOff x="611280" y="260280"/>
            <a:chExt cx="2232000" cy="3960720"/>
          </a:xfrm>
        </p:grpSpPr>
        <p:sp>
          <p:nvSpPr>
            <p:cNvPr id="123" name=""/>
            <p:cNvSpPr/>
            <p:nvPr/>
          </p:nvSpPr>
          <p:spPr>
            <a:xfrm>
              <a:off x="611280" y="260280"/>
              <a:ext cx="2232000" cy="3960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20858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чеб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1267920"/>
            <a:ext cx="4968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1г. законч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ерецкое ремеслен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лище по специа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овщик-литейщ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933720"/>
            <a:ext cx="51019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5г. закончил с отличием Саратовский индустриальный технику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35640" y="1268280"/>
            <a:ext cx="2881440" cy="4537080"/>
            <a:chOff x="5435640" y="1268280"/>
            <a:chExt cx="2881440" cy="4537080"/>
          </a:xfrm>
        </p:grpSpPr>
        <p:sp>
          <p:nvSpPr>
            <p:cNvPr id="130" name=""/>
            <p:cNvSpPr/>
            <p:nvPr/>
          </p:nvSpPr>
          <p:spPr>
            <a:xfrm>
              <a:off x="5435640" y="1268280"/>
              <a:ext cx="2881440" cy="453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5508720" y="1341360"/>
              <a:ext cx="2757240" cy="43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вле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анятия в аэроклу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 1954 год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48000" y="1557360"/>
            <a:ext cx="5256360" cy="4248000"/>
            <a:chOff x="3348000" y="1557360"/>
            <a:chExt cx="5256360" cy="4248000"/>
          </a:xfrm>
        </p:grpSpPr>
        <p:sp>
          <p:nvSpPr>
            <p:cNvPr id="136" name=""/>
            <p:cNvSpPr/>
            <p:nvPr/>
          </p:nvSpPr>
          <p:spPr>
            <a:xfrm>
              <a:off x="3348000" y="1557360"/>
              <a:ext cx="5256360" cy="4248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492360" y="1700280"/>
              <a:ext cx="5040360" cy="40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Арм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909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лужба в армии и учеба в военно – авиационном училище в Оренбург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00600" y="1371600"/>
            <a:ext cx="3657600" cy="4952880"/>
            <a:chOff x="4800600" y="1371600"/>
            <a:chExt cx="3657600" cy="4952880"/>
          </a:xfrm>
        </p:grpSpPr>
        <p:sp>
          <p:nvSpPr>
            <p:cNvPr id="142" name=""/>
            <p:cNvSpPr/>
            <p:nvPr/>
          </p:nvSpPr>
          <p:spPr>
            <a:xfrm>
              <a:off x="4800600" y="1371600"/>
              <a:ext cx="3657600" cy="4952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76920" y="1447920"/>
              <a:ext cx="34830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Космо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960 год включен в группу кандидатов в космонав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57600" y="3276720"/>
            <a:ext cx="4952880" cy="2590560"/>
            <a:chOff x="3657600" y="3276720"/>
            <a:chExt cx="4952880" cy="2590560"/>
          </a:xfrm>
        </p:grpSpPr>
        <p:sp>
          <p:nvSpPr>
            <p:cNvPr id="148" name=""/>
            <p:cNvSpPr/>
            <p:nvPr/>
          </p:nvSpPr>
          <p:spPr>
            <a:xfrm>
              <a:off x="3657600" y="3276720"/>
              <a:ext cx="4952880" cy="2590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733920" y="3352680"/>
              <a:ext cx="4752720" cy="24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1143000" y="4724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410080"/>
            <a:ext cx="2895480" cy="0"/>
          </a:xfrm>
          <a:prstGeom prst="line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по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2 апреля 1961 года Юрий Гагарин впервые в мире совершил полет в космос на космическом корабле – спутник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сто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27640" y="1557360"/>
            <a:ext cx="4248000" cy="4680000"/>
            <a:chOff x="4427640" y="1557360"/>
            <a:chExt cx="4248000" cy="4680000"/>
          </a:xfrm>
        </p:grpSpPr>
        <p:sp>
          <p:nvSpPr>
            <p:cNvPr id="156" name=""/>
            <p:cNvSpPr/>
            <p:nvPr/>
          </p:nvSpPr>
          <p:spPr>
            <a:xfrm>
              <a:off x="4427640" y="1557360"/>
              <a:ext cx="4248000" cy="468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" descr="12 апреля 1961 года Советский Союз вывел на орбиту Земли космический корабль-спутник &quot;Восток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500720" y="1628640"/>
              <a:ext cx="4103640" cy="453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14:45Z</dcterms:created>
  <dc:creator>Ученик</dc:creator>
  <dc:description/>
  <dc:language>en-US</dc:language>
  <cp:lastModifiedBy>Таня</cp:lastModifiedBy>
  <dcterms:modified xsi:type="dcterms:W3CDTF">2008-12-11T15:09:03Z</dcterms:modified>
  <cp:revision>13</cp:revision>
  <dc:subject/>
  <dc:title>Первый космонавт земли</dc:title>
</cp:coreProperties>
</file>