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A5F5-8B02-481A-806D-F50C4157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9917-410E-4A54-90B1-219F081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8215-7FD1-46CD-8DB3-243B0DD4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830C-4BBC-4536-A8E7-80E3B2C7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D6C4-1F41-407C-B2A2-A5A8A8AA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22B-F449-46E9-B05A-C0C18ABD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DE8-A1BC-4225-9B90-BDCAA6A3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34A-B33B-493E-AFD9-E785C0D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736C-3F48-4927-B5E8-CF5808D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94B4-0EF5-43D5-9F84-3220A6C0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8B66-5D83-45DF-B9D9-4C634B71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84CD-6A2E-4248-B9CC-E9631E47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774F-0BEC-4FF0-9A8D-D98E61F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BB32-F2C6-4A33-BA80-33FA1A3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E483-32AD-4598-BCF8-0F16D26F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4FB4-A78E-46FF-A6D9-DF424369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73E4-1352-45B1-B3A7-BB18B341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433A-E7F4-4B5D-9B86-44CB623A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16E5-6202-4585-9722-6132C4D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97C2-EFAA-442D-84E6-B343270A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AD30-4DE8-49A9-A9F6-430033B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A148-8083-4003-9D30-08A752B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B45F-AF97-459A-AA1B-AD8FF89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A76C-29AF-4305-8533-95436CC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02B-B55B-42F3-9CB2-4081F148D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D2A5-A39F-47DC-9B27-CA57EA100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154404/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fotki.yandex.ru/users/more7007/view/64528/" TargetMode="External"/><Relationship Id="rId5" Type="http://schemas.openxmlformats.org/officeDocument/2006/relationships/image" Target="../media/image13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62677/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845602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космонавт зем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Юрий Алексеевич 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84360" y="3284640"/>
            <a:ext cx="3960720" cy="3240000"/>
            <a:chOff x="2484360" y="3284640"/>
            <a:chExt cx="3960720" cy="3240000"/>
          </a:xfrm>
        </p:grpSpPr>
        <p:sp>
          <p:nvSpPr>
            <p:cNvPr id="103" name=""/>
            <p:cNvSpPr/>
            <p:nvPr/>
          </p:nvSpPr>
          <p:spPr>
            <a:xfrm>
              <a:off x="2484360" y="3284640"/>
              <a:ext cx="3960720" cy="324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556000" y="3357720"/>
              <a:ext cx="3809880" cy="30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Мировая сла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го приглашали во многие страны ми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8600" y="3581280"/>
            <a:ext cx="4038480" cy="2819520"/>
            <a:chOff x="228600" y="3581280"/>
            <a:chExt cx="4038480" cy="2819520"/>
          </a:xfrm>
        </p:grpSpPr>
        <p:sp>
          <p:nvSpPr>
            <p:cNvPr id="162" name=""/>
            <p:cNvSpPr/>
            <p:nvPr/>
          </p:nvSpPr>
          <p:spPr>
            <a:xfrm>
              <a:off x="228600" y="3581280"/>
              <a:ext cx="4038480" cy="2819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04920" y="3657600"/>
              <a:ext cx="38988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724280" y="1600200"/>
            <a:ext cx="4114800" cy="3048120"/>
            <a:chOff x="4724280" y="1600200"/>
            <a:chExt cx="4114800" cy="3048120"/>
          </a:xfrm>
        </p:grpSpPr>
        <p:sp>
          <p:nvSpPr>
            <p:cNvPr id="165" name=""/>
            <p:cNvSpPr/>
            <p:nvPr/>
          </p:nvSpPr>
          <p:spPr>
            <a:xfrm>
              <a:off x="4724280" y="1600200"/>
              <a:ext cx="4114800" cy="30481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800600" y="1676520"/>
              <a:ext cx="3954600" cy="28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5334120" y="48006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Фиделем Кас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6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Сем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7920" y="1219320"/>
            <a:ext cx="6095880" cy="4267080"/>
            <a:chOff x="1447920" y="1219320"/>
            <a:chExt cx="6095880" cy="4267080"/>
          </a:xfrm>
        </p:grpSpPr>
        <p:sp>
          <p:nvSpPr>
            <p:cNvPr id="171" name=""/>
            <p:cNvSpPr/>
            <p:nvPr/>
          </p:nvSpPr>
          <p:spPr>
            <a:xfrm>
              <a:off x="1447920" y="1219320"/>
              <a:ext cx="6095880" cy="426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5904000" cy="40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1384200" y="5199120"/>
            <a:ext cx="527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3480" y="5486400"/>
            <a:ext cx="441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920" y="55166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Гагарин, жена и доч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ий вы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71600" y="1523880"/>
            <a:ext cx="6477120" cy="4114800"/>
            <a:chOff x="1371600" y="1523880"/>
            <a:chExt cx="6477120" cy="4114800"/>
          </a:xfrm>
        </p:grpSpPr>
        <p:sp>
          <p:nvSpPr>
            <p:cNvPr id="179" name=""/>
            <p:cNvSpPr/>
            <p:nvPr/>
          </p:nvSpPr>
          <p:spPr>
            <a:xfrm>
              <a:off x="1371600" y="1523880"/>
              <a:ext cx="6477120" cy="4114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324480" cy="39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амять наро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916280"/>
            <a:ext cx="446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Именем Гага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азваны гор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лощади, улиц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его имя присвое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оенно – воздуш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академии в Мони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10080" y="1447920"/>
            <a:ext cx="2971800" cy="5029200"/>
            <a:chOff x="5410080" y="1447920"/>
            <a:chExt cx="2971800" cy="5029200"/>
          </a:xfrm>
        </p:grpSpPr>
        <p:sp>
          <p:nvSpPr>
            <p:cNvPr id="185" name=""/>
            <p:cNvSpPr/>
            <p:nvPr/>
          </p:nvSpPr>
          <p:spPr>
            <a:xfrm>
              <a:off x="5410080" y="1447920"/>
              <a:ext cx="2971800" cy="5029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486400" y="1523880"/>
              <a:ext cx="278136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оследняя запись в дневнике Юрия Гагарин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2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ет у меня сильнее влечения, чем желание летать. Летчик должен летать. Всегда летать.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76200"/>
            <a:ext cx="2895480" cy="67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Р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Дет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Увле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Арм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Косм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80880"/>
            <a:ext cx="457200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ервый по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Мировая сл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Сем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Последний выл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амять на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99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нев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тец – Алексей Иванови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Мать – Анна Тимофее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Гагар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508720" y="1557360"/>
            <a:ext cx="2808360" cy="3816360"/>
            <a:chOff x="5508720" y="1557360"/>
            <a:chExt cx="2808360" cy="3816360"/>
          </a:xfrm>
        </p:grpSpPr>
        <p:sp>
          <p:nvSpPr>
            <p:cNvPr id="110" name=""/>
            <p:cNvSpPr/>
            <p:nvPr/>
          </p:nvSpPr>
          <p:spPr>
            <a:xfrm>
              <a:off x="5508720" y="1557360"/>
              <a:ext cx="280836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580000" y="1628640"/>
              <a:ext cx="269244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611280" y="1557360"/>
            <a:ext cx="3024000" cy="3816360"/>
            <a:chOff x="611280" y="1557360"/>
            <a:chExt cx="3024000" cy="3816360"/>
          </a:xfrm>
        </p:grpSpPr>
        <p:sp>
          <p:nvSpPr>
            <p:cNvPr id="113" name=""/>
            <p:cNvSpPr/>
            <p:nvPr/>
          </p:nvSpPr>
          <p:spPr>
            <a:xfrm>
              <a:off x="611280" y="1557360"/>
              <a:ext cx="302400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28447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2556000" y="260280"/>
            <a:ext cx="35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Родител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6400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3640" y="260280"/>
            <a:ext cx="4680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Д е т с т в 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Родился 9 марта 1934 года в селе Клушино Гжатского района Смоленской обла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43280" y="1484280"/>
            <a:ext cx="4176720" cy="4681440"/>
            <a:chOff x="4643280" y="1484280"/>
            <a:chExt cx="4176720" cy="4681440"/>
          </a:xfrm>
        </p:grpSpPr>
        <p:sp>
          <p:nvSpPr>
            <p:cNvPr id="120" name=""/>
            <p:cNvSpPr/>
            <p:nvPr/>
          </p:nvSpPr>
          <p:spPr>
            <a:xfrm>
              <a:off x="4643280" y="1484280"/>
              <a:ext cx="4176720" cy="4681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716360" y="1557360"/>
              <a:ext cx="4032360" cy="453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11280" y="260280"/>
            <a:ext cx="2232000" cy="3960720"/>
            <a:chOff x="611280" y="260280"/>
            <a:chExt cx="2232000" cy="3960720"/>
          </a:xfrm>
        </p:grpSpPr>
        <p:sp>
          <p:nvSpPr>
            <p:cNvPr id="123" name=""/>
            <p:cNvSpPr/>
            <p:nvPr/>
          </p:nvSpPr>
          <p:spPr>
            <a:xfrm>
              <a:off x="611280" y="260280"/>
              <a:ext cx="2232000" cy="3960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20858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чеб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1267920"/>
            <a:ext cx="4968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1г. законч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ерецкое ремеслен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чилище по специа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рмовщик-литейщ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933720"/>
            <a:ext cx="51019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1955г. закончил с отличием Саратовский индустриальный технику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35640" y="1268280"/>
            <a:ext cx="2881440" cy="4537080"/>
            <a:chOff x="5435640" y="1268280"/>
            <a:chExt cx="2881440" cy="4537080"/>
          </a:xfrm>
        </p:grpSpPr>
        <p:sp>
          <p:nvSpPr>
            <p:cNvPr id="130" name=""/>
            <p:cNvSpPr/>
            <p:nvPr/>
          </p:nvSpPr>
          <p:spPr>
            <a:xfrm>
              <a:off x="5435640" y="1268280"/>
              <a:ext cx="2881440" cy="453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5508720" y="1341360"/>
              <a:ext cx="2757240" cy="43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Увле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Занятия в аэроклу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 1954 год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348000" y="1557360"/>
            <a:ext cx="5256360" cy="4248000"/>
            <a:chOff x="3348000" y="1557360"/>
            <a:chExt cx="5256360" cy="4248000"/>
          </a:xfrm>
        </p:grpSpPr>
        <p:sp>
          <p:nvSpPr>
            <p:cNvPr id="136" name=""/>
            <p:cNvSpPr/>
            <p:nvPr/>
          </p:nvSpPr>
          <p:spPr>
            <a:xfrm>
              <a:off x="3348000" y="1557360"/>
              <a:ext cx="5256360" cy="4248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3492360" y="1700280"/>
              <a:ext cx="5040360" cy="40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Арм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909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лужба в армии и учеба в военно – авиационном училище в Оренбург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00600" y="1371600"/>
            <a:ext cx="3657600" cy="4952880"/>
            <a:chOff x="4800600" y="1371600"/>
            <a:chExt cx="3657600" cy="4952880"/>
          </a:xfrm>
        </p:grpSpPr>
        <p:sp>
          <p:nvSpPr>
            <p:cNvPr id="142" name=""/>
            <p:cNvSpPr/>
            <p:nvPr/>
          </p:nvSpPr>
          <p:spPr>
            <a:xfrm>
              <a:off x="4800600" y="1371600"/>
              <a:ext cx="3657600" cy="4952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76920" y="1447920"/>
              <a:ext cx="34830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Космо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960 год включен в группу кандидатов в космонав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657600" y="3276720"/>
            <a:ext cx="4952880" cy="2590560"/>
            <a:chOff x="3657600" y="3276720"/>
            <a:chExt cx="4952880" cy="2590560"/>
          </a:xfrm>
        </p:grpSpPr>
        <p:sp>
          <p:nvSpPr>
            <p:cNvPr id="148" name=""/>
            <p:cNvSpPr/>
            <p:nvPr/>
          </p:nvSpPr>
          <p:spPr>
            <a:xfrm>
              <a:off x="3657600" y="3276720"/>
              <a:ext cx="4952880" cy="2590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733920" y="3352680"/>
              <a:ext cx="4752720" cy="24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1143000" y="4724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410080"/>
            <a:ext cx="2895480" cy="0"/>
          </a:xfrm>
          <a:prstGeom prst="line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Первый по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2 апреля 1961 года Юрий Гагарин впервые в мире совершил полет в космос на космическом корабле – спутник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сто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27640" y="1557360"/>
            <a:ext cx="4248000" cy="4680000"/>
            <a:chOff x="4427640" y="1557360"/>
            <a:chExt cx="4248000" cy="4680000"/>
          </a:xfrm>
        </p:grpSpPr>
        <p:sp>
          <p:nvSpPr>
            <p:cNvPr id="156" name=""/>
            <p:cNvSpPr/>
            <p:nvPr/>
          </p:nvSpPr>
          <p:spPr>
            <a:xfrm>
              <a:off x="4427640" y="1557360"/>
              <a:ext cx="4248000" cy="468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7" name="" descr="12 апреля 1961 года Советский Союз вывел на орбиту Земли космический корабль-спутник &quot;Восток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500720" y="1628640"/>
              <a:ext cx="4103640" cy="453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14:45Z</dcterms:created>
  <dc:creator>Ученик</dc:creator>
  <dc:description/>
  <dc:language>en-US</dc:language>
  <cp:lastModifiedBy>Таня</cp:lastModifiedBy>
  <dcterms:modified xsi:type="dcterms:W3CDTF">2008-12-11T15:09:03Z</dcterms:modified>
  <cp:revision>13</cp:revision>
  <dc:subject/>
  <dc:title>Первый космонавт земли</dc:title>
</cp:coreProperties>
</file>