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DFC-B78E-4330-A1A9-A8AA6C6D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486-0E8E-4533-A4DC-C5FBC5F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FA1-FAA0-43D8-80DD-1E972EA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24F-65AC-404C-81FE-B0D8A2B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82F-FFEA-44D7-9A0A-281DD84C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D7C6-DD94-495D-AF27-69F7FA9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11A-CB1F-4BFF-BD76-6AE80D6A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FA0C-81CC-4968-A1D2-DEAC045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EFC-5B0B-4899-B896-19AD89C3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23F-301D-47B7-825F-B2398BCF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8B2-13AC-404D-ADB4-741DE34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F9B-0A9E-45D7-B1DE-C69051AA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1EB-DDAF-4863-BD7D-495B608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BCC-5B61-401B-B957-1EAA6F1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40D5-3C5D-4A10-8627-1C4DB2BD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6922-F8E2-4945-8CB9-2AB08F7D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3A3-86AC-49B9-872F-94E1CECF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7D9-0BB9-4BFE-8BBF-754BC8B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CA9-6F31-4BC9-8478-0A0496F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4C9-1CE8-4AD2-BD0C-551D5FBB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621-86C5-4AD4-8F27-C63EF37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4F7-42CE-4E04-B213-0157877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1FC-2703-4EEB-A1B8-75D86C8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D53-90AE-410E-88B0-2EB19FC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8C8-25CD-4D2F-9C42-63FDE977F4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BC4-CA81-4A89-9F6F-BE79D97E77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2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quickquilts.com/golden/qg36_pattern/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quickquilts.com/golden/qg91_pattern/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quickquilts.com/golden/qg87_pattern/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quickquilts.com/golden/qg53_pattern/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quickquilts.com/golden/qg34_pattern/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Возможности лоску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5165640" cy="5185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64008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лина И.М. МБОУ СОШ №10 г.Йошкар-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мозаики из квадратов и треугольни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373480" cy="2362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65560" cy="2365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517840" cy="25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четание нескольких квадрат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224000" cy="1217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241280" cy="126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924360" y="3933720"/>
            <a:ext cx="137304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754520" y="159876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59200" y="1598760"/>
            <a:ext cx="2163960" cy="217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364500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2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51280" y="1598760"/>
            <a:ext cx="2179800" cy="2171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865600" cy="3311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333036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808360" cy="2730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995640" y="4005360"/>
            <a:ext cx="2808360" cy="2759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170028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ределение формы и количества составляющи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1996920" cy="2016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2031840" cy="189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1266840" cy="53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 rot="10800000">
            <a:off x="3492360" y="4435920"/>
            <a:ext cx="11160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2087640" cy="2048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58920" y="5445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ОСКИ СНАЧАЛА СТАЧИВАЮТ В ПОЛОТНО, А ПОТОМ ИЗ НЕГО ВЫКРАИВАЮТ ОПРЕДЕЛЕННЫЕ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219640" y="3429000"/>
            <a:ext cx="2035080" cy="20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084720" y="4581360"/>
            <a:ext cx="11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72" name="" descr="(рис.1) Сборки узоров, выполняемых по радиальной сетке, набором полосок: 1 - узор «Головоломка каменщика» 2 - узор «Паутина»"/>
          <p:cNvPicPr/>
          <p:nvPr/>
        </p:nvPicPr>
        <p:blipFill>
          <a:blip r:embed="rId1"/>
          <a:stretch/>
        </p:blipFill>
        <p:spPr>
          <a:xfrm>
            <a:off x="0" y="1598760"/>
            <a:ext cx="4356000" cy="2612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11640" y="2276640"/>
            <a:ext cx="2016000" cy="1865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19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067280" y="443700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2013120" cy="1960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050920" y="4437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940360" y="1341360"/>
            <a:ext cx="20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узора по образц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224080" cy="22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166840" cy="2171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1600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5280" y="1700280"/>
            <a:ext cx="2160720" cy="2089080"/>
            <a:chOff x="395280" y="1700280"/>
            <a:chExt cx="2160720" cy="2089080"/>
          </a:xfrm>
        </p:grpSpPr>
        <p:sp>
          <p:nvSpPr>
            <p:cNvPr id="285" name=""/>
            <p:cNvSpPr/>
            <p:nvPr/>
          </p:nvSpPr>
          <p:spPr>
            <a:xfrm>
              <a:off x="395280" y="1700280"/>
              <a:ext cx="216072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2563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5280" y="299556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280" y="3355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6920" y="1700280"/>
              <a:ext cx="0" cy="208764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892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2400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280" y="2131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320920" cy="21733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364000" y="1557360"/>
            <a:ext cx="2232360" cy="2232000"/>
            <a:chOff x="5364000" y="1557360"/>
            <a:chExt cx="2232360" cy="2232000"/>
          </a:xfrm>
        </p:grpSpPr>
        <p:sp>
          <p:nvSpPr>
            <p:cNvPr id="296" name=""/>
            <p:cNvSpPr/>
            <p:nvPr/>
          </p:nvSpPr>
          <p:spPr>
            <a:xfrm>
              <a:off x="5364000" y="1557360"/>
              <a:ext cx="2232360" cy="22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5636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7708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4000" y="234936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64000" y="306864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843280" y="1628640"/>
            <a:ext cx="2233440" cy="2162160"/>
            <a:chOff x="2843280" y="1628640"/>
            <a:chExt cx="2233440" cy="2162160"/>
          </a:xfrm>
        </p:grpSpPr>
        <p:sp>
          <p:nvSpPr>
            <p:cNvPr id="302" name=""/>
            <p:cNvSpPr/>
            <p:nvPr/>
          </p:nvSpPr>
          <p:spPr>
            <a:xfrm>
              <a:off x="2843280" y="1628640"/>
              <a:ext cx="2232000" cy="21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64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6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6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3280" y="270828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43280" y="234936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43280" y="306864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342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43280" y="198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Повторение изученного ране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7885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Приемы работы с лоскутами называют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эчворк, квилт, коллаж, 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Вид народного творчества, используется для украшения одежды, предметов интерьера называется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эчво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зновидность пэчворка, имеет три слоя и простёгивается вручную, - это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вилт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боты в этой технике выполняют наклеиванием лоскутков на основу и называю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екстильный коллаж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 - это накладное шитьё, оно является декоративным элементом.</a:t>
            </a:r>
            <a:r>
              <a:rPr b="0" lang="ru-RU" sz="2800" spc="-1" strike="noStrike">
                <a:solidFill>
                  <a:srgbClr val="fff027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озможности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84720" y="1413000"/>
            <a:ext cx="1944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в доме спят, а я повор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сьянс лоскутный тихо разлож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есть в душе – о том и расскаж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 жизнь свою иголкой напи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56360" cy="5299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7993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нообразие решений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27380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73864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рою веер, сказочный ко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шью, сумею, выстелю уз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ймав рукой перо из лоскут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ар-птицей унесусь под обла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.Пугач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арианты изделий из лоскут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160720" cy="2006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168720" cy="1463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356000" y="4581360"/>
            <a:ext cx="3456000" cy="2073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Sunbonnet Sue Garden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981000"/>
            <a:ext cx="1384200" cy="36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Showcase Star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3573360"/>
            <a:ext cx="175896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Deck the Tabl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924280"/>
            <a:ext cx="1712880" cy="1871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Spring Deligh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1341360"/>
            <a:ext cx="178272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Southern Star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24000" y="1268280"/>
            <a:ext cx="1878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спользуемые геометрические фигур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4365360"/>
            <a:ext cx="73868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ля создания лоскутной мозаики применяют различные геометрические фигуры: треугольник, квадрат, прямоугольник, ромб, шестиугольник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178416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846520" cy="23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18273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659640" y="1557360"/>
            <a:ext cx="2278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ные разновидности сеток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3864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тки бывают: квадратные(1), шестиугольные(2), радиальные(3,4), «четверть круга»(5), веерные(6), «розетка»(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111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: напишите название каждой сетк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1943280" cy="194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         2                        3   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2057400" cy="2158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зучение узоров в блоках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765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научиться читать, недостаточно знать буквы. Важно уметь составлять из букв слова и фразы. Так и в лоскутном шитье – мало овладеть приемами соединения лоскутков, нужно уметь расшифровывать, «читать» узоры, определяя последовательность операций при сбо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вшись разбирать схемы, вы сами сможете придумывать и тв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2082960" cy="2171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484360" y="1052640"/>
            <a:ext cx="2594160" cy="2171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2306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9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26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28:42Z</dcterms:created>
  <dc:creator>Ирина</dc:creator>
  <dc:description/>
  <dc:language>en-US</dc:language>
  <cp:lastModifiedBy>КарМаН</cp:lastModifiedBy>
  <dcterms:modified xsi:type="dcterms:W3CDTF">2012-07-20T22:13:50Z</dcterms:modified>
  <cp:revision>48</cp:revision>
  <dc:subject/>
  <dc:title>Возможности лоскутного шитья</dc:title>
</cp:coreProperties>
</file>