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911-15F2-4460-993A-80106F58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2FB-3562-4991-8CAC-8BAA8C2A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6C0-506D-4F64-90AB-775153FF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029-C247-4E18-85E0-C983275F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6979-4535-49FA-AB37-020F61BB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D79-B99A-4876-B3E9-94E419A5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1D7-A4F2-452F-843E-37D6B14D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9FA7-6760-4244-914C-0AF5436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396F-0B93-454D-BCEE-69BBC89F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CB42-68E1-4C7A-B25D-849189F8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557-87FA-45D2-9D2F-DB5B282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137-8EB9-40E3-8A6B-964432BC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FAF-F9FD-4C57-A9DD-5779430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D74-94F2-4DEF-9BB4-01EE3B1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DEA-B160-4D11-8CD6-2BF49E12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8CD4-1722-4418-877D-A88E61BF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4E7D-3C9D-4AE0-978A-0F0493A7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0E6-892E-474F-870E-AA9425D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C90-00FF-4243-BC5C-D282DF0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D70-7AD2-49F1-AC82-95CE7D3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6FB-DA85-4EB0-B891-76C4F023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A15-8F70-4E9A-BE86-7ADF8AA9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E2D-2F8C-4DA7-A12B-CF00FC0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B47-60A3-43F3-96F3-9A066B6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C06B-F04D-4E28-9EB7-2DC5C42932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CA0C-0264-4118-8601-609152C4C1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2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quickquilts.com/golden/qg36_pattern/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quickquilts.com/golden/qg91_pattern/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quickquilts.com/golden/qg87_pattern/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quickquilts.com/golden/qg53_pattern/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quickquilts.com/golden/qg34_pattern/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331e"/>
                </a:solidFill>
                <a:latin typeface="Arial"/>
              </a:rPr>
              <a:t>Возможности лоску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5165640" cy="5185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0920" y="64008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лина И.М. МБОУ СОШ №10 г.Йошкар-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ение мозаики из квадратов и треугольни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373480" cy="2362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2365560" cy="2365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517840" cy="255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четание нескольких квадрат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224000" cy="1217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241280" cy="126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3924360" y="3933720"/>
            <a:ext cx="137304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754520" y="159876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371628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759200" y="1598760"/>
            <a:ext cx="2163960" cy="2171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364500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2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лучение новых рисунков из одинаковых бло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19240" y="17319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51280" y="1598760"/>
            <a:ext cx="2179800" cy="2171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371628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865600" cy="3311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3330360" cy="3213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808360" cy="2730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995640" y="4005360"/>
            <a:ext cx="2808360" cy="2759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170028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пределение формы и количества составляющих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работка модулей в технике скорос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1996920" cy="2016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00360" y="3500280"/>
            <a:ext cx="2031840" cy="1892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1266840" cy="5300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565360"/>
            <a:ext cx="11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 rot="10800000">
            <a:off x="3492360" y="4435920"/>
            <a:ext cx="11160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2087640" cy="20480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58920" y="54450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ЛОСКИ СНАЧАЛА СТАЧИВАЮТ В ПОЛОТНО, А ПОТОМ ИЗ НЕГО ВЫКРАИВАЮТ ОПРЕДЕЛЕННЫЕ ДЕ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2000" y="2565360"/>
            <a:ext cx="11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5219640" y="3429000"/>
            <a:ext cx="2035080" cy="20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084720" y="4581360"/>
            <a:ext cx="11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fff027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Разработка модулей в технике скоростного шить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72" name="" descr="(рис.1) Сборки узоров, выполняемых по радиальной сетке, набором полосок: 1 - узор «Головоломка каменщика» 2 - узор «Паутина»"/>
          <p:cNvPicPr/>
          <p:nvPr/>
        </p:nvPicPr>
        <p:blipFill>
          <a:blip r:embed="rId1"/>
          <a:stretch/>
        </p:blipFill>
        <p:spPr>
          <a:xfrm>
            <a:off x="0" y="1598760"/>
            <a:ext cx="4356000" cy="2612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11640" y="2276640"/>
            <a:ext cx="2016000" cy="1865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6012000" y="4437000"/>
            <a:ext cx="19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067280" y="443700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0" y="4437000"/>
            <a:ext cx="2013120" cy="1960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2050920" y="4437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5940360" y="1341360"/>
            <a:ext cx="20098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ение узора по образц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224080" cy="22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166840" cy="2171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1600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184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5280" y="1700280"/>
            <a:ext cx="2160720" cy="2089080"/>
            <a:chOff x="395280" y="1700280"/>
            <a:chExt cx="2160720" cy="2089080"/>
          </a:xfrm>
        </p:grpSpPr>
        <p:sp>
          <p:nvSpPr>
            <p:cNvPr id="285" name=""/>
            <p:cNvSpPr/>
            <p:nvPr/>
          </p:nvSpPr>
          <p:spPr>
            <a:xfrm>
              <a:off x="395280" y="1700280"/>
              <a:ext cx="2160720" cy="20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280" y="2563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5280" y="299556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5280" y="3355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6920" y="1700280"/>
              <a:ext cx="0" cy="208764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892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9236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24000" y="1700280"/>
              <a:ext cx="0" cy="208908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5280" y="2131920"/>
              <a:ext cx="215892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320920" cy="217332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364000" y="1557360"/>
            <a:ext cx="2232360" cy="2232000"/>
            <a:chOff x="5364000" y="1557360"/>
            <a:chExt cx="2232360" cy="2232000"/>
          </a:xfrm>
        </p:grpSpPr>
        <p:sp>
          <p:nvSpPr>
            <p:cNvPr id="296" name=""/>
            <p:cNvSpPr/>
            <p:nvPr/>
          </p:nvSpPr>
          <p:spPr>
            <a:xfrm>
              <a:off x="5364000" y="1557360"/>
              <a:ext cx="2232360" cy="22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56360" y="1557360"/>
              <a:ext cx="0" cy="223200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77080" y="1557360"/>
              <a:ext cx="0" cy="223200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64000" y="2349360"/>
              <a:ext cx="223236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64000" y="3068640"/>
              <a:ext cx="223236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843280" y="1628640"/>
            <a:ext cx="2233440" cy="2162160"/>
            <a:chOff x="2843280" y="1628640"/>
            <a:chExt cx="2233440" cy="2162160"/>
          </a:xfrm>
        </p:grpSpPr>
        <p:sp>
          <p:nvSpPr>
            <p:cNvPr id="302" name=""/>
            <p:cNvSpPr/>
            <p:nvPr/>
          </p:nvSpPr>
          <p:spPr>
            <a:xfrm>
              <a:off x="2843280" y="1628640"/>
              <a:ext cx="2232000" cy="21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436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6400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600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6360" y="1628640"/>
              <a:ext cx="0" cy="216072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43280" y="270828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43280" y="234936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43280" y="306864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43280" y="342900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43280" y="1989000"/>
              <a:ext cx="2233440" cy="0"/>
            </a:xfrm>
            <a:prstGeom prst="line">
              <a:avLst/>
            </a:prstGeom>
            <a:ln w="9360">
              <a:solidFill>
                <a:srgbClr val="558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331e"/>
                </a:solidFill>
                <a:latin typeface="Arial"/>
              </a:rPr>
              <a:t>Повторение изученного ране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7885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Приемы работы с лоскутами называют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пэчворк, квилт, коллаж, аппликация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Вид народного творчества, используется для украшения одежды, предметов интерьера называется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эчво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Разновидность пэчворка, имеет три слоя и простёгивается вручную, - это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вилт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Работы в этой технике выполняют наклеиванием лоскутков на основу и называю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екстильный коллаж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ппликация</a:t>
            </a:r>
            <a:r>
              <a:rPr b="0" lang="ru-RU" sz="2800" spc="-1" strike="noStrike">
                <a:solidFill>
                  <a:srgbClr val="15331e"/>
                </a:solidFill>
                <a:latin typeface="Arial"/>
              </a:rPr>
              <a:t> - это накладное шитьё, оно является декоративным элементом.</a:t>
            </a:r>
            <a:r>
              <a:rPr b="0" lang="ru-RU" sz="2800" spc="-1" strike="noStrike">
                <a:solidFill>
                  <a:srgbClr val="fff027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озможности лоскутного шить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84720" y="1413000"/>
            <a:ext cx="1944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 в доме спят, а я повор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сьянс лоскутный тихо разлож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есть в душе – о том и расскаж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 жизнь свою иголкой напи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56360" cy="5299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181440" y="0"/>
            <a:ext cx="7993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нообразие решений лоскутного шить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7273800" cy="360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738648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крою веер, сказочный ко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шью, сумею, выстелю уз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ймав рукой перо из лоскут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ар-птицей унесусь под обла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.Пугач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арианты изделий из лоскутк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160720" cy="2006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3168720" cy="1463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356000" y="4581360"/>
            <a:ext cx="3456000" cy="2073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Sunbonnet Sue Garden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981000"/>
            <a:ext cx="1384200" cy="36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Showcase Star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3573360"/>
            <a:ext cx="175896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Deck the Tabl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924280"/>
            <a:ext cx="1712880" cy="1871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Spring Delight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00720" y="1341360"/>
            <a:ext cx="1782720" cy="2374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Southern Star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24000" y="1268280"/>
            <a:ext cx="1878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спользуемые геометрические фигур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4365360"/>
            <a:ext cx="73868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ля создания лоскутной мозаики применяют различные геометрические фигуры: треугольник, квадрат, прямоугольник, ромб, шестиугольник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1784160" cy="2376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846520" cy="238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1827360" cy="2376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659640" y="1557360"/>
            <a:ext cx="2278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сновные разновидности сеток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3864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тки бывают: квадратные(1), шестиугольные(2), радиальные(3,4), «четверть круга»(5), веерные(6), «розетка»(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5111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дание: напишите название каждой сетк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1943280" cy="194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3922200"/>
            <a:ext cx="73864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                  2                        3   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й узор - ___________________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2057400" cy="2158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979640" y="1628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зучение узоров в блоках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765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го, чтобы научиться читать, недостаточно знать буквы. Важно уметь составлять из букв слова и фразы. Так и в лоскутном шитье – мало овладеть приемами соединения лоскутков, нужно уметь расшифровывать, «читать» узоры, определяя последовательность операций при сбо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вшись разбирать схемы, вы сами сможете придумывать и тв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2082960" cy="2171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484360" y="1052640"/>
            <a:ext cx="2594160" cy="2171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2306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9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5,81,-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26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28:42Z</dcterms:created>
  <dc:creator>Ирина</dc:creator>
  <dc:description/>
  <dc:language>en-US</dc:language>
  <cp:lastModifiedBy>КарМаН</cp:lastModifiedBy>
  <dcterms:modified xsi:type="dcterms:W3CDTF">2012-07-20T22:13:50Z</dcterms:modified>
  <cp:revision>48</cp:revision>
  <dc:subject/>
  <dc:title>Возможности лоскутного шитья</dc:title>
</cp:coreProperties>
</file>