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532-15A9-496E-91AF-2347B5B9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BEF-ED6C-4132-A0F2-17CA772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689-F3F6-451D-A940-07819A2C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47C-ED2B-4C63-A7EC-DC3AD434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8D53-109D-4286-A29A-32E74F3D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B3D0-0991-44E5-A975-45744FE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BADE-2509-4E10-9048-0826052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C0A5-38BE-4B72-88D6-CFBC101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520-ECD7-431E-B44E-5A3713C9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3DF-710C-476E-B763-58DA4314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BD3E-37E0-4A1D-B8D0-D3D7025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AF0-534D-45EB-B98D-3740F86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88B-9FE9-45FB-9C33-D55F0679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A308-8C83-4746-A68A-953B3E0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B2D-E58D-4E1A-BC0A-5E94BA0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F35E-EEF4-4C4C-9CB6-D8A80CD6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2BBB-A5AE-4108-B1E0-5FC23AE7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97D-8063-4AC2-B83C-80CD723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942-0077-4DDF-B1F6-43AA4743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F1D-AF82-4837-8B74-7598C77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940-DAF2-4DE9-8686-FB2BDF2E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55C-4A6D-49F2-8079-67406760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70B-04E2-4B72-9118-65AE1C2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000-DE69-4C2D-8A04-DBF8085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5EEE-F793-4FA3-80B0-B616A005AA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8B5-030C-46C3-B8C1-4CF25AE073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2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quickquilts.com/golden/qg36_pattern/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quickquilts.com/golden/qg91_pattern/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quickquilts.com/golden/qg87_pattern/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quickquilts.com/golden/qg53_pattern/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quickquilts.com/golden/qg34_pattern/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331e"/>
                </a:solidFill>
                <a:latin typeface="Arial"/>
              </a:rPr>
              <a:t>Возможности лоску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5165640" cy="5185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64008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лина И.М. МБОУ СОШ №10 г.Йошкар-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ение мозаики из квадратов и треугольни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373480" cy="2362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2365560" cy="2365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517840" cy="25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четание нескольких квадрат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224000" cy="1217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241280" cy="126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3924360" y="3933720"/>
            <a:ext cx="137304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754520" y="159876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371628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59200" y="1598760"/>
            <a:ext cx="2163960" cy="217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364500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2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51280" y="1598760"/>
            <a:ext cx="2179800" cy="2171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371628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865600" cy="3311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3330360" cy="3213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808360" cy="2730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995640" y="4005360"/>
            <a:ext cx="2808360" cy="2759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170028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пределение формы и количества составляющи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работка модулей в технике скорос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1996920" cy="2016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00360" y="3500280"/>
            <a:ext cx="2031840" cy="1892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1266840" cy="53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565360"/>
            <a:ext cx="11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 rot="10800000">
            <a:off x="3492360" y="4435920"/>
            <a:ext cx="11160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2087640" cy="2048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58920" y="54450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ЛОСКИ СНАЧАЛА СТАЧИВАЮТ В ПОЛОТНО, А ПОТОМ ИЗ НЕГО ВЫКРАИВАЮТ ОПРЕДЕЛЕННЫЕ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2565360"/>
            <a:ext cx="11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219640" y="3429000"/>
            <a:ext cx="2035080" cy="20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084720" y="4581360"/>
            <a:ext cx="11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работка модулей в технике скорос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72" name="" descr="(рис.1) Сборки узоров, выполняемых по радиальной сетке, набором полосок: 1 - узор «Головоломка каменщика» 2 - узор «Паутина»"/>
          <p:cNvPicPr/>
          <p:nvPr/>
        </p:nvPicPr>
        <p:blipFill>
          <a:blip r:embed="rId1"/>
          <a:stretch/>
        </p:blipFill>
        <p:spPr>
          <a:xfrm>
            <a:off x="0" y="1598760"/>
            <a:ext cx="4356000" cy="2612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11640" y="2276640"/>
            <a:ext cx="2016000" cy="1865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19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067280" y="443700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4437000"/>
            <a:ext cx="2013120" cy="1960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050920" y="4437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5940360" y="1341360"/>
            <a:ext cx="200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ение узора по образц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224080" cy="22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166840" cy="2171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1600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5280" y="1700280"/>
            <a:ext cx="2160720" cy="2089080"/>
            <a:chOff x="395280" y="1700280"/>
            <a:chExt cx="2160720" cy="2089080"/>
          </a:xfrm>
        </p:grpSpPr>
        <p:sp>
          <p:nvSpPr>
            <p:cNvPr id="285" name=""/>
            <p:cNvSpPr/>
            <p:nvPr/>
          </p:nvSpPr>
          <p:spPr>
            <a:xfrm>
              <a:off x="395280" y="1700280"/>
              <a:ext cx="2160720" cy="20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2563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5280" y="299556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5280" y="3355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6920" y="1700280"/>
              <a:ext cx="0" cy="208764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892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9236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2400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5280" y="2131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320920" cy="217332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364000" y="1557360"/>
            <a:ext cx="2232360" cy="2232000"/>
            <a:chOff x="5364000" y="1557360"/>
            <a:chExt cx="2232360" cy="2232000"/>
          </a:xfrm>
        </p:grpSpPr>
        <p:sp>
          <p:nvSpPr>
            <p:cNvPr id="296" name=""/>
            <p:cNvSpPr/>
            <p:nvPr/>
          </p:nvSpPr>
          <p:spPr>
            <a:xfrm>
              <a:off x="5364000" y="1557360"/>
              <a:ext cx="2232360" cy="22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56360" y="1557360"/>
              <a:ext cx="0" cy="223200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77080" y="1557360"/>
              <a:ext cx="0" cy="223200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64000" y="2349360"/>
              <a:ext cx="223236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64000" y="3068640"/>
              <a:ext cx="223236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843280" y="1628640"/>
            <a:ext cx="2233440" cy="2162160"/>
            <a:chOff x="2843280" y="1628640"/>
            <a:chExt cx="2233440" cy="2162160"/>
          </a:xfrm>
        </p:grpSpPr>
        <p:sp>
          <p:nvSpPr>
            <p:cNvPr id="302" name=""/>
            <p:cNvSpPr/>
            <p:nvPr/>
          </p:nvSpPr>
          <p:spPr>
            <a:xfrm>
              <a:off x="2843280" y="1628640"/>
              <a:ext cx="2232000" cy="21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436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6400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600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636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43280" y="270828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43280" y="234936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43280" y="306864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43280" y="342900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43280" y="198900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331e"/>
                </a:solidFill>
                <a:latin typeface="Arial"/>
              </a:rPr>
              <a:t>Повторение изученного ране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7885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Приемы работы с лоскутами называют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пэчворк, квилт, коллаж, аппликация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Вид народного творчества, используется для украшения одежды, предметов интерьера называется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эчво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Разновидность пэчворка, имеет три слоя и простёгивается вручную, - это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вилт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Работы в этой технике выполняют наклеиванием лоскутков на основу и называю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екстильный коллаж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ппликация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 - это накладное шитьё, оно является декоративным элементом.</a:t>
            </a:r>
            <a:r>
              <a:rPr b="0" lang="ru-RU" sz="2800" spc="-1" strike="noStrike">
                <a:solidFill>
                  <a:srgbClr val="fff027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озможности лоскутного шить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84720" y="1413000"/>
            <a:ext cx="1944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 в доме спят, а я повор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сьянс лоскутный тихо разлож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есть в душе – о том и расскаж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 жизнь свою иголкой напи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56360" cy="5299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7993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нообразие решений лоскутного шить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7273800" cy="360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73864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крою веер, сказочный ко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шью, сумею, выстелю уз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ймав рукой перо из лоскут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ар-птицей унесусь под обла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.Пугач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арианты изделий из лоскут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160720" cy="2006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3168720" cy="1463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356000" y="4581360"/>
            <a:ext cx="3456000" cy="2073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Sunbonnet Sue Garden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981000"/>
            <a:ext cx="1384200" cy="36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Showcase Star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3573360"/>
            <a:ext cx="175896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Deck the Tabl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924280"/>
            <a:ext cx="1712880" cy="1871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Spring Deligh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00720" y="1341360"/>
            <a:ext cx="178272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Southern Star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24000" y="1268280"/>
            <a:ext cx="1878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спользуемые геометрические фигур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4365360"/>
            <a:ext cx="73868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ля создания лоскутной мозаики применяют различные геометрические фигуры: треугольник, квадрат, прямоугольник, ромб, шестиугольник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1784160" cy="23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846520" cy="238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18273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659640" y="1557360"/>
            <a:ext cx="2278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ные разновидности сеток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3864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тки бывают: квадратные(1), шестиугольные(2), радиальные(3,4), «четверть круга»(5), веерные(6), «розетка»(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5111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дание: напишите название каждой сетк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1943280" cy="194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            2                        3   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2057400" cy="2158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зучение узоров в блоках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765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научиться читать, недостаточно знать буквы. Важно уметь составлять из букв слова и фразы. Так и в лоскутном шитье – мало овладеть приемами соединения лоскутков, нужно уметь расшифровывать, «читать» узоры, определяя последовательность операций при сбо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вшись разбирать схемы, вы сами сможете придумывать и тв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2082960" cy="2171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484360" y="1052640"/>
            <a:ext cx="2594160" cy="2171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2306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9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26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28:42Z</dcterms:created>
  <dc:creator>Ирина</dc:creator>
  <dc:description/>
  <dc:language>en-US</dc:language>
  <cp:lastModifiedBy>КарМаН</cp:lastModifiedBy>
  <dcterms:modified xsi:type="dcterms:W3CDTF">2012-07-20T22:13:50Z</dcterms:modified>
  <cp:revision>48</cp:revision>
  <dc:subject/>
  <dc:title>Возможности лоскутного шитья</dc:title>
</cp:coreProperties>
</file>