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2AAE4-AE7C-4B73-98A4-F33B92A81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37CF7-00B1-4B3D-A20D-90A17416B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2507B-25FA-40F5-BEAA-700E2AA79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ABB7F-0FD4-4747-A18F-F804EADC4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FEA28-F914-406F-AB06-3F2D5BE57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BA855-D2BD-4D3E-A74E-9C868757F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E7063-E1B3-4706-9E90-9AD558EF4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E6E43-06AE-4E81-9AF0-CAD36B911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27B2E-7C86-41CE-92F5-AD995935E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CE222-970D-4D37-9797-30DB318C1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E147C-75E9-43F6-A474-6ECA8028E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D0243-F2FA-4543-BB98-3587302FA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B2949-084C-43C6-8171-831F6DA1B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A4F5E-C756-48BC-A24D-2782FE24C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99949-AF01-49A5-8C25-2BCE9FAD9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78535-A485-4B3E-955C-C29D142B6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9C5F2-57B2-4683-9D94-546CDAF54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1258D-EEDF-44BA-8150-ACEDE79F1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8887C-7778-4082-BEDB-E74A509C6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B6E25-9B9F-4BF0-843E-C6EE478CF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D1DC8-6B43-4F25-BD0C-CEC3FBEE8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2190F-C597-41D9-B67B-413E6636B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A7AB3-1776-4F56-8E6F-2CCDE5D8A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FE29C-3D95-4E9D-8C9E-7D1FD1608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1" name="Freeform 3"/>
            <p:cNvSpPr/>
            <p:nvPr/>
          </p:nvSpPr>
          <p:spPr>
            <a:xfrm>
              <a:off x="5388120" y="158580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0" y="1440"/>
              <a:ext cx="8410680" cy="6845400"/>
            </a:xfrm>
            <a:prstGeom prst="pie">
              <a:avLst/>
            </a:pr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C69B6-8C0F-4ED2-9A61-CE2610B31997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1035000" y="1552680"/>
            <a:ext cx="10179000" cy="5305320"/>
            <a:chOff x="-1035000" y="1552680"/>
            <a:chExt cx="10179000" cy="5305320"/>
          </a:xfrm>
        </p:grpSpPr>
        <p:sp>
          <p:nvSpPr>
            <p:cNvPr id="45" name="Freeform 3"/>
            <p:cNvSpPr/>
            <p:nvPr/>
          </p:nvSpPr>
          <p:spPr>
            <a:xfrm>
              <a:off x="3271680" y="2709720"/>
              <a:ext cx="5872320" cy="4148280"/>
            </a:xfrm>
            <a:prstGeom prst="pie">
              <a:avLst/>
            </a:pr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Arc 4"/>
            <p:cNvSpPr/>
            <p:nvPr/>
          </p:nvSpPr>
          <p:spPr>
            <a:xfrm>
              <a:off x="-1035000" y="1552680"/>
              <a:ext cx="6726240" cy="5305320"/>
            </a:xfrm>
            <a:prstGeom prst="pie">
              <a:avLst/>
            </a:pr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F5BFC-6F61-4C80-A187-EBB5A5FB530E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2120" y="1956960"/>
            <a:ext cx="7772400" cy="278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0066"/>
                </a:solidFill>
                <a:latin typeface="Arial"/>
              </a:rPr>
              <a:t>Возможные направления модернизации рекомендуемой программы по дисциплине «Безопасность жизнедеятельности»</a:t>
            </a:r>
            <a:endParaRPr b="0" lang="en-US" sz="4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5346360"/>
            <a:ext cx="6400800" cy="11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.м.н., проф. Н.А. Куралесин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Зав. кафедрой безопасности жизнедеятельности и основ медицинских знаний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оронежского государственного университет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Высшее профессиональное образование: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4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«Классические» университеты;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64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Вузы с экономико-юридическим профилем подготовки;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64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Вузы с гуманитарным профилем подготовки;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64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Вузы с медицинским профилем подготовки;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64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Вузы с техническим профилем подготовки;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64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Вузы с профилем подготовки в области культуры и искусства;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64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Вузы с педагогическим профилем подготовки;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64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Вузы с профилем подготовки в области военных дисциплин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Список факультетов ВГУ: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55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Биолого-почвенный;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55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Географии и геоэкологии;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55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Геологический;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55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Исторический;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55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Математический;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55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Прикладной математики, информатики и механики;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55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Романо-германской филологии;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55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Физический;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47960" y="16765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55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Филологический;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55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Химический;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55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Юридический;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55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Экономический;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55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Журналистики;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55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Философии и психологии;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55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Фармацевтический;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55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Компьютерных наук;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55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Международных отношений;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55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Военного образования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cc66"/>
                </a:solidFill>
                <a:latin typeface="Arial"/>
              </a:rPr>
              <a:t>Разделы, предлагаемые для включения в рабочую программу по дисциплине «БЖД»:</a:t>
            </a:r>
            <a:endParaRPr b="0" lang="en-US" sz="3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нфекционная безопасность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езопасность в социальной сфере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нформационная безопасность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езопасность питания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Лекарственная безопасность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озрастные аспекты БЖД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лияние негативных воздействий на психику и направления их профилактики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Другие аспекты БЖД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Важные аспекты профилактики негативного воздействия факторов труда: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игиена труда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игиена умственного труда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храна труда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Эргономика рабочего места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сихогигиена и психопрофилактик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Медицинские аспекты дисциплины «БЖД»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опросы первой и доврачебной медицинской помощи в существующей программе представлены достаточно скупо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ольшинство преподавателей дисциплины «БЖД» не владеют теорией и практическими навыками по оказанию первой и доврачебной медицинской помощи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еобходимо увеличить количество часов по дисциплине «Безопасность жизнедеятельности» за счет введения в программу раздела «Оказание первой и доврачебной медицинской помощи»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Внимание!!!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Существует риск растворения проблем БЖД в общем контексте рекомендуемых учебно-методических материалов, издаваемых на территории Российской Федерации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Необходима унификация имеющегося разнообразия информационных учебно-методических источников для обеспечения компетентного понимания материала учащимися средних школ и профессиональных учебных заведений по дисциплине «БЖД»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cc66"/>
                </a:solidFill>
                <a:latin typeface="Arial"/>
              </a:rPr>
              <a:t>Возможные направления модернизации существующей программы:</a:t>
            </a:r>
            <a:endParaRPr b="0" lang="en-US" sz="3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несение дополнений в имеющуюся на сегодняшний день рабочую программу с учетом особенностей дисциплин, преподаваемых в вузах гуманитарного профиля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азработка альтернативной рабочей программы для студентов, обучающихся в вузах гуманитарного направления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6212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ffcc66"/>
                </a:solidFill>
                <a:latin typeface="Arial"/>
              </a:rPr>
              <a:t>Спасибо за внимание!</a:t>
            </a:r>
            <a:endParaRPr b="0" lang="en-US" sz="5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371600" y="3200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.м.н., проф. Куралесин Николай Алексеевич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зав. кафедрой безопасности жизнедеятельности и основ медицинских знаний Воронежского государственного университет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1447920" y="5105520"/>
            <a:ext cx="64008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Тел. раб.: +7 (4732) 54-52-9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Тел. моб.: +7-903-851-66-0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-mail: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ak100@inbox.r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9T05:21:20Z</dcterms:created>
  <dc:creator>Bloody VK</dc:creator>
  <dc:description/>
  <dc:language>en-US</dc:language>
  <cp:lastModifiedBy>Николай</cp:lastModifiedBy>
  <dcterms:modified xsi:type="dcterms:W3CDTF">2013-07-01T12:38:24Z</dcterms:modified>
  <cp:revision>22</cp:revision>
  <dc:subject/>
  <dc:title>Название</dc:title>
</cp:coreProperties>
</file>