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FA0-E6AE-489F-87F2-036B1ACB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987-6FF1-4CB9-8D0A-F788A748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15D-8342-4E7A-847B-4549C315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BC0-BF7C-4085-A7AE-101533D0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D39F-1E6F-46AB-B8D3-D3254F60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E309-38EA-416B-AA7E-63708783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3223-D68C-4038-8F72-817825D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487F-6F4C-4F0F-BC25-6B9AD640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6160-9C20-4321-9A19-6112EE9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E06A-F3C0-46CC-A630-3A29B6C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5152-9D91-4068-BF22-25271AD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E26-5A83-42DA-88F4-FF9A632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D1D-00C6-4DE9-8B06-3E2F8AF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ADA7-CCE8-4AEA-879B-76A592A4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88BF-9FC8-410E-B137-1403FF59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B1C1-A715-45A8-8DF3-ECD3AA87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1A10-8E6B-4DDB-A423-63A62E0D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692-DB6B-4BE7-8BE7-95715255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39F-3790-4F7F-9C62-6927E586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BD0-CF83-4BE4-9770-73871771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67D-65B9-483D-BEFB-23163145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A22-F232-4267-A1EB-1867B970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5A7-EB2D-4AF1-A48C-5561E27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C82-B52A-4AAB-9166-EEC410E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8B92-9409-4D78-ABF6-D6702DAB4E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70EC-71F9-45B2-BABF-037AEE5B4C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5696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Arial"/>
              </a:rPr>
              <a:t>Возможные направления модернизации рекомендуемой программы по дисциплине «Безопасность жизнедеятельности»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34636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м.н., проф. Н.А. Куралес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. кафедрой безопасности жизнедеятельности и основ медицинских знан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ронежского государственного университ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сшее профессиональное образование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Классические» университеты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экономико-юрид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гуманитарны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медицин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техн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рофилем подготовки в области культуры и искус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едагог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рофилем подготовки в области военных дисципли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факультетов ВГУ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иолого-почвенны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ографии и геоэк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олог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тор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темат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кладной математики, информатики и механик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мано-германской фил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з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лолог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им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Юрид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коном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урналистик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лософии и псих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армацевт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х наук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ждународных отношен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енного образова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66"/>
                </a:solidFill>
                <a:latin typeface="Arial"/>
              </a:rPr>
              <a:t>Разделы, предлагаемые для включения в рабочую программу по дисциплине «БЖД»: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екцио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опасность в социальной сфер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опасность пит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арстве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растные аспекты БЖД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негативных воздействий на психику и направления их профилакти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ругие аспекты БЖ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жные аспекты профилактики негативного воздействия факторов тру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умственного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ргономика рабочего мест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гигиена и психопрофилак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дицинские аспекты дисциплины «БЖД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первой и доврачебной медицинской помощи в существующей программе представлены достаточно скуп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преподавателей дисциплины «БЖД» не владеют теорией и практическими навыками по оказанию первой и доврачебной медицинской помощ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увеличить количество часов по дисциплине «Безопасность жизнедеятельности» за счет введения в программу раздела «Оказание первой и доврачебной медицинской помощ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нимание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ществует риск растворения проблем БЖД в общем контексте рекомендуемых учебно-методических материалов, издаваемых на территории Российской Федера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обходима унификация имеющегося разнообразия информационных учебно-методических источников для обеспечения компетентного понимания материала учащимися средних школ и профессиональных учебных заведений по дисциплине «БЖД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66"/>
                </a:solidFill>
                <a:latin typeface="Arial"/>
              </a:rPr>
              <a:t>Возможные направления модернизации существующей программы: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дополнений в имеющуюся на сегодняшний день рабочую программу с учетом особенностей дисциплин, преподаваемых в вузах гуманитарн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альтернативной рабочей программы для студентов, обучающихся в вузах гуманитарного направ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66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м.н., проф. Куралесин Николай Алексе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. кафедрой безопасности жизнедеятельности и основ медицинских знаний Воронежского государственного университ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4792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. раб.: +7 (4732) 54-52-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. моб.: +7-903-851-66-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mail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k100@inbox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5:21:20Z</dcterms:created>
  <dc:creator>Bloody VK</dc:creator>
  <dc:description/>
  <dc:language>en-US</dc:language>
  <cp:lastModifiedBy>Николай</cp:lastModifiedBy>
  <dcterms:modified xsi:type="dcterms:W3CDTF">2013-07-01T12:38:24Z</dcterms:modified>
  <cp:revision>22</cp:revision>
  <dc:subject/>
  <dc:title>Название</dc:title>
</cp:coreProperties>
</file>