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694-2207-47FB-B52C-4EAC4C42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7DD-4B86-45DE-8957-8555063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ECA-0D9A-4F9F-B0CE-404FEEDE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4E7-C3BE-4211-B03B-739A652B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14FA-73C9-4382-894A-27B40A55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7F5F-EF50-46F6-93A3-07AD167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C48-CB4F-4DE9-83AD-64AB1E38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12D-FC35-41D8-B00E-1F54EB04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0186-7A2A-4FD5-9B28-2F0FED98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C4F6-1FF5-4F53-8755-0DD439D0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EF3-7278-45AE-9914-4CFA16D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4E6-8271-4AE6-B10B-4C17EEB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C95-C30D-4B58-962A-7F9E2FC5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5AC-6F0B-421C-AE61-968A13F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5A6-8590-43F5-B574-5F71E8A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7A0-3FF3-444A-A7C7-AD7BAFFC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5154-6FBD-4FFC-86AE-9A7C3298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38F-9035-4ECE-9296-4451AA7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FC3-0A99-4629-8738-80295CB0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72F-F8DD-4AAF-819C-1D73B4A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6EB-5364-4D84-AD78-BB70C74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4EE-BC6D-48C7-A67B-AF09E20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B30C-A8B8-46E5-8D26-55BFBC8F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1F3-4E6C-425E-ADBF-196BFFE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AA43-DB03-4F39-BFF7-04E2A229BD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E516-E128-449E-912F-5741D4009E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5696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Arial"/>
              </a:rPr>
              <a:t>Возможные направления модернизации рекомендуемой программы по дисциплине «Безопасность жизнедеятельности»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346360"/>
            <a:ext cx="64008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Н.А. Куралес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сшее профессиональное образовани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Классические» университеты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экономико-юрид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гуманитарны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медицин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техн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культуры и искус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едагогическим профилем подготовк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узы с профилем подготовки в области военных дисципли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факультетов ВГ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иолого-почвенны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графии и геоэк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тор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тема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кладной математики, информатики и механ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мано-германской фил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з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лог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Хи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д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коном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Журналистик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лософии и психологии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армацевтическ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х наук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ждународных отнош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енного образова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66"/>
                </a:solidFill>
                <a:latin typeface="Arial"/>
              </a:rPr>
              <a:t>Разделы, предлагаемые для включения в рабочую программу по дисциплине «БЖД»: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ек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в социальной сфер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опасность пит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арственная безопаснос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растные аспекты БЖД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ние негативных воздействий на психику и направления их профилактик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ругие аспекты БЖ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жные аспекты профилактики негативного воздействия факторов тру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умственного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тру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ргономика рабочего мест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гигиена и психопрофилак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дицинские аспекты дисциплины «БЖД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первой и доврачебной медицинской помощи в существующей программе представлены достаточно скуп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инство преподавателей дисциплины «БЖД» не владеют теорией и практическими навыками по оказанию первой и доврачебной медицинской помощ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увеличить количество часов по дисциплине «Безопасность жизнедеятельности» за счет введения в программу раздела «Оказание первой и доврачебной медицинской помощ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ует риск растворения проблем БЖД в общем контексте рекомендуемых учебно-методических материалов, издаваемых на территории Российской Федера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обходима унификация имеющегося разнообразия информационных учебно-методических источников для обеспечения компетентного понимания материала учащимися средних школ и профессиональных учебных заведений по дисциплине «БЖД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c66"/>
                </a:solidFill>
                <a:latin typeface="Arial"/>
              </a:rPr>
              <a:t>Возможные направления модернизации существующей программы: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дополнений в имеющуюся на сегодняшний день рабочую программу с учетом особенностей дисциплин, преподаваемых в вузах гуманитарн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альтернативной рабочей программы для студентов, обучающихся в вузах гуманитарного направ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66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м.н., проф. Куралесин Николай Алексееви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. кафедрой безопасности жизнедеятельности и основ медицинских знаний Воронежского государственного университ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47920" y="510552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раб.: +7 (4732) 54-52-9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л. моб.: +7-903-851-66-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mail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k100@inbox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5:21:20Z</dcterms:created>
  <dc:creator>Bloody VK</dc:creator>
  <dc:description/>
  <dc:language>en-US</dc:language>
  <cp:lastModifiedBy>Николай</cp:lastModifiedBy>
  <dcterms:modified xsi:type="dcterms:W3CDTF">2013-07-01T12:38:24Z</dcterms:modified>
  <cp:revision>22</cp:revision>
  <dc:subject/>
  <dc:title>Название</dc:title>
</cp:coreProperties>
</file>