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024-7519-4A0D-ABD3-BBEBAFC8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3C9-5887-477A-82E7-0C91CBB9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22B-4EC2-415F-8E06-5316F207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359-D317-4BB8-9974-E6B2940D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FEE7-204B-423E-85F0-1F6E6823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ED1C-702D-44F5-99CA-56C70841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8953-FF2F-4E04-AE0C-BE8BA59F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4B43-F96B-428D-A397-06BFBD42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BE42-1343-4424-AE85-6B71E536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D74B-BAA5-4550-B8C8-9615054C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5164-BF45-4265-8D66-18FD0C74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40D-DDC8-49A6-BE64-607B3FFF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2BD3-1235-4A74-972F-106BDB9A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F16B-A955-4842-B895-F23D1B6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9A4D-DDD8-4EB0-A92C-763BA494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DE60-97A2-4E91-A532-29373EF8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67CE-DF5F-4689-AF09-732CFA1C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31F-3853-4561-8850-5D95572F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53A-92BA-4B48-87D4-C1E390EA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847-63D4-42BA-B17C-3D6BCD45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54D-E205-4E6B-96D1-C5E82C8F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353-CF12-47CE-A811-7AC404D2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2B9-C840-424A-8AA0-C4992EA7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979-145F-479F-BEB7-FD0D7274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FAB5-CF83-418C-9024-F1C7F77228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E387-FEBD-4EF8-B619-06672C6B593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ыживание в природных условиях после авар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Рисунок 3" descr="61.gif"/>
          <p:cNvPicPr/>
          <p:nvPr/>
        </p:nvPicPr>
        <p:blipFill>
          <a:blip r:embed="rId1"/>
          <a:stretch/>
        </p:blipFill>
        <p:spPr>
          <a:xfrm>
            <a:off x="2195640" y="4437000"/>
            <a:ext cx="2376360" cy="2374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0ee13072b90b.png"/>
          <p:cNvPicPr/>
          <p:nvPr/>
        </p:nvPicPr>
        <p:blipFill>
          <a:blip r:embed="rId2"/>
          <a:stretch/>
        </p:blipFill>
        <p:spPr>
          <a:xfrm>
            <a:off x="4572000" y="3071880"/>
            <a:ext cx="1444680" cy="3384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post-41192-1231285749.png"/>
          <p:cNvPicPr/>
          <p:nvPr/>
        </p:nvPicPr>
        <p:blipFill>
          <a:blip r:embed="rId3"/>
          <a:stretch/>
        </p:blipFill>
        <p:spPr>
          <a:xfrm>
            <a:off x="0" y="3006720"/>
            <a:ext cx="2568600" cy="3851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6016680" y="3860640"/>
            <a:ext cx="312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Учитель высшей категор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Харина Л.П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МБОУ СОШ № 37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г.Волжского Волгоград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4d4d"/>
          </a:solidFill>
          <a:ln w="38160">
            <a:solidFill>
              <a:srgbClr val="d1f0e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4" descr="mso90400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84360" y="2276640"/>
            <a:ext cx="799308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с отражателе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mso935F8"/>
          <p:cNvPicPr/>
          <p:nvPr/>
        </p:nvPicPr>
        <p:blipFill>
          <a:blip r:embed="rId1"/>
          <a:stretch/>
        </p:blipFill>
        <p:spPr>
          <a:xfrm>
            <a:off x="1908000" y="1341360"/>
            <a:ext cx="54723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из брезента (плёнки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4" descr="mso57EE6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692360" y="1484280"/>
            <a:ext cx="6108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4" descr="Изображе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95640" y="1341360"/>
            <a:ext cx="47289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5" descr="msoF8BDC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71640" y="1413000"/>
            <a:ext cx="734364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вускатны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Picture 4" descr="Изображение 00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50920" y="1341360"/>
            <a:ext cx="509616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под дерев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4" descr="mso55A1E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403280" y="1341360"/>
            <a:ext cx="63356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из тка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Picture 4" descr="msoF6862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539640" y="1413000"/>
            <a:ext cx="820908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4" descr="msoCD01A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332000" y="1268280"/>
            <a:ext cx="65530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Picture 4" descr="mso7A0F0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1484280"/>
            <a:ext cx="7848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71400" y="499680"/>
            <a:ext cx="7126200" cy="542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юбую сложную ситуацию лучше всего преодолевать по плану – это доказывает обширный опыт различных происшествий, аварий, в результате которых люди остаются наедине с природо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5" descr="baby23"/>
          <p:cNvPicPr/>
          <p:nvPr/>
        </p:nvPicPr>
        <p:blipFill>
          <a:blip r:embed="rId1"/>
          <a:stretch/>
        </p:blipFill>
        <p:spPr>
          <a:xfrm flipH="1">
            <a:off x="142920" y="2000160"/>
            <a:ext cx="1457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4" name="Picture 4" descr="mso38656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124000" y="1413000"/>
            <a:ext cx="51436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Picture 4" descr="Изображение 00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1341360"/>
            <a:ext cx="57610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8" name="Picture 4" descr="msoB78D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484280"/>
            <a:ext cx="63374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Picture 4" descr="mso624E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87280" y="1341360"/>
            <a:ext cx="65516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4" descr="mso6E38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24000" y="1268280"/>
            <a:ext cx="510084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4" name="Picture 4" descr="msoA5E44"/>
          <p:cNvPicPr/>
          <p:nvPr/>
        </p:nvPicPr>
        <p:blipFill>
          <a:blip r:embed="rId1"/>
          <a:stretch/>
        </p:blipFill>
        <p:spPr>
          <a:xfrm>
            <a:off x="468360" y="1844640"/>
            <a:ext cx="82090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4d4d"/>
          </a:solidFill>
          <a:ln w="38160">
            <a:solidFill>
              <a:srgbClr val="d1f0e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щий план действий по выживани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Рисунок 4" descr="post-54068-1217527544.png"/>
          <p:cNvPicPr/>
          <p:nvPr/>
        </p:nvPicPr>
        <p:blipFill>
          <a:blip r:embed="rId1"/>
          <a:stretch/>
        </p:blipFill>
        <p:spPr>
          <a:xfrm>
            <a:off x="-428760" y="3618000"/>
            <a:ext cx="235764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857240" y="1714680"/>
            <a:ext cx="7000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медленно покинь автомобиль (вагон, самолёт), если есть угроза взрыва, пожара, затопления или разру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ыбраться на безопасное место (расстояние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цени обстановку окружающей тебя среды и своё состояние (если получил повреждение, прими меры самопомощи, останови кровотечение, забинтуй ран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осстановить в памяти место твоего нахождения, удаление от населённых пунктов, наиболее характерные ориентиры (река, дорога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верь, что у тебя имеется в резерве из продуктов питания, одежды, есть ли спички, компа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(продолжение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Рисунок 5" descr="индеец.png"/>
          <p:cNvPicPr/>
          <p:nvPr/>
        </p:nvPicPr>
        <p:blipFill>
          <a:blip r:embed="rId1"/>
          <a:stretch/>
        </p:blipFill>
        <p:spPr>
          <a:xfrm>
            <a:off x="-642960" y="264312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6"/>
          <p:cNvSpPr/>
          <p:nvPr/>
        </p:nvSpPr>
        <p:spPr>
          <a:xfrm>
            <a:off x="2214720" y="1643040"/>
            <a:ext cx="6357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6. Прими решение: оставаться на месте и ждать помощи или самому выходить к люд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7. Составь план своих действий, в котором обязательно учти близость воды к месту ночлега и укрытия от дождя, бури, грозы; возможность добывания пищи (запас, растительная пища вокруг); возможности подачи сигналов для привлечения помощ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8. Приступай к выполнению плана действи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ходить с места аварии тебе следует есл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35728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2071800" y="1571760"/>
            <a:ext cx="678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очно известно расположение ближайшего населённого пункта, а твоё состояние позволяет до него добратьс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Неподалёку обнаружена просека, дорога, река, явные признаки близкого жиль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озникает угроза для жизни: идёт затопление местности, приближается лесной пожар, имеется вероятность схода лавин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Помни!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Рисунок 5" descr="индеец.png"/>
          <p:cNvPicPr/>
          <p:nvPr/>
        </p:nvPicPr>
        <p:blipFill>
          <a:blip r:embed="rId1"/>
          <a:stretch/>
        </p:blipFill>
        <p:spPr>
          <a:xfrm>
            <a:off x="-857160" y="185724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1785960" y="1071720"/>
            <a:ext cx="700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Уходя с места аварии, напиши записку и вложи её в непромокаемую упаковку, банку или бутылку с указаниями, когда и куда ты ушёл. Привяжи упаковку на видном мест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Если решил остаться, то необходимо разбить временный лагерь. В условиях лагеря легче организовать надёжное укрытие от непогоды, поиск продовольствия, оказание помощи больным и раненым, оборудовать средства подачи сигнал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428920"/>
            <a:ext cx="2685960" cy="33843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2143080" y="1714680"/>
            <a:ext cx="6786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Общее правил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суровей климат, тем надёжнее должно быть жильё. Оно должно защищать прежде всего от осадков, палящего солнца, сильного ветра, холо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ом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аже один час отдыха в тепле не сравнить с многочасовыми попытками отдохнуть на ветру и в хол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4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Рисунок 5" descr="индеец.png"/>
          <p:cNvPicPr/>
          <p:nvPr/>
        </p:nvPicPr>
        <p:blipFill>
          <a:blip r:embed="rId1"/>
          <a:stretch/>
        </p:blipFill>
        <p:spPr>
          <a:xfrm>
            <a:off x="-571680" y="2357280"/>
            <a:ext cx="2686320" cy="3384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2143080" y="1714680"/>
            <a:ext cx="678672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чистить площадк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дготовить подручные средства для строитель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сто должно быть сухим и размещаться поблизости от ручья или другого водного источни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ажно, чтобы поблизости находилось топливо (зимой вопрос  о дровах очень важен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 algn="ctr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5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иды временных укрытий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mso935F8"/>
          <p:cNvPicPr/>
          <p:nvPr/>
        </p:nvPicPr>
        <p:blipFill>
          <a:blip r:embed="rId1"/>
          <a:stretch/>
        </p:blipFill>
        <p:spPr>
          <a:xfrm>
            <a:off x="3857760" y="3500280"/>
            <a:ext cx="2527200" cy="23590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индеец.png"/>
          <p:cNvPicPr/>
          <p:nvPr/>
        </p:nvPicPr>
        <p:blipFill>
          <a:blip r:embed="rId2"/>
          <a:stretch/>
        </p:blipFill>
        <p:spPr>
          <a:xfrm>
            <a:off x="-357120" y="2786040"/>
            <a:ext cx="26859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3:48:54Z</dcterms:created>
  <dc:creator>Дима и Игорь</dc:creator>
  <dc:description/>
  <dc:language>en-US</dc:language>
  <cp:lastModifiedBy>Admin</cp:lastModifiedBy>
  <dcterms:modified xsi:type="dcterms:W3CDTF">2012-07-28T07:28:28Z</dcterms:modified>
  <cp:revision>14</cp:revision>
  <dc:subject/>
  <dc:title>Временные укрытия</dc:title>
</cp:coreProperties>
</file>