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F211-D7AF-4445-806C-051A5D8A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5C7-9F33-419D-B592-0AD0C573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A39D-33CE-4EC8-B745-73322702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273-DF2C-4038-9D50-032B6F9B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C12A-09A5-41DC-A6A9-93C1B1CF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5B4D-A62A-4D5F-8241-E4F31DD4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74B6-CE7F-45F7-AC43-5F935CD4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07A7-D3E0-465D-BAF3-63E2DF76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88F9-AE93-4345-BBFE-CBA74B0C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7AC7-886A-4FCD-A192-BF9D2BCD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B751-02DE-479E-8708-675C4AA8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17F6-DB29-4F91-8676-7B9F48CD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A5ED-DC98-4637-8A5B-66BC6E24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0180-1883-4325-BA3F-12AF683F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5CDB-6684-4237-8C8E-0F058470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784F-70A6-410F-9768-D22102CF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A0AB-A7EC-48FB-AB06-01B651F7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A56B-0CF3-497F-93F8-38833920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F94-8DDB-4668-9B5D-12DC1720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496B-26A8-411C-98E9-B3808D84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482-0575-40BF-8114-AE3C180E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40C3-BD18-422E-B89A-15723D69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F08-F29C-4E7E-885D-D9076311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5A7-CB24-4021-BAF2-C68F2D95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5AF2-D765-4E66-9C42-A927354327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A29D-DEF3-4B39-98B4-735D783D5C64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prezentacii.com/" TargetMode="External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Выживание в природных условиях после авари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Рисунок 3" descr="61.gif"/>
          <p:cNvPicPr/>
          <p:nvPr/>
        </p:nvPicPr>
        <p:blipFill>
          <a:blip r:embed="rId1"/>
          <a:stretch/>
        </p:blipFill>
        <p:spPr>
          <a:xfrm>
            <a:off x="2195640" y="4437000"/>
            <a:ext cx="2376360" cy="2374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0ee13072b90b.png"/>
          <p:cNvPicPr/>
          <p:nvPr/>
        </p:nvPicPr>
        <p:blipFill>
          <a:blip r:embed="rId2"/>
          <a:stretch/>
        </p:blipFill>
        <p:spPr>
          <a:xfrm>
            <a:off x="4572000" y="3071880"/>
            <a:ext cx="1444680" cy="33843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post-41192-1231285749.png"/>
          <p:cNvPicPr/>
          <p:nvPr/>
        </p:nvPicPr>
        <p:blipFill>
          <a:blip r:embed="rId3"/>
          <a:stretch/>
        </p:blipFill>
        <p:spPr>
          <a:xfrm>
            <a:off x="0" y="3006720"/>
            <a:ext cx="2568600" cy="38512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6016680" y="3860640"/>
            <a:ext cx="312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Учитель высшей категори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Харина Л.П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МБОУ СОШ № 37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г.Волжского Волгоградской област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Прямоугольник 7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4d4d"/>
          </a:solidFill>
          <a:ln w="38160">
            <a:solidFill>
              <a:srgbClr val="d1f0e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ec85e"/>
                </a:solidFill>
                <a:uFillTx/>
                <a:latin typeface="Times New Roman"/>
                <a:hlinkClick r:id="rId4"/>
              </a:rPr>
              <a:t>Prezentacii.co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ве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4" descr="mso90400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84360" y="2276640"/>
            <a:ext cx="799308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вес с отражателе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4" descr="mso935F8"/>
          <p:cNvPicPr/>
          <p:nvPr/>
        </p:nvPicPr>
        <p:blipFill>
          <a:blip r:embed="rId1"/>
          <a:stretch/>
        </p:blipFill>
        <p:spPr>
          <a:xfrm>
            <a:off x="1908000" y="1341360"/>
            <a:ext cx="547236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вес из брезента (плёнки)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Picture 4" descr="mso57EE6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692360" y="1484280"/>
            <a:ext cx="61084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имний наве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4" descr="Изображение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95640" y="1341360"/>
            <a:ext cx="47289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имний наве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Picture 5" descr="msoF8BDC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971640" y="1413000"/>
            <a:ext cx="734364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вускатный шалаш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4" name="Picture 4" descr="Изображение 00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050920" y="1341360"/>
            <a:ext cx="509616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Шалаш под дерев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Picture 4" descr="mso55A1E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403280" y="1341360"/>
            <a:ext cx="63356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Шалаш из ткан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8" name="Picture 4" descr="msoF6862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539640" y="1413000"/>
            <a:ext cx="820908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имний шалаш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Picture 4" descr="msoCD01A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1332000" y="1268280"/>
            <a:ext cx="655308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нежная пещ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Picture 4" descr="mso7A0F0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4360" y="1484280"/>
            <a:ext cx="784836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71400" y="499680"/>
            <a:ext cx="7126200" cy="5429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юбую сложную ситуацию лучше всего преодолевать по плану – это доказывает обширный опыт различных происшествий, аварий, в результате которых люди остаются наедине с природой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Picture 5" descr="baby23"/>
          <p:cNvPicPr/>
          <p:nvPr/>
        </p:nvPicPr>
        <p:blipFill>
          <a:blip r:embed="rId1"/>
          <a:stretch/>
        </p:blipFill>
        <p:spPr>
          <a:xfrm flipH="1">
            <a:off x="142920" y="2000160"/>
            <a:ext cx="1457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нежная пещ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4" name="Picture 4" descr="mso38656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124000" y="1413000"/>
            <a:ext cx="51436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нежная пещ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Picture 4" descr="Изображение 00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692360" y="1341360"/>
            <a:ext cx="576108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 (изготовление)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8" name="Picture 4" descr="msoB78D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47640" y="1484280"/>
            <a:ext cx="633744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 (изготовление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0" name="Picture 4" descr="mso624E8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187280" y="1341360"/>
            <a:ext cx="65516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Picture 4" descr="mso6E38E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24000" y="1268280"/>
            <a:ext cx="510084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4" name="Picture 4" descr="msoA5E44"/>
          <p:cNvPicPr/>
          <p:nvPr/>
        </p:nvPicPr>
        <p:blipFill>
          <a:blip r:embed="rId1"/>
          <a:stretch/>
        </p:blipFill>
        <p:spPr>
          <a:xfrm>
            <a:off x="468360" y="1844640"/>
            <a:ext cx="820908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Прямоугольник 2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4d4d"/>
          </a:solidFill>
          <a:ln w="38160">
            <a:solidFill>
              <a:srgbClr val="d1f0e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ec85e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бщий план действий по выживанию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Рисунок 4" descr="post-54068-1217527544.png"/>
          <p:cNvPicPr/>
          <p:nvPr/>
        </p:nvPicPr>
        <p:blipFill>
          <a:blip r:embed="rId1"/>
          <a:stretch/>
        </p:blipFill>
        <p:spPr>
          <a:xfrm>
            <a:off x="-428760" y="3618000"/>
            <a:ext cx="2357640" cy="3240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1857240" y="1714680"/>
            <a:ext cx="7000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емедленно покинь автомобиль (вагон, самолёт), если есть угроза взрыва, пожара, затопления или разруше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старайся выбраться на безопасное место (расстояние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цени обстановку окружающей тебя среды и своё состояние (если получил повреждение, прими меры самопомощи, останови кровотечение, забинтуй рану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старайся восстановить в памяти место твоего нахождения, удаление от населённых пунктов, наиболее характерные ориентиры (река, дорога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оверь, что у тебя имеется в резерве из продуктов питания, одежды, есть ли спички, компас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(продолжение)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Рисунок 5" descr="индеец.png"/>
          <p:cNvPicPr/>
          <p:nvPr/>
        </p:nvPicPr>
        <p:blipFill>
          <a:blip r:embed="rId1"/>
          <a:stretch/>
        </p:blipFill>
        <p:spPr>
          <a:xfrm>
            <a:off x="-642960" y="2643120"/>
            <a:ext cx="2685960" cy="33847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6"/>
          <p:cNvSpPr/>
          <p:nvPr/>
        </p:nvSpPr>
        <p:spPr>
          <a:xfrm>
            <a:off x="2214720" y="1643040"/>
            <a:ext cx="6357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6. Прими решение: оставаться на месте и ждать помощи или самому выходить к людя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7. Составь план своих действий, в котором обязательно учти близость воды к месту ночлега и укрытия от дождя, бури, грозы; возможность добывания пищи (запас, растительная пища вокруг); возможности подачи сигналов для привлечения помощ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8. Приступай к выполнению плана действий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ходить с места аварии тебе следует если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Рисунок 5" descr="индеец.png"/>
          <p:cNvPicPr/>
          <p:nvPr/>
        </p:nvPicPr>
        <p:blipFill>
          <a:blip r:embed="rId1"/>
          <a:stretch/>
        </p:blipFill>
        <p:spPr>
          <a:xfrm>
            <a:off x="-714240" y="2357280"/>
            <a:ext cx="2685960" cy="33847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2071800" y="1571760"/>
            <a:ext cx="678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очно известно расположение ближайшего населённого пункта, а твоё состояние позволяет до него добратьс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Неподалёку обнаружена просека, дорога, река, явные признаки близкого жиль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Возникает угроза для жизни: идёт затопление местности, приближается лесной пожар, имеется вероятность схода лавин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1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Помни!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Рисунок 5" descr="индеец.png"/>
          <p:cNvPicPr/>
          <p:nvPr/>
        </p:nvPicPr>
        <p:blipFill>
          <a:blip r:embed="rId1"/>
          <a:stretch/>
        </p:blipFill>
        <p:spPr>
          <a:xfrm>
            <a:off x="-857160" y="1857240"/>
            <a:ext cx="2685960" cy="33847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6"/>
          <p:cNvSpPr/>
          <p:nvPr/>
        </p:nvSpPr>
        <p:spPr>
          <a:xfrm>
            <a:off x="1785960" y="1071720"/>
            <a:ext cx="700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Уходя с места аварии, напиши записку и вложи её в непромокаемую упаковку, банку или бутылку с указаниями, когда и куда ты ушёл. Привяжи упаковку на видном мест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Если решил остаться, то необходимо разбить временный лагерь. В условиях лагеря легче организовать надёжное укрытие от непогоды, поиск продовольствия, оказание помощи больным и раненым, оборудовать средства подачи сигнал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3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Оборудование временного укрытия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Рисунок 5" descr="индеец.png"/>
          <p:cNvPicPr/>
          <p:nvPr/>
        </p:nvPicPr>
        <p:blipFill>
          <a:blip r:embed="rId1"/>
          <a:stretch/>
        </p:blipFill>
        <p:spPr>
          <a:xfrm>
            <a:off x="-714240" y="2428920"/>
            <a:ext cx="2685960" cy="33843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2143080" y="1714680"/>
            <a:ext cx="67867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Общее правил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ем суровей климат, тем надёжнее должно быть жильё. Оно должно защищать прежде всего от осадков, палящего солнца, сильного ветра, холод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Помн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аже один час отдыха в тепле не сравнить с многочасовыми попытками отдохнуть на ветру и в холод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4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Оборудование временного укрытия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Рисунок 5" descr="индеец.png"/>
          <p:cNvPicPr/>
          <p:nvPr/>
        </p:nvPicPr>
        <p:blipFill>
          <a:blip r:embed="rId1"/>
          <a:stretch/>
        </p:blipFill>
        <p:spPr>
          <a:xfrm>
            <a:off x="-571680" y="2357280"/>
            <a:ext cx="2686320" cy="33847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2143080" y="1714680"/>
            <a:ext cx="678672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чистить площадк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одготовить подручные средства для строительст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есто должно быть сухим и размещаться поблизости от ручья или другого водного источник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ажно, чтобы поблизости находилось топливо (зимой вопрос  о дровах очень важен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 algn="ctr"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54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9968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Виды временных укрытий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Picture 4" descr="mso935F8"/>
          <p:cNvPicPr/>
          <p:nvPr/>
        </p:nvPicPr>
        <p:blipFill>
          <a:blip r:embed="rId1"/>
          <a:stretch/>
        </p:blipFill>
        <p:spPr>
          <a:xfrm>
            <a:off x="3857760" y="3500280"/>
            <a:ext cx="2527200" cy="23590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индеец.png"/>
          <p:cNvPicPr/>
          <p:nvPr/>
        </p:nvPicPr>
        <p:blipFill>
          <a:blip r:embed="rId2"/>
          <a:stretch/>
        </p:blipFill>
        <p:spPr>
          <a:xfrm>
            <a:off x="-357120" y="2786040"/>
            <a:ext cx="26859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6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3:48:54Z</dcterms:created>
  <dc:creator>Дима и Игорь</dc:creator>
  <dc:description/>
  <dc:language>en-US</dc:language>
  <cp:lastModifiedBy>Admin</cp:lastModifiedBy>
  <dcterms:modified xsi:type="dcterms:W3CDTF">2012-07-28T07:28:28Z</dcterms:modified>
  <cp:revision>14</cp:revision>
  <dc:subject/>
  <dc:title>Временные укрытия</dc:title>
</cp:coreProperties>
</file>