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D9D7-E524-407C-B543-9AAF330C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CE29-88E4-4960-A1E1-6FA41830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FD43-86F9-4028-962D-FE6BD786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F221-5D36-4BDB-910A-7F717C8C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75BB-6D0B-457B-B40D-C6877B34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EA34-84CB-402A-A088-496BA614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76E1-EFBE-495C-A65A-40556A23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03FE-F6DC-4308-8145-310D47C5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310B-442F-450F-A318-B5989E3C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8C5F-214F-4EE4-B6B9-83252DDD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7B6A-E4D9-4395-964A-608D90A3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111-3A72-4D0E-A640-50C6785D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3822-7FCE-45EF-9A34-772006F4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53CE-E199-4331-8144-6E939EF1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EF61-E603-440B-9E7A-F49ED960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8D21-ADA5-4F9B-9C41-45B84DEC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115C-1E45-4D50-B43D-236CDDE0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2458-872F-410D-B648-518C5018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404A-426A-4D45-86DE-3313B9B9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CEC-441D-45C7-999A-541ACFF9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B26C-56ED-4CBB-B753-25CE8DD5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698D-9560-42F0-A817-2203444F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6AE7-336D-459A-A285-AAB97494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6CA0-8F93-462E-A891-6869C7BD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5221-AC95-4AB4-9B2E-71B56EB640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AF02-B602-40ED-9F9D-93F998CC353A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prezentacii.com/" TargetMode="External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Выживание в природных условиях после авари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Рисунок 3" descr="61.gif"/>
          <p:cNvPicPr/>
          <p:nvPr/>
        </p:nvPicPr>
        <p:blipFill>
          <a:blip r:embed="rId1"/>
          <a:stretch/>
        </p:blipFill>
        <p:spPr>
          <a:xfrm>
            <a:off x="2195640" y="4437000"/>
            <a:ext cx="2376360" cy="23749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0ee13072b90b.png"/>
          <p:cNvPicPr/>
          <p:nvPr/>
        </p:nvPicPr>
        <p:blipFill>
          <a:blip r:embed="rId2"/>
          <a:stretch/>
        </p:blipFill>
        <p:spPr>
          <a:xfrm>
            <a:off x="4572000" y="3071880"/>
            <a:ext cx="1444680" cy="33843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post-41192-1231285749.png"/>
          <p:cNvPicPr/>
          <p:nvPr/>
        </p:nvPicPr>
        <p:blipFill>
          <a:blip r:embed="rId3"/>
          <a:stretch/>
        </p:blipFill>
        <p:spPr>
          <a:xfrm>
            <a:off x="0" y="3006720"/>
            <a:ext cx="2568600" cy="38512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6016680" y="3860640"/>
            <a:ext cx="312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Учитель высшей категори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Харина Л.П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МБОУ СОШ № 37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33"/>
                </a:solidFill>
                <a:latin typeface="Verdana"/>
              </a:rPr>
              <a:t>г.Волжского Волгоградской област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Прямоугольник 7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4d4d"/>
          </a:solidFill>
          <a:ln w="38160">
            <a:solidFill>
              <a:srgbClr val="d1f0e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ec85e"/>
                </a:solidFill>
                <a:uFillTx/>
                <a:latin typeface="Times New Roman"/>
                <a:hlinkClick r:id="rId4"/>
              </a:rPr>
              <a:t>Prezentacii.co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ве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4" descr="mso90400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84360" y="2276640"/>
            <a:ext cx="799308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вес с отражателе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4" descr="mso935F8"/>
          <p:cNvPicPr/>
          <p:nvPr/>
        </p:nvPicPr>
        <p:blipFill>
          <a:blip r:embed="rId1"/>
          <a:stretch/>
        </p:blipFill>
        <p:spPr>
          <a:xfrm>
            <a:off x="1908000" y="1341360"/>
            <a:ext cx="547236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вес из брезента (плёнки)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8" name="Picture 4" descr="mso57EE6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692360" y="1484280"/>
            <a:ext cx="61084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имний наве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Picture 4" descr="Изображение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95640" y="1341360"/>
            <a:ext cx="47289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имний наве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Picture 5" descr="msoF8BDC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971640" y="1413000"/>
            <a:ext cx="734364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вускатный шалаш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4" name="Picture 4" descr="Изображение 00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050920" y="1341360"/>
            <a:ext cx="509616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Шалаш под дерево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6" name="Picture 4" descr="mso55A1E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403280" y="1341360"/>
            <a:ext cx="63356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Шалаш из ткан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8" name="Picture 4" descr="msoF6862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539640" y="1413000"/>
            <a:ext cx="820908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имний шалаш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Picture 4" descr="msoCD01A"/>
          <p:cNvPicPr/>
          <p:nvPr/>
        </p:nvPicPr>
        <p:blipFill>
          <a:blip r:embed="rId1">
            <a:lum contrast="84000"/>
          </a:blip>
          <a:stretch/>
        </p:blipFill>
        <p:spPr>
          <a:xfrm>
            <a:off x="1332000" y="1268280"/>
            <a:ext cx="655308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нежная пещ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2" name="Picture 4" descr="mso7A0F0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84360" y="1484280"/>
            <a:ext cx="784836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71400" y="499680"/>
            <a:ext cx="7126200" cy="5429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Любую сложную ситуацию лучше всего преодолевать по плану – это доказывает обширный опыт различных происшествий, аварий, в результате которых люди остаются наедине с природой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Picture 5" descr="baby23"/>
          <p:cNvPicPr/>
          <p:nvPr/>
        </p:nvPicPr>
        <p:blipFill>
          <a:blip r:embed="rId1"/>
          <a:stretch/>
        </p:blipFill>
        <p:spPr>
          <a:xfrm flipH="1">
            <a:off x="142920" y="2000160"/>
            <a:ext cx="14572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нежная пещ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4" name="Picture 4" descr="mso38656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124000" y="1413000"/>
            <a:ext cx="51436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нежная пещ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6" name="Picture 4" descr="Изображение 002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692360" y="1341360"/>
            <a:ext cx="576108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 (изготовление)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8" name="Picture 4" descr="msoB78D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47640" y="1484280"/>
            <a:ext cx="633744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 (изготовление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0" name="Picture 4" descr="mso624E8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187280" y="1341360"/>
            <a:ext cx="655164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2" name="Picture 4" descr="mso6E38E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24000" y="1268280"/>
            <a:ext cx="510084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л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4" name="Picture 4" descr="msoA5E44"/>
          <p:cNvPicPr/>
          <p:nvPr/>
        </p:nvPicPr>
        <p:blipFill>
          <a:blip r:embed="rId1"/>
          <a:stretch/>
        </p:blipFill>
        <p:spPr>
          <a:xfrm>
            <a:off x="468360" y="1844640"/>
            <a:ext cx="820908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Прямоугольник 2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4d4d"/>
          </a:solidFill>
          <a:ln w="38160">
            <a:solidFill>
              <a:srgbClr val="d1f0e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ec85e"/>
                </a:solidFill>
                <a:uFillTx/>
                <a:latin typeface="Times New Roman"/>
                <a:hlinkClick r:id="rId1"/>
              </a:rPr>
              <a:t>Prezentacii.co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бщий план действий по выживанию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Рисунок 4" descr="post-54068-1217527544.png"/>
          <p:cNvPicPr/>
          <p:nvPr/>
        </p:nvPicPr>
        <p:blipFill>
          <a:blip r:embed="rId1"/>
          <a:stretch/>
        </p:blipFill>
        <p:spPr>
          <a:xfrm>
            <a:off x="-428760" y="3618000"/>
            <a:ext cx="2357640" cy="3240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1857240" y="1714680"/>
            <a:ext cx="7000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емедленно покинь автомобиль (вагон, самолёт), если есть угроза взрыва, пожара, затопления или разруше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старайся выбраться на безопасное место (расстояние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Оцени обстановку окружающей тебя среды и своё состояние (если получил повреждение, прими меры самопомощи, останови кровотечение, забинтуй рану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старайся восстановить в памяти место твоего нахождения, удаление от населённых пунктов, наиболее характерные ориентиры (река, дорога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оверь, что у тебя имеется в резерве из продуктов питания, одежды, есть ли спички, компас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(продолжение)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Рисунок 5" descr="индеец.png"/>
          <p:cNvPicPr/>
          <p:nvPr/>
        </p:nvPicPr>
        <p:blipFill>
          <a:blip r:embed="rId1"/>
          <a:stretch/>
        </p:blipFill>
        <p:spPr>
          <a:xfrm>
            <a:off x="-642960" y="2643120"/>
            <a:ext cx="2685960" cy="33847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6"/>
          <p:cNvSpPr/>
          <p:nvPr/>
        </p:nvSpPr>
        <p:spPr>
          <a:xfrm>
            <a:off x="2214720" y="1643040"/>
            <a:ext cx="6357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6. Прими решение: оставаться на месте и ждать помощи или самому выходить к людя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7. Составь план своих действий, в котором обязательно учти близость воды к месту ночлега и укрытия от дождя, бури, грозы; возможность добывания пищи (запас, растительная пища вокруг); возможности подачи сигналов для привлечения помощ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8. Приступай к выполнению плана действий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Уходить с места аварии тебе следует если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Рисунок 5" descr="индеец.png"/>
          <p:cNvPicPr/>
          <p:nvPr/>
        </p:nvPicPr>
        <p:blipFill>
          <a:blip r:embed="rId1"/>
          <a:stretch/>
        </p:blipFill>
        <p:spPr>
          <a:xfrm>
            <a:off x="-714240" y="2357280"/>
            <a:ext cx="2685960" cy="33847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2071800" y="1571760"/>
            <a:ext cx="678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Точно известно расположение ближайшего населённого пункта, а твоё состояние позволяет до него добратьс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Неподалёку обнаружена просека, дорога, река, явные признаки близкого жиль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Возникает угроза для жизни: идёт затопление местности, приближается лесной пожар, имеется вероятность схода лавин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1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Помни!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Рисунок 5" descr="индеец.png"/>
          <p:cNvPicPr/>
          <p:nvPr/>
        </p:nvPicPr>
        <p:blipFill>
          <a:blip r:embed="rId1"/>
          <a:stretch/>
        </p:blipFill>
        <p:spPr>
          <a:xfrm>
            <a:off x="-857160" y="1857240"/>
            <a:ext cx="2685960" cy="33847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6"/>
          <p:cNvSpPr/>
          <p:nvPr/>
        </p:nvSpPr>
        <p:spPr>
          <a:xfrm>
            <a:off x="1785960" y="1071720"/>
            <a:ext cx="700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Уходя с места аварии, напиши записку и вложи её в непромокаемую упаковку, банку или бутылку с указаниями, когда и куда ты ушёл. Привяжи упаковку на видном мест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Если решил остаться, то необходимо разбить временный лагерь. В условиях лагеря легче организовать надёжное укрытие от непогоды, поиск продовольствия, оказание помощи больным и раненым, оборудовать средства подачи сигнал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3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Оборудование временного укрытия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Рисунок 5" descr="индеец.png"/>
          <p:cNvPicPr/>
          <p:nvPr/>
        </p:nvPicPr>
        <p:blipFill>
          <a:blip r:embed="rId1"/>
          <a:stretch/>
        </p:blipFill>
        <p:spPr>
          <a:xfrm>
            <a:off x="-714240" y="2428920"/>
            <a:ext cx="2685960" cy="33843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2143080" y="1714680"/>
            <a:ext cx="67867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Общее правило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ем суровей климат, тем надёжнее должно быть жильё. Оно должно защищать прежде всего от осадков, палящего солнца, сильного ветра, холод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Помн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аже один час отдыха в тепле не сравнить с многочасовыми попытками отдохнуть на ветру и в холод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42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Оборудование временного укрытия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Рисунок 5" descr="индеец.png"/>
          <p:cNvPicPr/>
          <p:nvPr/>
        </p:nvPicPr>
        <p:blipFill>
          <a:blip r:embed="rId1"/>
          <a:stretch/>
        </p:blipFill>
        <p:spPr>
          <a:xfrm>
            <a:off x="-571680" y="2357280"/>
            <a:ext cx="2686320" cy="33847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2143080" y="1714680"/>
            <a:ext cx="678672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чистить площадк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одготовить подручные средства для строительств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есто должно быть сухим и размещаться поблизости от ручья или другого водного источник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ажно, чтобы поблизости находилось топливо (зимой вопрос  о дровах очень важен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 algn="ctr"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54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49968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0000"/>
                </a:solidFill>
                <a:latin typeface="Arial"/>
              </a:rPr>
              <a:t>Виды временных укрытий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Picture 4" descr="mso935F8"/>
          <p:cNvPicPr/>
          <p:nvPr/>
        </p:nvPicPr>
        <p:blipFill>
          <a:blip r:embed="rId1"/>
          <a:stretch/>
        </p:blipFill>
        <p:spPr>
          <a:xfrm>
            <a:off x="3857760" y="3500280"/>
            <a:ext cx="2527200" cy="23590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индеец.png"/>
          <p:cNvPicPr/>
          <p:nvPr/>
        </p:nvPicPr>
        <p:blipFill>
          <a:blip r:embed="rId2"/>
          <a:stretch/>
        </p:blipFill>
        <p:spPr>
          <a:xfrm>
            <a:off x="-357120" y="2786040"/>
            <a:ext cx="26859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path" presetID="12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2448 0.08218 C 0.06389 0.02084 0.12344 -0.01713 0.18958 -0.01713 C 0.25555 -0.01713 0.31528 0.02084 0.35521 0.08218 C 0.31528 0.14329 0.25555 0.18241 0.18958 0.18241 C 0.12344 0.18241 0.06389 0.14329 0.02448 0.08218 Z">
                                      <p:cBhvr>
                                        <p:cTn id="6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3:48:54Z</dcterms:created>
  <dc:creator>Дима и Игорь</dc:creator>
  <dc:description/>
  <dc:language>en-US</dc:language>
  <cp:lastModifiedBy>Admin</cp:lastModifiedBy>
  <dcterms:modified xsi:type="dcterms:W3CDTF">2012-07-28T07:28:28Z</dcterms:modified>
  <cp:revision>14</cp:revision>
  <dc:subject/>
  <dc:title>Временные укрытия</dc:title>
</cp:coreProperties>
</file>