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806-D1C9-430D-A78B-CFF26F16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08D-3037-4007-A5DE-529B01C1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E19B-7F26-495E-A77B-0B2A3A13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6E8E-9993-4BDB-A77A-09F326B7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54C3-569D-4AC2-8EC9-30ACAA29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00F-8180-406A-BE4B-0648E6B9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97B2-48C2-485D-ADFB-1B5A72B0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77AB-E142-4B34-B9C6-90D9FD91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FC26-4154-4531-8471-B4675C42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FD59-2272-4891-9348-62D3A870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1D50-A535-449C-8630-97627A6E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436-E7E5-42C6-BED4-DE8EA239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804D-FF81-4001-A1B0-8EFBB9CBBBB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520" y="533160"/>
            <a:ext cx="86108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идит Барыня н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грядк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Вся в заплатках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то ни взглянет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Всяк заплачет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ук-бату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066680" y="2039760"/>
            <a:ext cx="723924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можно использовать тот лук, который мы вырасти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и какой профессии выращивают лу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какой еще профессии, связанной с земледелием вы сегодня узна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990720" y="457200"/>
            <a:ext cx="69339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ыращива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у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още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7820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до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3760" y="2514600"/>
            <a:ext cx="3429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ук-пор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22928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09680"/>
            <a:ext cx="2666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с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у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352680" y="976320"/>
            <a:ext cx="57913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нитт-лу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85800" y="1542960"/>
            <a:ext cx="8001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ук-слизу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93396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13:38:18Z</dcterms:created>
  <dc:creator>Татьяна Ивановна</dc:creator>
  <dc:description/>
  <dc:language>en-US</dc:language>
  <cp:lastModifiedBy>Татьяна Ивановна</cp:lastModifiedBy>
  <dcterms:modified xsi:type="dcterms:W3CDTF">2013-04-02T11:17:4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