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614-E8BF-4F9B-932E-435E6CC5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7B4-AE69-44F5-8E36-37CA760F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B52-C784-4267-9F47-838A8818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E8A-AA64-4644-8933-E2678360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C28-AD73-4DE6-802B-2C3E86C3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090-BDF1-4D91-ADD3-C6D1A105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740-42B6-4502-A78D-99A32F7A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325-0C59-47AD-A93C-2AFB1A7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E59-8504-421A-AED4-8F84DF12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A71-EBC1-4380-A785-ABEFBBC7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943-E20D-4149-ABEF-1A3842F2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1FB-F7E5-4FF3-81AA-C8D3479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6B63-174F-4DCC-A99B-374D9CFF339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520" y="5331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идит Барыня н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ряд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ся в заплатках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то ни взглянет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сяк заплаче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-бату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066680" y="2039760"/>
            <a:ext cx="723924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использовать тот лук, который мы вырасти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и какой профессии выращивают лу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какой еще профессии, связанной с земледелием вы сегодня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990720" y="457200"/>
            <a:ext cx="69339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ращив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още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78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до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3760" y="2514600"/>
            <a:ext cx="3429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-пор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2292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09680"/>
            <a:ext cx="2666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с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352680" y="976320"/>
            <a:ext cx="57913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нитт-л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85800" y="1542960"/>
            <a:ext cx="8001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к-слизу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9339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3:38:18Z</dcterms:created>
  <dc:creator>Татьяна Ивановна</dc:creator>
  <dc:description/>
  <dc:language>en-US</dc:language>
  <cp:lastModifiedBy>Татьяна Ивановна</cp:lastModifiedBy>
  <dcterms:modified xsi:type="dcterms:W3CDTF">2013-04-02T11:17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