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156-B9BF-4E77-9EC7-AC1A4AFA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974-0F8E-4D21-A7AB-E53A247C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6A1-76BE-41B8-93C4-2684DE02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DA2-F6FF-4CF7-9745-E8258750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F9E-32D7-4E63-80B4-96C16EB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716-B8A6-4249-BCC6-D9822516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646-0870-4132-B1A5-2B1FEC43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C07-1FB2-4377-A7D8-5D4FC5AC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93A-2F2E-496C-A545-9A94D4C4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7F2-3F4B-405A-AE16-DD9660C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8D5-1D79-42F1-96F6-37089C9D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DDA-EA96-460F-B9CB-6F5F9DA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FCE8-EFAB-460B-A410-0488ADEAFCD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520" y="5331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идит Барыня н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ряд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ся в заплатках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то ни взглянет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сяк заплаче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-бату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066680" y="2039760"/>
            <a:ext cx="72392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использовать тот лук, который мы вырасти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и какой профессии выращивают лу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какой еще профессии, связанной с земледелием вы сегодня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990720" y="457200"/>
            <a:ext cx="69339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ращив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още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до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3760" y="2514600"/>
            <a:ext cx="3429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-пор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2292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680"/>
            <a:ext cx="2666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с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352680" y="976320"/>
            <a:ext cx="57913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нитт-л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85800" y="1542960"/>
            <a:ext cx="8001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-слизу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339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3:38:18Z</dcterms:created>
  <dc:creator>Татьяна Ивановна</dc:creator>
  <dc:description/>
  <dc:language>en-US</dc:language>
  <cp:lastModifiedBy>Татьяна Ивановна</cp:lastModifiedBy>
  <dcterms:modified xsi:type="dcterms:W3CDTF">2013-04-02T11:17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