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1.png" ContentType="image/png"/>
  <Override PartName="/ppt/media/image4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68BD-3831-4B74-8557-BE269C3D2D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80BC-CEE7-4808-A0CD-0E8A5B4198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7367-789F-476B-9EB4-D7555A4AE7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DF80-EADB-4CCD-ACCD-07DAE8B2F2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3372-5BAB-48CF-977C-4D8934EA86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F9AC-6739-4052-8E2E-237AB35A65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93A3-580A-491C-9342-62428F9F0D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C25F-96A3-4216-86FD-EB8E727AA5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FB71-9AE9-4F65-A691-4F5C9E349A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CED4-53C8-442A-91D5-7C1EE573A6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04B1-DD35-4962-9C4A-1670338FAA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0E2D-10C2-4FFE-AADE-7BC98786FA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3F17-F4CA-4B55-8F54-A12EABB457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7254-C401-4F24-B14A-C5965E3FA4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F7BE-80CB-4347-8A29-683B0DA810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868C-93B0-4A88-9B5D-11410EB513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5A79-75F5-4EF3-8685-BC36475A1F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3945-7CD3-4EAB-93B0-DF5C4A9D6C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9309-A4C5-4303-A2E6-500819B030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BBE5-2537-477A-8278-EB91C4CE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D107-792A-4E44-92E7-72144A1E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A34B-D692-4BD9-930D-DCC8469D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9B21-2385-4B4E-9FA2-B01E23670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8147-2061-4877-A444-1627CB51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50D1-B229-4475-A110-C5F4B806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0831-C9D0-4FC9-96A4-1D81537A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6126-9CA4-44E1-BE79-8F99A00E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E87A-51F0-4452-8108-D5778548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B9A2-43A9-4E0D-A161-1E732A9C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2F2F-6587-40E1-9334-2E799EAF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5BC1-C448-4629-A241-7DB16A76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1995-3359-4F5B-8489-1DCC4685B9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8088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Виды тес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4419360"/>
            <a:ext cx="55627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лективная работа учащихся 7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Рамка 5"/>
          <p:cNvSpPr/>
          <p:nvPr/>
        </p:nvSpPr>
        <p:spPr>
          <a:xfrm>
            <a:off x="3786120" y="6357960"/>
            <a:ext cx="2786040" cy="500040"/>
          </a:xfrm>
          <a:prstGeom prst="pie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Изделия из бисквитного те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2840040" cy="4476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38098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Слоеное тест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ло  (маргарин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а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952880" y="13716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4876920" y="4267080"/>
            <a:ext cx="36576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Способ приготовл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ыхление теста достигается благодаря раскатыванию в очень тонкие слои, отделяемые друг от друга прослойками сливочного масла или марга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ль и уксусную кислоту растворяют в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авляют яйца, му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шивают упругое тесто, вливая оставшуюся в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вляют на 2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сло перед закаткой в тесто размягчают, перемешивают с мукой, формируют в виде прямоугольника, охлаждают д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2-1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Способ пригото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6248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резают тесто ножом крестообразно (рис. 1), подсыпают муку и раскатывают тесто скалкой так, чтобы середина пласта была толще, чем края (рис. 2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центр пласта кладут заготовленную лепешку масла, перемешанного с мукой, накрывают ее длинными краями пласта (рис. 3) и защипывают края лепеш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ный «конверт» кладут на стол и начиная от середины, раскатывают тесто в прямоугольный пласт толщиной 10 м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ладывают в четверо, накрывают салфеткой и охлаждают в течение 20 м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хлажденное тесто вновь раскатывают и складывают в четверо. Так делают не менее 5-6 р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476760" y="1143000"/>
            <a:ext cx="2438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6629400" y="1447920"/>
            <a:ext cx="2152800" cy="1609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6705720" y="3505320"/>
            <a:ext cx="2038320" cy="1190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3"/>
          <a:stretch/>
        </p:blipFill>
        <p:spPr>
          <a:xfrm>
            <a:off x="6581880" y="5181480"/>
            <a:ext cx="256212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Изделия из слоеного тес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4876920" y="1219320"/>
            <a:ext cx="4000320" cy="4000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685800" y="3886200"/>
            <a:ext cx="371484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сочное тес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ло (маргар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х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4114800" y="3505320"/>
            <a:ext cx="476244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1 Способ приготовл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ло или маргарин размягчают, растирают с сахарной пудрой, добавляют яйца и перемешив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ассу вводят погашенную уксусом или лимонным соком с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ыпают просеянную муку и быстро замешив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лаждают в течении 1 ч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2 Способ приготовл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еянную муку высыпают горкой, сверху насыпают сахар, разрыхлитель, цедру лимона, ванил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уке делают углубление, вбивают яйцо, кладут кусочки ма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инным ножом рубят все продукты и быстро замешивают т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лаждают в течении 1 ч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Изделия из песочного тес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ч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ртал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5486400" y="1295280"/>
            <a:ext cx="3138480" cy="2351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3733920" cy="2766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3"/>
          <a:stretch/>
        </p:blipFill>
        <p:spPr>
          <a:xfrm>
            <a:off x="5334120" y="4052880"/>
            <a:ext cx="304776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Виды тес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ОЖЖЕВ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ДРОЖЖЕВО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ресно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сочно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бисквитно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слоено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74504168_large_028"/>
          <p:cNvPicPr/>
          <p:nvPr/>
        </p:nvPicPr>
        <p:blipFill>
          <a:blip r:embed="rId1"/>
          <a:stretch/>
        </p:blipFill>
        <p:spPr>
          <a:xfrm>
            <a:off x="457200" y="3276720"/>
            <a:ext cx="320040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Дрожжевое тест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х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ож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а или моло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ло сливочное или сливочный маргар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28479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Изделия из дрожжевого тес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ле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л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ж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ги и кулебя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ад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тру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леты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5638680" y="1219320"/>
            <a:ext cx="3143520" cy="2092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4191120" y="3733920"/>
            <a:ext cx="3809880" cy="2847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2743200" y="1295280"/>
            <a:ext cx="266688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пособ приготовления дрожжевого тес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товят его двумя способами — безопарным и опарным. Безопарным способом готовят тесто с малым количеством сдобы (масла, сахара, яиц). Опарный способ применяют при изготовлении более сдобных издел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Безопарный спосо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готовление тест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безопарн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пособом: дрожжи разводят теплым молоком или водой (30 °С), добавляют сахар, соль, хорошо перемешивают до растворения, кладут яйца и всыпают муку. Замешивают тесто, добавляя в конце размягченный до густоты сметаны жир или вливают растительное масло. Тесто накрывают чистой тканью и ставят в теплое место для брожения на 3–4 ча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удалить лишний углекислый газ и обогатить тесто кислородом, делают обминки, а затем вновь дают тесту подняться. Первую обминку делают через 1–1 1/2 часа, вторую — еще через 2 ча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Опарный спосо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парно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е в подогретую до 40 °С воду или молоко (60% от нормы) добавляют растворенные в воде и процеженные дрожжи, всыпают половину нормы муки и перемешивают до получения однородной массы. Поверхность опары посыпают мукой, накрывают тканью и ставят в теплое место для брожения на 2–3 ча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опара увеличится в объеме в 2 раза и начнет опадать, к ней добавляют оставшуюся жидкость с растворенными солью и сахаром, яйца, все перемешивают, вводят муку и замешивают тесто. Перед окончанием замеса добавляют размягченный жир. Тесто накрывают тканью и оставляют для брожения еще на 2–3 ча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время брожения тесто обминают 2–3 раза. Выбродившее тесто увеличивается в объеме в 2 раза, при надавливании на поверхность ямка медленно выравнивается, тесто не прилипает к рукам и отстает от стенок посу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Бисквитное тес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ост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ах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Яй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2743200" y="4114800"/>
            <a:ext cx="2133720" cy="2104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4495680" y="1447920"/>
            <a:ext cx="2543400" cy="1898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5867280" y="4267080"/>
            <a:ext cx="2619360" cy="18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ыхлители не добавля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придания пористой структуры в тесто вводят взбитые яйца или яичные бе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муки можно заменить картофельным крахма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ное тесто имеет жидкую консистенцию. Его выливают в форму, покрытую промасленной бумагой и ставят в духовой шкаф, разогретый до 2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ремя выпекания 20-40 мин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5-10T20:43:1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