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C11-0CC6-4998-BCE0-8C4FC7DF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6EA-8956-4EAD-B6DF-FFDE691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597-5EF7-49FC-837F-FC1F4538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F52-E6F8-4656-AD6B-81A0ED6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15C0-6072-42CF-A8CA-245495E9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B6D8-8D4E-47C6-94C2-DF6F8E92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718-D747-4F87-BB90-9C28C3D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0CF2-D085-4A46-9E5B-F903DDF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111B-618D-4F58-BA7D-6A718610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5249-DE7A-4CB0-A94E-C9E37AF0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317-8180-434A-A732-4243073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9DF-C556-48DC-A437-82BF865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CA5B-060D-4A83-9CC2-D279B27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1871-BB3B-4988-817F-4778FB37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E996-CABA-441A-B438-63103161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C067-DF6C-4F34-A5EC-34E574FC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A525-69FE-4780-8599-CABC5E78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A78-3DE9-49BB-9440-2CCBA49B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872-DE43-4018-80FA-58AC308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BB7-72B3-4BCB-9E2F-1F3588F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8AD-5E85-4304-8EF6-9F69923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64A-2B92-4D31-BC86-C2AD2A4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053-0E98-4497-93E0-0789062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155-4FCE-48A1-99D4-D47D0AA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600-1027-4AA4-BDF1-54570B8EF6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48F-DB12-4A51-98D3-A308FF5F93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ИДЫ   ПОВЯЗОК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Бондаренко Василий Дмитриевич, преподаватель ОБЖ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пираль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62863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Начинается так же, как и круговая. Затем после двух-трех круговых туров бинт ведут немного в косом направлении, прикрывая предыдущий ход на две трети. Выделяют восходящую повязку, когда туры бинтов идут снизу вверх, и нисходящую — сверху вниз. При бинтовании голени или предплечья, когда толщина конечности неодинакова, повязку накладывают с </a:t>
            </a: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5.jpg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перегибами, причем перегибы должны быть на одной стороне и по одной линии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40520" y="2563920"/>
            <a:ext cx="19382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ОСЬМИОБРАЗНАЯ ИЛИ КРЕСТООБРАЗНАЯ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83756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нт накладывают в виде восьмерки. Она очень удобна при бинтовании кисти, грудной клетки, задней поверхности шеи и затыл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3568680"/>
            <a:ext cx="4751280" cy="3029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1351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лосовид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31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ляется разновидностью восьмиобразной. Последующие туры бинта, перекрещиваясь по одной линии, располагаются выше или ниже предыдущих и напоминают колос. Повязка применяется при бинтовании боковой поверхности шеи, плечевого пояса, подключичной обла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палец, кисть и  локтевой суста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Учебник для подготовки санитарных дружинниц  Под редакцией доктора медицинских наук Ф. Г. Захарова: - М., Медицина, 1969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Медико-санитарная подготовка учащихся  Под редакцией П. А. Курцева: - М., Просвещение, 1988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В. Г. Бубнов Н. В. Бубнова  Атлас добровольного спасателя. Первая медицинская помощь на месте происшествия: - М., АСТ- Артель, 2004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 уро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ся с видами и правилами наложения повязок; отработать правила оказания первой доврачебной  медицинской помощи при травмах и кровотечении; формировать психологическую устойчивость к стрессу,  готовность к грамотному поведению при экстремальных и чрезвычайных  ситуация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верка домашнего задан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кровотечение?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Назовите виды кровотеч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ем отличается венозное кровотечение от артериального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еречислите и покажите, в  каких местах  можно прижать артерию, чтоб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остановить кровотечение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Расскажите, как надо правильно накладывать жгу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давящая повязка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Как правильно использовать индивидуальный перевязочный пакет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пособы наложения повяз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вязка служит для защиты раневой поверхности от вредных воздействий внешней среды, удержания или закрепления перевязочного материала, а также для иммобилизации области перелома или вывиха, создания давления на ту или иную часть тела (для остановки кровотечения и т. д.). Повязки делают из перевязочного материала. Перевязочным называется материал, который накладывается на раневую поверхность или другие пораженные части тела. Перевязкой называется как первичное наложение повязок, так и ее замена с осмотром и обработкой ра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сыноч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сыночная повязка представляет собой кусок перевязочного материала треугольной формы. Она широко применяется при оказании первой помощи. В больничных условиях она служит для подвешивания руки. Иногда косыночную повязку накладывают на большие раневые поверхности после ампутации, например на культю конеч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щевидные повязк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и повязки состоят из куска бинта или полоски материи, оба конца которых разрезаны в продольном направлении. Такие повязки накладывают на нос, подбородок, темя, затыл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436248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Бинтовые повязк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интовые повязки являются самыми распространенными. Чтобы повязка лежала правильно и равномерно, следует употреблять бинты соответствующей ширины в зависимости от площади бинтуемой анатомической области. Бинты делятся на узкие (3—7 см), средние (10—12 см) и широкие (14—18 см). Больной, которому накладывается повязка, должен находиться в удобном для него положении. Бинтуемая часть тела должна быть доступна со всех сторо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голову в виде «чепца» и «уздеч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752560"/>
            <a:ext cx="414036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41389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Циркулярная (круговая)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2565000"/>
            <a:ext cx="7415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вляется наиболее прочной, так как в ней все обороты бинта ложатся один на другой. Применяется при перевязках конечностей в области голени, предплечья, а также на лоб, шею, жив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293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49:10Z</dcterms:created>
  <dc:creator>Сергей Бочеров</dc:creator>
  <dc:description/>
  <dc:language>en-US</dc:language>
  <cp:lastModifiedBy>Сергей Бочеров</cp:lastModifiedBy>
  <dcterms:modified xsi:type="dcterms:W3CDTF">2008-02-02T01:38:24Z</dcterms:modified>
  <cp:revision>7</cp:revision>
  <dc:subject/>
  <dc:title>ВИДЫ   ПОВЯЗОК </dc:title>
</cp:coreProperties>
</file>