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AE1-EC98-4616-A769-38821607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2BD-C49D-4B52-ACF7-1819B7F9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397-0430-4048-8E09-ACCCAEC5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4E3-291D-45D7-BBC6-925DB015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B7A1-F6C3-4C50-9616-42A4F646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9C41-1D17-4784-B799-FF5FAB7D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E1AB-3EBB-4298-AB5E-E055571C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82B4-56FA-48B3-88BB-D79B0C32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2A9A-8515-4F8F-88F1-F32E1A7C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8B05-4F7F-446C-A76A-BBE6D4A1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248F-4656-491B-B378-26D8920F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B7F5-38F0-4A12-83CE-14254F4C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496C-1EF0-4A0C-AB5C-968FC7A2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D6EF-CAB4-4C7B-B349-E672A46F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7656-65CE-4EDC-8E4B-947CBFBE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AA7F-8B35-4D8F-8915-CD93453F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F092-CB19-4CFD-8CC9-BCAE918A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F7B-0365-45FA-8B38-4AFA3B8E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BD6B-CDDE-4E5D-BACD-39418EAB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96CB-62E5-40F8-A700-B9F65DB0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E86-82E2-4FDE-9E70-D213A48C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FD2-F05E-4D82-BE25-D7FC5A20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293-4BCA-4CB9-80BB-26354FF6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2273-20A5-4E1B-86BB-62E8532C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876E-F455-4FD1-A233-E82E159A96E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7E69-1AF6-4333-8C04-B00698D0678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5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ВИДЫ   ПОВЯЗОК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Бондаренко Василий Дмитриевич, преподаватель ОБЖ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пиральная повязк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2491920"/>
            <a:ext cx="62863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66"/>
                </a:solidFill>
                <a:latin typeface="Arial"/>
              </a:rPr>
              <a:t>Начинается так же, как и круговая. Затем после двух-трех круговых туров бинт ведут немного в косом направлении, прикрывая предыдущий ход на две трети. Выделяют восходящую повязку, когда туры бинтов идут снизу вверх, и нисходящую — сверху вниз. При бинтовании голени или предплечья, когда толщина конечности неодинакова, повязку накладывают с </a:t>
            </a:r>
            <a:r>
              <a:rPr b="0" lang="ru-RU" sz="19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5.jpg</a:t>
            </a:r>
            <a:r>
              <a:rPr b="0" lang="ru-RU" sz="1900" spc="-1" strike="noStrike">
                <a:solidFill>
                  <a:srgbClr val="003366"/>
                </a:solidFill>
                <a:latin typeface="Arial"/>
              </a:rPr>
              <a:t>перегибами, причем перегибы должны быть на одной стороне и по одной линии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040520" y="2563920"/>
            <a:ext cx="193824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ВОСЬМИОБРАЗНАЯ ИЛИ КРЕСТООБРАЗНАЯ ПОВЯЗ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2349000"/>
            <a:ext cx="783756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инт накладывают в виде восьмерки. Она очень удобна при бинтовании кисти, грудной клетки, задней поверхности шеи и затылк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16000" y="3568680"/>
            <a:ext cx="4751280" cy="3029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372360" y="3500280"/>
            <a:ext cx="213516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Колосовидная повязк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531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вляется разновидностью восьмиобразной. Последующие туры бинта, перекрещиваясь по одной линии, располагаются выше или ниже предыдущих и напоминают колос. Повязка применяется при бинтовании боковой поверхности шеи, плечевого пояса, подключичной област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вязки на палец, кисть и  локтевой сустав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504036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итерат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Учебник для подготовки санитарных дружинниц  Под редакцией доктора медицинских наук Ф. Г. Захарова: - М., Медицина, 1969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Медико-санитарная подготовка учащихся  Под редакцией П. А. Курцева: - М., Просвещение, 1988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В. Г. Бубнов Н. В. Бубнова  Атлас добровольного спасателя. Первая медицинская помощь на месте происшествия: - М., АСТ- Артель, 2004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Цель  урок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знакомиться с видами и правилами наложения повязок; отработать правила оказания первой доврачебной  медицинской помощи при травмах и кровотечении; формировать психологическую устойчивость к стрессу,  готовность к грамотному поведению при экстремальных и чрезвычайных  ситуациях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верка домашнего задания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Что такое кровотечение?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Назовите виды кровотече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Чем отличается венозное кровотечение от артериального?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Перечислите и покажите, в  каких местах  можно прижать артерию, чтоб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остановить кровотечение?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Расскажите, как надо правильно накладывать жгут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Что такое давящая повязка?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Как правильно использовать индивидуальный перевязочный пакет?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Способы наложения повяз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вязка служит для защиты раневой поверхности от вредных воздействий внешней среды, удержания или закрепления перевязочного материала, а также для иммобилизации области перелома или вывиха, создания давления на ту или иную часть тела (для остановки кровотечения и т. д.). Повязки делают из перевязочного материала. Перевязочным называется материал, который накладывается на раневую поверхность или другие пораженные части тела. Перевязкой называется как первичное наложение повязок, так и ее замена с осмотром и обработкой ран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Косыночная повязк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осыночная повязка представляет собой кусок перевязочного материала треугольной формы. Она широко применяется при оказании первой помощи. В больничных условиях она служит для подвешивания руки. Иногда косыночную повязку накладывают на большие раневые поверхности после ампутации, например на культю конечност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ащевидные повязк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Эти повязки состоят из куска бинта или полоски материи, оба конца которых разрезаны в продольном направлении. Такие повязки накладывают на нос, подбородок, темя, затыло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27280" y="4149720"/>
            <a:ext cx="436248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Бинтовые повязки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Бинтовые повязки являются самыми распространенными. Чтобы повязка лежала правильно и равномерно, следует употреблять бинты соответствующей ширины в зависимости от площади бинтуемой анатомической области. Бинты делятся на узкие (3—7 см), средние (10—12 см) и широкие (14—18 см). Больной, которому накладывается повязка, должен находиться в удобном для него положении. Бинтуемая часть тела должна быть доступна со всех сторон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620280"/>
            <a:ext cx="740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вязки на голову в виде «чепца» и «уздечки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2752560"/>
            <a:ext cx="4140360" cy="2764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26920" y="2781360"/>
            <a:ext cx="413892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Циркулярная (круговая) повяз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6000" y="2565000"/>
            <a:ext cx="7415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Является наиболее прочной, так как в ней все обороты бинта ложатся один на другой. Применяется при перевязках конечностей в области голени, предплечья, а также на лоб, шею, живо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95640" y="3789360"/>
            <a:ext cx="5545080" cy="293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1:49:10Z</dcterms:created>
  <dc:creator>Сергей Бочеров</dc:creator>
  <dc:description/>
  <dc:language>en-US</dc:language>
  <cp:lastModifiedBy>Сергей Бочеров</cp:lastModifiedBy>
  <dcterms:modified xsi:type="dcterms:W3CDTF">2008-02-02T01:38:24Z</dcterms:modified>
  <cp:revision>7</cp:revision>
  <dc:subject/>
  <dc:title>ВИДЫ   ПОВЯЗОК </dc:title>
</cp:coreProperties>
</file>