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6C3-610B-47C4-88DF-881705CC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340-E043-4AB8-9653-3C4BDDD8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3E9E-86E5-49E0-B48E-5834A089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54D-33D8-4DA3-819D-77BBDA65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19BF-79B9-4A37-82F1-2FA652F6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43D1-B596-4D43-A9EF-7C8924CD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5A57-5059-4CFF-9EFE-8DFA36B4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7C0E-BB13-4894-B891-F113462D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B484-7F51-4831-8829-F90E8FBB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E62C-6CF1-4BFD-A428-2D8B278E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F2CE-77FE-4890-8D6D-273C7975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54F-9514-4B40-941E-14BC7DD8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93D8-4E94-4246-A196-0E352325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3764-9F38-4419-9B9E-143A7D93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603E-941F-469C-AF1A-C326D53E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AE05-E1CA-45D3-8A58-02609586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DE99-73D9-483E-90F5-D2EEB9DA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986-49D9-4352-B8ED-6E5C6B58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7F4-6DCF-4060-8C68-A3CCB4FE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119-A2E7-44F9-B71D-62BD4B48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0E1-8080-4435-9723-593765F3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B5F-3500-4597-A9AB-C8D76757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419-B19B-49A1-A245-CD3DD823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CF2-AFBE-4BB1-84DC-42A64BDE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7F7D-36C7-4D91-97D5-F0DA78DAE90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3517-A399-4D3C-A63D-2C097313A4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5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ВИДЫ   ПОВЯЗОК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Бондаренко Василий Дмитриевич, преподаватель ОБЖ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пиральная повязк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2491920"/>
            <a:ext cx="62863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66"/>
                </a:solidFill>
                <a:latin typeface="Arial"/>
              </a:rPr>
              <a:t>Начинается так же, как и круговая. Затем после двух-трех круговых туров бинт ведут немного в косом направлении, прикрывая предыдущий ход на две трети. Выделяют восходящую повязку, когда туры бинтов идут снизу вверх, и нисходящую — сверху вниз. При бинтовании голени или предплечья, когда толщина конечности неодинакова, повязку накладывают с </a:t>
            </a:r>
            <a:r>
              <a:rPr b="0" lang="ru-RU" sz="19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5.jpg</a:t>
            </a:r>
            <a:r>
              <a:rPr b="0" lang="ru-RU" sz="1900" spc="-1" strike="noStrike">
                <a:solidFill>
                  <a:srgbClr val="003366"/>
                </a:solidFill>
                <a:latin typeface="Arial"/>
              </a:rPr>
              <a:t>перегибами, причем перегибы должны быть на одной стороне и по одной линии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040520" y="2563920"/>
            <a:ext cx="193824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ОСЬМИОБРАЗНАЯ ИЛИ КРЕСТООБРАЗНАЯ ПОВЯЗ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2349000"/>
            <a:ext cx="783756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инт накладывают в виде восьмерки. Она очень удобна при бинтовании кисти, грудной клетки, задней поверхности шеи и затылк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3568680"/>
            <a:ext cx="4751280" cy="3029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213516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Колосовидная повязк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531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Является разновидностью восьмиобразной. Последующие туры бинта, перекрещиваясь по одной линии, располагаются выше или ниже предыдущих и напоминают колос. Повязка применяется при бинтовании боковой поверхности шеи, плечевого пояса, подключичной област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вязки на палец, кисть и  локтевой сустав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2421000"/>
            <a:ext cx="504036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итерат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Учебник для подготовки санитарных дружинниц  Под редакцией доктора медицинских наук Ф. Г. Захарова: - М., Медицина, 1969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Медико-санитарная подготовка учащихся  Под редакцией П. А. Курцева: - М., Просвещение, 1988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В. Г. Бубнов Н. В. Бубнова  Атлас добровольного спасателя. Первая медицинская помощь на месте происшествия: - М., АСТ- Артель, 2004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Цель  урок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знакомиться с видами и правилами наложения повязок; отработать правила оказания первой доврачебной  медицинской помощи при травмах и кровотечении; формировать психологическую устойчивость к стрессу,  готовность к грамотному поведению при экстремальных и чрезвычайных  ситуациях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верка домашнего задани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Что такое кровотечение?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Назовите виды кровотече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Чем отличается венозное кровотечение от артериального?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Перечислите и покажите, в  каких местах  можно прижать артерию, чтобы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остановить кровотечение?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Расскажите, как надо правильно накладывать жгут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Что такое давящая повязка?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Как правильно использовать индивидуальный перевязочный пакет?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Способы наложения повязо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вязка служит для защиты раневой поверхности от вредных воздействий внешней среды, удержания или закрепления перевязочного материала, а также для иммобилизации области перелома или вывиха, создания давления на ту или иную часть тела (для остановки кровотечения и т. д.). Повязки делают из перевязочного материала. Перевязочным называется материал, который накладывается на раневую поверхность или другие пораженные части тела. Перевязкой называется как первичное наложение повязок, так и ее замена с осмотром и обработкой раны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Косыночная повязк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осыночная повязка представляет собой кусок перевязочного материала треугольной формы. Она широко применяется при оказании первой помощи. В больничных условиях она служит для подвешивания руки. Иногда косыночную повязку накладывают на большие раневые поверхности после ампутации, например на культю конечност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ащевидные повязк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Эти повязки состоят из куска бинта или полоски материи, оба конца которых разрезаны в продольном направлении. Такие повязки накладывают на нос, подбородок, темя, затыло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27280" y="4149720"/>
            <a:ext cx="436248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Бинтовые повязк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Бинтовые повязки являются самыми распространенными. Чтобы повязка лежала правильно и равномерно, следует употреблять бинты соответствующей ширины в зависимости от площади бинтуемой анатомической области. Бинты делятся на узкие (3—7 см), средние (10—12 см) и широкие (14—18 см). Больной, которому накладывается повязка, должен находиться в удобном для него положении. Бинтуемая часть тела должна быть доступна со всех сторон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740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вязки на голову в виде «чепца» и «уздечки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2752560"/>
            <a:ext cx="4140360" cy="2764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413892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Циркулярная (круговая) повяз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6000" y="2565000"/>
            <a:ext cx="7415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Является наиболее прочной, так как в ней все обороты бинта ложатся один на другой. Применяется при перевязках конечностей в области голени, предплечья, а также на лоб, шею, живо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95640" y="3789360"/>
            <a:ext cx="5545080" cy="293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1:49:10Z</dcterms:created>
  <dc:creator>Сергей Бочеров</dc:creator>
  <dc:description/>
  <dc:language>en-US</dc:language>
  <cp:lastModifiedBy>Сергей Бочеров</cp:lastModifiedBy>
  <dcterms:modified xsi:type="dcterms:W3CDTF">2008-02-02T01:38:24Z</dcterms:modified>
  <cp:revision>7</cp:revision>
  <dc:subject/>
  <dc:title>ВИДЫ   ПОВЯЗОК </dc:title>
</cp:coreProperties>
</file>