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F50-CC8A-4700-BA18-F1BD1357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952-C852-4961-AFE0-741DC6C3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EEC-6DB4-4D2A-86A8-48A8A151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0D6-BBE2-4EA0-86AE-9A5C5971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0A4-7E7B-422B-8650-F73AAC41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5EB-A033-4FCE-BD3C-98B879D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816-B771-4992-803F-2286C113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7F4-FB8A-402A-A9B9-7C4E5BE8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786-47C6-4683-9A25-8EC5B55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911-6BD4-4E63-A5B6-F631C0D3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CA9-920A-4479-93CC-CA4AED3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5E4-61AE-4BF5-AB0E-D71EBE7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BF89-B2BF-492C-884B-8CB7BE7C5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s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0000"/>
                </a:solidFill>
                <a:uFillTx/>
                <a:latin typeface="Arial"/>
              </a:rPr>
              <a:t>УРАГ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mages[5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ган — одно из атмосферных чудовищ нашей планеты, которое по разрушительной силе может сравниться с землетрясением. Он разрушает здания, опустошает поля, вырывает с корнями деревья, сносит лёгкие строения, обрывает провода, повреждает мосты и дороги. Он может поднять человека в воздух или обрушить на него обломки шифера, черепицы, стекла, кирпича,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mages[6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о - сам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страшный на памяти человечества ураган прошел 12—13 ноября 1970 года над островами в дельте Ганга, Бангладеш. Он унес около миллиона жиз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ages[2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нашей стране ураганы чаще всего бывают в Приморском и Хабаровском краях, на Сахалине, Камчатке, Чукотке, Курильских островах. Один из сильнейших ураганов на Камчатке был ночью 13 марта 1988 года. Были выбиты стёкла и двери в тысячах квартир, ветер гнул светофоры и столбы, с сотен домов сорвал крыши, валил деревья. Из строя вышло электроснабжение Петропавловска-Камчатского, и город остался без тепла и воды. Скорость ветра доходила почти до 140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s[16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елать, если поступило штормовое предупреж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жде всего — внимательно выслушать инструкции штаба ГО и ЧС. В них будет сообщено предполагаемое время и сила урагана, рекомендации по использованию убежищ и эвакуации. Затем надо принимать личные меры самозащ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ветренной стороны здания плотно закрыть окна, двери, чердачные люки и вентиляционные отверстия; стёкла окон оклеить, по возможности защитить ставнями или щитами; чтобы уравнять внутреннее давление, с подветренной стороны двери и окна открыть и закрепить в этом полож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ть автономный запас воды и пищи, медикаментов; взять фонарик, керосиновую лампу, свечу, походную плитку или керосинку, приёмник на батарейках; взять с собой документы и деньг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брать с балконов, подоконников и лоджий вещи, которые могут быть захвачены воздушным потоком; то же касается предметов во дворе или на крыш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гасить огонь в печах, подготовиться к выключению оставить включёнными радиоприёмники и телевизоры: по ним может поступить новая важная информ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лёгких зданий перейти в более прочные или убежища 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сети, закрыть газовые краны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8" descr="images[7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ала Бофо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198108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ог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/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ий бриз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 бриз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 ветер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 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орм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г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-38,6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-49,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5-61,1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8-74,0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6-86,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-101,4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-120,7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ются тонкие деревь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ются толстые деревь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ы деревьев сгиб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ви лом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ица и трубы срыв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 вырываются с корне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де поврежд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разруш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ages[1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 из разновидностей стихийного бедствия — снежная буря. Она может длиться несколько суток, но даже и за несколько часов метель может серьёзно нарушить жизнь города. В это время можно выходить из дома лишь в исключительных случаях и никогда в одиночку. Сообщите соседям, куда вы идёте и когда вернет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0"/>
            <a:ext cx="352440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733920" y="83808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.Денис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1828800" y="2438280"/>
            <a:ext cx="426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Алёша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6-19T08:36:49Z</dcterms:modified>
  <cp:revision>6</cp:revision>
  <dc:subject/>
  <dc:title>Об ураган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1000000000001024140</vt:lpwstr>
  </property>
  <property fmtid="{D5CDD505-2E9C-101B-9397-08002B2CF9AE}" pid="3" name="Version">
    <vt:r8>1</vt:r8>
  </property>
</Properties>
</file>