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2C8-8B06-4379-91F0-EBFD1C08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BEA-543C-4132-AA0F-741512C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757-DC3B-46D2-B7FE-B614542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A6C-F76B-4811-BC14-DE41D505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E57-3763-4835-AFE2-A1025361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04E-6A68-4B34-B15B-1206C816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FC1-31C8-4C4F-B424-50D695A1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A80-C159-4B7C-8DB6-6D679C8F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2CA-E11C-483C-AF2A-1BBC9673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773-8A24-426E-ACBA-E5C1F2B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2BB-1393-4A93-9473-AE45B432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47A-FE73-4731-A30B-4F6E553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3AB-932D-4621-AFB2-39EF8DE91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s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ff0000"/>
                </a:solidFill>
                <a:uFillTx/>
                <a:latin typeface="Arial"/>
              </a:rPr>
              <a:t>УРАГ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images[5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аган — одно из атмосферных чудовищ нашей планеты, которое по разрушительной силе может сравниться с землетрясением. Он разрушает здания, опустошает поля, вырывает с корнями деревья, сносит лёгкие строения, обрывает провода, повреждает мосты и дороги. Он может поднять человека в воздух или обрушить на него обломки шифера, черепицы, стекла, кирпича,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images[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амо - сам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ages[20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нашей стране ураганы чаще всего бывают в Приморском и Хабаровском краях, на Сахалине, Камчатке, Чукотке, Курильских островах. Один из сильнейших ураганов на Камчатке был ночью 13 марта 1988 года. Были выбиты стёкла и двери в тысячах квартир, ветер гнул светофоры и столбы, с сотен домов сорвал крыши, валил деревья. Из строя вышло электроснабжение Петропавловска-Камчатского, и город остался без тепла и воды. Скорость ветра доходила почти до 140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mages[16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жде всего — внимательно выслушать инструкции штаба ГО и ЧС. В них будет сообщено предполагаемое время и сила урагана, рекомендации по использованию убежищ и эвакуации. Затем надо принимать личные меры самозащ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гасить огонь в печах, подготовиться к выключению оставить включёнными радиоприёмники и телевизоры: по ним может поступить новая важная информац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лёгких зданий перейти в более прочные или убежища 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сети, закрыть газовые краны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8" descr="images[7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ала Бофо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1981080"/>
                <a:gridCol w="2514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овог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/ч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и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бриз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й ветер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буря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орм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г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-38,6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-49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5-61,1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8-74,0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6-86,9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5-101,4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-120,7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нки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аются толстые деревь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лы деревьев сгиб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ви лом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пица и трубы срываютс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я вырываются с корнем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де поврежд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разрушен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ages[1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 разновидностей стихийного бедствия — снежная буря. Она может длиться несколько суток, но даже и за несколько часов метель может серьёзно нарушить жизнь города. В это время можно выходить из дома лишь в исключительных случаях и никогда в одиночку. Сообщите соседям, куда вы идёте и когда вернет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0"/>
            <a:ext cx="352440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3733920" y="838080"/>
            <a:ext cx="4876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.Денис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1828800" y="2438280"/>
            <a:ext cx="42670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Алёша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6-19T08:36:49Z</dcterms:modified>
  <cp:revision>6</cp:revision>
  <dc:subject/>
  <dc:title>Об ураган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1000000000001024140</vt:lpwstr>
  </property>
  <property fmtid="{D5CDD505-2E9C-101B-9397-08002B2CF9AE}" pid="3" name="Version">
    <vt:r8>1</vt:r8>
  </property>
</Properties>
</file>