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D9CE-6063-41F0-A779-EFC2AC8E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DF7E-B98C-4C69-A501-2DB0E1C6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5F00-BBA4-4437-86F6-A4BBB226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F9A-8535-45DE-8F83-6564198B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1ED-9067-4E16-BEF6-736DC8A7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8AEE-0ABE-4772-B79F-E6906D96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7DA8-9545-474C-9924-EE884968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9B2F-2866-4FB4-9BAE-95CEC4CC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D5A4-344F-471F-8376-40F423BE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E10-A2FD-4BC8-B54F-9303E8CE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63F-89B4-4451-8A09-DFBC82AD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A93B-6402-4BB7-B707-976A10AF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9C46-981B-4F57-B10A-2ABB58A25E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ages[2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 u="sng">
                <a:solidFill>
                  <a:srgbClr val="ff0000"/>
                </a:solidFill>
                <a:uFillTx/>
                <a:latin typeface="Arial"/>
              </a:rPr>
              <a:t>УРАГА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images[5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Arial"/>
              </a:rPr>
              <a:t>Что э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аган — одно из атмосферных чудовищ нашей планеты, которое по разрушительной силе может сравниться с землетрясением. Он разрушает здания, опустошает поля, вырывает с корнями деревья, сносит лёгкие строения, обрывает провода, повреждает мосты и дороги. Он может поднять человека в воздух или обрушить на него обломки шифера, черепицы, стекла, кирпича, различных предм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images[6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амо - само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й страшный на памяти человечества ураган прошел 12—13 ноября 1970 года над островами в дельте Ганга, Бангладеш. Он унес около миллиона жиз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images[20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нашей стране ураганы чаще всего бывают в Приморском и Хабаровском краях, на Сахалине, Камчатке, Чукотке, Курильских островах. Один из сильнейших ураганов на Камчатке был ночью 13 марта 1988 года. Были выбиты стёкла и двери в тысячах квартир, ветер гнул светофоры и столбы, с сотен домов сорвал крыши, валил деревья. Из строя вышло электроснабжение Петропавловска-Камчатского, и город остался без тепла и воды. Скорость ветра доходила почти до 140 км/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images[16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делать, если поступило штормовое предупрежд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жде всего — внимательно выслушать инструкции штаба ГО и ЧС. В них будет сообщено предполагаемое время и сила урагана, рекомендации по использованию убежищ и эвакуации. Затем надо принимать личные меры самозащи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наветренной стороны здания плотно закрыть окна, двери, чердачные люки и вентиляционные отверстия; стёкла окон оклеить, по возможности защитить ставнями или щитами; чтобы уравнять внутреннее давление, с подветренной стороны двери и окна открыть и закрепить в этом положен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готовить автономный запас воды и пищи, медикаментов; взять фонарик, керосиновую лампу, свечу, походную плитку или керосинку, приёмник на батарейках; взять с собой документы и деньг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брать с балконов, подоконников и лоджий вещи, которые могут быть захвачены воздушным потоком; то же касается предметов во дворе или на крыш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гасить огонь в печах, подготовиться к выключению оставить включёнными радиоприёмники и телевизоры: по ним может поступить новая важная информац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лёгких зданий перейти в более прочные или убежища Г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ктросети, закрыть газовые краны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8" descr="images[7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кала Бофор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449600"/>
        </p:xfrm>
        <a:graphic>
          <a:graphicData uri="http://schemas.openxmlformats.org/drawingml/2006/table">
            <a:tbl>
              <a:tblPr/>
              <a:tblGrid>
                <a:gridCol w="2743200"/>
                <a:gridCol w="990720"/>
                <a:gridCol w="1981080"/>
                <a:gridCol w="2514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ровог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жим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м/ч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жий бриз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й бриз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й ветер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ря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ая буря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ая буря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торм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г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6-38,6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2-49,9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5-61,1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8-74,0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6-86,9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5-101,4</a:t>
                      </a:r>
                      <a:br>
                        <a:rPr sz="28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0-120,7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12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аются тонкие деревь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аются толстые деревь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волы деревьев сгибаютс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ви ломаютс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пица и трубы срываютс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ревья вырываются с корнем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зде поврежде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ие разруш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images[1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а из разновидностей стихийного бедствия — снежная буря. Она может длиться несколько суток, но даже и за несколько часов метель может серьёзно нарушить жизнь города. В это время можно выходить из дома лишь в исключительных случаях и никогда в одиночку. Сообщите соседям, куда вы идёте и когда вернете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457200" y="0"/>
            <a:ext cx="3524400" cy="471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боту выполнили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3733920" y="838080"/>
            <a:ext cx="48765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.Денис</a:t>
            </a:r>
            <a:endParaRPr b="0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1828800" y="2438280"/>
            <a:ext cx="42670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.Алёша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6-19T08:36:49Z</dcterms:modified>
  <cp:revision>6</cp:revision>
  <dc:subject/>
  <dc:title>Об ураган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01000000000001024140</vt:lpwstr>
  </property>
  <property fmtid="{D5CDD505-2E9C-101B-9397-08002B2CF9AE}" pid="3" name="Version">
    <vt:r8>1</vt:r8>
  </property>
</Properties>
</file>