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BBA-ACFB-4A56-B3BF-43B3FED1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AB4-DD3D-4756-983B-3D84D574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71C-BAAC-45B3-BD53-6C742867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58F-C1D3-44B5-9436-3F9FE9C0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F83-046A-4C3E-B1A1-3DEBB5F1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E34-F5E1-46A2-8A88-C0AAC6CA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F9C-AF04-47A8-9047-BA35EF38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186-E60E-4D94-89CB-3D9B020E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3BF-7201-4AE3-8791-84C62503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B9A-0009-40C7-9EB1-CA836BF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0F1-B472-4E57-954F-22DF7B9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45E-8856-4A0A-B895-E2068AF6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DFF5-51B1-4C06-BA46-C0FAE2B1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468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rc 5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11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"/>
          <p:cNvPicPr/>
          <p:nvPr/>
        </p:nvPicPr>
        <p:blipFill>
          <a:blip r:embed="rId2"/>
          <a:srcRect l="0" t="0" r="0" b="65387"/>
          <a:stretch/>
        </p:blipFill>
        <p:spPr>
          <a:xfrm>
            <a:off x="6705720" y="609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"/>
          <p:cNvPicPr/>
          <p:nvPr/>
        </p:nvPicPr>
        <p:blipFill>
          <a:blip r:embed="rId3"/>
          <a:srcRect l="0" t="0" r="0" b="65387"/>
          <a:stretch/>
        </p:blipFill>
        <p:spPr>
          <a:xfrm>
            <a:off x="5791320" y="16765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"/>
          <p:cNvPicPr/>
          <p:nvPr/>
        </p:nvPicPr>
        <p:blipFill>
          <a:blip r:embed="rId4"/>
          <a:srcRect l="0" t="0" r="0" b="65387"/>
          <a:stretch/>
        </p:blipFill>
        <p:spPr>
          <a:xfrm>
            <a:off x="7315200" y="182880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5"/>
          <a:srcRect l="0" t="0" r="0" b="65387"/>
          <a:stretch/>
        </p:blipFill>
        <p:spPr>
          <a:xfrm>
            <a:off x="5867280" y="2895480"/>
            <a:ext cx="1524240" cy="106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"/>
          <p:cNvPicPr/>
          <p:nvPr/>
        </p:nvPicPr>
        <p:blipFill>
          <a:blip r:embed="rId6"/>
          <a:srcRect l="0" t="0" r="0" b="65387"/>
          <a:stretch/>
        </p:blipFill>
        <p:spPr>
          <a:xfrm>
            <a:off x="57913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1" descr=""/>
          <p:cNvPicPr/>
          <p:nvPr/>
        </p:nvPicPr>
        <p:blipFill>
          <a:blip r:embed="rId7"/>
          <a:srcRect l="0" t="0" r="0" b="65387"/>
          <a:stretch/>
        </p:blipFill>
        <p:spPr>
          <a:xfrm>
            <a:off x="5715000" y="5181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2" descr=""/>
          <p:cNvPicPr/>
          <p:nvPr/>
        </p:nvPicPr>
        <p:blipFill>
          <a:blip r:embed="rId8"/>
          <a:srcRect l="0" t="0" r="0" b="65387"/>
          <a:stretch/>
        </p:blipFill>
        <p:spPr>
          <a:xfrm>
            <a:off x="7391520" y="30481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3" descr=""/>
          <p:cNvPicPr/>
          <p:nvPr/>
        </p:nvPicPr>
        <p:blipFill>
          <a:blip r:embed="rId9"/>
          <a:srcRect l="0" t="0" r="0" b="65387"/>
          <a:stretch/>
        </p:blipFill>
        <p:spPr>
          <a:xfrm>
            <a:off x="73915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4" descr=""/>
          <p:cNvPicPr/>
          <p:nvPr/>
        </p:nvPicPr>
        <p:blipFill>
          <a:blip r:embed="rId10"/>
          <a:srcRect l="0" t="0" r="0" b="65387"/>
          <a:stretch/>
        </p:blipFill>
        <p:spPr>
          <a:xfrm>
            <a:off x="7391520" y="5257800"/>
            <a:ext cx="1523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72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 rot="7451400">
            <a:off x="4549320" y="1241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5" name="Arc 6"/>
          <p:cNvSpPr/>
          <p:nvPr/>
        </p:nvSpPr>
        <p:spPr>
          <a:xfrm flipH="1">
            <a:off x="6172200" y="1981080"/>
            <a:ext cx="2286000" cy="312444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8"/>
          <p:cNvSpPr/>
          <p:nvPr/>
        </p:nvSpPr>
        <p:spPr>
          <a:xfrm flipH="1" flipV="1" rot="9714000">
            <a:off x="6666480" y="2964960"/>
            <a:ext cx="799920" cy="23040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9"/>
          <p:cNvSpPr/>
          <p:nvPr/>
        </p:nvSpPr>
        <p:spPr>
          <a:xfrm flipH="1" flipV="1" rot="9714000">
            <a:off x="7009920" y="2436840"/>
            <a:ext cx="800280" cy="22428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0"/>
          <p:cNvSpPr/>
          <p:nvPr/>
        </p:nvSpPr>
        <p:spPr>
          <a:xfrm flipH="1" flipV="1" rot="9714000">
            <a:off x="6323760" y="3809520"/>
            <a:ext cx="800280" cy="23076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15541E-006 C -0.00209 -0.02845 -0.00625 -0.04903 -0.01406 -0.07493 C -0.02188 -0.10083 -0.03334 -0.13876 -0.04653 -0.15565 C -0.05972 -0.17253 -0.07344 -0.17692 -0.09288 -0.17623 C -0.11233 -0.17553 -0.14063 -0.17183 -0.16337 -0.15194 C -0.18611 -0.13206 -0.20868 -0.10847 -0.22952 -0.0562 C -0.25035 -0.00393 -0.279 0.09597 -0.28872 0.16142 C -0.29844 0.22687 -0.29323 0.28492 -0.28733 0.3358 C -0.28143 0.38668 -0.26806 0.43941 -0.25347 0.46716 C -0.23889 0.49491 -0.21945 0.50393 -0.2 0.50277 C -0.18056 0.50162 -0.16146 0.48913 -0.13663 0.45976 C -0.11181 0.43039 -0.07153 0.37095 -0.0507 0.32655 C -0.02986 0.28214 -0.01945 0.23173 -0.01129 0.19334 C -0.00313 0.15495 -0.00278 0.12766 -0.00139 0.09574 C 2.4999999999999E-006 0.06383 0.00208 0.02844 2.5E-006 2.15541E-006 Z">
                                      <p:cBhvr>
                                        <p:cTn id="78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685800" y="1295280"/>
            <a:ext cx="365760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343400" y="1295280"/>
            <a:ext cx="350532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 flipV="1">
            <a:off x="2514600" y="1294920"/>
            <a:ext cx="1752480" cy="1600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2590560" y="1371600"/>
            <a:ext cx="1600200" cy="3429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 rot="1392600">
            <a:off x="4572000" y="1219320"/>
            <a:ext cx="1676520" cy="3581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0"/>
          <p:cNvSpPr/>
          <p:nvPr/>
        </p:nvSpPr>
        <p:spPr>
          <a:xfrm>
            <a:off x="457200" y="5257800"/>
            <a:ext cx="8077320" cy="1244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762120" y="5638680"/>
            <a:ext cx="5331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1447920" y="563868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2819520" y="5486400"/>
            <a:ext cx="838080" cy="838080"/>
          </a:xfrm>
          <a:prstGeom prst="ellipse">
            <a:avLst/>
          </a:prstGeom>
          <a:solidFill>
            <a:srgbClr val="f1e7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4038480" y="5486400"/>
            <a:ext cx="304920" cy="304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"/>
          <p:cNvSpPr/>
          <p:nvPr/>
        </p:nvSpPr>
        <p:spPr>
          <a:xfrm>
            <a:off x="4495680" y="5257800"/>
            <a:ext cx="762120" cy="76212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5334120" y="5562720"/>
            <a:ext cx="609480" cy="533160"/>
          </a:xfrm>
          <a:prstGeom prst="ellipse">
            <a:avLst/>
          </a:prstGeom>
          <a:solidFill>
            <a:srgbClr val="f4b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6095880" y="5715000"/>
            <a:ext cx="838440" cy="762120"/>
          </a:xfrm>
          <a:prstGeom prst="ellipse">
            <a:avLst/>
          </a:prstGeom>
          <a:solidFill>
            <a:srgbClr val="7b7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7010280" y="6172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"/>
          <p:cNvSpPr/>
          <p:nvPr/>
        </p:nvSpPr>
        <p:spPr>
          <a:xfrm>
            <a:off x="7620120" y="5943600"/>
            <a:ext cx="609480" cy="533520"/>
          </a:xfrm>
          <a:prstGeom prst="ellipse">
            <a:avLst/>
          </a:prstGeom>
          <a:solidFill>
            <a:srgbClr val="7f5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0"/>
          <p:cNvSpPr/>
          <p:nvPr/>
        </p:nvSpPr>
        <p:spPr>
          <a:xfrm>
            <a:off x="8153280" y="5486400"/>
            <a:ext cx="381240" cy="304920"/>
          </a:xfrm>
          <a:prstGeom prst="ellipse">
            <a:avLst/>
          </a:prstGeom>
          <a:solidFill>
            <a:srgbClr val="78e4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2438280" y="2743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1" descr=""/>
          <p:cNvPicPr/>
          <p:nvPr/>
        </p:nvPicPr>
        <p:blipFill>
          <a:blip r:embed="rId1"/>
          <a:stretch/>
        </p:blipFill>
        <p:spPr>
          <a:xfrm rot="7451400">
            <a:off x="1729800" y="15458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7" name="Oval 23"/>
          <p:cNvSpPr/>
          <p:nvPr/>
        </p:nvSpPr>
        <p:spPr>
          <a:xfrm>
            <a:off x="6324480" y="2057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3959E-006 L 0.18958 -0.22803 E">
                                      <p:cBhvr>
                                        <p:cTn id="84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58 -0.22803 L 0.00625 0.28261 E">
                                      <p:cBhvr>
                                        <p:cTn id="87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281 -0.11425 C 0.43229 -0.13414 0.42986 -0.15865 0.42569 -0.17438 C 0.42152 -0.1901 0.41545 -0.19935 0.40746 -0.20814 C 0.39948 -0.21693 0.39288 -0.22803 0.37777 -0.22687 C 0.36267 -0.22572 0.33941 -0.22549 0.31718 -0.20074 C 0.29496 -0.176 0.26284 -0.12396 0.24409 -0.07863 C 0.22534 -0.0333 0.21111 0.02683 0.20451 0.07146 C 0.19791 0.11609 0.20052 0.16119 0.20451 0.18964 C 0.2085 0.21808 0.21718 0.23057 0.22847 0.24214 C 0.23975 0.2537 0.25156 0.26966 0.27222 0.25902 C 0.29288 0.24838 0.33125 0.21184 0.35243 0.17831 C 0.37361 0.14477 0.38628 0.09713 0.39896 0.05828 C 0.41163 0.01943 0.42326 -0.02498 0.42847 -0.05435 C 0.43368 -0.08372 0.43333 -0.09436 0.43281 -0.11425 Z">
                                      <p:cBhvr>
                                        <p:cTn id="90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Рисунок1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0" t="2000" r="2003" b="3457"/>
          <a:stretch/>
        </p:blipFill>
        <p:spPr>
          <a:xfrm rot="3825000">
            <a:off x="5476320" y="2143080"/>
            <a:ext cx="3502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6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9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rc 8"/>
          <p:cNvSpPr/>
          <p:nvPr/>
        </p:nvSpPr>
        <p:spPr>
          <a:xfrm rot="901200">
            <a:off x="3158640" y="1304640"/>
            <a:ext cx="2324160" cy="14335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" name="Oval 3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15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12"/>
          <p:cNvSpPr/>
          <p:nvPr/>
        </p:nvSpPr>
        <p:spPr>
          <a:xfrm flipH="1" rot="876600">
            <a:off x="3275640" y="1066320"/>
            <a:ext cx="2055600" cy="20923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13"/>
          <p:cNvSpPr/>
          <p:nvPr/>
        </p:nvSpPr>
        <p:spPr>
          <a:xfrm>
            <a:off x="2895480" y="3200400"/>
            <a:ext cx="2438640" cy="2590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8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21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76212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2971800" y="3733920"/>
            <a:ext cx="1905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4343040" y="1676520"/>
            <a:ext cx="1143000" cy="41907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2971800" y="1143000"/>
            <a:ext cx="838080" cy="2590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3733920" y="1143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410080" y="1600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2"/>
          <a:srcRect l="0" t="0" r="13648" b="0"/>
          <a:stretch/>
        </p:blipFill>
        <p:spPr>
          <a:xfrm rot="21115200">
            <a:off x="6553080" y="4191120"/>
            <a:ext cx="173700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3"/>
          <a:srcRect l="10326" t="0" r="0" b="0"/>
          <a:stretch/>
        </p:blipFill>
        <p:spPr>
          <a:xfrm rot="20394600">
            <a:off x="7438680" y="2286000"/>
            <a:ext cx="1704960" cy="216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18766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5"/>
          <a:stretch/>
        </p:blipFill>
        <p:spPr>
          <a:xfrm rot="7451400">
            <a:off x="2949120" y="-129960"/>
            <a:ext cx="38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27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30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33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3580920" y="1143000"/>
            <a:ext cx="304920" cy="1523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rc 6"/>
          <p:cNvSpPr/>
          <p:nvPr/>
        </p:nvSpPr>
        <p:spPr>
          <a:xfrm rot="6838800">
            <a:off x="4184640" y="424800"/>
            <a:ext cx="988920" cy="13683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rc 7"/>
          <p:cNvSpPr/>
          <p:nvPr/>
        </p:nvSpPr>
        <p:spPr>
          <a:xfrm rot="615600">
            <a:off x="2993760" y="2525760"/>
            <a:ext cx="2338200" cy="33400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3809880" y="10666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 rot="7451400">
            <a:off x="3025800" y="-129600"/>
            <a:ext cx="387360" cy="171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52424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5791320" y="2971800"/>
            <a:ext cx="1523880" cy="15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7391520" y="3048120"/>
            <a:ext cx="1447560" cy="143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5791320" y="4651200"/>
            <a:ext cx="1447560" cy="143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7315200" y="4648320"/>
            <a:ext cx="1447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39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4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45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51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2"/>
          <a:srcRect l="29035" t="0" r="25805" b="18185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rcRect l="29035" t="0" r="25805" b="18185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4"/>
          <a:srcRect l="29035" t="7435" r="25805" b="21907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5"/>
          <a:srcRect l="29035" t="7435" r="25805" b="1818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6"/>
          <a:srcRect l="29035" t="11157" r="25805" b="18185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7"/>
          <a:srcRect l="29035" t="7435" r="25805" b="2190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8"/>
          <a:srcRect l="29035" t="7435" r="25805" b="18185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57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60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10666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10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13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2"/>
          <a:srcRect l="8831" t="18955" r="7267" b="0"/>
          <a:stretch/>
        </p:blipFill>
        <p:spPr>
          <a:xfrm>
            <a:off x="5715000" y="1371600"/>
            <a:ext cx="16272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3"/>
          <a:srcRect l="8831" t="18955" r="7267" b="0"/>
          <a:stretch/>
        </p:blipFill>
        <p:spPr>
          <a:xfrm>
            <a:off x="5638680" y="335268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"/>
          <p:cNvPicPr/>
          <p:nvPr/>
        </p:nvPicPr>
        <p:blipFill>
          <a:blip r:embed="rId4"/>
          <a:srcRect l="8831" t="18955" r="7267" b="0"/>
          <a:stretch/>
        </p:blipFill>
        <p:spPr>
          <a:xfrm>
            <a:off x="7315200" y="144792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"/>
          <p:cNvPicPr/>
          <p:nvPr/>
        </p:nvPicPr>
        <p:blipFill>
          <a:blip r:embed="rId5"/>
          <a:srcRect l="8831" t="22754" r="7267" b="0"/>
          <a:stretch/>
        </p:blipFill>
        <p:spPr>
          <a:xfrm>
            <a:off x="7238880" y="3352680"/>
            <a:ext cx="1774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6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0-07-08T21:43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