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4CA-41EC-485B-A618-F4D6A04E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E57-3898-4C74-B31E-834964B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231-0759-4997-BEBC-98AF2886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44D-07B2-4256-A3BB-619D3CEB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D5691-BBF7-460B-BB57-330783A2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5D62-7E26-4746-BAD3-C9E4B42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067B-885A-4EC8-92C9-6A889DC3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CC17D-2660-4F32-987E-6ADCA7C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72C61-363D-4FD4-B34E-67DCA5C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CF226-22DD-4F1B-9F10-A6440EA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324B-8FA9-48A2-BA1C-601FFF8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EDC-E0A1-4AC1-8351-9113968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1CBB-7F83-4EA7-860B-DDF4F03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2001-EC4D-4ADB-AC42-021BA0E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9C460-AB6F-40DA-94D0-A995252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DD27C-75C5-4CD5-A72D-C7A51960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8FD45-7476-41F2-857B-A810D5BB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408-B96D-4A67-AF8F-9651974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542-4336-4D36-A230-745683E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375-6689-4FEE-81F8-C9F2212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13F-E0B2-428E-9610-1C3F437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D57-29A7-4981-8DE2-B96FD06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F52-7191-409E-90D9-40A0B59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1A5-BEC5-41BC-A0DA-2DEB105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90FE-D585-4852-97AD-D58ACE75B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2F5C-B673-42BF-914A-AD856F04E8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380520"/>
            <a:ext cx="5562720" cy="321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У «ООШ»с.Трубетчин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ворческий проект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рту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520" y="388620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5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учковой Оль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технологии:Лобачёва Н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013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27"/>
          <p:cNvPicPr/>
          <p:nvPr/>
        </p:nvPicPr>
        <p:blipFill>
          <a:blip r:embed="rId1"/>
          <a:stretch/>
        </p:blipFill>
        <p:spPr>
          <a:xfrm>
            <a:off x="685800" y="2666880"/>
            <a:ext cx="2019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DSCN0913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7. Себестоимость това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828800"/>
          <a:ext cx="8001000" cy="2817720"/>
        </p:xfrm>
        <a:graphic>
          <a:graphicData uri="http://schemas.openxmlformats.org/drawingml/2006/table">
            <a:tbl>
              <a:tblPr/>
              <a:tblGrid>
                <a:gridCol w="3235320"/>
                <a:gridCol w="1587240"/>
                <a:gridCol w="1589400"/>
                <a:gridCol w="158904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атериало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траты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/б- ситец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20 см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шту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товое издел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DSCN0911"/>
          <p:cNvPicPr/>
          <p:nvPr/>
        </p:nvPicPr>
        <p:blipFill>
          <a:blip r:embed="rId1"/>
          <a:stretch/>
        </p:blipFill>
        <p:spPr>
          <a:xfrm>
            <a:off x="762120" y="198108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ценка проделанной работы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05120"/>
          <a:ext cx="8229600" cy="281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ица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ожи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все строчки были прямые. Работа показалась трудно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ямки, пояс и карманы были одинаковой длины, пришиты ровно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Обоснование возникшей проблемы и потребност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уроке технологии мы сшили фартук, для того чтобы помогать маме и не пачкать одеж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Выбор модели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, 2. Фартук цельнокроеный, с красивым бантиком и с одним карманом с бо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, 4. Фартук с нагрудником, красиво оформле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fartuk_1"/>
          <p:cNvPicPr/>
          <p:nvPr/>
        </p:nvPicPr>
        <p:blipFill>
          <a:blip r:embed="rId1"/>
          <a:stretch/>
        </p:blipFill>
        <p:spPr>
          <a:xfrm>
            <a:off x="152280" y="914400"/>
            <a:ext cx="6553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358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Фартук отрезной по линии талии, с нагрудником, на лямках, с карман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ыбрала модель № 5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fartuk222"/>
          <p:cNvPicPr/>
          <p:nvPr/>
        </p:nvPicPr>
        <p:blipFill>
          <a:blip r:embed="rId1"/>
          <a:stretch/>
        </p:blipFill>
        <p:spPr>
          <a:xfrm>
            <a:off x="5105520" y="1066680"/>
            <a:ext cx="35431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Выбор тк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6920" y="1828440"/>
            <a:ext cx="450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шила фартук из ткани, что дала мама –ткань х/б, белого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DSCN0912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. Инструменты, приспособления и оборуд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лы швей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е булав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ниц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е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й мет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й карандаш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мага для выкро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вейная маш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ки: цветные, бел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ю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дильная до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276120"/>
            <a:ext cx="487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9568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змерам построила выкройку фарту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Image"/>
          <p:cNvPicPr/>
          <p:nvPr/>
        </p:nvPicPr>
        <p:blipFill>
          <a:blip r:embed="rId1"/>
          <a:stretch/>
        </p:blipFill>
        <p:spPr>
          <a:xfrm>
            <a:off x="0" y="1066680"/>
            <a:ext cx="420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. Конструирование и моделиров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3520" y="1598760"/>
          <a:ext cx="8346960" cy="4586040"/>
        </p:xfrm>
        <a:graphic>
          <a:graphicData uri="http://schemas.openxmlformats.org/drawingml/2006/table">
            <a:tbl>
              <a:tblPr/>
              <a:tblGrid>
                <a:gridCol w="3232080"/>
                <a:gridCol w="2497320"/>
                <a:gridCol w="2617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ер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ное обозна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р (с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ижней ч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т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бёд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Технологическая последовательность изготовления издел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готовить детали кроя к  смёты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бработка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бработка нижней части фарту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оединение нижней части фартука и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Обработка бре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Обработка нагруд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Соединение нагрудника с поя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Соединение нагрудника с нижней частью фарту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0:06:07Z</dcterms:created>
  <dc:creator>1</dc:creator>
  <dc:description/>
  <dc:language>en-US</dc:language>
  <cp:lastModifiedBy>Наташа</cp:lastModifiedBy>
  <dcterms:modified xsi:type="dcterms:W3CDTF">2013-04-14T04:37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