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648-39A8-4D6F-AB03-D532B844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A49-C615-4A44-B10C-2124866E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F7A-489D-43D8-9F5F-6E3B49F7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7DB-5CD3-441F-A4EE-8EA1B70E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5712C-A87D-4904-9FF1-49DAF8F1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290A2-A8B8-4625-8962-70EE50D0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C797E-A216-4F81-9556-C5B0A7FD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65CB5-4C4C-4593-921F-22B1C901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560B6-C646-4B53-96C2-70FDAD8B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7612E-AEB6-4450-9E80-281B27CD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4A6EF-4F45-44B5-8580-113341D0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F9E-C518-4177-A4A7-CBDD09EE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D7BE6-49B0-484C-A36D-D0335D10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38131-7285-49FF-83AD-B60E29BC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75D65-B629-4AF0-B55A-D624339D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4D5BC-0BE7-4EC9-B73D-FA9B9EAD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BCA74-F381-46EC-AD00-1B74B4EF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AD2-C971-4C79-AEC8-4B2F99D2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FE5-4082-450F-B8CB-E1C39678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B5C-BDCA-4065-BAC9-F9C93EFF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77F-DABD-4A19-B506-77F90B60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DDB-76AF-4E5A-A58B-C0A63F10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F10-FB7A-4B91-8942-0CF1E2C5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89E-B3E1-4B75-B521-ED2AA8BA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E801-7278-440E-810E-7EF02E8EA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DFDB-4211-47A4-8B7D-DCD4E73E2D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380520"/>
            <a:ext cx="5562720" cy="3219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У «ООШ»с.Трубетчино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br>
              <a:rPr sz="24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ворческий проект.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арту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2520" y="3886200"/>
            <a:ext cx="4572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ницы 5 клас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учковой Ольг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итель технологии:Лобачёва Н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013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27"/>
          <p:cNvPicPr/>
          <p:nvPr/>
        </p:nvPicPr>
        <p:blipFill>
          <a:blip r:embed="rId1"/>
          <a:stretch/>
        </p:blipFill>
        <p:spPr>
          <a:xfrm>
            <a:off x="685800" y="2666880"/>
            <a:ext cx="20192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DSCN0913"/>
          <p:cNvPicPr/>
          <p:nvPr/>
        </p:nvPicPr>
        <p:blipFill>
          <a:blip r:embed="rId1"/>
          <a:stretch/>
        </p:blipFill>
        <p:spPr>
          <a:xfrm>
            <a:off x="-987480" y="-739800"/>
            <a:ext cx="11118960" cy="83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7. Себестоимость товар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520" y="1828800"/>
          <a:ext cx="8001000" cy="2817720"/>
        </p:xfrm>
        <a:graphic>
          <a:graphicData uri="http://schemas.openxmlformats.org/drawingml/2006/table">
            <a:tbl>
              <a:tblPr/>
              <a:tblGrid>
                <a:gridCol w="3235320"/>
                <a:gridCol w="1587240"/>
                <a:gridCol w="1589400"/>
                <a:gridCol w="1589040"/>
              </a:tblGrid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материалов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на(руб.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х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траты(руб.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/б- ситец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0 руб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20 см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6 руб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тк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руб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шту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руб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того: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2 руб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2a14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отовое издел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733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DSCN0911"/>
          <p:cNvPicPr/>
          <p:nvPr/>
        </p:nvPicPr>
        <p:blipFill>
          <a:blip r:embed="rId1"/>
          <a:stretch/>
        </p:blipFill>
        <p:spPr>
          <a:xfrm>
            <a:off x="762120" y="1981080"/>
            <a:ext cx="52578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ценка проделанной работы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905120"/>
          <a:ext cx="8229600" cy="2819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ицательн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ожительн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все строчки были прямые. Работа показалась трудно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ямки, пояс и карманы были одинаковой длины, пришиты ровно.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. Обоснование возникшей проблемы и потребносте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уроке технологии мы сшили фартук, для того чтобы помогать маме и не пачкать одеж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.Выбор модели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426672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, 2. Фартук цельнокроеный, с красивым бантиком и с одним карманом с бо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, 4. Фартук с нагрудником, красиво оформлены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fartuk_1"/>
          <p:cNvPicPr/>
          <p:nvPr/>
        </p:nvPicPr>
        <p:blipFill>
          <a:blip r:embed="rId1"/>
          <a:stretch/>
        </p:blipFill>
        <p:spPr>
          <a:xfrm>
            <a:off x="152280" y="914400"/>
            <a:ext cx="655344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35816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Фартук отрезной по линии талии, с нагрудником, на лямках, с карман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выбрала модель № 5.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fartuk222"/>
          <p:cNvPicPr/>
          <p:nvPr/>
        </p:nvPicPr>
        <p:blipFill>
          <a:blip r:embed="rId1"/>
          <a:stretch/>
        </p:blipFill>
        <p:spPr>
          <a:xfrm>
            <a:off x="5105520" y="1066680"/>
            <a:ext cx="35431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3. Выбор тка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6920" y="1828440"/>
            <a:ext cx="450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сшила фартук из ткани, что дала мама –ткань х/б, белого ц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DSCN0912"/>
          <p:cNvPicPr/>
          <p:nvPr/>
        </p:nvPicPr>
        <p:blipFill>
          <a:blip r:embed="rId1"/>
          <a:stretch/>
        </p:blipFill>
        <p:spPr>
          <a:xfrm>
            <a:off x="457200" y="1828800"/>
            <a:ext cx="3657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. Инструменты, приспособления и оборудов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глы швейн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новские булав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жниц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ней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новский метр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стой карандаш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мага для выкрой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вейная машин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тки: цветные, белы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тюг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адильная дос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-276120"/>
            <a:ext cx="4876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95680" y="10666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размерам построила выкройку фарту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Image"/>
          <p:cNvPicPr/>
          <p:nvPr/>
        </p:nvPicPr>
        <p:blipFill>
          <a:blip r:embed="rId1"/>
          <a:stretch/>
        </p:blipFill>
        <p:spPr>
          <a:xfrm>
            <a:off x="0" y="1066680"/>
            <a:ext cx="4208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5. Конструирование и моделирова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63520" y="1598760"/>
          <a:ext cx="8346960" cy="4586040"/>
        </p:xfrm>
        <a:graphic>
          <a:graphicData uri="http://schemas.openxmlformats.org/drawingml/2006/table">
            <a:tbl>
              <a:tblPr/>
              <a:tblGrid>
                <a:gridCol w="3232080"/>
                <a:gridCol w="2497320"/>
                <a:gridCol w="2617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мер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ное обозна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мер (с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ина нагрудн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ина нижней ча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н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уобхват тал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уобхват бёд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Технологическая последовательность изготовления издел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одготовить детали кроя к  смётыва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Обработка карм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Обработка нижней части фарту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Соединение нижней части фартука и карм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Обработка бре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Обработка нагрудн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Соединение нагрудника с пояс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. Соединение нагрудника с нижней частью фарту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0:06:07Z</dcterms:created>
  <dc:creator>1</dc:creator>
  <dc:description/>
  <dc:language>en-US</dc:language>
  <cp:lastModifiedBy>Наташа</cp:lastModifiedBy>
  <dcterms:modified xsi:type="dcterms:W3CDTF">2013-04-14T04:37:2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