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7FD-BBB0-4772-B1BF-78AD1E93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B69-D795-492A-9725-13807733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BA2-E515-4153-931D-676852C6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4FF-CE82-4E16-BBBF-8899F235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C505D-DD00-43FE-BC4A-F53D3C2C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9CF83-71D3-4CE4-87BA-7D036813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B7D73-4DB4-43F4-A2E8-826A061E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DA194-A8A1-48C0-BC92-5E5B656A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E8994-3B19-4470-86B4-5CA2817E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CCECE-D795-4928-ADB3-F5F85851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61D79-D36B-48BB-AEA1-92B5BAA9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236-6050-4274-8C84-FF9E7802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C049C-0D76-41E4-A47F-33864753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5F31F-038F-4778-B939-CD417B63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72F7D-33F0-4CA1-BAAD-6E56AB1B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77B21-9EDD-4BF3-A32E-28B969E2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25BFF-1218-4ED9-BEE4-03A353EB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2F0-B3B6-417B-AD4A-EC49CA97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5FE-7E3F-4471-8F75-F45C2DA0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229-1D11-4AAC-B49E-004834AF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BE9-873F-4000-9E85-7DD430B6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6CE-D08F-42BE-9CE8-D72CB133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D18-08E3-4A72-9A31-47A19E27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259-5850-401B-8ACE-8EB4734A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FE8D-6814-4206-9D69-7E62DA860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F48A-1B3B-4D48-A83E-6486D9739E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380520"/>
            <a:ext cx="5562720" cy="321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У «ООШ»с.Трубетчино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br>
              <a:rPr sz="2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ворческий проект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арту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2520" y="3886200"/>
            <a:ext cx="4572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ицы 5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учковой Ольг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технологии:Лобачёва Н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013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27"/>
          <p:cNvPicPr/>
          <p:nvPr/>
        </p:nvPicPr>
        <p:blipFill>
          <a:blip r:embed="rId1"/>
          <a:stretch/>
        </p:blipFill>
        <p:spPr>
          <a:xfrm>
            <a:off x="685800" y="2666880"/>
            <a:ext cx="20192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DSCN0913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7. Себестоимость това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1828800"/>
          <a:ext cx="8001000" cy="2817720"/>
        </p:xfrm>
        <a:graphic>
          <a:graphicData uri="http://schemas.openxmlformats.org/drawingml/2006/table">
            <a:tbl>
              <a:tblPr/>
              <a:tblGrid>
                <a:gridCol w="3235320"/>
                <a:gridCol w="1587240"/>
                <a:gridCol w="1589400"/>
                <a:gridCol w="1589040"/>
              </a:tblGrid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атериалов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(руб.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х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траты(руб.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/б- ситец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 руб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20 см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 руб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к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шту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того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2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отовое издел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DSCN0911"/>
          <p:cNvPicPr/>
          <p:nvPr/>
        </p:nvPicPr>
        <p:blipFill>
          <a:blip r:embed="rId1"/>
          <a:stretch/>
        </p:blipFill>
        <p:spPr>
          <a:xfrm>
            <a:off x="762120" y="1981080"/>
            <a:ext cx="52578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ценка проделанной работы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905120"/>
          <a:ext cx="8229600" cy="281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ицатель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ожитель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все строчки были прямые. Работа показалась трудно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ямки, пояс и карманы были одинаковой длины, пришиты ровно.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. Обоснование возникшей проблемы и потребносте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уроке технологии мы сшили фартук, для того чтобы помогать маме и не пачкать одеж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.Выбор модели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42667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, 2. Фартук цельнокроеный, с красивым бантиком и с одним карманом с бо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, 4. Фартук с нагрудником, красиво оформлены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fartuk_1"/>
          <p:cNvPicPr/>
          <p:nvPr/>
        </p:nvPicPr>
        <p:blipFill>
          <a:blip r:embed="rId1"/>
          <a:stretch/>
        </p:blipFill>
        <p:spPr>
          <a:xfrm>
            <a:off x="152280" y="914400"/>
            <a:ext cx="65534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3581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Фартук отрезной по линии талии, с нагрудником, на лямках, с карман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выбрала модель № 5.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fartuk222"/>
          <p:cNvPicPr/>
          <p:nvPr/>
        </p:nvPicPr>
        <p:blipFill>
          <a:blip r:embed="rId1"/>
          <a:stretch/>
        </p:blipFill>
        <p:spPr>
          <a:xfrm>
            <a:off x="5105520" y="1066680"/>
            <a:ext cx="35431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. Выбор тка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6920" y="1828440"/>
            <a:ext cx="450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сшила фартук из ткани, что дала мама –ткань х/б, белого ц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DSCN0912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. Инструменты, приспособления и оборуд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лы швей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новские булав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ниц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ей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новский метр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ой карандаш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мага для выкрой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вейная машин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тки: цветные, бел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юг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дильная дос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-276120"/>
            <a:ext cx="4876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95680" y="10666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размерам построила выкройку фарту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Image"/>
          <p:cNvPicPr/>
          <p:nvPr/>
        </p:nvPicPr>
        <p:blipFill>
          <a:blip r:embed="rId1"/>
          <a:stretch/>
        </p:blipFill>
        <p:spPr>
          <a:xfrm>
            <a:off x="0" y="1066680"/>
            <a:ext cx="4208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. Конструирование и моделиров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3520" y="1598760"/>
          <a:ext cx="8346960" cy="4586040"/>
        </p:xfrm>
        <a:graphic>
          <a:graphicData uri="http://schemas.openxmlformats.org/drawingml/2006/table">
            <a:tbl>
              <a:tblPr/>
              <a:tblGrid>
                <a:gridCol w="3232080"/>
                <a:gridCol w="2497320"/>
                <a:gridCol w="2617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ер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ное обозна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р (с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ина нагруд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ина нижней ча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н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уобхват тал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уобхват бёд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Технологическая последовательность изготовления издел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готовить детали кроя к  смётыва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Обработка карм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Обработка нижней части фарту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Соединение нижней части фартука и карм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Обработка бре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Обработка нагрудн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Соединение нагрудника с пояс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. Соединение нагрудника с нижней частью фарту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0:06:07Z</dcterms:created>
  <dc:creator>1</dc:creator>
  <dc:description/>
  <dc:language>en-US</dc:language>
  <cp:lastModifiedBy>Наташа</cp:lastModifiedBy>
  <dcterms:modified xsi:type="dcterms:W3CDTF">2013-04-14T04:37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