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820F9-5A54-45EE-834E-2A69EEBD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41E50-C45A-432C-855E-A01258F5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5F61B-A40E-41FA-BC2A-B8530DD8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D3393-4E83-48D8-A240-419E6192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E1A0-04DD-4814-9576-35E67FDD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1DE5-38A3-412F-8C50-0F76B79C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FC94-5CDC-4063-832C-5DAB38DD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3838-E2B8-4593-8729-8BF1E1DB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3F28-D098-4B6A-93C9-D54FEF10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4BD8-55BC-401D-AEA7-9D8A54D3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1D2C-F06E-45A9-BAE7-A7617943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83A17-73B0-4937-B8F3-C64D21A4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271E-36D2-42D3-8837-3F218ABB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E23B-5A6A-41BA-83ED-B341C189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9211-813C-4D56-BAF0-ADD9087E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73AC-01FA-448C-AE7E-7779DE03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5BCB-CEA2-44A3-B775-219733FC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3B3F6-B750-4ADD-8F8E-5ACF7136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44452-C469-4BBA-BBD3-54F6ADDF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1ED25-34BA-46C0-B2A6-E3096F5E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6AA03-BC5F-4B8F-A638-123C47C5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A6342-2225-443B-B25A-243A54B4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25911-77D6-4030-929E-5D780DA2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445CE-336F-401F-8F82-528414CF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B3BF-9AB0-430C-9672-A6558DC36D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006F-10A3-493D-9ECB-8DD80D3B02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Ткани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оолог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0099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нутренние органы имеют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гладкую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мышечную ткань, состоящую из вытянутых клеток с палочковидными ядрами.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оперечно-полосата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мышечная ткань у млекопитающих образует скелетные мышцы. Мышечные волокна ее длинные, многоядерные, имеют хорошо заметную поперечную исчерченност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Нервные тка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ервные ткан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бразуют нервную систему, входят в состав нервных узлов, спинного и головного мозга. Они состоят из нервных клеток –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ейронов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тела которых имеют звездчатую форму, длинные и короткие отростки (рис. 20,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Г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. Нейроны воспринимают раздражение и передают возбуждение к мышцам, коже, другим тканям, органам. Нервные ткани обеспечивают согласованную работу организм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ткани животных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 многоклеточных животных одинаковые по строению и функциям группы клеток образуют ткани. У животных существуют эпителиальные, соединительные, мышечные, нервные ткан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Ткан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 многоклеточных животных клетки составляют ткани.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Ткань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– это группа сходных по строению и функциям клеток и межклеточное вещество, выделяемое этими клетка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теле животных имеются следующие виды тканей: эпителиальная, соединительная, мышечная, нерв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Эпителиальные тка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Эпителиальные ткан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бразуют покровы, выстилают полости тела и внутренних органов. Разные эпителиальные ткани состоят из одного или нескольких слоев плотно прилегающих клеток и почти не содержат межклеточного вещества. Они выполняют защитную, секреторную, газообменную, всасывающую и некоторые другие функции (рис. 20,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в организмах животны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желез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ни защищают тело животного от ударов, повреждений, перегрева, переохлажд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окрывающей тело позвоночных животных коже находятся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желез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Сальные железы у птиц и млекопитающих выделяют жирный секрет, смазывающий перья, шерсть, придающий им эластичность и препятствующий намоканию. У зверей есть потовые, пахучие и млечные желез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ител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пителий кишечника всасывает питательные вещества., выстилающий органы дыхания, участвует в газообмене; эпителий органов выделения участвует в удалении из организма вредных продуктов обмена вещест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Соединительные тка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Соединительные ткан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остоят из сравнительно небольшого числа клеток, разбросанных в массе межклеточного вещества (рис. 20,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и выполняют опорную, поддерживающую, защитную и связывающую функции. Из этих тканей состоят хрящи, кости, сухожилия, связ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оединительная ткан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единительная ткань, входящая в состав скелета, поддерживает тело, создает его опору, защищает внутренние органы. В жировой соединительной ткани откладываются запасные питательные вещества в виде жир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кров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воеобразная соединительная ткань –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кровь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– обеспечивает внутреннюю связь между органами: от легких ко всем органам и тканям переносит кислород, а от них к легким – углекислый газ, доставляет питательные вещества от кишечника ко всем органам, а далее – к органам выделения вредных продуктов обмена вещест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Мышечные тка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Мышечные ткан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остоят из вытянутых клеток, которые принимают раздражение от нервной системы и отвечают на него сокращением (рис. 20,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. Благодаря сокращению и расслаблению скелетных мышц происходит передвижение животных и перемещение отдельных частей их тела. Мышцы придают форму телу, поддерживают, защищают внутренние орг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5:00:18Z</dcterms:created>
  <dc:creator>54</dc:creator>
  <dc:description/>
  <dc:language>en-US</dc:language>
  <cp:lastModifiedBy>Admin</cp:lastModifiedBy>
  <dcterms:modified xsi:type="dcterms:W3CDTF">2012-06-14T10:35:46Z</dcterms:modified>
  <cp:revision>2</cp:revision>
  <dc:subject/>
  <dc:title>Ткани </dc:title>
</cp:coreProperties>
</file>