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98D3-09D1-41C7-90D6-3B193721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B140-CF0D-4030-97CD-3C6D6254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5DB1-23E4-4E25-BB0A-C475AE01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6958-ED6A-401C-8301-B5E09BB3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FDB4-558B-456F-B8B7-1BB69984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4C54-C48C-4329-A86C-49E9108C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14DB-BDC5-4199-8D40-6809FA9C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3EB9-3845-435C-8A5B-FF7CCCC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C38D-60B7-43D2-8092-56619968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36A-584A-4A3E-92E9-0ECDD086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FF96-1CED-4D3A-9575-CFC1A50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063A-0BDE-4BFE-A426-C84C1C1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DED-EE7B-409B-82F9-3CBF3220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3163-3086-483F-9326-CDB9A205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219-749C-47FA-8EAE-5624A53C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769D-1564-4963-A104-0A82ABEA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4CE-E6C7-4066-BCBB-1EBDAEEF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5E78-B09D-4335-B9B0-32054E4F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3500-5BB1-4F30-BEBC-C648D29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7703-8607-4F6A-80FA-20F5CF8C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F708-2CDF-423A-8C84-82718045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9F20-EC4C-40DB-9706-384A84B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B0E8-9784-43AF-83DC-48D48CE9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393B-7F35-4CFD-AAC2-2FC1C22E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CBE0-403E-4AB1-83F5-AA26F070BD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A4F-1297-48A4-9479-39F43A1643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кани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утренние органы имею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гладку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ышечную ткань, состоящую из вытянутых клеток с палочковидными ядрами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перечно-полосат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ышечная ткань у млекопитающих образует скелетные мышцы. Мышечные волокна ее длинные, многоядерные, имеют хорошо заметную поперечную исчерченн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Нерв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рв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разуют нервную систему, входят в состав нервных узлов, спинного и головного мозга. Они состоят из нервных клеток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йрон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тела которых имеют звездчатую форму, длинные и короткие отростки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. Нейроны воспринимают раздражение и передают возбуждение к мышцам, коже, другим тканям, органам. Нервные ткани обеспечивают согласованную работу орган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ткани животных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многоклеточных животных одинаковые по строению и функциям группы клеток образуют ткани. У животных существуют эпителиальные, соединительные, мышечные, нервные ткан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Ткан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многоклеточных животных клетки составляют ткани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Ткан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это группа сходных по строению и функциям клеток и межклеточное вещество, выделяемое этими клет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теле животных имеются следующие виды тканей: эпителиальная, соединительная, мышечная, нерв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Эпителиаль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Эпителиаль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разуют покровы, выстилают полости тела и внутренних органов. Разные эпителиальные ткани состоят из одного или нескольких слоев плотно прилегающих клеток и почти не содержат межклеточного вещества. Они выполняют защитную, секреторную, газообменную, всасывающую и некоторые другие функции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в организма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желез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защищают тело животного от ударов, повреждений, перегрева, переохлаж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окрывающей тело позвоночных животных коже находятся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желез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Сальные железы у птиц и млекопитающих выделяют жирный секрет, смазывающий перья, шерсть, придающий им эластичность и препятствующий намоканию. У зверей есть потовые, пахучие и млечные желе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тел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пителий кишечника всасывает питательные вещества., выстилающий органы дыхания, участвует в газообмене; эпителий органов выделения участвует в удалении из организма вредных продуктов обмена веще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Соединитель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оединитель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ят из сравнительно небольшого числа клеток, разбросанных в массе межклеточного вещества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и выполняют опорную, поддерживающую, защитную и связывающую функции. Из этих тканей состоят хрящи, кости, сухожилия, связ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единительная ткан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единительная ткань, входящая в состав скелета, поддерживает тело, создает его опору, защищает внутренние органы. В жировой соединительной ткани откладываются запасные питательные вещества в виде жи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кр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воеобразная соединительная ткань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кров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обеспечивает внутреннюю связь между органами: от легких ко всем органам и тканям переносит кислород, а от них к легким – углекислый газ, доставляет питательные вещества от кишечника ко всем органам, а далее – к органам выделения вредных продуктов обмена веще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Мышеч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ышеч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ят из вытянутых клеток, которые принимают раздражение от нервной системы и отвечают на него сокращением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. Благодаря сокращению и расслаблению скелетных мышц происходит передвижение животных и перемещение отдельных частей их тела. Мышцы придают форму телу, поддерживают, защищают внутренние орг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5:00:18Z</dcterms:created>
  <dc:creator>54</dc:creator>
  <dc:description/>
  <dc:language>en-US</dc:language>
  <cp:lastModifiedBy>Admin</cp:lastModifiedBy>
  <dcterms:modified xsi:type="dcterms:W3CDTF">2012-06-14T10:35:46Z</dcterms:modified>
  <cp:revision>2</cp:revision>
  <dc:subject/>
  <dc:title>Ткани </dc:title>
</cp:coreProperties>
</file>