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323D-5420-4C76-8192-5A2AA5FD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A8EB-4583-44CE-8F33-1BF5D2BD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0FB2-D083-4FCE-AF49-D00ABFFA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3484-B562-49B4-A583-8FC5C481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E5B4-D15D-4A3D-9392-CB351621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2E3A-EE00-4F74-B1BB-137F007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D001-562B-487C-BCD6-BBE9C97C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0876-D49D-4737-878D-B63DDB1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453-B4DA-43A5-BDF5-D6F41CAB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D1E-29AD-490F-8728-54E9E35A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4536-2B47-4488-A2FB-7B4AAB4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E894-536E-4490-B165-5C2018EF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75CB-3323-4622-81ED-AF9C0F6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802-29A5-4DB8-B28F-553F5D8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08E-E2C9-440A-80BC-6C0B874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46FE-78C1-47FB-8660-ECE2AE23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794-FA6D-47C8-B112-0CC877B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910E-594C-4FD8-863E-41931445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DE73-39BE-46A1-ACE3-6C0CAE0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24D2-043E-48CC-922C-5F74AF4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51C8-0715-4135-A060-FF98420F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36C2-4A6B-43CA-BB38-C8801F9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3FCF-CF85-42FE-9B65-D9F9CED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1E41-7E5F-4D2D-96E6-953205C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E011-7791-4659-A639-E66D8CDC87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E94C-10D3-433E-8B90-FAD1CB585E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кани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утренние органы име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гладку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ую ткань, состоящую из вытянутых клеток с палочковидными ядрам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перечно-полосат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ая ткань у млекопитающих образует скелетные мышцы. Мышечные волокна ее длинные, многоядерные, имеют хорошо заметную поперечную исчерченн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Нерв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в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нервную систему, входят в состав нервных узлов, спинного и головного мозга. Они состоят из нервных клет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йрон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ела которых имеют звездчатую форму, длинные и короткие отростк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Нейроны воспринимают раздражение и передают возбуждение к мышцам, коже, другим тканям, органам. Нервные ткани обеспечивают согласованную работу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ткани животных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одинаковые по строению и функциям группы клеток образуют ткани. У животных существуют эпителиальные, соединительные, мышечные, нервные тка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клетки составляют ткан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Ткан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это группа сходных по строению и функциям клеток и межклеточное вещество, выделяемое этими клет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теле животных имеются следующие виды тканей: эпителиальная, соединительная, мышечная, нерв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Эпителиа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Эпителиа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покровы, выстилают полости тела и внутренних органов. Разные эпителиальные ткани состоят из одного или нескольких слоев плотно прилегающих клеток и почти не содержат межклеточного вещества. Они выполняют защитную, секреторную, газообменную, всасывающую и некоторые другие функци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в организма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желез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защищают тело животного от ударов, повреждений, перегрева, переохла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окрывающей тело позвоночных животных коже находятся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елез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Сальные железы у птиц и млекопитающих выделяют жирный секрет, смазывающий перья, шерсть, придающий им эластичность и препятствующий намоканию. У зверей есть потовые, пахучие и млечные желе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те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телий кишечника всасывает питательные вещества., выстилающий органы дыхания, участвует в газообмене; эпителий органов выделения участвует в удалении из организма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Соедините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оедините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сравнительно небольшого числа клеток, разбросанных в массе межклеточного вещества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и выполняют опорную, поддерживающую, защитную и связывающую функции. Из этих тканей состоят хрящи, кости, сухожилия, связ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единительная 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единительная ткань, входящая в состав скелета, поддерживает тело, создает его опору, защищает внутренние органы. В жировой соединительной ткани откладываются запасные питательные вещества в виде ж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кр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оеобразная соединительная ткань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кров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обеспечивает внутреннюю связь между органами: от легких ко всем органам и тканям переносит кислород, а от них к легким – углекислый газ, доставляет питательные вещества от кишечника ко всем органам, а далее – к органам выделения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Мышеч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ышеч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вытянутых клеток, которые принимают раздражение от нервной системы и отвечают на него сокращением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Благодаря сокращению и расслаблению скелетных мышц происходит передвижение животных и перемещение отдельных частей их тела. Мышцы придают форму телу, поддерживают, защищают внутренние орг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5:00:18Z</dcterms:created>
  <dc:creator>54</dc:creator>
  <dc:description/>
  <dc:language>en-US</dc:language>
  <cp:lastModifiedBy>Admin</cp:lastModifiedBy>
  <dcterms:modified xsi:type="dcterms:W3CDTF">2012-06-14T10:35:46Z</dcterms:modified>
  <cp:revision>2</cp:revision>
  <dc:subject/>
  <dc:title>Ткани </dc:title>
</cp:coreProperties>
</file>