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B9B-C1EB-416A-AB81-CC2E8BBB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178-3410-4D04-8617-1FC19A6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18E-8CD6-4252-9C74-FE8BCD1F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498-AF5B-49A7-8E6E-544ED5C3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9FD-4142-4F78-A7FE-496BCDF0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995-9B4F-4B21-AEC8-310E060D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75D-D7CD-43C5-9D25-AA5DA9CE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413-0394-4DB3-8DAC-EE06CDA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D9F-AF42-4D29-867A-6752B9D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375-A4A0-410C-8E78-7EA10D1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D79-8E9F-4E3A-9D47-36BDC7E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4C3-A493-421D-8CC0-3249E0D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BCB-4229-4AF9-81FC-79D3FD5B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content.foto.mail.ru/mail/fwatch/379/i-3978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artwood.org.ua/nut_texture.html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expresstoys.ru/images/735216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38280"/>
            <a:ext cx="796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технологии в 7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 «Технология обработки древес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н : учителем высшей квалификационной категории МОУ «СОШ № 93» г.Новокузнецка Андрющенко С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3608280"/>
            <a:ext cx="3105000" cy="293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51280" y="189000"/>
            <a:ext cx="4097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войства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7360" y="1673280"/>
            <a:ext cx="692424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лотность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количество м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евесины, содержащей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единице объ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а древес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32000" y="4643280"/>
                <a:ext cx="33656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Высо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уб, береза, клен, лиственница, яблоня, груша примерно от 700 до 9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Средня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конский каштан, орех грецкий, вишня, тиковое дерево, б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560-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из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ипа, тополь, кедр, вяз, ель, сосна- от 400 до 6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лажность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лаж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есины называют –количество влаги содержащейся в древес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до высуши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после высуш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16280" y="4734000"/>
                <a:ext cx="36892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280" y="728640"/>
            <a:ext cx="880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следующие ступени влажности       древес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кра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ительное время находившаяся в воде, влажность выше 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ежесрубленная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лажность 50-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здушно-сух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олгое время хранившаяся на воздухе, влажность – 15-20% (в зависимости от климатических условий и времени г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мнатно-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-8-12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бсолютно 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 -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влагомер для пиломатериалов, Humitest MC-360XLА"/>
          <p:cNvPicPr/>
          <p:nvPr/>
        </p:nvPicPr>
        <p:blipFill>
          <a:blip r:embed="rId1"/>
          <a:stretch/>
        </p:blipFill>
        <p:spPr>
          <a:xfrm>
            <a:off x="1150920" y="368280"/>
            <a:ext cx="2901960" cy="558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9520" y="608400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гомер для пил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Измеритель влажности"/>
          <p:cNvPicPr/>
          <p:nvPr/>
        </p:nvPicPr>
        <p:blipFill>
          <a:blip r:embed="rId2"/>
          <a:stretch/>
        </p:blipFill>
        <p:spPr>
          <a:xfrm>
            <a:off x="5742000" y="593640"/>
            <a:ext cx="2639880" cy="5086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14640" y="6038280"/>
            <a:ext cx="43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ритель влажности древес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71640" y="773280"/>
            <a:ext cx="5927760" cy="444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22360" y="558864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е влажности с помощью при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Схема содержания воды в древесине"/>
          <p:cNvPicPr/>
          <p:nvPr/>
        </p:nvPicPr>
        <p:blipFill>
          <a:blip r:embed="rId1"/>
          <a:stretch/>
        </p:blipFill>
        <p:spPr>
          <a:xfrm>
            <a:off x="566640" y="954000"/>
            <a:ext cx="8145720" cy="499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92360" y="93600"/>
            <a:ext cx="62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Естественная 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0920" y="1074600"/>
            <a:ext cx="7902720" cy="578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27000" y="981000"/>
            <a:ext cx="7966080" cy="587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Искусственная сушк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93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97000" y="1449360"/>
            <a:ext cx="6626160" cy="41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46280" y="4551840"/>
            <a:ext cx="43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сс- вакуумная суш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6640" y="550260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меры Сушильные камера сушильная"/>
          <p:cNvPicPr/>
          <p:nvPr/>
        </p:nvPicPr>
        <p:blipFill>
          <a:blip r:embed="rId2"/>
          <a:stretch/>
        </p:blipFill>
        <p:spPr>
          <a:xfrm>
            <a:off x="836640" y="1538280"/>
            <a:ext cx="7342200" cy="412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88080" y="57690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но-металлическая 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Устройство сборно-металлической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1640" y="1600200"/>
            <a:ext cx="8010720" cy="516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6640" y="0"/>
            <a:ext cx="5170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850" t="2827" r="2827" b="2827"/>
          <a:stretch/>
        </p:blipFill>
        <p:spPr>
          <a:xfrm>
            <a:off x="1241280" y="0"/>
            <a:ext cx="6856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58640"/>
            <a:ext cx="9144000" cy="5929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9 из 4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7360" y="0"/>
            <a:ext cx="8127720" cy="696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Коробление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иды покоробленности"/>
          <p:cNvPicPr/>
          <p:nvPr/>
        </p:nvPicPr>
        <p:blipFill>
          <a:blip r:embed="rId1"/>
          <a:stretch/>
        </p:blipFill>
        <p:spPr>
          <a:xfrm>
            <a:off x="1332000" y="1314360"/>
            <a:ext cx="6842160" cy="409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06640" y="5769000"/>
            <a:ext cx="73357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, в, г- усушка древесины; д, е- продольное короб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- винтовое кор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Цвет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22360" y="1268280"/>
            <a:ext cx="4567320" cy="126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тенки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7000" y="2708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2754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бу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27720" y="279864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фиолет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8080" y="2843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240" y="288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7328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128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2360" y="405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57360" y="468936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51280" y="4059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97360" y="473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97360" y="536400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81640" y="351936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6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23864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53240" y="35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53240" y="423864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53240" y="491508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3240" y="558972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м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Текстура яблони высокого разрешения"/>
          <p:cNvPicPr/>
          <p:nvPr/>
        </p:nvPicPr>
        <p:blipFill>
          <a:blip r:embed="rId1"/>
          <a:stretch/>
        </p:blipFill>
        <p:spPr>
          <a:xfrm>
            <a:off x="250200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Скачать текстуру дерева орех"/>
          <p:cNvPicPr/>
          <p:nvPr/>
        </p:nvPicPr>
        <p:blipFill>
          <a:blip r:embed="rId2"/>
          <a:stretch/>
        </p:blipFill>
        <p:spPr>
          <a:xfrm>
            <a:off x="2637000" y="3968640"/>
            <a:ext cx="1895400" cy="18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Текстура древесины ольхи"/>
          <p:cNvPicPr/>
          <p:nvPr/>
        </p:nvPicPr>
        <p:blipFill>
          <a:blip r:embed="rId3"/>
          <a:stretch/>
        </p:blipFill>
        <p:spPr>
          <a:xfrm>
            <a:off x="488628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Текстура дуб"/>
          <p:cNvPicPr/>
          <p:nvPr/>
        </p:nvPicPr>
        <p:blipFill>
          <a:blip r:embed="rId4"/>
          <a:stretch/>
        </p:blipFill>
        <p:spPr>
          <a:xfrm>
            <a:off x="709308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61640" y="3293280"/>
            <a:ext cx="11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яблон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230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29880" y="33379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4160" y="33379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Текстура светлый клен"/>
          <p:cNvPicPr/>
          <p:nvPr/>
        </p:nvPicPr>
        <p:blipFill>
          <a:blip r:embed="rId6"/>
          <a:stretch/>
        </p:blipFill>
        <p:spPr>
          <a:xfrm>
            <a:off x="25092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7360" y="33379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Бесшовная текстура розового дерева"/>
          <p:cNvPicPr/>
          <p:nvPr/>
        </p:nvPicPr>
        <p:blipFill>
          <a:blip r:embed="rId7"/>
          <a:stretch/>
        </p:blipFill>
        <p:spPr>
          <a:xfrm>
            <a:off x="4976640" y="3924360"/>
            <a:ext cx="1895760" cy="189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843440" y="5903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оз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Текстура дерева махонь высокого разрешения"/>
          <p:cNvPicPr/>
          <p:nvPr/>
        </p:nvPicPr>
        <p:blipFill>
          <a:blip r:embed="rId8"/>
          <a:stretch/>
        </p:blipFill>
        <p:spPr>
          <a:xfrm>
            <a:off x="7093080" y="392436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55600" y="5858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хон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Сосна"/>
          <p:cNvPicPr/>
          <p:nvPr/>
        </p:nvPicPr>
        <p:blipFill>
          <a:blip r:embed="rId9"/>
          <a:stretch/>
        </p:blipFill>
        <p:spPr>
          <a:xfrm>
            <a:off x="341280" y="4014720"/>
            <a:ext cx="1860480" cy="1846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28800" y="603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8080" y="5994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Текстур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8436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62360" y="306864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укопров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728640"/>
            <a:ext cx="368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0" y="2528640"/>
            <a:ext cx="2610000" cy="1755720"/>
          </a:xfrm>
          <a:prstGeom prst="wedgeRoundRectCallout">
            <a:avLst>
              <a:gd name="adj1" fmla="val -38689"/>
              <a:gd name="adj2" fmla="val 10885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6539040" y="2484000"/>
            <a:ext cx="2604960" cy="1760760"/>
          </a:xfrm>
          <a:prstGeom prst="wedgeRoundRectCallout">
            <a:avLst>
              <a:gd name="adj1" fmla="val 40856"/>
              <a:gd name="adj2" fmla="val 104370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сопротивляться прохождению электрического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3132000" y="5097600"/>
            <a:ext cx="2602080" cy="1760400"/>
          </a:xfrm>
          <a:prstGeom prst="wedgeRoundRectCallout">
            <a:avLst>
              <a:gd name="adj1" fmla="val -33953"/>
              <a:gd name="adj2" fmla="val 11879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звук с определенной скор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41280" y="503280"/>
            <a:ext cx="6975720" cy="1228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хан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1640" y="2394000"/>
            <a:ext cx="180036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243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12000" y="248436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00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роти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дрению в 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но или 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бить гвоз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22720" y="3699000"/>
            <a:ext cx="2833560" cy="2925720"/>
          </a:xfrm>
          <a:custGeom>
            <a:avLst/>
            <a:gdLst>
              <a:gd name="textAreaLeft" fmla="*/ 138240 w 2833560"/>
              <a:gd name="textAreaRight" fmla="*/ 2695320 w 2833560"/>
              <a:gd name="textAreaTop" fmla="*/ 138240 h 2925720"/>
              <a:gd name="textAreaBottom" fmla="*/ 2787480 h 2925720"/>
            </a:gdLst>
            <a:ahLst/>
            <a:rect l="textAreaLeft" t="textAreaTop" r="textAreaRight" b="textAreaBottom"/>
            <a:pathLst>
              <a:path w="21600" h="22302">
                <a:moveTo>
                  <a:pt x="3600" y="0"/>
                </a:moveTo>
                <a:arcTo wR="3600" hR="3600" stAng="16200000" swAng="-5400000"/>
                <a:lnTo>
                  <a:pt x="0" y="18702"/>
                </a:lnTo>
                <a:arcTo wR="3600" hR="3600" stAng="10800000" swAng="-5400000"/>
                <a:lnTo>
                  <a:pt x="18000" y="22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танав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ую фор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снятия нагру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деревянная линейка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мается после изги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936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ные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разруш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стул не разру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большим вес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Механические свойства древесины и их примен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31640" y="2394000"/>
          <a:ext cx="8550360" cy="1566720"/>
        </p:xfrm>
        <a:graphic>
          <a:graphicData uri="http://schemas.openxmlformats.org/drawingml/2006/table">
            <a:tbl>
              <a:tblPr/>
              <a:tblGrid>
                <a:gridCol w="535320"/>
                <a:gridCol w="2660400"/>
                <a:gridCol w="2745000"/>
                <a:gridCol w="2609640"/>
              </a:tblGrid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древес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31640" y="1434960"/>
          <a:ext cx="8254800" cy="5054400"/>
        </p:xfrm>
        <a:graphic>
          <a:graphicData uri="http://schemas.openxmlformats.org/drawingml/2006/table">
            <a:tbl>
              <a:tblPr/>
              <a:tblGrid>
                <a:gridCol w="515880"/>
                <a:gridCol w="2888640"/>
                <a:gridCol w="2786760"/>
                <a:gridCol w="2063520"/>
              </a:tblGrid>
              <a:tr h="17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прочность -дуб, клен, бере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прочность-осина, липа, ольх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ки столов и стульев, лыжи, подвески люстр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ая древесина-груша, ясень, бук, дуб, клен. Мягкая древесина-сосна, ольха, тополь, ли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кетный пол, сваи мостов и перекрытий и мн.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уг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, гра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и, лыжи, спортивные луки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е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ронумерова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числить объемы образ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Взвеси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Определить плотность образцов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Выдержать образцы в воде в течении 10 минут, и повторно взве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Вычислить вла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Все полученные данные занести в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Написать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05520" y="1584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71840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46640" y="1673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Таблица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920" y="1133640"/>
          <a:ext cx="8229600" cy="5000400"/>
        </p:xfrm>
        <a:graphic>
          <a:graphicData uri="http://schemas.openxmlformats.org/drawingml/2006/table">
            <a:tbl>
              <a:tblPr/>
              <a:tblGrid>
                <a:gridCol w="1646280"/>
                <a:gridCol w="1523880"/>
                <a:gridCol w="1349280"/>
                <a:gridCol w="1800360"/>
                <a:gridCol w="1909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ывод п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практической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ходе практической работе, мы убедились, что разные породы древесины имеют разную плотность и разную вла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2360" y="0"/>
            <a:ext cx="8351640" cy="626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32000" y="17640"/>
            <a:ext cx="684036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50920" y="503280"/>
            <a:ext cx="733572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22360" y="324000"/>
            <a:ext cx="5086440" cy="625608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2 из 11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41280" y="0"/>
            <a:ext cx="6975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знать свойства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й целью сушат древес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пределяют влажность древесины на предприят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войства нужно учитывать при выборе заготов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92000" y="-216000"/>
          <a:ext cx="7515360" cy="6900840"/>
        </p:xfrm>
        <a:graphic>
          <a:graphicData uri="http://schemas.openxmlformats.org/drawingml/2006/table">
            <a:tbl>
              <a:tblPr/>
              <a:tblGrid>
                <a:gridCol w="606600"/>
                <a:gridCol w="743040"/>
                <a:gridCol w="698400"/>
                <a:gridCol w="677880"/>
                <a:gridCol w="665280"/>
                <a:gridCol w="669960"/>
                <a:gridCol w="677520"/>
                <a:gridCol w="760680"/>
                <a:gridCol w="771480"/>
                <a:gridCol w="676080"/>
                <a:gridCol w="56844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к кроссвор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Дерево обладающее низкой плот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личество влаги, содержащейся в древес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Дерево обладающее низкой плот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пособность древесины восстанавливать первоначальную форму, после снятия на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Количество массы древесины, содержащейся в единице объ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Что применяется  для изменения вла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Физическое свойство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2000" y="1628640"/>
            <a:ext cx="7155000" cy="35100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ко-механические свойств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3120" y="-360"/>
            <a:ext cx="470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Цель и оборудов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комиться  с основными  свойствами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лажность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0" y="274320"/>
            <a:ext cx="46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опросы для повтор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вспомним , какое строение у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вы знаете породы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иломатериалы изготавливают из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то вы обращаете внимание, при выборе заготов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чего нужно изучать строение и  пороки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76640" y="27432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Что такое свойств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атериа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торона предмета, которая  обуславливает его различие или сходство с другими предметами и обнаруживается в его отношении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22360" y="368280"/>
            <a:ext cx="6912000" cy="985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2000" y="185436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000" y="297972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000" y="3833640"/>
            <a:ext cx="1800000" cy="67968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000" y="473400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280" y="563400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76640" y="1898640"/>
            <a:ext cx="18493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4734000"/>
            <a:ext cx="1800360" cy="68400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1280" y="302436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387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6640" y="1943280"/>
            <a:ext cx="18511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736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исля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392436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4824360"/>
            <a:ext cx="180000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озий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й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4328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700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92360" y="549360"/>
            <a:ext cx="4319640" cy="9144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185436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1640" y="180828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1640" y="3294000"/>
            <a:ext cx="3826080" cy="27907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ые про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ротивляться воздейств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чески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прочность, твер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упругость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640" y="3384720"/>
            <a:ext cx="3826080" cy="27889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проявляются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и их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цвет, запах, пло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лажность, блес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тепло- зву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электропроводность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5:17Z</dcterms:created>
  <dc:creator>User</dc:creator>
  <dc:description/>
  <dc:language>en-US</dc:language>
  <cp:lastModifiedBy>User</cp:lastModifiedBy>
  <dcterms:modified xsi:type="dcterms:W3CDTF">2010-08-15T18:11:43Z</dcterms:modified>
  <cp:revision>46</cp:revision>
  <dc:subject/>
  <dc:title>Источники и потребители электрической энергии.</dc:title>
</cp:coreProperties>
</file>